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45F-1D10-4EFF-A33C-14023C91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0188-9E54-46F9-994E-A5CFA202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FCF-0008-4B6F-99C4-20EFC52E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505E-3B2B-4D5B-A1D4-2C7D556E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9B3A-2E74-4683-B285-B03B355D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27AD-BC0B-4F31-9E04-FA4D657D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DE6B-77A0-4B00-AAD9-B9E0C886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D8EC-20F4-4FB8-B314-A1D43CEC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CDEC-F0D0-49A0-8691-9DD32621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51DC-F6F6-4E89-B057-A9E9F4FA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989F-FFDE-45AA-B04E-73DE6C04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2C1-D692-4BD4-8177-3280844A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5F86-EAE6-44E5-9A6C-F21FF231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1BFA-91FE-4BE9-A815-C1B55677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60AC-65D7-4011-B5D7-DD317D66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9AA3-A3A0-40A1-81D9-9187CB1C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9711-EB59-442B-A089-C7424F57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3C4-E282-48A4-B3B0-6A710404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FB1F-64C5-4BC7-9D97-2F0375E9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1F1F-720B-4275-92B2-930FC6AF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97C-0997-4404-8EBB-861FA05E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181F-F2F1-45F2-A3D1-93F3D42D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982A-725A-4726-8285-8258FEFA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B22-3EBD-4C79-B181-B71B0BE2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4831-5DED-4D36-BDA1-217D6A310C4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975A-2AD4-4BE9-9B27-327312453359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ЕМ МНЕ БЫТЬ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рофориентационное занятие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2478600" y="4500720"/>
            <a:ext cx="537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Материал подготовила: Лайс Л.А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едагог – психолог МБОУ «Гимназия №2»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ятая группа «человек – техника»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Это профессии, которые ориентированны на создание, использование и обслуживание различных технических устройств. Техника – это всё разнообразие машин и механизмов, которые применяет человек для облегчения и ускорения своей деятельности. Выбирая техническую специальность, необходимо помнить о предполагаемых особенностях характера человека, работающего с техникой,  таких как развитое пространственное и конкретное мышление, точность и аккуратность, хорошее зрение. К этому типу  относятся профессии: водитель, машинист,слесарь, монтажник, техник, инженер-конструктор и многие рабочие специальности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Алгоритм выбора профессии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1.Знания о профессиях, рынке труд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2.Мнение родителей, семьи, друзей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3.Позиция учителей, психологов, врачей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4.Уровень притязания и самооценк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5.Личный профессиональный план (план карьеры)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6.Способности, здоровь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7.Склонности, интересы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8. Просмотр литературы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шибки при выборе професс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1.Отношение к профессии как к неизменному. Не стоит бояться смены деятельности – любой опыт полезен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2.Бытующие мнения о престижности профессии. Престижность профессии должна учитываться, но после учёта ваших интересов и способностей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3.Выбор профессии под влиянием товарищей ( за компанию, чтобы не отстать)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4.Перенос отношения к человеку, представителю той или иной профессии, на саму профессию. При выборе профессии надо учитывать прежде всего особенности данного вида деятельности, а не выбирать профессию только потому, что вам нравится или не нравится человек, который занимается данным видом деятельности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5.Неумение (нежелание) разбираться в своих личностных качествах (склонностях, способностях)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6.Незнание (недооценка) своих физических особенностей, недостатков, существенных при выборе профессии. Существуют профессии, которые могут быть вам противопоказаны, так как они могут ухудшить ваше состояние здоровья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Цитаты о профессиях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«Самый несчастный из людей тот, для которого в мире не оказалось работы». (Т.Карлейл)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«Если человек не знает, к какой пристани он держит путь, для него ни один ветер не будет попутным». (Сенека)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«Все работы хороши,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ыбирай на вкус». ( В.В. Маяковский)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рислушиваясь к советам, важно помнить, что выбор профессии – это ваш и только ваш личный выбор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Цель занятия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Сориентировать учащихся на правильный выбор будущей профессии с учётом их способностей и психологических особенностей. Выстроить алгоритм выбора профессии и выявить те ошибки, которые могут встретиться при выборе профессии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Анаграммы – профессионалы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Задание: переставить буквы в предложенных словах так, чтобы получились названия профессий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-рвач – в….(медицинский работник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опло – п…(дипломатический представитель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тёрка –а….(театральная и кинематографическая профессия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фиакр – ф…(волшебная цирковая профессия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юрка  - к…(северная транспортная профессия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декор – д…(портовый рабочий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марля –м..(«разноцветный» рабочий 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альков –к..(мастер ручной ковки);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авдотка –а..(юридическая профессия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1979640" y="3573360"/>
            <a:ext cx="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Ответьте на вопросы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1.Кем вы хотите стать в будущем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2.Как вы готовитесь к выбранной профессии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3.Есть ли у вас запасной вариант выбора профессии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Что может помешать вам в достижении цели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5. Одобряют ли родители ваш выбор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6.Ваш уровень притязания и самооценка – важный регулятор поведения человека, в том числе и в планировании карьеры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Три позиции при выборе профессии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«хочу» -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это ваши интересы, склонности, желание заниматься интересующим вас делом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«могу» -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уровень вашей подготовленности, уровень знаний, наличие способностей к выбранному виду деятельности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«надо» -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спрос на профессию, потребность в ней общества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Факторы влияющие на выбор профессии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рестижность профессии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истема оплаты труд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Место жительств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ЯТЬ ОСНОВНЫХ ГРУПП ПРОФЕССИЙ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1.Группа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– «Человек – человек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Сюда входят самые гуманные профессии, основанные на общении и взаимопонимании. Например, учитель, врач, юрист, нотариус, адвокат, менеджер, администратор, диспетчер, продавец, официант, парикмахер, проводник, повар, стюардесса, экскурсовод и другие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Доброжелательность, сочувствие, сопереживание, интерес к окружающим – качества, которые должны присутствовать у этих специалистов. К тому же они должны обладать повышенным самоконтролем, устойчивостью к стрессам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Всё многообразие профессий группы «человек – человек» можно разделить на несколько направлений: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Воспитание и обучение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Здравоохранение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Организация и управление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Правовая защита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Торгово – сервисное обслуживание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Культурно – просветительская работа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trips dir="r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5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торая группа «человек – знаковая система»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Для производства любого продукта необходимы три компонента: вещество, энергия и информация. Знаки являются средством информации, которой обмениваются люди в процессе жизнедеятельности. Условно  группу профессий «человек – знаковая система» можно разделить на следующие направления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Работа со словами, текстами, книгами, связанная с языком (корректор, лингвист). Эта работа требует усидчивости, умения чётко выражать свои мысли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Работа с цифрами, формулами, знаками (физик, бухгалтер, фармацевт). Для них необходимы такие качества, как терпение, аккуратность, организованность, склонность к выполнению рутинных операций и в то же время умение принимать нестандартные решения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Работа с изображениями, схемами, картами (диспетчер). Эта профессия связана с составлением или использованием географических карт, графиков, чертежей. Здесь требуется умение перевести условные знаки в образы реальных предметов и наоборот. Для данных работников необходимы наблюдательность, внимание к самым незначительным изменениям. Если вам нравятся такие предметы, как геометрия, география, черчение, то эта работа для вас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Работа с компьютером, информационными системами, в сети Интернет (оператор ПК, программист). Круг профессий, для которых необходимо знание компьютера, постоянно расширяется. Если вам интересно на уроках математики и информатики и вы знаете, что компьютер –это не только устройство для игр, а ещё у вас есть опыт работы в Интернете, то эти профессии вас могут заинтересовать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Третья группа «человек –художественный образ»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Эта группа включает в себя профессии, связанные с искусством, творчеством, вдохновением. Предметом труда для  людей этих профессий является художественный образ, целью – достижение эстетики в окружающем мире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реди этой группы можно выделить следующие направления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рганизаторские (режиссёр, балетмейстер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обственно творческие, созидательные (писатель, живописец,актёр, композитор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Исполнительские (кондитер, портной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Исследовательские (искусствовед, театровед, реставратор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Четвёртая группа – «человек – природа»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28512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ыбирая профессию, связанную с преобразованием природы, её использованием, человек берёт на себя ответственность за будущее того, что нас окружает, за жизнь этого и последующих поколений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подобных профессиях чаще, чем в других, требуются такие качества, как предвидение и прогнозирование результатов, готовность работать в неблагоприятных погодных условиях. К этой категории относятся профессии: физиолог, микробиолог, садовник, цветовод, декоратор, ветеринарный врач, геолог, эколог, технолог пищевой промышленности, фермер, зоолог, метеоролог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2:26:54Z</dcterms:created>
  <dc:creator>1</dc:creator>
  <dc:description/>
  <dc:language>en-US</dc:language>
  <cp:lastModifiedBy>ЛЛА</cp:lastModifiedBy>
  <dcterms:modified xsi:type="dcterms:W3CDTF">2013-03-13T04:58:41Z</dcterms:modified>
  <cp:revision>8</cp:revision>
  <dc:subject/>
  <dc:title>КЕМ МНЕ БЫТЬ?</dc:title>
</cp:coreProperties>
</file>