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89F-1C37-4849-9360-332DAC92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5C9-EB68-4CB2-BBFE-5187C9D3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EB5-19C9-426F-83D6-D666E0BF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58D-61A6-4A6C-A354-FD25DA89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FB60-E7DB-4ED1-B65A-3360099C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70F0-764A-433C-B41B-6BC6F1EC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1A79-E6DE-4CA0-A770-C8C63C10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0AA4-761F-43D1-A82C-D594C2AB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F402-5774-4D79-8420-0E304D73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4440-986F-4C70-B025-7BDFF8BA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BD0C-EFC1-46ED-90E7-A9CD77A3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529-449B-4821-AF8C-A366A3E6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B0CD-4799-4A1D-90EE-9F1400A7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90DE-87CD-41F1-8ABC-5A2343B5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423A-B6B5-4416-AEDF-43C387BB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BCA3-29EB-4160-831D-B0779754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DB30-44CA-463C-8A5E-E958CD23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9A0-5A68-4D4A-A018-F8BB0B42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807-24C9-435A-AE27-C8AE88E0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09F-818B-4013-B247-8687391B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58B-137A-45E3-87A6-9B714842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C3C-9AA9-4D1A-8F27-F8F0BB5D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315-2E11-4592-B60D-BFDF65C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BC6-4DA0-4F33-8D9F-67A302D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1032-17DD-4B02-8601-7F3037CA7F4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F84D-D554-4101-8C82-926EF1ECCB01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ЕМ МНЕ БЫТЬ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офориентационное занятие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478600" y="4500720"/>
            <a:ext cx="53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атериал подготовила: Лайс Л.А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едагог – психолог МБОУ «Гимназия №2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ятая группа «человек – техника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Это профессии, которые ориентированны на создание, использование и обслуживание различных технических устройств. Техника – это всё разнообразие машин и механизмов, которые применяет человек для облегчения и ускорения своей деятельности. Выбирая техническую специальность, необходимо помнить о предполагаемых особенностях характера человека, работающего с техникой,  таких как развитое пространственное и конкретное мышление, точность и аккуратность, хорошее зрение. К этому типу  относятся профессии: водитель, машинист,слесарь, монтажник, техник, инженер-конструктор и многие рабочие специальности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лгоритм выбора профессии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1.Знания о профессиях, рынке труд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.Мнение родителей, семьи, друзе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3.Позиция учителей, психологов, враче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4.Уровень притязания и самооценк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.Личный профессиональный план (план карьеры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6.Способности, здоровь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7.Склонности, интерес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8. Просмотр литератур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шибки при выборе професс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1.Отношение к профессии как к неизменному. Не стоит бояться смены деятельности – любой опыт полезен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2.Бытующие мнения о престижности профессии. Престижность профессии должна учитываться, но после учёта ваших интересов и способностей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3.Выбор профессии под влиянием товарищей ( за компанию, чтобы не отстать)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4.Перенос отношения к человеку, представителю той или иной профессии, на саму профессию. При выборе профессии надо учитывать прежде всего особенности данного вида деятельности, а не выбирать профессию только потому, что вам нравится или не нравится человек, который занимается данным видом деятельност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5.Неумение (нежелание) разбираться в своих личностных качествах (склонностях, способностях)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6.Незнание (недооценка) своих физических особенностей, недостатков, существенных при выборе профессии. Существуют профессии, которые могут быть вам противопоказаны, так как они могут ухудшить ваше состояние здоровья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итаты о профессиях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Самый несчастный из людей тот, для которого в мире не оказалось работы». (Т.Карлейл)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Если человек не знает, к какой пристани он держит путь, для него ни один ветер не будет попутным». (Сенека)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Все работы хороши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ыбирай на вкус». ( В.В. Маяковский)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ислушиваясь к советам, важно помнить, что выбор профессии – это ваш и только ваш личный выбор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ель заняти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Сориентировать учащихся на правильный выбор будущей профессии с учётом их способностей и психологических особенностей. Выстроить алгоритм выбора профессии и выявить те ошибки, которые могут встретиться при выборе професси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аграммы – профессионалы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Задание: переставить буквы в предложенных словах так, чтобы получились названия профессий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-рвач – в….(медицинский работник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пло – п…(дипломатический представитель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тёрка –а….(театральная и кинематографическая профессия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фиакр – ф…(волшебная цирковая профессия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юрка  - к…(северная транспортная профессия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кор – д…(портовый рабочий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арля –м..(«разноцветный» рабочий 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альков –к..(мастер ручной ковки);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авдотка –а..(юридическая профессия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1979640" y="3573360"/>
            <a:ext cx="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Ответьте на вопросы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.Кем вы хотите стать в будущем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2.Как вы готовитесь к выбранной профессии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3.Есть ли у вас запасной вариант выбора профессии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Что может помешать вам в достижении цели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5. Одобряют ли родители ваш выбор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6.Ваш уровень притязания и самооценка – важный регулятор поведения человека, в том числе и в планировании карьер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ри позиции при выборе профессии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хочу» -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это ваши интересы, склонности, желание заниматься интересующим вас делом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могу» -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уровень вашей подготовленности, уровень знаний, наличие способностей к выбранному виду деятельности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надо» -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спрос на профессию, потребность в ней обществ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Факторы влияющие на выбор профессии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естижность професс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истема оплаты труд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есто жительств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ТЬ ОСНОВНЫХ ГРУПП ПРОФЕССИЙ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1.Групп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– «Человек – человек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Сюда входят самые гуманные профессии, основанные на общении и взаимопонимании. Например, учитель, врач, юрист, нотариус, адвокат, менеджер, администратор, диспетчер, продавец, официант, парикмахер, проводник, повар, стюардесса, экскурсовод и другие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Доброжелательность, сочувствие, сопереживание, интерес к окружающим – качества, которые должны присутствовать у этих специалистов. К тому же они должны обладать повышенным самоконтролем, устойчивостью к стрессам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Всё многообразие профессий группы «человек – человек» можно разделить на несколько направлений: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Воспитание и обучение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Здравоохранение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Организация и управление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Правовая защита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Торгово – сервисное обслуживание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Культурно – просветительская работа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5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торая группа «человек – знаковая система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Для производства любого продукта необходимы три компонента: вещество, энергия и информация. Знаки являются средством информации, которой обмениваются люди в процессе жизнедеятельности. Условно  группу профессий «человек – знаковая система» можно разделить на следующие направления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Работа со словами, текстами, книгами, связанная с языком (корректор, лингвист). Эта работа требует усидчивости, умения чётко выражать свои мысл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Работа с цифрами, формулами, знаками (физик, бухгалтер, фармацевт). Для них необходимы такие качества, как терпение, аккуратность, организованность, склонность к выполнению рутинных операций и в то же время умение принимать нестандартные решения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Работа с изображениями, схемами, картами (диспетчер). Эта профессия связана с составлением или использованием географических карт, графиков, чертежей. Здесь требуется умение перевести условные знаки в образы реальных предметов и наоборот. Для данных работников необходимы наблюдательность, внимание к самым незначительным изменениям. Если вам нравятся такие предметы, как геометрия, география, черчение, то эта работа для вас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Работа с компьютером, информационными системами, в сети Интернет (оператор ПК, программист). Круг профессий, для которых необходимо знание компьютера, постоянно расширяется. Если вам интересно на уроках математики и информатики и вы знаете, что компьютер –это не только устройство для игр, а ещё у вас есть опыт работы в Интернете, то эти профессии вас могут заинтересовать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ретья группа «человек –художественный образ»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Эта группа включает в себя профессии, связанные с искусством, творчеством, вдохновением. Предметом труда для  людей этих профессий является художественный образ, целью – достижение эстетики в окружающем мир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реди этой группы можно выделить следующие направления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рганизаторские (режиссёр, балетмейстер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бственно творческие, созидательные (писатель, живописец,актёр, композитор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сполнительские (кондитер, портной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сследовательские (искусствовед, театровед, реставратор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Четвёртая группа – «человек – природа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28512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ыбирая профессию, связанную с преобразованием природы, её использованием, человек берёт на себя ответственность за будущее того, что нас окружает, за жизнь этого и последующих поколени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подобных профессиях чаще, чем в других, требуются такие качества, как предвидение и прогнозирование результатов, готовность работать в неблагоприятных погодных условиях. К этой категории относятся профессии: физиолог, микробиолог, садовник, цветовод, декоратор, ветеринарный врач, геолог, эколог, технолог пищевой промышленности, фермер, зоолог, метеоролог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2:26:54Z</dcterms:created>
  <dc:creator>1</dc:creator>
  <dc:description/>
  <dc:language>en-US</dc:language>
  <cp:lastModifiedBy>ЛЛА</cp:lastModifiedBy>
  <dcterms:modified xsi:type="dcterms:W3CDTF">2013-03-13T04:58:41Z</dcterms:modified>
  <cp:revision>8</cp:revision>
  <dc:subject/>
  <dc:title>КЕМ МНЕ БЫТЬ?</dc:title>
</cp:coreProperties>
</file>