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6BA00-0D70-40D3-A0DA-3D3038C5A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093C-1524-4128-A65A-346DEA566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46A99-7A7D-40BD-80A9-8BFD945F9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FD82-37CD-49D8-AA42-23A6E598BE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CC0A-4CFC-4A09-BD78-1812DC6AA1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52A91-D74B-491F-97A0-1917C25D4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B9E45-CE5E-4B92-9690-D56D6B88A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0C67-16AC-4EAE-BDD6-531E8D034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D7DBB-4B1F-44E5-999B-7EB3860A1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2AA2-5C13-4C28-BC80-BE54CC654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96B8-D118-481D-966A-66D1C75D8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B2DB-C401-4D58-94F5-621BDE15A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1A682F-E8B2-400B-BDAE-14F8F619E0C7}" type="slidenum"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549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пелёва Татьяна Ивановн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У СОШ 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2708280"/>
            <a:ext cx="6696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ПЕТЕНТНОСТН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ИЕНТИРОВА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ПО АЛГЕБ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ЛЯ 7 КЛАС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55520"/>
            <a:ext cx="8291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ьте список понятий, владеть которыми необходимо, изучив тему: «Линейное уравнение с двумя переменными и его графи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234936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220500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700280"/>
            <a:ext cx="77043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рное числовое равен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верное числовое равен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венство с перемен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менные (зависимая, независима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чения переме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нейное уравнение с двумя перемен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шение линейного уравнения с двумя перемен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эффициен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ординаты точки прям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ординаты точки плоск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ординатная плоск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ямая ли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нейная функ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чения линейной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афик линейной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052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ормируемые компетен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-познавательные (самостоятельный поиск информации, умение преобразовывать информацию, обобщ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тивные (умение излагать и аргументировать свою точку зрения, умение выражать свои мысл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остного самосовершенствования (выполнять задания творческого, поискового характе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-495360"/>
            <a:ext cx="8147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ложить алгоритм решения уравне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07-3,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0,26 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484280"/>
            <a:ext cx="8064720" cy="66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жение 3,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енести из левой части уравнения в правую, а число 0,26 перенести из правой части уравнения в левую, с противоположными зна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авой и левой частях уравнения привести подобные слагаемые, преобразовав уравнение к виду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корни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от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улируемые компетенц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о-познавательные (анализ, синтез, конкретизация, пошаговый и итоговый контроль, планирование своих действий в соответствии с поставленной задач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уникативные (умение выражать свои мысл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-трудовые (установление логических цепочек, самоконтрол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 вами три ящика и десять карточек с алгебраическими выраж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13240" cy="185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92360" y="1773360"/>
            <a:ext cx="2613240" cy="1854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372360" y="1773360"/>
            <a:ext cx="2612880" cy="1854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20880000">
            <a:off x="920520" y="2922480"/>
            <a:ext cx="208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²+b²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²+2ab+2bc+2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0580000">
            <a:off x="4363560" y="29174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+2ab+b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0580000">
            <a:off x="7235640" y="2925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²–2ab+b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386064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4437000"/>
            <a:ext cx="100800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-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508464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+b+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386064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443700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80000" y="508464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5734080"/>
            <a:ext cx="100800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20000" y="386064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443700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0000" y="508464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386064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a-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3860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-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51280" y="4437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+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08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(a+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57340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a-b-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20000" y="38606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a+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4437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+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48360" y="508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+c+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ите принцип соответствия между карточками и ящ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ожите карточки по ящи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лся ли какой-то ящик пусты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лись ли карточки вне ящиков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ормируемые компетен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-познавательные (дедукция, анализ, умозаключение, умение соотносить, умение преобразовывать информацию, причинно- следственные связи, сравн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о-трудовые (волевое усил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тивные (умение выражать свои мысли, строить монологические высказыва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гляните, вот задача из старинного папируса Ахмеса (1700 г. до н.э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2276640"/>
            <a:ext cx="152244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484520" cy="4681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9640" y="2492280"/>
            <a:ext cx="331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человек имеют по 7 кошек, каждая кошка съедает по 7 мышей, каждая мышь съедает по 7 колосьев ячменя, а из каждого колоса вырастает 7 мер ячменя. Сколько мер ячменя сохранится благодаря этим кошка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1773360"/>
            <a:ext cx="43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немного вдумаетесь в содержание задачи, то обнаружите, что для её решения нужно вычислить произведение пяти одинаковых множителей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 =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3330720"/>
            <a:ext cx="432144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ируемые компет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го самосовершенствования (выполнять задания творческого характера, уметь применять знания в изменённых условия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уникативные (умение слушать и понима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о-познавательные (владение вычислительными навыками, преобразование информац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-388800"/>
            <a:ext cx="82296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тический словарик.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.</a:t>
            </a: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ьте схему, которая покажет, как вы понимаете соотношение между основными элементами темы: «Одночлены (мономы)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2565360"/>
            <a:ext cx="17287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08720" y="3789360"/>
            <a:ext cx="1873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24360" y="5157720"/>
            <a:ext cx="129708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80000" y="5157720"/>
            <a:ext cx="165600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96360" y="5157720"/>
            <a:ext cx="129672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43640" y="3357720"/>
            <a:ext cx="1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930920" y="4653000"/>
            <a:ext cx="7221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43640" y="479736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6000" y="4581360"/>
            <a:ext cx="57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263700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очлен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²x²3bxy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80000" y="3933720"/>
            <a:ext cx="2089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дночлен стандартного ви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³x³y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51280" y="5373720"/>
            <a:ext cx="151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эффициент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11840" y="5362560"/>
            <a:ext cx="8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5229360"/>
            <a:ext cx="13683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уквен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а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³x³y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67640" y="5300640"/>
            <a:ext cx="125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епень 3+3+3=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1989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2781360"/>
            <a:ext cx="360036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ируемые компет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о-познавательные (поиск информации, умение использовать математическую терминологию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уникативные (умение анализировать и оценивать свою деятельно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го самосовершенствования (развитие индивидуальных способност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ите исслед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ок бумаги разрывают пополам, одну из получившихся половинок снова делят пополам и т.д. Сколько понадобится таких делений, чтобы получить частицы, вес которых равен весу ато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 для расчета: бумажный лист весит 1г, вес ато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4292640"/>
            <a:ext cx="6696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ируемые компет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уникативные (умение анализировать и оценивать свою деятельность, умение формулировать собственное мнение и позицию, развитие индивидуальных способност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о-познавательные (самооценка деятельности, самостоятельный поис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9:00:27Z</dcterms:created>
  <dc:creator>Аня</dc:creator>
  <dc:description/>
  <dc:language>en-US</dc:language>
  <cp:lastModifiedBy>KAMatveenko</cp:lastModifiedBy>
  <dcterms:modified xsi:type="dcterms:W3CDTF">2013-01-28T06:20:42Z</dcterms:modified>
  <cp:revision>4</cp:revision>
  <dc:subject/>
  <dc:title>Шепелёва Татьяна Ивановна МБУ СОШ 94</dc:title>
</cp:coreProperties>
</file>