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2037-D034-4CF3-87AC-86BA166EC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336A-5594-45E0-9535-FCF74B2F5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91B9-638C-4E7C-A558-020344EA4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57A3-9116-408C-A5AB-FCEBC121E8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CCC6-42D6-4079-9E1E-331C9291D2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BE2F-534C-49E6-9E03-78026A511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DAE7-C8DC-4A16-A929-C880A7887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572C-F1F9-4A0B-83DD-5ACEB755C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E442-2BF4-4E3B-83F5-8D0E6C036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303A-01AD-4058-818D-831A96AD6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AEE7-AD7F-4024-87B4-2F6C63F21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205A-17F2-4DC0-B4EB-FB29F746F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1C207D-0896-4B8E-A9BE-C84F265A3F4B}" type="slidenum"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пелёва Татьяна Иванов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У СОШ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2708280"/>
            <a:ext cx="6696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ЕТЕНТНОСТН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ИЕНТИРОВА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ПО АЛГЕБ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ЛЯ 7 КЛА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55520"/>
            <a:ext cx="8291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ьте список понятий, владеть которыми необходимо, изучив тему: «Линейное уравнение с двумя переменными и его графи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234936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220500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700280"/>
            <a:ext cx="77043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рное числовое равен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верное числовое равен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венство с перемен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менные (зависимая, независима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ения перем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нейное уравнение с двумя перемен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шение линейного уравнения с двумя перемен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эффици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ординаты точки прям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ординаты точки плоск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ординатная плоск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ямая ли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нейная функ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ения линей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афик линей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052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познавательные (самостоятельный поиск информации, умение преобразовывать информацию, обобщ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ые (умение излагать и аргументировать свою точку зрения, умение выражать свои мысл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стного самосовершенствования (выполнять задания творческого, поискового характ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-495360"/>
            <a:ext cx="8147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ложить алгоритм решения уравн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07-3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0,26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484280"/>
            <a:ext cx="8064720" cy="66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ие 3,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нести из левой части уравнения в правую, а число 0,26 перенести из правой части уравнения в левую, с противоположными зна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авой и левой частях уравнения привести подобные слагаемые, преобразовав уравнение к виду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корни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улируемые компетен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познавательные (анализ, синтез, конкретизация, пошаговый и итоговый контроль, планирование своих действий в соответствии с поставленной задач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(умение выражать свои мыс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трудовые (установление логических цепочек, самоконтро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вами три ящика и десять карточек с алгебраическими выраж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13240" cy="185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2613240" cy="185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72360" y="1773360"/>
            <a:ext cx="2612880" cy="185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20880000">
            <a:off x="920520" y="2922480"/>
            <a:ext cx="20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²+b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²+2ab+2bc+2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580000">
            <a:off x="4363560" y="2917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+2ab+b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580000">
            <a:off x="7235640" y="2925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²–2ab+b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3860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4437000"/>
            <a:ext cx="100800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5084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b+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3860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443700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5084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734080"/>
            <a:ext cx="100800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0000" y="386064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443700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508464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86064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a-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386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-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44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08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(a+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57340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a-b-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20000" y="3860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a+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43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+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48360" y="508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+c+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е принцип соответствия между карточками и ящ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ожите карточки по ящ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лся ли какой-то ящик пусты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лись ли карточки вне ящик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познавательные (дедукция, анализ, умозаключение, умение соотносить, умение преобразовывать информацию, причинно- следственные связи, сравн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о-трудовые (волевое усил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ые (умение выражать свои мысли, строить монологические высказыва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гляните, вот задача из старинного папируса Ахмеса (1700 г. до н.э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2276640"/>
            <a:ext cx="15224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484520" cy="4681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2492280"/>
            <a:ext cx="331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человек имеют по 7 кошек, каждая кошка съедает по 7 мышей, каждая мышь съедает по 7 колосьев ячменя, а из каждого колоса вырастает 7 мер ячменя. Сколько мер ячменя сохранится благодаря этим кошка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1773360"/>
            <a:ext cx="43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немного вдумаетесь в содержание задачи, то обнаружите, что для её решения нужно вычислить произведение пяти одинаковых множителей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 =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3330720"/>
            <a:ext cx="432144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го самосовершенствования (выполнять задания творческого характера, уметь применять знания в изменённых условия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(умение слушать и понима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познавательные (владение вычислительными навыками, преобразование информ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-388800"/>
            <a:ext cx="8229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тический словарик.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.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ьте схему, которая покажет, как вы понимаете соотношение между основными элементами темы: «Одночлены (мономы)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565360"/>
            <a:ext cx="1728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3789360"/>
            <a:ext cx="1873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5157720"/>
            <a:ext cx="12970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5157720"/>
            <a:ext cx="1656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96360" y="5157720"/>
            <a:ext cx="129672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43640" y="335772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930920" y="4653000"/>
            <a:ext cx="7221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3640" y="479736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458136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263700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член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²x²3bxy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3933720"/>
            <a:ext cx="2089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дночлен стандартного ви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³x³y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5373720"/>
            <a:ext cx="151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эффициент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11840" y="5362560"/>
            <a:ext cx="8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5229360"/>
            <a:ext cx="1368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уквен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³x³y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67640" y="5300640"/>
            <a:ext cx="125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епень 3+3+3=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1989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781360"/>
            <a:ext cx="360036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познавательные (поиск информации, умение использовать математическую терминолог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(умение анализировать и оценивать свою деятельн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го самосовершенствования (развитие индивидуальных способнос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ите исслед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ок бумаги разрывают пополам, одну из получившихся половинок снова делят пополам и т.д. Сколько понадобится таких делений, чтобы получить частицы, вес которых равен весу ато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для расчета: бумажный лист весит 1г, вес ато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4292640"/>
            <a:ext cx="6696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(умение анализировать и оценивать свою деятельность, умение формулировать собственное мнение и позицию, развитие индивидуальных способнос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познавательные (самооценка деятельности, самостоятельный поис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9:00:27Z</dcterms:created>
  <dc:creator>Аня</dc:creator>
  <dc:description/>
  <dc:language>en-US</dc:language>
  <cp:lastModifiedBy>KAMatveenko</cp:lastModifiedBy>
  <dcterms:modified xsi:type="dcterms:W3CDTF">2013-01-28T06:20:42Z</dcterms:modified>
  <cp:revision>4</cp:revision>
  <dc:subject/>
  <dc:title>Шепелёва Татьяна Ивановна МБУ СОШ 94</dc:title>
</cp:coreProperties>
</file>