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5E3-38E0-4A4A-8602-989C303A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C55-B9FD-4CF5-8FF0-AD296ECA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50E-6703-4C75-8548-40152B08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C5B-BB90-498D-9032-8F0051F5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5A9-3A96-4C8C-BB7B-305AB04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7F1-DEC9-4E88-84F8-6A017B20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4D0-FF43-4091-A7B7-EC442D7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50C-800C-40A5-9795-679721AD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3C4-0833-400A-B815-745A86AF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2D4-4199-4966-BEDC-A4AEA7F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2D8-E85F-4149-B7CA-5A3C161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100-E96A-4A0E-B64C-D8620213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030-66F6-49CC-BB82-CF699EBE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Обобщение и систематизация знаний по теме «Спирты и фенол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j0237945"/>
          <p:cNvPicPr/>
          <p:nvPr/>
        </p:nvPicPr>
        <p:blipFill>
          <a:blip r:embed="rId2"/>
          <a:stretch/>
        </p:blipFill>
        <p:spPr>
          <a:xfrm>
            <a:off x="357120" y="3071880"/>
            <a:ext cx="2664000" cy="1824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4788000" y="6308640"/>
            <a:ext cx="43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798000" y="4429080"/>
            <a:ext cx="47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Методическая разработка урока в 10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Автор  учитель химии ГОУ СОШ № 4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вчарова Ольга Эдуар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078720" y="58579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5280" y="404640"/>
            <a:ext cx="806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ачественная реакция на многоатомные спирты – взаимодействие со свежеприготовленным гидроксидом меди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(II)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с образованием ярко-синего гликолята м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г"/>
          <p:cNvPicPr/>
          <p:nvPr/>
        </p:nvPicPr>
        <p:blipFill>
          <a:blip r:embed="rId2"/>
          <a:stretch/>
        </p:blipFill>
        <p:spPr>
          <a:xfrm>
            <a:off x="539640" y="1989000"/>
            <a:ext cx="828036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468360" y="3573360"/>
            <a:ext cx="835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ачественная реакция на фенолы – взаимодействие с раствором хлорида железа (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III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) с образованием фиолетового фенолята желе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o25112"/>
          <p:cNvPicPr/>
          <p:nvPr/>
        </p:nvPicPr>
        <p:blipFill>
          <a:blip r:embed="rId3"/>
          <a:stretch/>
        </p:blipFill>
        <p:spPr>
          <a:xfrm>
            <a:off x="2987640" y="4365720"/>
            <a:ext cx="5905440" cy="2205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1332000" y="6165720"/>
            <a:ext cx="718920" cy="692280"/>
          </a:xfrm>
          <a:custGeom>
            <a:avLst/>
            <a:gdLst>
              <a:gd name="textAreaLeft" fmla="*/ 44640 w 718920"/>
              <a:gd name="textAreaRight" fmla="*/ 674280 w 718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31" h="21600">
                <a:moveTo>
                  <a:pt x="0" y="0"/>
                </a:moveTo>
                <a:lnTo>
                  <a:pt x="22431" y="0"/>
                </a:lnTo>
                <a:lnTo>
                  <a:pt x="22431" y="21600"/>
                </a:lnTo>
                <a:lnTo>
                  <a:pt x="0" y="21600"/>
                </a:lnTo>
                <a:close/>
              </a:path>
              <a:path fill="lightenLess" w="22431" h="21600">
                <a:moveTo>
                  <a:pt x="0" y="0"/>
                </a:moveTo>
                <a:lnTo>
                  <a:pt x="22431" y="0"/>
                </a:lnTo>
                <a:lnTo>
                  <a:pt x="21031" y="1400"/>
                </a:lnTo>
                <a:lnTo>
                  <a:pt x="1400" y="1400"/>
                </a:lnTo>
                <a:close/>
              </a:path>
              <a:path fill="darken" w="22431" h="21600">
                <a:moveTo>
                  <a:pt x="22431" y="0"/>
                </a:moveTo>
                <a:lnTo>
                  <a:pt x="22431" y="21600"/>
                </a:lnTo>
                <a:lnTo>
                  <a:pt x="21031" y="20200"/>
                </a:lnTo>
                <a:lnTo>
                  <a:pt x="21031" y="1400"/>
                </a:lnTo>
                <a:close/>
              </a:path>
              <a:path fill="darkenLess" w="22431" h="21600">
                <a:moveTo>
                  <a:pt x="22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31" y="20200"/>
                </a:lnTo>
                <a:close/>
              </a:path>
              <a:path fill="lighten" w="22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31" h="21600">
                <a:moveTo>
                  <a:pt x="11215" y="3837"/>
                </a:moveTo>
                <a:lnTo>
                  <a:pt x="13792" y="6448"/>
                </a:lnTo>
                <a:lnTo>
                  <a:pt x="13792" y="4707"/>
                </a:lnTo>
                <a:lnTo>
                  <a:pt x="15567" y="4707"/>
                </a:lnTo>
                <a:lnTo>
                  <a:pt x="15567" y="8224"/>
                </a:lnTo>
                <a:lnTo>
                  <a:pt x="18178" y="10800"/>
                </a:lnTo>
                <a:lnTo>
                  <a:pt x="16525" y="10800"/>
                </a:lnTo>
                <a:lnTo>
                  <a:pt x="16525" y="17989"/>
                </a:lnTo>
                <a:lnTo>
                  <a:pt x="5906" y="17989"/>
                </a:lnTo>
                <a:lnTo>
                  <a:pt x="5906" y="10800"/>
                </a:lnTo>
                <a:lnTo>
                  <a:pt x="4252" y="10800"/>
                </a:lnTo>
                <a:close/>
              </a:path>
              <a:path fill="darkenLess" w="22431" h="21600">
                <a:moveTo>
                  <a:pt x="13792" y="6448"/>
                </a:moveTo>
                <a:lnTo>
                  <a:pt x="13792" y="4707"/>
                </a:lnTo>
                <a:lnTo>
                  <a:pt x="15567" y="4707"/>
                </a:lnTo>
                <a:lnTo>
                  <a:pt x="15567" y="8224"/>
                </a:lnTo>
                <a:close/>
              </a:path>
              <a:path fill="darkenLess" w="22431" h="21600">
                <a:moveTo>
                  <a:pt x="10293" y="14299"/>
                </a:moveTo>
                <a:lnTo>
                  <a:pt x="12138" y="14299"/>
                </a:lnTo>
                <a:lnTo>
                  <a:pt x="12138" y="17989"/>
                </a:lnTo>
                <a:lnTo>
                  <a:pt x="16525" y="17989"/>
                </a:lnTo>
                <a:lnTo>
                  <a:pt x="16525" y="10800"/>
                </a:lnTo>
                <a:lnTo>
                  <a:pt x="5906" y="10800"/>
                </a:lnTo>
                <a:lnTo>
                  <a:pt x="5906" y="17989"/>
                </a:lnTo>
                <a:lnTo>
                  <a:pt x="1029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1042920" y="1341360"/>
            <a:ext cx="712944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5" descr="j0223734"/>
          <p:cNvPicPr/>
          <p:nvPr/>
        </p:nvPicPr>
        <p:blipFill>
          <a:blip r:embed="rId2"/>
          <a:stretch/>
        </p:blipFill>
        <p:spPr>
          <a:xfrm>
            <a:off x="2411280" y="3500280"/>
            <a:ext cx="43927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59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Сегодня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95280" y="148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ы повторите, что такое спирты и фен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826920" y="2781360"/>
            <a:ext cx="749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95280" y="249228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ы узнаете о губительном действии этанола       на организм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95280" y="400536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ы выполните упражнения на компьюте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95280" y="4941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ы приятно удивитесь: оказывается, вы знаете уже так мн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j0186164"/>
          <p:cNvPicPr/>
          <p:nvPr/>
        </p:nvPicPr>
        <p:blipFill>
          <a:blip r:embed="rId6"/>
          <a:stretch/>
        </p:blipFill>
        <p:spPr>
          <a:xfrm>
            <a:off x="1332000" y="0"/>
            <a:ext cx="1085760" cy="155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j0233834"/>
          <p:cNvPicPr/>
          <p:nvPr/>
        </p:nvPicPr>
        <p:blipFill>
          <a:blip r:embed="rId7"/>
          <a:stretch/>
        </p:blipFill>
        <p:spPr>
          <a:xfrm>
            <a:off x="5148360" y="5445000"/>
            <a:ext cx="34621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4000" y="620640"/>
            <a:ext cx="8280360" cy="63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Какие вещества называются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спирт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По каким признакам классифицируют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спир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3. Продолжите фразу «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Фенолы – это 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4. Какие виды изомерии характерны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для спир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5. Какими химическими свойствами обладают спир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6. Каковы качественные реакции на многоатомные спирты и фено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26920" y="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Фронтальны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476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Спиртами называются органические вещества, молекулы которых содержат одну или несколько гидроксильных групп –ОН, соединенных с углеводородным радика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7_1_1"/>
          <p:cNvPicPr/>
          <p:nvPr/>
        </p:nvPicPr>
        <p:blipFill>
          <a:blip r:embed="rId2"/>
          <a:srcRect l="46101" t="7294" r="11106" b="41778"/>
          <a:stretch/>
        </p:blipFill>
        <p:spPr>
          <a:xfrm>
            <a:off x="2050920" y="292428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8"/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01480" y="26028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Классификация спи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484280"/>
            <a:ext cx="853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411280" y="1125360"/>
            <a:ext cx="4753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числу гидроксиль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684360" y="2276640"/>
            <a:ext cx="2087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3708360" y="2276640"/>
            <a:ext cx="208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ух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6588000" y="2276640"/>
            <a:ext cx="208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х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665964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2195640" y="378936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характеру углеводородного ради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539640" y="530064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3635280" y="530064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е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6659640" y="530064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 flipH="1">
            <a:off x="1618920" y="436572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8"/>
          <p:cNvSpPr/>
          <p:nvPr/>
        </p:nvSpPr>
        <p:spPr>
          <a:xfrm>
            <a:off x="4716360" y="4365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>
            <a:off x="6804000" y="4365720"/>
            <a:ext cx="100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0"/>
          <p:cNvSpPr/>
          <p:nvPr/>
        </p:nvSpPr>
        <p:spPr>
          <a:xfrm flipH="1">
            <a:off x="2050920" y="1557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1"/>
          <p:cNvSpPr/>
          <p:nvPr/>
        </p:nvSpPr>
        <p:spPr>
          <a:xfrm>
            <a:off x="4716360" y="155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2"/>
          <p:cNvSpPr/>
          <p:nvPr/>
        </p:nvSpPr>
        <p:spPr>
          <a:xfrm>
            <a:off x="6659640" y="155736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68360" y="549360"/>
            <a:ext cx="8280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характеру атома углерода, с которым связана гидрокси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7_1_2"/>
          <p:cNvPicPr/>
          <p:nvPr/>
        </p:nvPicPr>
        <p:blipFill>
          <a:blip r:embed="rId2"/>
          <a:srcRect l="44454" t="29871" r="11966" b="51649"/>
          <a:stretch/>
        </p:blipFill>
        <p:spPr>
          <a:xfrm>
            <a:off x="539640" y="1773360"/>
            <a:ext cx="2880000" cy="209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7_1_2_L1"/>
          <p:cNvPicPr/>
          <p:nvPr/>
        </p:nvPicPr>
        <p:blipFill>
          <a:blip r:embed="rId3"/>
          <a:srcRect l="2953" t="8117" r="4535" b="35182"/>
          <a:stretch/>
        </p:blipFill>
        <p:spPr>
          <a:xfrm>
            <a:off x="5148360" y="1700280"/>
            <a:ext cx="2773440" cy="20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7_1_2_L2"/>
          <p:cNvPicPr/>
          <p:nvPr/>
        </p:nvPicPr>
        <p:blipFill>
          <a:blip r:embed="rId4"/>
          <a:srcRect l="14558" t="4737" r="12500" b="7611"/>
          <a:stretch/>
        </p:blipFill>
        <p:spPr>
          <a:xfrm>
            <a:off x="2987640" y="4437000"/>
            <a:ext cx="3097080" cy="2068560"/>
          </a:xfrm>
          <a:prstGeom prst="rect">
            <a:avLst/>
          </a:prstGeom>
          <a:ln w="0">
            <a:noFill/>
          </a:ln>
        </p:spPr>
      </p:pic>
      <p:sp>
        <p:nvSpPr>
          <p:cNvPr id="80" name="Line 14"/>
          <p:cNvSpPr/>
          <p:nvPr/>
        </p:nvSpPr>
        <p:spPr>
          <a:xfrm flipH="1">
            <a:off x="1835280" y="1125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5796000" y="1125360"/>
            <a:ext cx="936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427640" y="112536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8172360" y="595008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16904" y="3837"/>
                </a:moveTo>
                <a:lnTo>
                  <a:pt x="19481" y="6448"/>
                </a:lnTo>
                <a:lnTo>
                  <a:pt x="19481" y="4707"/>
                </a:lnTo>
                <a:lnTo>
                  <a:pt x="21256" y="4707"/>
                </a:lnTo>
                <a:lnTo>
                  <a:pt x="21256" y="8224"/>
                </a:lnTo>
                <a:lnTo>
                  <a:pt x="23867" y="10800"/>
                </a:lnTo>
                <a:lnTo>
                  <a:pt x="22214" y="10800"/>
                </a:lnTo>
                <a:lnTo>
                  <a:pt x="22214" y="17989"/>
                </a:lnTo>
                <a:lnTo>
                  <a:pt x="11595" y="17989"/>
                </a:lnTo>
                <a:lnTo>
                  <a:pt x="11595" y="10800"/>
                </a:lnTo>
                <a:lnTo>
                  <a:pt x="9941" y="10800"/>
                </a:lnTo>
                <a:close/>
              </a:path>
              <a:path fill="darkenLess" w="33809" h="21600">
                <a:moveTo>
                  <a:pt x="19481" y="6448"/>
                </a:moveTo>
                <a:lnTo>
                  <a:pt x="19481" y="4707"/>
                </a:lnTo>
                <a:lnTo>
                  <a:pt x="21256" y="4707"/>
                </a:lnTo>
                <a:lnTo>
                  <a:pt x="21256" y="8224"/>
                </a:lnTo>
                <a:close/>
              </a:path>
              <a:path fill="darkenLess" w="33809" h="21600">
                <a:moveTo>
                  <a:pt x="15982" y="14299"/>
                </a:moveTo>
                <a:lnTo>
                  <a:pt x="17827" y="14299"/>
                </a:lnTo>
                <a:lnTo>
                  <a:pt x="17827" y="17989"/>
                </a:lnTo>
                <a:lnTo>
                  <a:pt x="22214" y="17989"/>
                </a:lnTo>
                <a:lnTo>
                  <a:pt x="22214" y="10800"/>
                </a:lnTo>
                <a:lnTo>
                  <a:pt x="11595" y="10800"/>
                </a:lnTo>
                <a:lnTo>
                  <a:pt x="11595" y="17989"/>
                </a:lnTo>
                <a:lnTo>
                  <a:pt x="1598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9640" y="404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Фенолы – это органические вещества, содержащие радикал фенил, связанный с одной или несколькими гидроксиль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7_2_1_L2"/>
          <p:cNvPicPr/>
          <p:nvPr/>
        </p:nvPicPr>
        <p:blipFill>
          <a:blip r:embed="rId2"/>
          <a:stretch/>
        </p:blipFill>
        <p:spPr>
          <a:xfrm>
            <a:off x="2268360" y="3068640"/>
            <a:ext cx="403236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7"/>
          <p:cNvSpPr/>
          <p:nvPr/>
        </p:nvSpPr>
        <p:spPr>
          <a:xfrm>
            <a:off x="8317080" y="6021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7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lnTo>
                  <a:pt x="21350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395280" y="476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Виды изомерии спи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755640" y="1484280"/>
            <a:ext cx="777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изомерия положения ОН- группы, (начиная с С3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26920" y="256536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углеродного скелета, (начиная с С4 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межклассовая изомерия с простыми эфи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443700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одну и ту же молекулярную форму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2H6O име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CH2–OH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3–O–CH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этиловый спирт      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диметиловый эфир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8172360" y="616572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11243" y="3837"/>
                </a:moveTo>
                <a:lnTo>
                  <a:pt x="13820" y="6448"/>
                </a:lnTo>
                <a:lnTo>
                  <a:pt x="13820" y="4707"/>
                </a:lnTo>
                <a:lnTo>
                  <a:pt x="15595" y="4707"/>
                </a:lnTo>
                <a:lnTo>
                  <a:pt x="15595" y="8224"/>
                </a:lnTo>
                <a:lnTo>
                  <a:pt x="18206" y="10800"/>
                </a:lnTo>
                <a:lnTo>
                  <a:pt x="16553" y="10800"/>
                </a:lnTo>
                <a:lnTo>
                  <a:pt x="16553" y="17989"/>
                </a:lnTo>
                <a:lnTo>
                  <a:pt x="5934" y="17989"/>
                </a:lnTo>
                <a:lnTo>
                  <a:pt x="5934" y="10800"/>
                </a:lnTo>
                <a:lnTo>
                  <a:pt x="4280" y="10800"/>
                </a:lnTo>
                <a:close/>
              </a:path>
              <a:path fill="darkenLess" w="22487" h="21600">
                <a:moveTo>
                  <a:pt x="13820" y="6448"/>
                </a:moveTo>
                <a:lnTo>
                  <a:pt x="13820" y="4707"/>
                </a:lnTo>
                <a:lnTo>
                  <a:pt x="15595" y="4707"/>
                </a:lnTo>
                <a:lnTo>
                  <a:pt x="15595" y="8224"/>
                </a:lnTo>
                <a:close/>
              </a:path>
              <a:path fill="darkenLess" w="22487" h="21600">
                <a:moveTo>
                  <a:pt x="10321" y="14299"/>
                </a:moveTo>
                <a:lnTo>
                  <a:pt x="12166" y="14299"/>
                </a:lnTo>
                <a:lnTo>
                  <a:pt x="12166" y="17989"/>
                </a:lnTo>
                <a:lnTo>
                  <a:pt x="16553" y="17989"/>
                </a:lnTo>
                <a:lnTo>
                  <a:pt x="16553" y="10800"/>
                </a:lnTo>
                <a:lnTo>
                  <a:pt x="5934" y="10800"/>
                </a:lnTo>
                <a:lnTo>
                  <a:pt x="5934" y="17989"/>
                </a:lnTo>
                <a:lnTo>
                  <a:pt x="103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404640"/>
            <a:ext cx="91440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Спиртам характерны следующие реа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Замещения: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5OH +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C2H5O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+   H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илат на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Дегидратации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: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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=CH2 + H2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|       |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1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3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.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Этерификации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+   СН3-СО-ОН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–СО-О-СН3  +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танол    уксусная кисло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тилаце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4. Окисления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: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СН2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СН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О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ьдеги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карбо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817236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12541" y="3837"/>
                </a:moveTo>
                <a:lnTo>
                  <a:pt x="15117" y="6448"/>
                </a:lnTo>
                <a:lnTo>
                  <a:pt x="15117" y="4707"/>
                </a:lnTo>
                <a:lnTo>
                  <a:pt x="16892" y="4707"/>
                </a:lnTo>
                <a:lnTo>
                  <a:pt x="16892" y="8224"/>
                </a:lnTo>
                <a:lnTo>
                  <a:pt x="19503" y="10800"/>
                </a:lnTo>
                <a:lnTo>
                  <a:pt x="17850" y="10800"/>
                </a:lnTo>
                <a:lnTo>
                  <a:pt x="17850" y="17989"/>
                </a:lnTo>
                <a:lnTo>
                  <a:pt x="7231" y="17989"/>
                </a:lnTo>
                <a:lnTo>
                  <a:pt x="7231" y="10800"/>
                </a:lnTo>
                <a:lnTo>
                  <a:pt x="5578" y="10800"/>
                </a:lnTo>
                <a:close/>
              </a:path>
              <a:path fill="darkenLess" w="25081" h="21600">
                <a:moveTo>
                  <a:pt x="15117" y="6448"/>
                </a:moveTo>
                <a:lnTo>
                  <a:pt x="15117" y="4707"/>
                </a:lnTo>
                <a:lnTo>
                  <a:pt x="16892" y="4707"/>
                </a:lnTo>
                <a:lnTo>
                  <a:pt x="16892" y="8224"/>
                </a:lnTo>
                <a:close/>
              </a:path>
              <a:path fill="darkenLess" w="25081" h="21600">
                <a:moveTo>
                  <a:pt x="11618" y="14299"/>
                </a:moveTo>
                <a:lnTo>
                  <a:pt x="13463" y="14299"/>
                </a:lnTo>
                <a:lnTo>
                  <a:pt x="13463" y="17989"/>
                </a:lnTo>
                <a:lnTo>
                  <a:pt x="17850" y="17989"/>
                </a:lnTo>
                <a:lnTo>
                  <a:pt x="17850" y="10800"/>
                </a:lnTo>
                <a:lnTo>
                  <a:pt x="7231" y="10800"/>
                </a:lnTo>
                <a:lnTo>
                  <a:pt x="7231" y="17989"/>
                </a:lnTo>
                <a:lnTo>
                  <a:pt x="1161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5:38:54Z</dcterms:created>
  <dc:creator>Кузнецовых </dc:creator>
  <dc:description/>
  <dc:language>en-US</dc:language>
  <cp:lastModifiedBy>User</cp:lastModifiedBy>
  <dcterms:modified xsi:type="dcterms:W3CDTF">2013-03-13T14:55:18Z</dcterms:modified>
  <cp:revision>6</cp:revision>
  <dc:subject/>
  <dc:title>Слайд 1</dc:title>
</cp:coreProperties>
</file>