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A4CF-2293-488A-BBC7-73E34B96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441F-4A4B-4054-AADD-F1853C42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C3C2-24C6-4D90-AD2E-D63E235A7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8572-1115-45CB-9905-4BD8998A2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B5A8-CB07-4926-A241-47F689FD7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2F3F-F5AA-4C94-B453-4EE7C51A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BBAE-7FC6-4BB1-BA8B-9F4C26E8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2948-2B26-40E2-B163-13A48E98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A0FC-8169-4D29-BC63-6E930579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5C8B-0E5E-4D93-A64A-868B811A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3B2B-F05C-493D-BC09-5EF92CD3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F765-F0FC-4AF6-8752-42E59449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D42B-B237-4E31-977A-EEB99886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2E47-825D-476E-B445-6AD97A1E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13DE-C38B-423B-874E-028E8EED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715F-109B-4455-B4F3-157205F3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94F5-1048-47A0-8969-51A43A84F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3817-E408-4F36-8E9B-CC793A99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A33B-D78D-448A-92B4-76154882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0AF2-4AD8-467C-8857-3C1CBEA4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45ED-5449-4B35-B50A-829A3583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24F5-2964-4571-B473-6256BBDE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8670-E78A-4209-A992-4BABFA7F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C2EB-0539-444E-BBCB-1AB3FD6C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C9B0-5AE4-4D63-9E54-BE5FF41C50B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1730-BFA2-45E0-9C9F-6F81023EB06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71;&#1085;&#1089;&#1072;,_&#1051;&#1077;&#1086;&#1087;&#1086;&#1083;&#1100;&#1076;" TargetMode="External"/><Relationship Id="rId2" Type="http://schemas.openxmlformats.org/officeDocument/2006/relationships/hyperlink" Target="http://images.yandex.ru/yandsearch" TargetMode="External"/><Relationship Id="rId3" Type="http://schemas.openxmlformats.org/officeDocument/2006/relationships/hyperlink" Target="http://yandex.ru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330033"/>
                </a:solidFill>
                <a:latin typeface="Times New Roman"/>
              </a:rPr>
              <a:t>Леопольд Янса</a:t>
            </a:r>
            <a:endParaRPr b="0" lang="en-US" sz="9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зентацию подготов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митри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ста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375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Основная информаци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813120" cy="45306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88000" y="149688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ата рожд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3 марта 17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Место рождения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ильденшве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ныне Чех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ата смерти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5 января 187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79 л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есто смерти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Брно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772400" cy="21891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3941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лаг                                           Гер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11280" y="4508640"/>
            <a:ext cx="2879640" cy="1920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372360" y="4508640"/>
            <a:ext cx="1674720" cy="19540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енский Университе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36720" y="1773360"/>
            <a:ext cx="3875040" cy="3806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642920" y="1988640"/>
            <a:ext cx="40388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Год основания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365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туденты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91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асположение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ена, Авс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Ученики Леопольда Янс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лма Неруда-Норм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076720" y="1484280"/>
            <a:ext cx="3780000" cy="4726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л Гольдмар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Эдуард Рапполь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692280"/>
            <a:ext cx="3834000" cy="57164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eba06"/>
                </a:solidFill>
                <a:latin typeface="Times New Roman"/>
              </a:rPr>
              <a:t>Вена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 rot="20892600">
            <a:off x="936720" y="1701360"/>
            <a:ext cx="4135320" cy="2517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 rot="687600">
            <a:off x="5076360" y="1773360"/>
            <a:ext cx="3786120" cy="2840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763640" y="3933720"/>
            <a:ext cx="4464000" cy="27385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писок используемых источников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ru.wikipedia.org/wiki/Янса,_Леополь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http://images.yandex.ru/yand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http://yandex.ru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Спасибо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за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3T04:57:52Z</dcterms:created>
  <dc:creator>Admin</dc:creator>
  <dc:description/>
  <dc:language>en-US</dc:language>
  <cp:lastModifiedBy>Admin</cp:lastModifiedBy>
  <dcterms:modified xsi:type="dcterms:W3CDTF">2013-02-24T17:28:36Z</dcterms:modified>
  <cp:revision>2</cp:revision>
  <dc:subject/>
  <dc:title>Леопольд Янса</dc:title>
</cp:coreProperties>
</file>