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424-8BB1-412C-A399-F3B5F28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6E9-F22C-4C76-80C9-EE824F8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738-4EF5-4296-8329-F8A1065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CD6-3E0A-469B-9624-5C30130B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6B44-C4D8-4630-B481-6811FA10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2922-B243-4568-975E-F0250A4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7986-D9D7-4DF0-990C-6294B73E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23C4-47E8-49F7-8496-EFE9D42E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7A5-ED91-48A5-AEEB-78967AD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E278-D674-44D7-A36D-BF8B9B6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C20F-2E27-45A8-A7AA-573BCD6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776-F6AD-4C15-B313-9CBF3FFF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7F6-0F67-438A-A8E8-58EC511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47E2-B8DB-4567-9D0C-0EE0607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AC48-0D6E-4E9C-ADC6-93F3E54D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C956-91E1-4345-9C9F-EF720F00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C662-D7DD-4088-B797-118D7054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4C5-9BB2-4FC1-9A23-3323F70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56D-B4B3-4287-867D-F7635CF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B11-311F-4D59-B372-113B83DC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BBF-A59D-4B2B-AF48-A8F92B4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D52-1B8E-4E78-9CE1-2F7F2E1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82D-3335-4D4F-BBE9-499FEEF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402-19BC-4BCD-9C6A-F55FD50C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EEB-CD74-49C0-919B-7441A89716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515-6F1C-4773-8B2B-6F12B4C556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1;&#1085;&#1089;&#1072;,_&#1051;&#1077;&#1086;&#1087;&#1086;&#1083;&#1100;&#1076;" TargetMode="External"/><Relationship Id="rId2" Type="http://schemas.openxmlformats.org/officeDocument/2006/relationships/hyperlink" Target="http://images.yandex.ru/yandsearch" TargetMode="External"/><Relationship Id="rId3" Type="http://schemas.openxmlformats.org/officeDocument/2006/relationships/hyperlink" Target="http://yandex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0033"/>
                </a:solidFill>
                <a:latin typeface="Times New Roman"/>
              </a:rPr>
              <a:t>Леопольд Янса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митр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75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сновная информа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1312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8000" y="149688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та ро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3 марта 17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ильденш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ыне Чех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та смер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5 января 187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79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сто смер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Бр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218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аг                                           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879640" cy="192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1674720" cy="1954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енский Университ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36720" y="1773360"/>
            <a:ext cx="387504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од основа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3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уденты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1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ение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на, 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ники Леопольда Янс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лма Неруда-Нор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780000" cy="472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Гольд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Эдуард Раппо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3834000" cy="5716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eba06"/>
                </a:solidFill>
                <a:latin typeface="Times New Roman"/>
              </a:rPr>
              <a:t>Вен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20892600">
            <a:off x="936720" y="1701360"/>
            <a:ext cx="4135320" cy="2517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687600">
            <a:off x="5076360" y="177336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4464000" cy="273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писок используемых источник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ru.wikipedia.org/wiki/Янса,_Леополь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images.yandex.ru/yand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yandex.r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за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4:57:52Z</dcterms:created>
  <dc:creator>Admin</dc:creator>
  <dc:description/>
  <dc:language>en-US</dc:language>
  <cp:lastModifiedBy>Admin</cp:lastModifiedBy>
  <dcterms:modified xsi:type="dcterms:W3CDTF">2013-02-24T17:28:36Z</dcterms:modified>
  <cp:revision>2</cp:revision>
  <dc:subject/>
  <dc:title>Леопольд Янса</dc:title>
</cp:coreProperties>
</file>