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15D1-05E1-4222-A620-1DD68C01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EA2-137D-429F-8DE4-56C8B2CD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995A-FACE-446E-B5AB-B842579A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3A8-8B3D-4D68-A366-369CF822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B3208-E8E3-4D05-A613-1CDF760A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B7144-E638-45AB-A8CB-1EC02E7C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7A0E4-2B1A-4475-9971-D180E263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F78A9-F268-4AE3-A048-00C059FE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B4B7D-F0FC-4F9E-B119-DC17433D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A38F3-4070-46A5-A756-14BB4DAE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29FB9-23C5-4BBC-A04C-D9DA6AB2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5FBF-2139-48B6-A039-40BDDB94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4F31B-BCA0-4D64-B29B-B4E246C8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92476-5D60-4FCB-882B-A6539707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C057A-6CB2-4679-B12D-B2CC83E3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CA081-E761-4BE5-B28E-B3BAF75A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E06E7-D17F-45B3-A4CF-28ABA579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C2C2-755C-4071-86AD-CFF987C3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669-C46A-4064-9179-74EBFDEC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6A2-3C3D-47FE-8029-034BF45E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2A2-DA3A-47EA-B453-74723313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3DBE-6B01-4BAA-A02C-7418D79A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E56A-F606-40D6-A258-9E4D68CF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9E62-BB2F-458B-82E0-8AE14A28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E29F-2316-4020-9A80-B98E5FABF6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AAB2-5246-4EB6-8ECA-AD085A0EEF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-44280"/>
            <a:ext cx="896472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МОУ Виткуловская СО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Занят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в группе продленного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Tahoma"/>
              </a:rPr>
              <a:t>«Путешествие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Tahoma"/>
              </a:rPr>
              <a:t>              </a:t>
            </a:r>
            <a:r>
              <a:rPr b="1" lang="ru-RU" sz="5400" spc="-1" strike="noStrike">
                <a:solidFill>
                  <a:srgbClr val="66ff33"/>
                </a:solidFill>
                <a:latin typeface="Tahoma"/>
              </a:rPr>
              <a:t>в страну         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Tahoma"/>
              </a:rPr>
              <a:t>                       </a:t>
            </a:r>
            <a:r>
              <a:rPr b="1" lang="ru-RU" sz="5400" spc="-1" strike="noStrike">
                <a:solidFill>
                  <a:srgbClr val="66ff33"/>
                </a:solidFill>
                <a:latin typeface="Tahoma"/>
              </a:rPr>
              <a:t>здоровья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спитател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кова Нина Никола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34776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66"/>
                </a:solidFill>
                <a:latin typeface="Tahoma"/>
              </a:rPr>
              <a:t>«Режим дня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6840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-115920"/>
            <a:ext cx="9144000" cy="77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Режим дня</a:t>
            </a:r>
            <a:r>
              <a:rPr b="0" lang="en-US" sz="1800" spc="-1" strike="noStrike">
                <a:solidFill>
                  <a:srgbClr val="ccff33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7.00 – подъ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7.00 – 7.10 – утренняя гимнасти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7.10 – 7.25 – утренний туал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7.25 – 7.40 – завтра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7.40 – 8.00 – дорога в школ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8.00 – 8.15 – подготовка к урок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8.15 – 12.00 – занятия в шко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12.00 – 17.00 – группа продленного д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17.00 – 17.20 – дорога дом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17.20 – 18.20 – отдых, прогул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18.20 – 18.50 – уж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18.50 – 21.00 – личное врем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21.00 – 21.30 – вечерний туалет, подготовка ко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                                                                         </a:t>
            </a: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сн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ahoma"/>
              </a:rPr>
              <a:t>21.30 – отбой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89000"/>
            <a:ext cx="8964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7000" spc="-1" strike="noStrike">
                <a:solidFill>
                  <a:srgbClr val="99ff66"/>
                </a:solidFill>
                <a:latin typeface="Tahoma"/>
              </a:rPr>
              <a:t>«Спортивная»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35800" y="0"/>
            <a:ext cx="57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Дорожка здоров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692280"/>
          <a:ext cx="9109080" cy="6308640"/>
        </p:xfrm>
        <a:graphic>
          <a:graphicData uri="http://schemas.openxmlformats.org/drawingml/2006/table">
            <a:tbl>
              <a:tblPr/>
              <a:tblGrid>
                <a:gridCol w="2268360"/>
                <a:gridCol w="4248360"/>
                <a:gridCol w="25923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пражн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проводительный тек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кции 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пражнения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Великан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ы становимся все выш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стаем руками крыш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носочки поднимис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 макушечкой тянись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лнце в небе высоко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тянуться нелегк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 каждым шагом выше, выше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удем к солнышку поближе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ти идут по дорожке на носочках, подняв прямые руки вверх, ладонями внутр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Крылыш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и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беди стайкою дружной плывут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ямо и гордо умеют держаться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ыльями машут- красиво летят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хо на воду садятс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уки в «крылышки» сложили и 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ятках походили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уки в «крылышках» - локти прижаты к талии, лопатки соединены. Ходьба на пятка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82160" cy="6453000"/>
        </p:xfrm>
        <a:graphic>
          <a:graphicData uri="http://schemas.openxmlformats.org/drawingml/2006/table">
            <a:tbl>
              <a:tblPr/>
              <a:tblGrid>
                <a:gridCol w="2421000"/>
                <a:gridCol w="3701880"/>
                <a:gridCol w="3059280"/>
              </a:tblGrid>
              <a:tr h="25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Свечка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коленях мы идем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ину держим прямо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 красивую осанк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с похвалит мама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 теперь поход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наружном своде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одьба по гимнас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камейке на коленях, руки на пояс. Затем ходьба на наружном своде стопы, руки на пояс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Собач -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б найти дорогу к дому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ужно след искать знакомый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улька верно след взя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ямо к дому привела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одьба по гимнас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камейке на коленях, руки по пол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Лебедь и уточка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овно лебедь по воде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 плыву на животе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 теперь как уточ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хожу минуточку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тягиваться по гимн. скамейке на животе. Затем ходьба в полуприсяде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8964720" cy="3573360"/>
        </p:xfrm>
        <a:graphic>
          <a:graphicData uri="http://schemas.openxmlformats.org/drawingml/2006/table">
            <a:tbl>
              <a:tblPr/>
              <a:tblGrid>
                <a:gridCol w="2987640"/>
                <a:gridCol w="3168720"/>
                <a:gridCol w="2808360"/>
              </a:tblGrid>
              <a:tr h="38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Подтягива - ние на спине»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тянуться на спи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когда не сложно мн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сть и быстро встать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 «цыганочку» сплясать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тягивание по гимн.скам. на спин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Цыганочка»-хлопок в ладоши над головой, затем, повернув голову вправо, правой ру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снуться правой пятки. Повторить тоже в левую сторон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281320" y="3573360"/>
            <a:ext cx="45813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26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1760" y="19080"/>
            <a:ext cx="749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33cc33"/>
                </a:solidFill>
                <a:latin typeface="Tahoma"/>
              </a:rPr>
              <a:t>«Расслабляющая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«Сотвори в себе солнце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864216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5690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720" y="76320"/>
            <a:ext cx="9308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ahoma"/>
              </a:rPr>
              <a:t>Цель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Сформировать у детей желание ве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здоровый образ жизн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сохранение физического и психическ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здоровья уча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ahoma"/>
              </a:rPr>
              <a:t>Задачи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казать важность режима дня в формирова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здорового образа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2. Определить принципы здорового пита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закаливания организма и занятий спор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3. Снятие физического и психического напряж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4. Повышение эмоциональной стаби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5. Профилактика плоскостоп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6. Воспитывать чувство ответствен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за сохранение и укрепление своего здоров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19120" y="-12600"/>
            <a:ext cx="837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5120" y="-12600"/>
            <a:ext cx="765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189000"/>
            <a:ext cx="936144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ru-RU" sz="3600" spc="-1" strike="noStrike">
                <a:solidFill>
                  <a:srgbClr val="cc3300"/>
                </a:solidFill>
                <a:latin typeface="Tahoma"/>
              </a:rPr>
              <a:t>Речев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Tahoma"/>
              </a:rPr>
              <a:t>Ведущий: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</a:t>
            </a:r>
            <a:r>
              <a:rPr b="1" lang="ru-RU" sz="1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Tahoma"/>
              </a:rPr>
              <a:t>Де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Раз, два!                 -                     Три, четыр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Три, четыре!          -                      Раз, дв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Кто идет?               -                     Отряд здоров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Смелых и весел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задорных друз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Раз, два!                 -                      Три, четыр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Тверже ногу!          -                      Четче шаг, юных крепышей отряд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Мы здоровье сохраним!      -       Мы здоровьем дорожим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И даем мы всем рецепты,    -     Как здоровье сохрани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Чтобы бодрым и весел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Нам до старости прожит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-25560"/>
            <a:ext cx="91440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4800" spc="-1" strike="noStrike">
                <a:solidFill>
                  <a:srgbClr val="cc3300"/>
                </a:solidFill>
                <a:latin typeface="Tahoma"/>
              </a:rPr>
              <a:t>Наш девиз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ahoma"/>
              </a:rPr>
              <a:t>«Я здоровье берегу 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ahoma"/>
              </a:rPr>
              <a:t>  </a:t>
            </a:r>
            <a:r>
              <a:rPr b="1" lang="en-US" sz="6000" spc="-1" strike="noStrike">
                <a:solidFill>
                  <a:srgbClr val="66ff33"/>
                </a:solidFill>
                <a:latin typeface="Tahoma"/>
              </a:rPr>
              <a:t>сам себе я помогу!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4360" y="1219320"/>
            <a:ext cx="8064360" cy="5305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63480" y="260280"/>
            <a:ext cx="786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ahoma"/>
              </a:rPr>
              <a:t>«</a:t>
            </a:r>
            <a:r>
              <a:rPr b="1" lang="en-US" sz="6000" spc="-1" strike="noStrike">
                <a:solidFill>
                  <a:srgbClr val="ff0066"/>
                </a:solidFill>
                <a:latin typeface="Tahoma"/>
              </a:rPr>
              <a:t>Личная  гигиен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203040"/>
            <a:ext cx="8713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6000" spc="-1" strike="noStrike" u="sng">
                <a:solidFill>
                  <a:srgbClr val="ccff33"/>
                </a:solidFill>
                <a:uFillTx/>
                <a:latin typeface="Tahoma"/>
              </a:rPr>
              <a:t>ГИГИЕН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1. Тела челове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2. Полости рта, зуб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3. Гла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4. Воло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5. Кож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6. Нос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7. С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708360" y="2781360"/>
            <a:ext cx="45817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4360" y="-268200"/>
            <a:ext cx="866016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4400" spc="-1" strike="noStrike" u="sng">
                <a:solidFill>
                  <a:srgbClr val="cc3399"/>
                </a:solidFill>
                <a:uFillTx/>
                <a:latin typeface="Tahoma"/>
              </a:rPr>
              <a:t>Оздоровительная минут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1.Мы шагаем, мы шагаем, руки выше поднимае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Голову не опускаем, дышим ровно, глубо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2.Вдруг мы видим:  из ку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Выпал птенчик из гнез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3.Тихо птенчика бер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И назад его клад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4. Впереди из-за куста смотрит хитрая ли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Мы лисицу обхитрим, на носочках побеж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5. На полянку мы выход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Много ягод там наход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Земляника так душист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Что не лень нам наклони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6. Как много мы увидели: и речку, и цв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Узнали много нового – и я, и мы, и 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15760" y="0"/>
            <a:ext cx="689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«Здоровое питание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80647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0099"/>
                </a:solidFill>
                <a:uFillTx/>
                <a:latin typeface="Tahoma"/>
              </a:rPr>
              <a:t>Советы здорового питания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</a:t>
            </a: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1.Воздерживайтесь от жирной пищ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                                                         </a:t>
            </a: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2.Остерегайтесь очень острого и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                                                        </a:t>
            </a: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солен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3.Сладостей тысячи, а здоровье од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                                                                               </a:t>
            </a: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4.Овощи и фрукты здоровые продук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59280" y="4653000"/>
            <a:ext cx="2736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6:14:14Z</dcterms:created>
  <dc:creator>USER</dc:creator>
  <dc:description/>
  <dc:language>en-US</dc:language>
  <cp:lastModifiedBy>kroz</cp:lastModifiedBy>
  <dcterms:modified xsi:type="dcterms:W3CDTF">2013-02-11T07:58:21Z</dcterms:modified>
  <cp:revision>6</cp:revision>
  <dc:subject/>
  <dc:title>Слайд 1</dc:title>
</cp:coreProperties>
</file>