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031-73B1-4915-B2F8-00BA021E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1B9-53B6-4256-BE4B-FCFA04E5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7F3-77FB-49B4-9772-74ADCA34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4E9-3E8E-4386-B6FE-677F08DD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C2A22-646B-4614-BCAC-1AE1CE7A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08508-6099-4C1C-B5F4-3CDEE89D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9A75B-889D-476B-BFEE-C5455ADA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92411-1148-4BA8-AEFA-7F2EEC27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AD2DA-5767-493F-A686-CE746F3F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047B3-FB13-406E-BF60-340477BB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5E5DB-DD96-4E0B-AA67-28A0EA06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C69-A618-4826-854C-591C6F31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4D9AA-1E96-49AF-ABB6-CC55A9C1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667E9-FA1C-48F0-86FA-2E8819A0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2B6C1-3406-4B6B-A19F-3F4FD064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9DA70-3059-478A-85DC-274BCB65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A8D8A-0A4E-4C5C-BB6C-2039D5E2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D2B-3730-41B9-8B53-8C77768C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3FD-0C36-4757-B2D2-0E013016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0FF-9AD9-44CE-97BA-F209647F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29C-A42D-4D3D-9B3F-90BEB7E4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94D-60F2-40DA-821A-9D6B236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283-DD98-4174-90A6-A4A5B3C6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BCF-0721-4CE9-BD5B-C5D9AE8F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15C8-C5C3-4A10-B02E-681D7F3C55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3CF1-C30B-4968-8EE3-504C137B91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-44280"/>
            <a:ext cx="896472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МОУ Виткуловская С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Заня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в группе продленного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«Путешестви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              </a:t>
            </a: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в страну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                       </a:t>
            </a: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здоровь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т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кова Нина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3477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66"/>
                </a:solidFill>
                <a:latin typeface="Tahoma"/>
              </a:rPr>
              <a:t>«Режим дн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684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-115920"/>
            <a:ext cx="9144000" cy="77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Режим дня</a:t>
            </a:r>
            <a:r>
              <a:rPr b="0" lang="en-US" sz="1800" spc="-1" strike="noStrike">
                <a:solidFill>
                  <a:srgbClr val="ccff33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00 – подъ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00 – 7.10 – утренняя гимнаст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10 – 7.25 – утренний туа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25 – 7.40 – завтр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40 – 8.00 – дорога в шко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8.00 – 8.15 – подготовка к уро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8.15 – 12.00 – занятия в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2.00 – 17.00 – группа продленного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7.00 – 17.20 – дорога до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7.20 – 18.20 – отдых, прогу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8.20 – 18.50 – уж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8.50 – 21.00 – личное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21.00 – 21.30 – вечерний туалет, подготовка ко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с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21.30 – отбой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9000"/>
            <a:ext cx="896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7000" spc="-1" strike="noStrike">
                <a:solidFill>
                  <a:srgbClr val="99ff66"/>
                </a:solidFill>
                <a:latin typeface="Tahoma"/>
              </a:rPr>
              <a:t>«Спортивная»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35800" y="0"/>
            <a:ext cx="57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орожка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692280"/>
          <a:ext cx="9109080" cy="6308640"/>
        </p:xfrm>
        <a:graphic>
          <a:graphicData uri="http://schemas.openxmlformats.org/drawingml/2006/table">
            <a:tbl>
              <a:tblPr/>
              <a:tblGrid>
                <a:gridCol w="2268360"/>
                <a:gridCol w="4248360"/>
                <a:gridCol w="2592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раж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проводительный тек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кции 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ражн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еликан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ы становимся все выш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ем руками крыш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носочки поднимис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макушечкой тянис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нце в небе высоко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тянуться нелег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каждым шагом выше, выш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дем к солнышку поближ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ти идут по дорожке на носочках, подняв прямые руки вверх, ладонями внутр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рылы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беди стайкою дружной плывут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о и гордо умеют держатьс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ыльями машут- красиво летят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хо на воду садятс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ки в «крылышки» сложили и 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ятках походили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ки в «крылышках» - локти прижаты к талии, лопатки соединены. Ходьба на пятк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82160" cy="6453000"/>
        </p:xfrm>
        <a:graphic>
          <a:graphicData uri="http://schemas.openxmlformats.org/drawingml/2006/table">
            <a:tbl>
              <a:tblPr/>
              <a:tblGrid>
                <a:gridCol w="2421000"/>
                <a:gridCol w="3701880"/>
                <a:gridCol w="3059280"/>
              </a:tblGrid>
              <a:tr h="25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веч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коленях мы иде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ину держим прямо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 красивую осан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с похвалит мама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теперь поход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наружном свод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дьба по гимна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амейке на коленях, руки на пояс. Затем ходьба на наружном своде стопы, руки на пояс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обач -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б найти дорогу к дому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ужно след искать знакомы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улька верно след взя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о к дому привела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дьба по гимна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амейке на коленях, руки по пол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Лебедь и уточ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овно лебедь по вод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плыву на живот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теперь как уто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хожу минуточку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гиваться по гимн. скамейке на животе. Затем ходьба в полуприсяд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8964720" cy="3573360"/>
        </p:xfrm>
        <a:graphic>
          <a:graphicData uri="http://schemas.openxmlformats.org/drawingml/2006/table">
            <a:tbl>
              <a:tblPr/>
              <a:tblGrid>
                <a:gridCol w="2987640"/>
                <a:gridCol w="3168720"/>
                <a:gridCol w="280836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одтягива - ние на спине»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нуться на сп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огда не сложно м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сть и быстро встать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«цыганочку» сплясат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гивание по гимн.скам. на спи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Цыганочка»-хлопок в ладоши над головой, затем, повернув голову вправо, правой ру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снуться правой пятки. Повторить тоже в левую сторо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1320" y="3573360"/>
            <a:ext cx="4581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1760" y="19080"/>
            <a:ext cx="749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«Расслабляюща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Сотвори в себе солнц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86421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720" y="76320"/>
            <a:ext cx="9308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Цель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формировать у детей желание в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ый образ жи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охранение физического и психиче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ья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Задачи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казать важность режима дня в формиро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2. Определить принципы здорового пит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акаливания организма и занятий спор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3. Снятие физического и психического напря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4. Повышение эмоциональной стаби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5. Профилактика плоскостоп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6. Воспитывать чувство ответств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а сохранение и укрепление своего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-12600"/>
            <a:ext cx="837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120" y="-12600"/>
            <a:ext cx="76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189000"/>
            <a:ext cx="936144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Tahoma"/>
              </a:rPr>
              <a:t>Речев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Ведущий: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Де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Раз, два!                 -                     Три, четыр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ри, четыре!          -                      Раз, дв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то идет?               -                     Отряд здор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мелых и весел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задорных дру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Раз, два!                 -                      Три, четыр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верже ногу!          -                      Четче шаг, юных крепышей отря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Мы здоровье сохраним!      -       Мы здоровьем дорожи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И даем мы всем рецепты,    -     Как здоровье сохран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тобы бодрым и вес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ам до старости прожи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-25560"/>
            <a:ext cx="9144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4800" spc="-1" strike="noStrike">
                <a:solidFill>
                  <a:srgbClr val="cc3300"/>
                </a:solidFill>
                <a:latin typeface="Tahoma"/>
              </a:rPr>
              <a:t>Наш девиз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«Я здоровье берегу 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  </a:t>
            </a: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сам себе я помогу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4360" y="1219320"/>
            <a:ext cx="8064360" cy="5305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3480" y="260280"/>
            <a:ext cx="786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«</a:t>
            </a:r>
            <a:r>
              <a:rPr b="1" lang="en-US" sz="6000" spc="-1" strike="noStrike">
                <a:solidFill>
                  <a:srgbClr val="ff0066"/>
                </a:solidFill>
                <a:latin typeface="Tahoma"/>
              </a:rPr>
              <a:t>Личная  гигиен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203040"/>
            <a:ext cx="8713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6000" spc="-1" strike="noStrike" u="sng">
                <a:solidFill>
                  <a:srgbClr val="ccff33"/>
                </a:solidFill>
                <a:uFillTx/>
                <a:latin typeface="Tahoma"/>
              </a:rPr>
              <a:t>ГИГИ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1. Тела челов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2. Полости рта, зуб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3. Гл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4. Воло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5. Кож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6. Но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7. С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08360" y="2781360"/>
            <a:ext cx="4581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360" y="-268200"/>
            <a:ext cx="866016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 u="sng">
                <a:solidFill>
                  <a:srgbClr val="cc3399"/>
                </a:solidFill>
                <a:uFillTx/>
                <a:latin typeface="Tahoma"/>
              </a:rPr>
              <a:t>Оздоровительная минут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1.Мы шагаем, мы шагаем, руки выше поднимае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Голову не опускаем, дышим ровно, глуб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2.Вдруг мы видим:  из ку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Выпал птенчик из гн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3.Тихо птенчика бер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И назад его клад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4. Впереди из-за куста смотрит хитрая ли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Мы лисицу обхитрим, на носочках побеж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5. На полянку мы выход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Много ягод там наход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Земляника так душис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Что не лень нам наклон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6. Как много мы увидели: и речку, и цв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Узнали много нового – и я, и мы, и 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5760" y="0"/>
            <a:ext cx="68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Здоровое питани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064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99"/>
                </a:solidFill>
                <a:uFillTx/>
                <a:latin typeface="Tahoma"/>
              </a:rPr>
              <a:t>Советы здорового питани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1.Воздерживайтесь от жирной пи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2.Остерегайтесь очень острого и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соле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3.Сладостей тысячи, а здоровье о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4.Овощи и фрукты здоровые проду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2736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14:14Z</dcterms:created>
  <dc:creator>USER</dc:creator>
  <dc:description/>
  <dc:language>en-US</dc:language>
  <cp:lastModifiedBy>kroz</cp:lastModifiedBy>
  <dcterms:modified xsi:type="dcterms:W3CDTF">2013-02-11T07:58:21Z</dcterms:modified>
  <cp:revision>6</cp:revision>
  <dc:subject/>
  <dc:title>Слайд 1</dc:title>
</cp:coreProperties>
</file>