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D0F-8413-4035-BEFC-B015CE20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052-3E5F-4AF4-B38C-F4DBC290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FC7-580B-4C14-929B-EB052CC9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DD4-F0E1-4483-B3EA-DFE9FE7F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7CC-887A-4049-80D6-9038F304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025-07B6-47B0-BB32-7947A8C5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E11-EEB0-4AE3-8812-6327D4B1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A44-AD85-4184-9CCA-3215B821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809-2B14-4344-BB5A-5F6E552C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153-C7E7-4CAF-94AA-196A0C95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D3D-FBAE-4683-A964-03841A08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B2A-7393-4DCD-B78A-D257CA73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969-C3F6-44ED-89EE-02F4B4807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441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66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формационное сообщение на педагогическом совете ГБДОУ №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421000"/>
            <a:ext cx="7561440" cy="374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f2a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Мои пра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школьникам о правах и обязан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валева А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нкт – Петербург 2013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Мои пра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38360" y="1700280"/>
            <a:ext cx="4068720" cy="4422240"/>
            <a:chOff x="2538360" y="1700280"/>
            <a:chExt cx="4068720" cy="4422240"/>
          </a:xfrm>
        </p:grpSpPr>
        <p:sp>
          <p:nvSpPr>
            <p:cNvPr id="45" name="_s2071"/>
            <p:cNvSpPr/>
            <p:nvPr/>
          </p:nvSpPr>
          <p:spPr>
            <a:xfrm flipH="1" flipV="1">
              <a:off x="3592440" y="3359160"/>
              <a:ext cx="48888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0"/>
            <p:cNvSpPr/>
            <p:nvPr/>
          </p:nvSpPr>
          <p:spPr>
            <a:xfrm>
              <a:off x="2538360" y="2528640"/>
              <a:ext cx="1131840" cy="11070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 на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тдых и досуг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9"/>
            <p:cNvSpPr/>
            <p:nvPr/>
          </p:nvSpPr>
          <p:spPr>
            <a:xfrm flipH="1">
              <a:off x="3594240" y="4188240"/>
              <a:ext cx="48888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8"/>
            <p:cNvSpPr/>
            <p:nvPr/>
          </p:nvSpPr>
          <p:spPr>
            <a:xfrm>
              <a:off x="2538360" y="4186800"/>
              <a:ext cx="1131840" cy="1106640"/>
            </a:xfrm>
            <a:prstGeom prst="ellipse">
              <a:avLst/>
            </a:prstGeom>
            <a:solidFill>
              <a:srgbClr val="99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 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бразова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4"/>
            <p:cNvSpPr/>
            <p:nvPr/>
          </p:nvSpPr>
          <p:spPr>
            <a:xfrm>
              <a:off x="4573440" y="4464720"/>
              <a:ext cx="0" cy="55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73"/>
            <p:cNvSpPr/>
            <p:nvPr/>
          </p:nvSpPr>
          <p:spPr>
            <a:xfrm>
              <a:off x="4006800" y="5015880"/>
              <a:ext cx="1131840" cy="1106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охран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доровь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и мед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бслужив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78"/>
            <p:cNvSpPr/>
            <p:nvPr/>
          </p:nvSpPr>
          <p:spPr>
            <a:xfrm>
              <a:off x="5062680" y="4186800"/>
              <a:ext cx="48888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77"/>
            <p:cNvSpPr/>
            <p:nvPr/>
          </p:nvSpPr>
          <p:spPr>
            <a:xfrm>
              <a:off x="5475240" y="4186800"/>
              <a:ext cx="1131840" cy="1106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 зна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во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одител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6"/>
            <p:cNvSpPr/>
            <p:nvPr/>
          </p:nvSpPr>
          <p:spPr>
            <a:xfrm flipV="1">
              <a:off x="5060880" y="3357360"/>
              <a:ext cx="49068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5"/>
            <p:cNvSpPr/>
            <p:nvPr/>
          </p:nvSpPr>
          <p:spPr>
            <a:xfrm>
              <a:off x="5475240" y="2528640"/>
              <a:ext cx="1131840" cy="1107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 на им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67"/>
            <p:cNvSpPr/>
            <p:nvPr/>
          </p:nvSpPr>
          <p:spPr>
            <a:xfrm flipV="1">
              <a:off x="4572000" y="280512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66"/>
            <p:cNvSpPr/>
            <p:nvPr/>
          </p:nvSpPr>
          <p:spPr>
            <a:xfrm>
              <a:off x="4006800" y="1700280"/>
              <a:ext cx="1131840" cy="1106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Конвенция 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а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ебен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65"/>
            <p:cNvSpPr/>
            <p:nvPr/>
          </p:nvSpPr>
          <p:spPr>
            <a:xfrm>
              <a:off x="4006800" y="3359520"/>
              <a:ext cx="1131840" cy="110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а ребен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овые документ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венция о правах ребен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конодательство Российской Федер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на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ый ребенок имеет право на и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только ребенок рождается, ему дают имя и фами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я отличает человека от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имя имеет св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милия, имя и отчество ребенка записаны в документе который называ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16720" y="3141720"/>
            <a:ext cx="1800360" cy="273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знать своих родителей и право на их з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тели заботятся о ребенке, а ребенок уважительно к ним относ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ый ребенок имеет право жить в благополучной, дружной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 когда ребенка окружают несколько поколений семьи: мама, папа, бабушка, дедушка, прабабушка, прадед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неалогическое др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29527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на охрану здоровья и медицинское обслужи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ервых дней жизни ребенка о его здоровье заботятся родители, врачи в детском саду и поликлинике, педагоги в детском с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рослые заботятся о том, чтобы ребенок соблюдал режим дня, правильно питался, закаля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лечения и обследования детей существуют детские поликлиники, мед. центры и детские боль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ская поликли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952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во на 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ый ребенок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шей стране есть детские сады, где дети играют, рисуют, танцуют и  поют. Педагоги помогают готовиться к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6-7 лет каждый ребенок в России начинает обучение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окончания школы дети продолжают образование в институте, университете, колледже, лиц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732720" y="2349360"/>
            <a:ext cx="187308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364000" y="400536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на отдых и дос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тдыха и оздоровления детей в наше стране созданы детские лагеря, загородные детские сады, сан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городах работают детские театры, цирки, детские библиотеки, аттракционы в парках и развлекательных комплек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ы дома творчества юных, где работают многочисленные кружки, сту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ш дос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32360" y="242100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на культурную и национальную самобытность, родно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ссия - многонациональное государство, в котором живут много разных на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ей разных национальностей учат дружить , ходить друг к другу в гости, вместе играть и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дружные ребя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227400" cy="36720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72360" y="5805360"/>
            <a:ext cx="647640" cy="682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920"/>
              <a:gd name="textAreaBottom" fmla="*/ 641160 h 682920"/>
            </a:gdLst>
            <a:ahLst/>
            <a:rect l="textAreaLeft" t="textAreaTop" r="textAreaRight" b="textAreaBottom"/>
            <a:pathLst>
              <a:path w="21600" h="22776">
                <a:moveTo>
                  <a:pt x="0" y="0"/>
                </a:moveTo>
                <a:lnTo>
                  <a:pt x="21600" y="0"/>
                </a:lnTo>
                <a:lnTo>
                  <a:pt x="21600" y="22776"/>
                </a:lnTo>
                <a:lnTo>
                  <a:pt x="0" y="22776"/>
                </a:lnTo>
                <a:close/>
              </a:path>
              <a:path fill="lightenLess" w="21600" h="22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6">
                <a:moveTo>
                  <a:pt x="21600" y="0"/>
                </a:moveTo>
                <a:lnTo>
                  <a:pt x="21600" y="22776"/>
                </a:lnTo>
                <a:lnTo>
                  <a:pt x="20200" y="21376"/>
                </a:lnTo>
                <a:lnTo>
                  <a:pt x="20200" y="1400"/>
                </a:lnTo>
                <a:close/>
              </a:path>
              <a:path fill="darkenLess" w="21600" h="22776">
                <a:moveTo>
                  <a:pt x="21600" y="22776"/>
                </a:moveTo>
                <a:lnTo>
                  <a:pt x="0" y="22776"/>
                </a:lnTo>
                <a:lnTo>
                  <a:pt x="1400" y="21376"/>
                </a:lnTo>
                <a:lnTo>
                  <a:pt x="20200" y="21376"/>
                </a:lnTo>
                <a:close/>
              </a:path>
              <a:path fill="lighten" w="21600" h="22776">
                <a:moveTo>
                  <a:pt x="0" y="22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6"/>
                </a:lnTo>
                <a:close/>
              </a:path>
              <a:path fill="darken" w="21600" h="22776">
                <a:moveTo>
                  <a:pt x="10800" y="4425"/>
                </a:moveTo>
                <a:lnTo>
                  <a:pt x="13376" y="7036"/>
                </a:lnTo>
                <a:lnTo>
                  <a:pt x="13376" y="5295"/>
                </a:lnTo>
                <a:lnTo>
                  <a:pt x="15152" y="5295"/>
                </a:lnTo>
                <a:lnTo>
                  <a:pt x="15152" y="8812"/>
                </a:lnTo>
                <a:lnTo>
                  <a:pt x="17763" y="11388"/>
                </a:lnTo>
                <a:lnTo>
                  <a:pt x="16109" y="11388"/>
                </a:lnTo>
                <a:lnTo>
                  <a:pt x="16109" y="18577"/>
                </a:lnTo>
                <a:lnTo>
                  <a:pt x="5491" y="18577"/>
                </a:lnTo>
                <a:lnTo>
                  <a:pt x="5491" y="11388"/>
                </a:lnTo>
                <a:lnTo>
                  <a:pt x="3837" y="11388"/>
                </a:lnTo>
                <a:close/>
              </a:path>
              <a:path fill="darkenLess" w="21600" h="22776">
                <a:moveTo>
                  <a:pt x="13376" y="7036"/>
                </a:moveTo>
                <a:lnTo>
                  <a:pt x="13376" y="5295"/>
                </a:lnTo>
                <a:lnTo>
                  <a:pt x="15152" y="5295"/>
                </a:lnTo>
                <a:lnTo>
                  <a:pt x="15152" y="8812"/>
                </a:lnTo>
                <a:close/>
              </a:path>
              <a:path fill="darkenLess" w="21600" h="22776">
                <a:moveTo>
                  <a:pt x="9877" y="14887"/>
                </a:moveTo>
                <a:lnTo>
                  <a:pt x="11723" y="14887"/>
                </a:lnTo>
                <a:lnTo>
                  <a:pt x="11723" y="18577"/>
                </a:lnTo>
                <a:lnTo>
                  <a:pt x="16109" y="18577"/>
                </a:lnTo>
                <a:lnTo>
                  <a:pt x="16109" y="11388"/>
                </a:lnTo>
                <a:lnTo>
                  <a:pt x="5491" y="11388"/>
                </a:lnTo>
                <a:lnTo>
                  <a:pt x="5491" y="18577"/>
                </a:lnTo>
                <a:lnTo>
                  <a:pt x="9877" y="185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3:32:35Z</dcterms:created>
  <dc:creator>Пользователь</dc:creator>
  <dc:description/>
  <dc:language>en-US</dc:language>
  <cp:lastModifiedBy>Админ</cp:lastModifiedBy>
  <dcterms:modified xsi:type="dcterms:W3CDTF">2013-02-20T10:02:19Z</dcterms:modified>
  <cp:revision>10</cp:revision>
  <dc:subject/>
  <dc:title>«Мои права»: дошкольникам о правах и обязанностях</dc:title>
</cp:coreProperties>
</file>