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1FE-2256-4440-B7E1-F15EEEF5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4D3-7772-4F45-A7A9-59AAFDD7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4F1-71E0-4D78-A781-608775D8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D48B-CED3-478D-972A-4D8204BD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A59B-54F5-4000-BC92-CC5A33C9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DAF-5160-445B-807B-6A371BBC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FEF8-7F06-4B73-9B28-50AFB0EF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A80-5599-4FD2-BC61-7E541DD4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650-0895-44E9-9781-0E4869EF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956-201F-4E12-84F2-003BA6D3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6730-C0C1-400C-8078-C049ED27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291B-2686-409F-B989-54C4F5E3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1D00-7C5F-4694-9EB0-56752AB71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441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66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формационное сообщение на педагогическом совете ГБДОУ №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421000"/>
            <a:ext cx="7561440" cy="374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c0f2a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Мои пра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школьникам о правах и обязанност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став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валева А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нкт – Петербург 2013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Мои пра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538360" y="1700280"/>
            <a:ext cx="4068720" cy="4422240"/>
            <a:chOff x="2538360" y="1700280"/>
            <a:chExt cx="4068720" cy="4422240"/>
          </a:xfrm>
        </p:grpSpPr>
        <p:sp>
          <p:nvSpPr>
            <p:cNvPr id="45" name="_s2071"/>
            <p:cNvSpPr/>
            <p:nvPr/>
          </p:nvSpPr>
          <p:spPr>
            <a:xfrm flipH="1" flipV="1">
              <a:off x="3592440" y="3359160"/>
              <a:ext cx="488880" cy="27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70"/>
            <p:cNvSpPr/>
            <p:nvPr/>
          </p:nvSpPr>
          <p:spPr>
            <a:xfrm>
              <a:off x="2538360" y="2528640"/>
              <a:ext cx="1131840" cy="11070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аво на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Отдых и досуг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69"/>
            <p:cNvSpPr/>
            <p:nvPr/>
          </p:nvSpPr>
          <p:spPr>
            <a:xfrm flipH="1">
              <a:off x="3594240" y="4188240"/>
              <a:ext cx="488880" cy="27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68"/>
            <p:cNvSpPr/>
            <p:nvPr/>
          </p:nvSpPr>
          <p:spPr>
            <a:xfrm>
              <a:off x="2538360" y="4186800"/>
              <a:ext cx="1131840" cy="1106640"/>
            </a:xfrm>
            <a:prstGeom prst="ellipse">
              <a:avLst/>
            </a:prstGeom>
            <a:solidFill>
              <a:srgbClr val="9900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аво н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образова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74"/>
            <p:cNvSpPr/>
            <p:nvPr/>
          </p:nvSpPr>
          <p:spPr>
            <a:xfrm>
              <a:off x="4573440" y="4464720"/>
              <a:ext cx="0" cy="55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73"/>
            <p:cNvSpPr/>
            <p:nvPr/>
          </p:nvSpPr>
          <p:spPr>
            <a:xfrm>
              <a:off x="4006800" y="5015880"/>
              <a:ext cx="1131840" cy="1106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ав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на охран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здоровь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и мед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обслужив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78"/>
            <p:cNvSpPr/>
            <p:nvPr/>
          </p:nvSpPr>
          <p:spPr>
            <a:xfrm>
              <a:off x="5062680" y="4186800"/>
              <a:ext cx="488880" cy="27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77"/>
            <p:cNvSpPr/>
            <p:nvPr/>
          </p:nvSpPr>
          <p:spPr>
            <a:xfrm>
              <a:off x="5475240" y="4186800"/>
              <a:ext cx="1131840" cy="1106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аво зна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во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родителе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76"/>
            <p:cNvSpPr/>
            <p:nvPr/>
          </p:nvSpPr>
          <p:spPr>
            <a:xfrm flipV="1">
              <a:off x="5060880" y="3357360"/>
              <a:ext cx="490680" cy="27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075"/>
            <p:cNvSpPr/>
            <p:nvPr/>
          </p:nvSpPr>
          <p:spPr>
            <a:xfrm>
              <a:off x="5475240" y="2528640"/>
              <a:ext cx="1131840" cy="1107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аво на им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067"/>
            <p:cNvSpPr/>
            <p:nvPr/>
          </p:nvSpPr>
          <p:spPr>
            <a:xfrm flipV="1">
              <a:off x="4572000" y="2805120"/>
              <a:ext cx="0" cy="55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2066"/>
            <p:cNvSpPr/>
            <p:nvPr/>
          </p:nvSpPr>
          <p:spPr>
            <a:xfrm>
              <a:off x="4006800" y="1700280"/>
              <a:ext cx="1131840" cy="1106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Конвенция 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авах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ребен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065"/>
            <p:cNvSpPr/>
            <p:nvPr/>
          </p:nvSpPr>
          <p:spPr>
            <a:xfrm>
              <a:off x="4006800" y="3359520"/>
              <a:ext cx="1131840" cy="1106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ава ребен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ормативн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овые документ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венция о правах ребен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конодательство Российской Федер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о на 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ый ребенок имеет право на и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только ребенок рождается, ему дают имя и фамил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я отличает человека от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ое имя имеет свое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милия, имя и отчество ребенка записаны в документе который называе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идетельство о рож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516720" y="3141720"/>
            <a:ext cx="1800360" cy="2735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о знать своих родителей и право на их заб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дители заботятся о ребенке, а ребенок уважительно к ним относ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ый ребенок имеет право жить в благополучной, дружной сем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рошо когда ребенка окружают несколько поколений семьи: мама, папа, бабушка, дедушка, прабабушка, прадеду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енеалогическое др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219640" y="2133720"/>
            <a:ext cx="295272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о на охрану здоровья и медицинское обслужи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первых дней жизни ребенка о его здоровье заботятся родители, врачи в детском саду и поликлинике, педагоги в детском са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зрослые заботятся о том, чтобы ребенок соблюдал режим дня, правильно питался, закаля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лечения и обследования детей существуют детские поликлиники, мед. центры и детские больн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тская поликли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219640" y="2565360"/>
            <a:ext cx="29527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во на образ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ый ребенок имеет право на образ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ашей стране есть детские сады, где дети играют, рисуют, танцуют и  поют. Педагоги помогают готовиться к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6-7 лет каждый ребенок в России начинает обучение в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окончания школы дети продолжают образование в институте, университете, колледже, лиц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овательные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1584360" cy="1439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732720" y="2349360"/>
            <a:ext cx="1873080" cy="1440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364000" y="400536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о на отдых и дос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отдыха и оздоровления детей в наше стране созданы детские лагеря, загородные детские сады, сана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городах работают детские театры, цирки, детские библиотеки, аттракционы в парках и развлекательных комплек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ы дома творчества юных, где работают многочисленные кружки, студ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ш дос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932360" y="242100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867280" y="4076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о на культурную и национальную самобытность, родной яз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ссия - многонациональное государство, в котором живут много разных нар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тей разных национальностей учат дружить , ходить друг к другу в гости, вместе играть и уч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 дружные ребя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227400" cy="367200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172360" y="5805360"/>
            <a:ext cx="647640" cy="682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920"/>
              <a:gd name="textAreaBottom" fmla="*/ 641160 h 682920"/>
            </a:gdLst>
            <a:ahLst/>
            <a:rect l="textAreaLeft" t="textAreaTop" r="textAreaRight" b="textAreaBottom"/>
            <a:pathLst>
              <a:path w="21600" h="22776">
                <a:moveTo>
                  <a:pt x="0" y="0"/>
                </a:moveTo>
                <a:lnTo>
                  <a:pt x="21600" y="0"/>
                </a:lnTo>
                <a:lnTo>
                  <a:pt x="21600" y="22776"/>
                </a:lnTo>
                <a:lnTo>
                  <a:pt x="0" y="22776"/>
                </a:lnTo>
                <a:close/>
              </a:path>
              <a:path fill="lightenLess" w="21600" h="22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6">
                <a:moveTo>
                  <a:pt x="21600" y="0"/>
                </a:moveTo>
                <a:lnTo>
                  <a:pt x="21600" y="22776"/>
                </a:lnTo>
                <a:lnTo>
                  <a:pt x="20200" y="21376"/>
                </a:lnTo>
                <a:lnTo>
                  <a:pt x="20200" y="1400"/>
                </a:lnTo>
                <a:close/>
              </a:path>
              <a:path fill="darkenLess" w="21600" h="22776">
                <a:moveTo>
                  <a:pt x="21600" y="22776"/>
                </a:moveTo>
                <a:lnTo>
                  <a:pt x="0" y="22776"/>
                </a:lnTo>
                <a:lnTo>
                  <a:pt x="1400" y="21376"/>
                </a:lnTo>
                <a:lnTo>
                  <a:pt x="20200" y="21376"/>
                </a:lnTo>
                <a:close/>
              </a:path>
              <a:path fill="lighten" w="21600" h="22776">
                <a:moveTo>
                  <a:pt x="0" y="22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6"/>
                </a:lnTo>
                <a:close/>
              </a:path>
              <a:path fill="darken" w="21600" h="22776">
                <a:moveTo>
                  <a:pt x="10800" y="4425"/>
                </a:moveTo>
                <a:lnTo>
                  <a:pt x="13376" y="7036"/>
                </a:lnTo>
                <a:lnTo>
                  <a:pt x="13376" y="5295"/>
                </a:lnTo>
                <a:lnTo>
                  <a:pt x="15152" y="5295"/>
                </a:lnTo>
                <a:lnTo>
                  <a:pt x="15152" y="8812"/>
                </a:lnTo>
                <a:lnTo>
                  <a:pt x="17763" y="11388"/>
                </a:lnTo>
                <a:lnTo>
                  <a:pt x="16109" y="11388"/>
                </a:lnTo>
                <a:lnTo>
                  <a:pt x="16109" y="18577"/>
                </a:lnTo>
                <a:lnTo>
                  <a:pt x="5491" y="18577"/>
                </a:lnTo>
                <a:lnTo>
                  <a:pt x="5491" y="11388"/>
                </a:lnTo>
                <a:lnTo>
                  <a:pt x="3837" y="11388"/>
                </a:lnTo>
                <a:close/>
              </a:path>
              <a:path fill="darkenLess" w="21600" h="22776">
                <a:moveTo>
                  <a:pt x="13376" y="7036"/>
                </a:moveTo>
                <a:lnTo>
                  <a:pt x="13376" y="5295"/>
                </a:lnTo>
                <a:lnTo>
                  <a:pt x="15152" y="5295"/>
                </a:lnTo>
                <a:lnTo>
                  <a:pt x="15152" y="8812"/>
                </a:lnTo>
                <a:close/>
              </a:path>
              <a:path fill="darkenLess" w="21600" h="22776">
                <a:moveTo>
                  <a:pt x="9877" y="14887"/>
                </a:moveTo>
                <a:lnTo>
                  <a:pt x="11723" y="14887"/>
                </a:lnTo>
                <a:lnTo>
                  <a:pt x="11723" y="18577"/>
                </a:lnTo>
                <a:lnTo>
                  <a:pt x="16109" y="18577"/>
                </a:lnTo>
                <a:lnTo>
                  <a:pt x="16109" y="11388"/>
                </a:lnTo>
                <a:lnTo>
                  <a:pt x="5491" y="11388"/>
                </a:lnTo>
                <a:lnTo>
                  <a:pt x="5491" y="18577"/>
                </a:lnTo>
                <a:lnTo>
                  <a:pt x="9877" y="185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3:32:35Z</dcterms:created>
  <dc:creator>Пользователь</dc:creator>
  <dc:description/>
  <dc:language>en-US</dc:language>
  <cp:lastModifiedBy>Админ</cp:lastModifiedBy>
  <dcterms:modified xsi:type="dcterms:W3CDTF">2013-02-20T10:02:19Z</dcterms:modified>
  <cp:revision>10</cp:revision>
  <dc:subject/>
  <dc:title>«Мои права»: дошкольникам о правах и обязанностях</dc:title>
</cp:coreProperties>
</file>