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B4D-86B2-41B7-BB67-5307C4B2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1B4-B9E9-4B94-BAB5-3DD11E9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F47-15D1-4CC5-AD0E-18EDCCD7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BC7-C606-4655-9231-634CF1CF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8C04-2DF8-46AE-8249-74B716D9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4D2A-A558-4C4B-B369-6B7EB8A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6C7-B19A-4FC7-8646-F7634AD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6E97-8A50-4774-AF93-FC63EB8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07A9-D51B-4201-AA58-58777BB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AC7-7EFD-4F46-A059-CE44A49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D76-CA2F-449F-9975-2EB1DA8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CD7-607F-40CD-B575-96B754A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AB5-8129-45F2-BD92-6AEFDEE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DFD9-B01B-488F-BC40-3EC28F1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147-96EF-441F-88F0-5C890C0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CC5F-6216-4F15-9024-67A529D5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F130-21C8-42F6-A806-1495F0BA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A9A-394A-4E50-8D5E-DC4DFD7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49D-522C-437A-8B87-9DC15E16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094-436E-497E-A087-736D8669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333-245B-4D60-B7DB-DC691C2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64C-127A-4339-9CE3-9F203F0B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4A5-F96F-43D6-8796-7A27E906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41A-12B9-4613-8E09-5A73C3F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ECE-59F4-4105-85AE-918491ED3B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505-0249-421A-8779-1E410DB2E4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713880"/>
            <a:ext cx="7072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Носители 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информации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овтор пройденного материал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28800" y="199980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пон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 на листоч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9964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ыйдя из пещер важную информацию люди наносили на поверхности гробниц, ритуальных сооружений, которые создавали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удобство: утомительно добираться до этих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Program Files\Microsoft Office\Media\CntCD1\ClipArt4\j0251077.wmf"/>
          <p:cNvPicPr/>
          <p:nvPr/>
        </p:nvPicPr>
        <p:blipFill>
          <a:blip r:embed="rId1"/>
          <a:stretch/>
        </p:blipFill>
        <p:spPr>
          <a:xfrm>
            <a:off x="5357880" y="3357720"/>
            <a:ext cx="16430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87400" y="16030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зникла потребность в носителях информации, пригодных для транспортировки: камень, глина, дер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удобства: камень слишком тверд в обработке, глина – хрупка, дерево – быстро сохнет и тре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214720" y="3000240"/>
            <a:ext cx="467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87400" y="16030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Требовались новые материалы-носители: легкие и долговечные, компактные и удобные для нанесения запис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пирус (из стеблей высокого тростника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гамент (из кожи животны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мага (в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в Китае,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в Европе,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на Рус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Program Files\Microsoft Office\Media\CntCD1\ClipArt5\j0280909.wmf"/>
          <p:cNvPicPr/>
          <p:nvPr/>
        </p:nvPicPr>
        <p:blipFill>
          <a:blip r:embed="rId1"/>
          <a:stretch/>
        </p:blipFill>
        <p:spPr>
          <a:xfrm rot="20194800">
            <a:off x="2232000" y="5167080"/>
            <a:ext cx="1428840" cy="146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Program Files\Microsoft Office\Media\CntCD1\ClipArt1\j0196200.wmf"/>
          <p:cNvPicPr/>
          <p:nvPr/>
        </p:nvPicPr>
        <p:blipFill>
          <a:blip r:embed="rId2"/>
          <a:stretch/>
        </p:blipFill>
        <p:spPr>
          <a:xfrm>
            <a:off x="6215040" y="5143680"/>
            <a:ext cx="1461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Уникальные свойства бумаг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856880"/>
            <a:ext cx="78012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шевле пергамента или папируса, т.к. вырабатывалась из тряпья и древесин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статочно прочная и долговеч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обна для письма и рис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Program Files\Microsoft Office\Media\CntCD1\Animated\j0283740.gif"/>
          <p:cNvPicPr/>
          <p:nvPr/>
        </p:nvPicPr>
        <p:blipFill>
          <a:blip r:embed="rId1"/>
          <a:stretch/>
        </p:blipFill>
        <p:spPr>
          <a:xfrm>
            <a:off x="7236000" y="3213000"/>
            <a:ext cx="1581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Носитель информации -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1680" y="1857240"/>
            <a:ext cx="82864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это любой материальный объект, предназначенный для хранения дан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232128"/>
          <p:cNvPicPr/>
          <p:nvPr/>
        </p:nvPicPr>
        <p:blipFill>
          <a:blip r:embed="rId1"/>
          <a:stretch/>
        </p:blipFill>
        <p:spPr>
          <a:xfrm>
            <a:off x="6651720" y="4562640"/>
            <a:ext cx="1881000" cy="173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j0283779"/>
          <p:cNvPicPr/>
          <p:nvPr/>
        </p:nvPicPr>
        <p:blipFill>
          <a:blip r:embed="rId2"/>
          <a:stretch/>
        </p:blipFill>
        <p:spPr>
          <a:xfrm>
            <a:off x="755640" y="4724280"/>
            <a:ext cx="2085840" cy="144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j0199367"/>
          <p:cNvPicPr/>
          <p:nvPr/>
        </p:nvPicPr>
        <p:blipFill>
          <a:blip r:embed="rId3"/>
          <a:stretch/>
        </p:blipFill>
        <p:spPr>
          <a:xfrm>
            <a:off x="3780000" y="4653000"/>
            <a:ext cx="1557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Носители информаци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агнитная лента (магнитофо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агнитные ди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ибкие (дискеты) – перенос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жесткие (винчестер) – хранение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азерные ди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V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диски, на них можно записать информацию, но стереть нельз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W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V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W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многократная запись информации (можно стирать и записывать заново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новые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2852640"/>
          <a:ext cx="7345440" cy="3043440"/>
        </p:xfrm>
        <a:graphic>
          <a:graphicData uri="http://schemas.openxmlformats.org/drawingml/2006/table">
            <a:tbl>
              <a:tblPr/>
              <a:tblGrid>
                <a:gridCol w="3737160"/>
                <a:gridCol w="360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тель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ма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 от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7:22:49Z</dcterms:created>
  <dc:creator>Медведенко</dc:creator>
  <dc:description/>
  <dc:language>en-US</dc:language>
  <cp:lastModifiedBy>Учитель</cp:lastModifiedBy>
  <dcterms:modified xsi:type="dcterms:W3CDTF">2012-11-27T13:21:01Z</dcterms:modified>
  <cp:revision>34</cp:revision>
  <dc:subject/>
  <dc:title>ИНФОРМАЦИЯ</dc:title>
</cp:coreProperties>
</file>