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526-1E52-4D64-8BAF-5E21AC81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22D-B089-4C90-8F82-A7784057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A50-4F40-4647-AFB7-A11BBC49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8C8-7858-4409-B8FF-B7A1ABB4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48A0-8D67-46AC-B3B3-E3C8D661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287F-331B-44FC-AF71-007F18A4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624F-363B-4CDD-972A-67A54061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AC2A-336F-4F53-A426-3F44008F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345E-6841-46A7-A231-B8EA19C2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143C-509D-45D2-9EC1-35017DB7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EDC3-A016-4E1F-9B2E-11A124B4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A5E-6723-47F5-BE8D-C75E9A8A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6D95-2AA6-4759-92B4-82D46D4B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CA5-7F01-4501-8D53-B05F3BD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CDB0-D6DC-45BA-B389-F12FF261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402C-F5A4-4F7E-AB6E-B058F4DA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EB1C-2FD6-47C4-9D79-430B0C30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13D-8258-4A94-A2B0-07481683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10B-DE87-440B-BE4A-872CA2C9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BFB-F500-4F00-9967-281F995B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1EB-2D19-46D0-98C0-BC906E04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0C3-9E12-4EEE-92A1-C9E932C4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71B-BF85-4BED-9FEB-0605963C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CA1-9677-4CB6-801A-79106819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0F95-4EF8-4F9E-AF94-EC6DDD3950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C420-A78B-4962-9E75-680A356A26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4320" y="713880"/>
            <a:ext cx="7072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ff"/>
                </a:solidFill>
                <a:latin typeface="Times New Roman"/>
              </a:rPr>
              <a:t>Носители </a:t>
            </a:r>
            <a:br>
              <a:rPr sz="6600"/>
            </a:br>
            <a:r>
              <a:rPr b="1" lang="ru-RU" sz="6600" spc="-1" strike="noStrike">
                <a:solidFill>
                  <a:srgbClr val="3366ff"/>
                </a:solidFill>
                <a:latin typeface="Times New Roman"/>
              </a:rPr>
              <a:t>информации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овтор пройденного материал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28800" y="199980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 по понят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 на листоч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 чем сохранить информацию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99640" y="162864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ыйдя из пещер важную информацию люди наносили на поверхности гробниц, ритуальных сооружений, которые создавали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удобство: утомительно добираться до этих соору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Program Files\Microsoft Office\Media\CntCD1\ClipArt4\j0251077.wmf"/>
          <p:cNvPicPr/>
          <p:nvPr/>
        </p:nvPicPr>
        <p:blipFill>
          <a:blip r:embed="rId1"/>
          <a:stretch/>
        </p:blipFill>
        <p:spPr>
          <a:xfrm>
            <a:off x="5357880" y="3357720"/>
            <a:ext cx="164304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 чем сохранить информацию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87400" y="16030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озникла потребность в носителях информации, пригодных для транспортировки: камень, глина, дере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удобства: камень слишком тверд в обработке, глина – хрупка, дерево – быстро сохнет и треск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214720" y="3000240"/>
            <a:ext cx="4674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 чем сохранить информацию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87400" y="16030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Требовались новые материалы-носители: легкие и долговечные, компактные и удобные для нанесения запис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пирус (из стеблей высокого тростника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гамент (из кожи животны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умага (в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еке в Китае, 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еке в Европе, 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еке на Рус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Program Files\Microsoft Office\Media\CntCD1\ClipArt5\j0280909.wmf"/>
          <p:cNvPicPr/>
          <p:nvPr/>
        </p:nvPicPr>
        <p:blipFill>
          <a:blip r:embed="rId1"/>
          <a:stretch/>
        </p:blipFill>
        <p:spPr>
          <a:xfrm rot="20194800">
            <a:off x="2232000" y="5167080"/>
            <a:ext cx="1428840" cy="1466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Program Files\Microsoft Office\Media\CntCD1\ClipArt1\j0196200.wmf"/>
          <p:cNvPicPr/>
          <p:nvPr/>
        </p:nvPicPr>
        <p:blipFill>
          <a:blip r:embed="rId2"/>
          <a:stretch/>
        </p:blipFill>
        <p:spPr>
          <a:xfrm>
            <a:off x="6215040" y="5143680"/>
            <a:ext cx="14619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Уникальные свойства бумаг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856880"/>
            <a:ext cx="780120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шевле пергамента или папируса, т.к. вырабатывалась из тряпья и древесин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статочно прочная и долговечн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обна для письма и рис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Program Files\Microsoft Office\Media\CntCD1\Animated\j0283740.gif"/>
          <p:cNvPicPr/>
          <p:nvPr/>
        </p:nvPicPr>
        <p:blipFill>
          <a:blip r:embed="rId1"/>
          <a:stretch/>
        </p:blipFill>
        <p:spPr>
          <a:xfrm>
            <a:off x="7236000" y="3213000"/>
            <a:ext cx="15811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Носитель информации -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71680" y="1857240"/>
            <a:ext cx="828648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это любой материальный объект, предназначенный для хранения данн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232128"/>
          <p:cNvPicPr/>
          <p:nvPr/>
        </p:nvPicPr>
        <p:blipFill>
          <a:blip r:embed="rId1"/>
          <a:stretch/>
        </p:blipFill>
        <p:spPr>
          <a:xfrm>
            <a:off x="6651720" y="4562640"/>
            <a:ext cx="1881000" cy="173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j0283779"/>
          <p:cNvPicPr/>
          <p:nvPr/>
        </p:nvPicPr>
        <p:blipFill>
          <a:blip r:embed="rId2"/>
          <a:stretch/>
        </p:blipFill>
        <p:spPr>
          <a:xfrm>
            <a:off x="755640" y="4724280"/>
            <a:ext cx="2085840" cy="1443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j0199367"/>
          <p:cNvPicPr/>
          <p:nvPr/>
        </p:nvPicPr>
        <p:blipFill>
          <a:blip r:embed="rId3"/>
          <a:stretch/>
        </p:blipFill>
        <p:spPr>
          <a:xfrm>
            <a:off x="3780000" y="4653000"/>
            <a:ext cx="1557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Носители информаци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агнитная лента (магнитофон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агнитные дис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гибкие (дискеты) – перенос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жесткие (винчестер) – хранение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лазерные дис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D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DVD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диски, на них можно записать информацию, но стереть нельз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D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W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DVD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W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многократная запись информации (можно стирать и записывать заново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160020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новые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е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2852640"/>
          <a:ext cx="7345440" cy="3043440"/>
        </p:xfrm>
        <a:graphic>
          <a:graphicData uri="http://schemas.openxmlformats.org/drawingml/2006/table">
            <a:tbl>
              <a:tblPr/>
              <a:tblGrid>
                <a:gridCol w="3737160"/>
                <a:gridCol w="3608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итель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ма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о от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7:22:49Z</dcterms:created>
  <dc:creator>Медведенко</dc:creator>
  <dc:description/>
  <dc:language>en-US</dc:language>
  <cp:lastModifiedBy>Учитель</cp:lastModifiedBy>
  <dcterms:modified xsi:type="dcterms:W3CDTF">2012-11-27T13:21:01Z</dcterms:modified>
  <cp:revision>34</cp:revision>
  <dc:subject/>
  <dc:title>ИНФОРМАЦИЯ</dc:title>
</cp:coreProperties>
</file>