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E32-A4A5-4027-8D79-D7A94E7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BD7-1D93-41D1-B0FA-43AC1080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BEC-4F18-454A-AE7B-E6FC188C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F8E-FD03-40F5-8991-F775C3A8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DED-BBCF-422F-8F37-8CC051B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F5D-32B9-46AF-AC23-A3B6A13F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510-99EF-45F3-B7AB-B1D6EFF3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63C-DC65-4167-8120-F3CF5ED9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301-1E8B-43EF-B34E-4A25F74C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DF2-C0B0-4D39-98E1-770A9C9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E65-69C5-41D3-81EE-521CDF6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7A4-70CC-467A-9197-9F55AA4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BF6A-14DB-4F8F-8DCD-76AD193FD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14c09d657ff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79280" y="0"/>
            <a:ext cx="8964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опы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ение мотивации студентов к производственному обучению через применение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логии мастерских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Изображение 060"/>
          <p:cNvPicPr/>
          <p:nvPr/>
        </p:nvPicPr>
        <p:blipFill>
          <a:blip r:embed="rId2"/>
          <a:stretch/>
        </p:blipFill>
        <p:spPr>
          <a:xfrm>
            <a:off x="0" y="2968560"/>
            <a:ext cx="4032360" cy="3889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4643280" y="3500280"/>
            <a:ext cx="45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лов А.М.- мастер производственного обучения ГБОУ СПО ВО «Муромский промышленно-гуманитарный техник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ж – 10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егория: высш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повышения эффективности производственного обучения через организацию технологии мастер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700280"/>
          <a:ext cx="9144000" cy="5349960"/>
        </p:xfrm>
        <a:graphic>
          <a:graphicData uri="http://schemas.openxmlformats.org/drawingml/2006/table">
            <a:tbl>
              <a:tblPr/>
              <a:tblGrid>
                <a:gridCol w="3049560"/>
                <a:gridCol w="3044880"/>
                <a:gridCol w="3049560"/>
              </a:tblGrid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Профессиональное 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Внеуроч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Внекласс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Теоретическое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спецкур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«Введение в материаловедение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олимпиады и конкурсы профессионального мастерства.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Практическое 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факультативный курс "Обработка материалов резанием"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Выставки технического твор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</a:tr>
              <a:tr h="786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Саморазвитие и самореализация лич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339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гностика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99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Изучение мотивационной сферы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ессиональное 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0" y="1773000"/>
            <a:ext cx="4906800" cy="482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ология мастерских – технология, которая охватывает большую или меньшую часть содержания производственного обучения, состоит из ряда заданий, которые направляют работу студентов в нужное русло, но внутри каждого задания обучающиеся абсолютно свободны: осуществляют выбор пути исследования, средства для достижения цели,  темпа работ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_44268_77096d33_L"/>
          <p:cNvPicPr/>
          <p:nvPr/>
        </p:nvPicPr>
        <p:blipFill>
          <a:blip r:embed="rId1"/>
          <a:stretch/>
        </p:blipFill>
        <p:spPr>
          <a:xfrm>
            <a:off x="179280" y="227664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методические при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констр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оконстр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лизация технологического процесса в виде последовательности некоторых шагов, блоков деятельности, которые зависят от содержания познавательной области, но имеют и надпредметную часть, определяемую общими для всех областей способами деятельности студ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горитм А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 (этап актуализации знаний в данной об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деление проблемы: определить  способы обработки детали и применить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бота со справочной  литературой: изучить технологию обработки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суждение в парах: изучить и обсудить достоинства и недостатки способов обработки де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горитм А-2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проблем - представление вопросов группе и выбор проблемы для исследования: выбор продуктивного способа обработки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ждая пара представляет группе свое понимание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улирует гипотезу решения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бор в группе наиболее вероятной гипоте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анирование и проведение эксперимента по проверке гипоте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горитм А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результатов работы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ставление и обмен вопросами по представленным результ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ты на вопросы и корректировка резуль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ставление группами серии заданий на применение результатов их пои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мен заданиями между групп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накомство групп с представленными другой группой решениями их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нд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у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дуктор)- проблемная ситуация в технологии мастерских. Проблемная ситуация характеризует определенное психическое - вопросное состояние студента, возникающее в процессе выполнения такого задания, которое требует открытия (усвоения) новых знаний о предмете, способе или условиях выполнения действий. Вопрос должен занимать, волновать ум ис­следователя, быть в круге его интересов; представить это неизвестное, показать необходимость работы с ним; определить круг средств, объектов, которые позво­лят начать работу и через период незнания прийти к открытию; присоединить к имеющемуся знанию новое и поставить иные проблемы для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практическое занятие по теме: «Нарезание крепежной резьб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амоконстр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е создание гипотезы, решения, текста, рисунка, проекта, чертеж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: «Рабочий чертеж дета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витие и образование 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ному человеку не могут бы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ны или сообщены. Всяк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то желает к 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общитьс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стигнуть э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ственной деятельность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ственными сила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ственным напряж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звне он может пол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олько возб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циоконстр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м элементом технологии мастерских является групповая работа Мастер разбивает задание на ряд частичных задач. Группам предстоит придумать способ их решения. Причем ребята свободны в выборе метода, темпа, поиска. Каждому предоставлена независимость в выборе пути поиска решения, дано право на ошибку и на внесение корректив. Построение, создание результата группой и есть социоконструк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Конкурс профессионального маст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ыв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зарение, инсайт, поним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всякое: себя, других, наук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рыв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нутреннее осознание участником мастерской неполноты или несоответствия старого знания новому, внутренний эмоциональный конфликт, подвигающий к углублению в проблему, к поиску ответа, к сверке нового знания с литературным источ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«Заточка режущего инструмента». Студенты для решения проблемы правильной заточки режущего инструмента должны воспользоваться справочной литератур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курс «Введение в материаловед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4360" y="2215440"/>
            <a:ext cx="84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формирование интереса к изучению специальных дисциплин, развитие технического творчества, познавательной активности, усвоение студентами знаний о составе, структуре, свойствах, марках металлических сплавов, неметаллических материалов и условиях применения их в промышленности бы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07880" y="3245760"/>
            <a:ext cx="65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ультативного курса "Обработка материалов резанием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культативный курс "Обработка материалов резанием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формирование знаний о процессах резания материалов и  о структуре и тенденциях развития современных видов обработки на производстве; понимание внутренней логической связи между физико-химическими явлениями в процессах получения материалов и формообразующими свойств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ы и приемы технологии мастерских,  способствующие  формированию мотивов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материал должен лишь предлагаться студенту, но не навязы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методов принуждения и форм подавления достоинства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астерской предоставляется возможность каждому продвигаться к истине своим пу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ознания гораздо важнее, ценнее, чем само 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урока, знания на мастерских не даются, а выстра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 имеет право на ошибку; ошибка считается закономерной ступенью процесса познания; точные знания следуют за ошиб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- для студента, а не студент для мас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удничество, сотворчество, совместный пои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- садовник, выращивающий растение - ребенка, создающий условия для реализации заложенных в нем природных зад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овые подходы к оценке деятельност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говая шкала (рейтин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щрения (грамоты, медали, приз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криптивная оценка(описате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олько отметка, но и оценка («интересно», «здорово», «спорн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ое использование  технологии мастерских способствует  повышению уровня учебной мотивации, что в свою очередь положительно отразилось на результатах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уровня трев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Справка 5 001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ношение к производственной прак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ктуа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537080" cy="3528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5013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Impact"/>
              </a:rPr>
              <a:t>Развитие профессионального образования должно стать частью процесса модернизации экономики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Impact"/>
              </a:rPr>
              <a:t>                  </a:t>
            </a:r>
            <a:r>
              <a:rPr b="0" i="1" lang="ru-RU" sz="2800" spc="-1" strike="noStrike">
                <a:solidFill>
                  <a:srgbClr val="009999"/>
                </a:solidFill>
                <a:latin typeface="Impact"/>
              </a:rPr>
              <a:t>Президент Российской Федерации  Д.А. Медвед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тивы производствен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343080" y="1933560"/>
          <a:ext cx="844848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933560"/>
                    <a:ext cx="84484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ика профессионального рос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539640" y="1916280"/>
          <a:ext cx="763272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7632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6D54-725E-49D3-940B-0131D00646C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cc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иторинг успеваемости студентов на уроках производствен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"/>
          <p:cNvPicPr/>
          <p:nvPr/>
        </p:nvPicPr>
        <p:blipFill>
          <a:blip r:embed="rId1"/>
          <a:stretch/>
        </p:blipFill>
        <p:spPr>
          <a:xfrm>
            <a:off x="7812000" y="5084640"/>
            <a:ext cx="1171800" cy="162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5"/>
          <p:cNvGraphicFramePr/>
          <p:nvPr/>
        </p:nvGraphicFramePr>
        <p:xfrm>
          <a:off x="468360" y="1484280"/>
          <a:ext cx="792000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84280"/>
                    <a:ext cx="79200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6"/>
          <p:cNvSpPr/>
          <p:nvPr/>
        </p:nvSpPr>
        <p:spPr>
          <a:xfrm>
            <a:off x="2195640" y="6021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9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203640" y="602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9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284720" y="60213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1D4-2BC8-44B8-AAA8-88B7931E087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cc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чество знаний студе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468360" y="1773360"/>
          <a:ext cx="84247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424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5"/>
          <p:cNvPicPr/>
          <p:nvPr/>
        </p:nvPicPr>
        <p:blipFill>
          <a:blip r:embed="rId3"/>
          <a:stretch/>
        </p:blipFill>
        <p:spPr>
          <a:xfrm>
            <a:off x="7777080" y="5418000"/>
            <a:ext cx="13669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adf1b5"/>
              </a:gs>
              <a:gs pos="100000">
                <a:srgbClr val="ffffcc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ичество выпускников, получивших  дипломы с отлич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20520" y="1752480"/>
          <a:ext cx="91789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752480"/>
                    <a:ext cx="91789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гиональн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gradFill rotWithShape="0">
            <a:gsLst>
              <a:gs pos="0">
                <a:srgbClr val="507054"/>
              </a:gs>
              <a:gs pos="50000">
                <a:srgbClr val="adf1b5"/>
              </a:gs>
              <a:gs pos="100000">
                <a:srgbClr val="507054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олимпиада по профессии «Токарь» (Бауров Д.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сто, Климовцов П.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олимпиада профессионального мастерства среди учреждений СПО по специальности «Металлообработка» (Бауров Д.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ест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бластная олимпиада профессионального мастерства среди обучающихся по профессии «Токарь», г. Владимир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обучающийся Урлин Михаил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– обучающийся Иголкин Андр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межучилищный конкурс профессионального мастерства по профессии «Токарь» между командами ПЛ №1 г. Ковров и ПЛ №37 г.Муром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ой конкурс профессионального мастерства среди молодых рабочих «Золотые руки», г. Владимир,    1 место   -   обучающийся  Кузьмин   Михаил;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место  - Сазанов Алекса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  олимпиада   профессионального   мастерства   по профессии «Токарь» г. Муро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- Бауров Дмитрий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Климовцов Пав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олимпиада профессионального мастерства среди учреждений СПО г. Муром. Бауров Дмитрий - победитель практической части конк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ой    конкурс    профессионального    мастерства    по профессии токарь «Мастер золотые руки» среди молодых рабочих Бауров Дмитрий заня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сероссийски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e7c5b7"/>
              </a:gs>
              <a:gs pos="100000">
                <a:srgbClr val="0066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российская      олимпиада      профмастерства      среди обучающихся по профессии «Токарь», г.Чебоксары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- обучающийся   Кузьмин   Михаил (президентский   гранд ЗО тыс.руб.)2011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л окружного конкурса профессионального мастерства «Мастера Центральной России» среди обучающихся по профессии   «Фрезеровщик»    г.    Рязань   —   обучающийся Сазанов Александр победитель в номинации «За лучшую организацию рабочего мест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1538-FD7A-4179-BD68-DB8CD0832D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cc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устройство выпускников техник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39640" y="1628640"/>
          <a:ext cx="799308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79930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2050920" y="2492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253040" y="2637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693080" y="494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дресная направл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данной работы,  сложившийся в  процессе   работы в техникуме, адресован мастерам производственного обучения. Предлагаемые материалы помогут  мастерам  производственного обучения использовать в своей деятельности  технологию мастерских и стимулировать   студентов  к твор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могут быть использованы мастерами, интересующимися вопросами развития личности обучающихся, поскольку   при проектировании уроков производственного обучения необходимо учитывать возрастные особенности и направленность личности студентов.  Диагностика мотивационной сферы - необходимое условие для проектирования учебно-методического комплекса для включения обучающихся в позна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Из проекта федерального закона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«Об образовании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в Российской Федерации»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зменение уровней профессионального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образовани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Введение кредитно-модульной системы организации образовательного процесса при реализации профессиональных образовательных програм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Модернизация системы подготовки рабочих кадров специалистов среднего зв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66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Ц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Развитие познавательных интересов студентов, реализация их творческого потенциала и социализация выпускника через технологию мастерск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ть и проанализировать существующую методическую литературу, педагогический опыт по теме «Технология мастерских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ть диагностический инструментарий по изучению мотивационной сферы личности студ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условия для повышения эффективности производственного обучения через организацию технологии мастерских в рамках учебной, внеурочной и внекласс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ехнологию мастерских развивать познавательные навыки студентов, умение самостоятельно конструировать свои знания и ориентироваться в информационном пространстве. Способствовать развитию критического и творческого мышления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3399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дущая педагогическая и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1280" y="1341360"/>
            <a:ext cx="6372360" cy="55166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ься бы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значит, заботиться о своем здоровье. Технология мастерских является здоровьесберегающей, так как подразумевает субъект-субъектные отношения учителя и ученика, что обеспечивает комфортность, бесконфликтность, успешность в об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ься зна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оздавая деталь, ученик учиться выбирать пути и средства для достижения цели,  темп работы,  разрабатывать алгоритмы, пользоваться различными источникам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ся уме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в соответствии с тремя основными видами учебных компетентностей технология мастерских дает возможность научиться работать в группе, работать с информацией, самостоятельно решать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читься жить вместе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работая над проектом, ученики учатся сотрудничать, уважать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tanok2009"/>
          <p:cNvPicPr/>
          <p:nvPr/>
        </p:nvPicPr>
        <p:blipFill>
          <a:blip r:embed="rId1"/>
          <a:stretch/>
        </p:blipFill>
        <p:spPr>
          <a:xfrm>
            <a:off x="179280" y="2349360"/>
            <a:ext cx="27338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68000" cy="9079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Новизна опыт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ация обучающихся – основа их осознанной и успешной деятельности. Создание мотивационной среды, развитие познавательной активности предполагает работу по обеспечению взаимосвязи содержания материала и методических подходов с потенциалом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визна опыта состоит  в усовершенствовании известных методов обучения, предлагаемых А.Гином (ТРИЗ), Г.Селевко.. Использование технологии мастерских позволяет осуществлять личностно-ориентированный подход к обучению, придает новую окраску педагогическому общению, способствует повышению мотивации учащихся к производственному обучению и самореализации учащихся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оме того, в работе рассматриваются инновационные подходы к оценке деятельности учащихся: ранговая оценка (рейтинг), портфоли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хнология опы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ная работа по созданию услов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 профессионального обучения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ностика личностных качеств студентов (проводится регуляр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производственное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внеурочная и внеклассная работа со студ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 эта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социализация и профессиональное самоопределение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6:44:29Z</dcterms:created>
  <dc:creator>Admin</dc:creator>
  <dc:description/>
  <dc:language>en-US</dc:language>
  <cp:lastModifiedBy>Admin</cp:lastModifiedBy>
  <dcterms:modified xsi:type="dcterms:W3CDTF">2013-03-13T05:43:32Z</dcterms:modified>
  <cp:revision>4</cp:revision>
  <dc:subject/>
  <dc:title>Педагогический опыт Повышение мотивации обучающихся к производственному обучению                     через применение  технологии мастерских</dc:title>
</cp:coreProperties>
</file>