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4.png" ContentType="image/png"/>
  <Override PartName="/ppt/media/image1.gif" ContentType="image/gif"/>
  <Override PartName="/ppt/media/image5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385-BEB7-4136-8012-8D191B7F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914-928D-4E6C-881D-CFBF076F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815-0574-46AB-8C64-234C1E63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049-DA01-47F0-A9D1-D8D3912D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BB5-4921-4EEC-8928-17D02B21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B46-F4B0-4DCE-A1BE-37395EF9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5E1-5668-47E6-B70E-ACBE00F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95B-587F-40CB-BCAB-6164C0D9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94F-65AA-4E07-8973-165E97B5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02C-4EEC-45B9-B9A5-FA61B7A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AAD-24A9-4C92-9251-546E6B19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C17-4FE2-4CED-B6E9-AB90268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7218-C360-4692-A2E7-38E99B652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343640" cy="21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6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: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"ЗНАТОКИ ПДД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j0254507"/>
          <p:cNvPicPr/>
          <p:nvPr/>
        </p:nvPicPr>
        <p:blipFill>
          <a:blip r:embed="rId1"/>
          <a:stretch/>
        </p:blipFill>
        <p:spPr>
          <a:xfrm>
            <a:off x="6838920" y="4554360"/>
            <a:ext cx="2305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5. Для чего в автомобильной аптечке предназначен 10% водный раствор аммиака (нашатырный спирт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Для обработки 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ля наложения согревающего компрес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ля вдыхания при обмороке и уга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Для вдыхания при обмороке и угар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6. Где нужно определять пульс, если пострадавший без сознани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На лучевой арте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На бедренной арте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На сонной арте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278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На сонной артер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j0346299"/>
          <p:cNvPicPr/>
          <p:nvPr/>
        </p:nvPicPr>
        <p:blipFill>
          <a:blip r:embed="rId1"/>
          <a:stretch/>
        </p:blipFill>
        <p:spPr>
          <a:xfrm>
            <a:off x="2428920" y="1500120"/>
            <a:ext cx="4608360" cy="46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Rectangle 4"/>
          <p:cNvSpPr/>
          <p:nvPr/>
        </p:nvSpPr>
        <p:spPr>
          <a:xfrm>
            <a:off x="1476360" y="49932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Въезд запрещен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j0346339"/>
          <p:cNvPicPr/>
          <p:nvPr/>
        </p:nvPicPr>
        <p:blipFill>
          <a:blip r:embed="rId1"/>
          <a:stretch/>
        </p:blipFill>
        <p:spPr>
          <a:xfrm>
            <a:off x="2571840" y="1857240"/>
            <a:ext cx="4103640" cy="409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Rectangle 4"/>
          <p:cNvSpPr/>
          <p:nvPr/>
        </p:nvSpPr>
        <p:spPr>
          <a:xfrm>
            <a:off x="1121400" y="548280"/>
            <a:ext cx="686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Движение запрещен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460760" cy="4341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Rectangle 4"/>
          <p:cNvSpPr/>
          <p:nvPr/>
        </p:nvSpPr>
        <p:spPr>
          <a:xfrm>
            <a:off x="1242360" y="475200"/>
            <a:ext cx="669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ешеходная дорож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4186440" cy="43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Rectangle 5"/>
          <p:cNvSpPr/>
          <p:nvPr/>
        </p:nvSpPr>
        <p:spPr>
          <a:xfrm>
            <a:off x="2149560" y="332640"/>
            <a:ext cx="66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Велосипедная дорожка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571840" y="1714680"/>
            <a:ext cx="4176720" cy="417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Rectangle 4"/>
          <p:cNvSpPr/>
          <p:nvPr/>
        </p:nvSpPr>
        <p:spPr>
          <a:xfrm>
            <a:off x="1384200" y="403560"/>
            <a:ext cx="67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ешеходный перехо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3390840" cy="374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6" name="Rectangle 5"/>
          <p:cNvSpPr/>
          <p:nvPr/>
        </p:nvSpPr>
        <p:spPr>
          <a:xfrm>
            <a:off x="97200" y="312120"/>
            <a:ext cx="90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Подземный и надземный переход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1.Какое лекарственное средство можно использовать в качестве дезинфицирующего средства при капиллярном кровотечен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 Подорожник, берёзовый лис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Корень валерианы, цветы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андыш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 Листья мать-и-мачех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0344055"/>
          <p:cNvPicPr/>
          <p:nvPr/>
        </p:nvPicPr>
        <p:blipFill>
          <a:blip r:embed="rId1"/>
          <a:stretch/>
        </p:blipFill>
        <p:spPr>
          <a:xfrm>
            <a:off x="2786040" y="185724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700360" y="403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Пункт пита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3522600" cy="475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Rectangle 4"/>
          <p:cNvSpPr/>
          <p:nvPr/>
        </p:nvSpPr>
        <p:spPr>
          <a:xfrm>
            <a:off x="1144800" y="475560"/>
            <a:ext cx="72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ункт перв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64000" cy="4330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0" y="586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Движение на велосипедах запрещен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2372040" y="332280"/>
            <a:ext cx="46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оход закры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86040" y="1571760"/>
            <a:ext cx="3675240" cy="475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6" name="Rectangle 4"/>
          <p:cNvSpPr/>
          <p:nvPr/>
        </p:nvSpPr>
        <p:spPr>
          <a:xfrm>
            <a:off x="2268360" y="475200"/>
            <a:ext cx="51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есто отдых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7680" y="1357200"/>
            <a:ext cx="333828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Rectangle 4"/>
          <p:cNvSpPr/>
          <p:nvPr/>
        </p:nvSpPr>
        <p:spPr>
          <a:xfrm>
            <a:off x="2771640" y="4262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Кемпинг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 какой стороне тротуара нужно ходи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) по пра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по ле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) по люб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 какой стороне тротуара нужно ходи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А) по прав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по ле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 по люб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2. Где можно переходить дорогу вне населённого пункта, если нет пешеходного переход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на повороте дор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в местах, где дорога хорошо просматривается в обе стор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перед или за вершиной подъёма дор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2. Где можно переходить дорогу вне населённого пункта, если нет пешеходного переход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на повороте дор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Б) в местах, где дорога хорошо просматривается в обе ст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) перед или за вершиной подъёма дор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Подорожник, берёзовый лист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5" descr="1.jpg"/>
          <p:cNvPicPr/>
          <p:nvPr/>
        </p:nvPicPr>
        <p:blipFill>
          <a:blip r:embed="rId1"/>
          <a:stretch/>
        </p:blipFill>
        <p:spPr>
          <a:xfrm>
            <a:off x="1571760" y="2000160"/>
            <a:ext cx="3301920" cy="3911760"/>
          </a:xfrm>
          <a:prstGeom prst="rect">
            <a:avLst/>
          </a:prstGeom>
          <a:ln cap="sq" w="104760">
            <a:solidFill>
              <a:srgbClr val="ffffff">
                <a:alpha val="58000"/>
              </a:srgbClr>
            </a:solidFill>
            <a:miter/>
          </a:ln>
        </p:spPr>
      </p:pic>
      <p:pic>
        <p:nvPicPr>
          <p:cNvPr id="48" name="Рисунок 6" descr="1.jpg"/>
          <p:cNvPicPr/>
          <p:nvPr/>
        </p:nvPicPr>
        <p:blipFill>
          <a:blip r:embed="rId2"/>
          <a:stretch/>
        </p:blipFill>
        <p:spPr>
          <a:xfrm>
            <a:off x="5643720" y="2857680"/>
            <a:ext cx="1841400" cy="235728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3. Если мы хотим перейти дорогу и видим, что приближается автомобил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подождём, пока автомобиль проед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быстро, но осторожно перебеж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дадим знак водителю рукой о желании перейти проезжую часть и, когда водитель остановит автомобиль, перейдём ули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3. Если мы хотим перейти дорогу и видим, что приближается автомобил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А) подождём, пока автомобиль проед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быстро, но осторожно перебеж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дадим знак водителю рукой о желании перейти проезжую часть и, когда водитель остановит автомобиль, перейдём улиц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4. По какой стороне обозначенного пешеходного перехода должен идти пешеход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по той стороне, где больше ме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по его левой полов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по его правой полов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4. По какой стороне обозначенного пешеходного перехода должен идти пешеход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по той стороне, где больше ме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по его левой полов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В) по его правой полови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5. Ходьба по краю тротуара (бордюру) являе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опасной, т.к. существует возможность быть задеты движущимся транспортом, который едет близко от края троту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неопасной, т.к. транспорт ни в коем случае не должен ехать так близко к тротуару, чтобы задеть пешех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неопасной, потому что бордюр-это часть, а на тротуар транспорт не должен наезж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5. Ходьба по краю тротуара (бордюру) являе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) опасной, т.к. существует возможность быть задеты движущимся транспортом, который едет близко от края тротуа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неопасной, т.к. транспорт ни в коем случае не должен ехать так близко к тротуару, чтобы задеть пеше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) неопасной, потому что бордюр-это часть, а на тротуар транспорт не должен наезж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6. Если пешеход не успел дойти до середины дороги, где он должен остановить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930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в любом месте на проезжей части, не мешая движению транспортны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обязательно дойти до тротуара или обочины независимо от движения транспортны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на середине пешеходного перехода, а при его отсутствии - на середине проезжей части дор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6. Если пешеход не успел дойти до середины дороги, где он должен остановить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930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в любом месте на проезжей части, не мешая движению 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) обязательно дойти до тротуара или обочины независимо от движения 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В) на середине пешеходного перехода, а при его отсутствии - на середине проезжей части дорог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7. Где нужно ждать автобуса, троллейбуса, трамвая, такс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на посадочных площадках, тротуаре или обочине, где установлены указатели остановки общественного транспо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в любом месте на проезжей ч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7. Где нужно ждать автобуса, троллейбуса, трамвая, такс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А) на посадочных площадках, тротуаре или обочине, где установлены указатели остановки общественного транспо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в любом месте на проезжей ч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2. Какое средство для автомобильной аптечки можно применить для уменьшения боли при перелом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Валид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Анальгин и охлаждающий пакет-контейн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горчич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8. Какой дорожный знак устанавливают непосредственно у пешеходного переход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586728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) предупреждающий знак «пешеходный переход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информационно-указательный знак «пешеходный переход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1 009"/>
          <p:cNvPicPr/>
          <p:nvPr/>
        </p:nvPicPr>
        <p:blipFill>
          <a:blip r:embed="rId1"/>
          <a:stretch/>
        </p:blipFill>
        <p:spPr>
          <a:xfrm>
            <a:off x="6156360" y="1989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1 010"/>
          <p:cNvPicPr/>
          <p:nvPr/>
        </p:nvPicPr>
        <p:blipFill>
          <a:blip r:embed="rId2"/>
          <a:stretch/>
        </p:blipFill>
        <p:spPr>
          <a:xfrm>
            <a:off x="6156360" y="4149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8. Какой дорожный знак устанавливают непосредственно у пешеходного переход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586728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) предупреждающий знак «пешеходный переход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информационно-указательный знак «пешеходный переход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 009"/>
          <p:cNvPicPr/>
          <p:nvPr/>
        </p:nvPicPr>
        <p:blipFill>
          <a:blip r:embed="rId1"/>
          <a:stretch/>
        </p:blipFill>
        <p:spPr>
          <a:xfrm>
            <a:off x="6659640" y="19890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 010"/>
          <p:cNvPicPr/>
          <p:nvPr/>
        </p:nvPicPr>
        <p:blipFill>
          <a:blip r:embed="rId2"/>
          <a:stretch/>
        </p:blipFill>
        <p:spPr>
          <a:xfrm>
            <a:off x="5724360" y="3789360"/>
            <a:ext cx="3168720" cy="27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9. Где пешеход должен ожидать смену сигнала светофора, если он не успел перейти середину проезжей ча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991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) остановиться там, где его застал запрещающий сигнал светофо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быстро закончить переход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) остановиться на островке безопасности или середине проезжей ча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9. Где пешеход должен ожидать смену сигнала светофора, если он не успел перейти середину проезжей ча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991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остановиться там, где его застал запрещающий сигнал светофор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быстро закончить перех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В) остановиться на островке безопасности или середине проезжей ча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0. С какой стороны разрешается производить высадку пассажиров из кузова грузового автомоби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) со стороны левого борта, предварительно убедившись в безопас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постараемся преодолеть находящееся на тротуаре препятств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 со стороны правого и заднего бор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0. С какой стороны разрешается производить высадку пассажиров из кузова грузового автомоби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со стороны левого борта, предварительно убедившись в безопас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) постараемся преодолеть находящееся на тротуаре препят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В) со стороны правого и заднего борт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Если на тротуаре, по которому мы идём, находиться препятствие, например выкопанная яма или загражд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) перейдём на другую сторону улиц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) выйдем на проезжую часть и продолжим движение по проезжей части вдоль тротуара до тех пор, пока не сможем на него верну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) постараемся преодолеть находящиеся на тротуаре препятст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11. Если на тротуаре, по которому мы идём, находиться препятствие, например выкопанная яма или загражд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перейдём на другую сторону улиц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Б) выйдем на проезжую часть и продолжим движение по проезжей части вдоль тротуара до тех пор, пока не сможем на него верну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) постараемся преодолеть находящиеся на тротуаре препятств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12. Кататься на санках и на лыжах можно тольк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) по дорожкам, предназначенным для пеше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по правой стороне проезжей ча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) в парках, скверах, стадионах, там, где не ходят пешеходы и нет опасности выехать на проезжую ча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12. Кататься на санках и на лыжах можно тольк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по дорожкам, предназначенным для пешеход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по правой стороне проезжей ча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В) в парках, скверах, стадионах, там, где не ходят пешеходы и нет опасности выехать на проезжую ча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78544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Анальгин и охлаждающий пакет-контейне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5" descr="111.jpg"/>
          <p:cNvPicPr/>
          <p:nvPr/>
        </p:nvPicPr>
        <p:blipFill>
          <a:blip r:embed="rId1"/>
          <a:stretch/>
        </p:blipFill>
        <p:spPr>
          <a:xfrm>
            <a:off x="2071800" y="2571840"/>
            <a:ext cx="4786200" cy="36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13. На оборудованном дополнительным сиденьем и подножками велосипеде можно перевоз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) взрослого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) одного ребёнк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) двоих де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13. На оборудованном дополнительным сиденьем и подножками велосипеде можно перевоз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) взросло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Б) одного ребёнк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) двоих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1 002"/>
          <p:cNvPicPr/>
          <p:nvPr/>
        </p:nvPicPr>
        <p:blipFill>
          <a:blip r:embed="rId1"/>
          <a:stretch/>
        </p:blipFill>
        <p:spPr>
          <a:xfrm>
            <a:off x="5003640" y="2565360"/>
            <a:ext cx="3240360" cy="2879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На каком рис. №1,№2 правильно показаны места для движения пешеходо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1 001"/>
          <p:cNvPicPr/>
          <p:nvPr/>
        </p:nvPicPr>
        <p:blipFill>
          <a:blip r:embed="rId2"/>
          <a:stretch/>
        </p:blipFill>
        <p:spPr>
          <a:xfrm>
            <a:off x="179280" y="270828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1 002"/>
          <p:cNvPicPr/>
          <p:nvPr/>
        </p:nvPicPr>
        <p:blipFill>
          <a:blip r:embed="rId3"/>
          <a:stretch/>
        </p:blipFill>
        <p:spPr>
          <a:xfrm>
            <a:off x="4572000" y="2565360"/>
            <a:ext cx="4032360" cy="338472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На каком из рис. правильно показано движение колонн учащихс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1 003"/>
          <p:cNvPicPr/>
          <p:nvPr/>
        </p:nvPicPr>
        <p:blipFill>
          <a:blip r:embed="rId1"/>
          <a:stretch/>
        </p:blipFill>
        <p:spPr>
          <a:xfrm>
            <a:off x="395280" y="21337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 004"/>
          <p:cNvPicPr/>
          <p:nvPr/>
        </p:nvPicPr>
        <p:blipFill>
          <a:blip r:embed="rId2"/>
          <a:stretch/>
        </p:blipFill>
        <p:spPr>
          <a:xfrm>
            <a:off x="5292720" y="220500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1 004"/>
          <p:cNvPicPr/>
          <p:nvPr/>
        </p:nvPicPr>
        <p:blipFill>
          <a:blip r:embed="rId3"/>
          <a:stretch/>
        </p:blipFill>
        <p:spPr>
          <a:xfrm>
            <a:off x="4643280" y="2205000"/>
            <a:ext cx="3672000" cy="446400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14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3. Для чего нужен валидол в автомобильной аптечк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Для приёма при высокой температуре те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ля приёма при болях в области перело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ля приёма при болях в области серд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560" y="1643040"/>
            <a:ext cx="871380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Для приёма при болях в области сердц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4. Как оказать помощь пострадавшему при болях в области сердц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Дать принять одну таблетку анальгина или аспири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ать понюхать нашатырный спир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ать принять под язык таблетку валидола или нитроглицерина, дать внутрь 15 капель корвалола в 50 мл. 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Дать принять под язык таблетку валидола или нитроглицерина, дать внутрь 15 капель корвалола в 50 мл. вод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3-03-13T13:36:34Z</dcterms:modified>
  <cp:revision>19</cp:revision>
  <dc:subject/>
  <dc:title>PowerPoint Presentation</dc:title>
</cp:coreProperties>
</file>