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17.jpeg" ContentType="image/jpeg"/>
  <Override PartName="/ppt/media/image7.png" ContentType="image/png"/>
  <Override PartName="/ppt/media/image22.jpeg" ContentType="image/jpeg"/>
  <Override PartName="/ppt/media/image6.wmf" ContentType="image/x-wmf"/>
  <Override PartName="/ppt/media/image19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4.png" ContentType="image/png"/>
  <Override PartName="/ppt/media/image1.gif" ContentType="image/gif"/>
  <Override PartName="/ppt/media/image5.wmf" ContentType="image/x-wmf"/>
  <Override PartName="/ppt/media/image10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BABB-21FB-4680-9DF3-883678C2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0F98-D584-4873-B0C3-E4C034DC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96D2-D0D0-43D7-99A7-3BCF55D5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D825-4607-4631-AFFA-119D9E02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1D8F-BCF3-48CB-8F2D-2DE116C0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4FF6-825B-4548-8703-9F800D41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1D6B-ACAC-4B13-AB6F-F72BA9C8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85EE-BADE-42F2-BF32-11278D9B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0B0E-AD14-4656-B78D-EC5E10BD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498D-46E2-4BA3-B026-D0E267A1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4CD8-8826-40BD-96D7-EE66959D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C6AE-036F-4136-A6BA-81E22A99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A0CC-9CA1-4669-A7CA-5AFF2C9B6F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2b2b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7343640" cy="21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8600" spc="-1" strike="noStrike" u="sng">
                <a:solidFill>
                  <a:srgbClr val="000000"/>
                </a:solidFill>
                <a:uFillTx/>
                <a:latin typeface="Times New Roman"/>
              </a:rPr>
              <a:t>Викторина: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"ЗНАТОКИ ПДД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j0254507"/>
          <p:cNvPicPr/>
          <p:nvPr/>
        </p:nvPicPr>
        <p:blipFill>
          <a:blip r:embed="rId1"/>
          <a:stretch/>
        </p:blipFill>
        <p:spPr>
          <a:xfrm>
            <a:off x="6838920" y="4554360"/>
            <a:ext cx="23050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5. Для чего в автомобильной аптечке предназначен 10% водный раствор аммиака (нашатырный спирт)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Для обработки ра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Для наложения согревающего компресс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Для вдыхания при обмороке и уга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omic Sans MS"/>
              </a:rPr>
              <a:t>Для вдыхания при обмороке и угар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omic Sans MS"/>
              </a:rPr>
              <a:t>6. Где нужно определять пульс, если пострадавший без сознания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На лучевой артер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На бедренной артер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На сонной артер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28800" y="278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omic Sans MS"/>
              </a:rPr>
              <a:t>На сонной артери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j0346299"/>
          <p:cNvPicPr/>
          <p:nvPr/>
        </p:nvPicPr>
        <p:blipFill>
          <a:blip r:embed="rId1"/>
          <a:stretch/>
        </p:blipFill>
        <p:spPr>
          <a:xfrm>
            <a:off x="2428920" y="1500120"/>
            <a:ext cx="4608360" cy="4608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6" name="Rectangle 4"/>
          <p:cNvSpPr/>
          <p:nvPr/>
        </p:nvSpPr>
        <p:spPr>
          <a:xfrm>
            <a:off x="1476360" y="499320"/>
            <a:ext cx="59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Въезд запрещен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j0346339"/>
          <p:cNvPicPr/>
          <p:nvPr/>
        </p:nvPicPr>
        <p:blipFill>
          <a:blip r:embed="rId1"/>
          <a:stretch/>
        </p:blipFill>
        <p:spPr>
          <a:xfrm>
            <a:off x="2571840" y="1857240"/>
            <a:ext cx="4103640" cy="4097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8" name="Rectangle 4"/>
          <p:cNvSpPr/>
          <p:nvPr/>
        </p:nvSpPr>
        <p:spPr>
          <a:xfrm>
            <a:off x="1121400" y="548280"/>
            <a:ext cx="686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Движение запрещен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460760" cy="4341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0" name="Rectangle 4"/>
          <p:cNvSpPr/>
          <p:nvPr/>
        </p:nvSpPr>
        <p:spPr>
          <a:xfrm>
            <a:off x="1242360" y="475200"/>
            <a:ext cx="669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Пешеходная дорож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2500200" y="1643040"/>
            <a:ext cx="4186440" cy="4319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2" name="Rectangle 5"/>
          <p:cNvSpPr/>
          <p:nvPr/>
        </p:nvSpPr>
        <p:spPr>
          <a:xfrm>
            <a:off x="2149560" y="332640"/>
            <a:ext cx="66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Велосипедная дорожка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2571840" y="1714680"/>
            <a:ext cx="4176720" cy="4176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4" name="Rectangle 4"/>
          <p:cNvSpPr/>
          <p:nvPr/>
        </p:nvSpPr>
        <p:spPr>
          <a:xfrm>
            <a:off x="1384200" y="403560"/>
            <a:ext cx="67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Пешеходный переход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143160" y="1857240"/>
            <a:ext cx="3390840" cy="3743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6" name="Rectangle 5"/>
          <p:cNvSpPr/>
          <p:nvPr/>
        </p:nvSpPr>
        <p:spPr>
          <a:xfrm>
            <a:off x="97200" y="312120"/>
            <a:ext cx="90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Подземный и надземный переход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1.Какое лекарственное средство можно использовать в качестве дезинфицирующего средства при капиллярном кровотечен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. Подорожник, берёзовый лис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. Корень валерианы, цветы   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андыш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3. Листья мать-и-мачех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j0344055"/>
          <p:cNvPicPr/>
          <p:nvPr/>
        </p:nvPicPr>
        <p:blipFill>
          <a:blip r:embed="rId1"/>
          <a:stretch/>
        </p:blipFill>
        <p:spPr>
          <a:xfrm>
            <a:off x="2786040" y="185724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2700360" y="40392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Пункт питани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857680" y="1500120"/>
            <a:ext cx="3522600" cy="4753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0" name="Rectangle 4"/>
          <p:cNvSpPr/>
          <p:nvPr/>
        </p:nvSpPr>
        <p:spPr>
          <a:xfrm>
            <a:off x="1144800" y="475560"/>
            <a:ext cx="72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Пункт первой медицинской помощ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214720" y="1500120"/>
            <a:ext cx="4464000" cy="43308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0" y="586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Движение на велосипедах запрещено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2286000" y="1500120"/>
            <a:ext cx="4392720" cy="4392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2372040" y="332280"/>
            <a:ext cx="469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Проход закры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786040" y="1571760"/>
            <a:ext cx="3675240" cy="4752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6" name="Rectangle 4"/>
          <p:cNvSpPr/>
          <p:nvPr/>
        </p:nvSpPr>
        <p:spPr>
          <a:xfrm>
            <a:off x="2268360" y="475200"/>
            <a:ext cx="515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Место отдых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857680" y="1357200"/>
            <a:ext cx="3338280" cy="48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8" name="Rectangle 4"/>
          <p:cNvSpPr/>
          <p:nvPr/>
        </p:nvSpPr>
        <p:spPr>
          <a:xfrm>
            <a:off x="2771640" y="42624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Кемпинг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15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По какой стороне тротуара нужно ходить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А) по пра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Б) по ле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) по люб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15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По какой стороне тротуара нужно ходить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mic Sans MS"/>
              </a:rPr>
              <a:t>А) по прав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) по лев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) по люб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2. Где можно переходить дорогу вне населённого пункта, если нет пешеходного переход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) на повороте доро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) в местах, где дорога хорошо просматривается в обе сторо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) перед или за вершиной подъёма доро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2. Где можно переходить дорогу вне населённого пункта, если нет пешеходного переход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) на повороте доро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Б) в местах, где дорога хорошо просматривается в обе сторо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) перед или за вершиной подъёма доро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mic Sans MS"/>
              </a:rPr>
              <a:t>Подорожник, берёзовый лист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Рисунок 5" descr="1.jpg"/>
          <p:cNvPicPr/>
          <p:nvPr/>
        </p:nvPicPr>
        <p:blipFill>
          <a:blip r:embed="rId1"/>
          <a:stretch/>
        </p:blipFill>
        <p:spPr>
          <a:xfrm>
            <a:off x="1571760" y="2000160"/>
            <a:ext cx="3301920" cy="3911760"/>
          </a:xfrm>
          <a:prstGeom prst="rect">
            <a:avLst/>
          </a:prstGeom>
          <a:ln cap="sq" w="104760">
            <a:solidFill>
              <a:srgbClr val="ffffff">
                <a:alpha val="58000"/>
              </a:srgbClr>
            </a:solidFill>
            <a:miter/>
          </a:ln>
        </p:spPr>
      </p:pic>
      <p:pic>
        <p:nvPicPr>
          <p:cNvPr id="48" name="Рисунок 6" descr="1.jpg"/>
          <p:cNvPicPr/>
          <p:nvPr/>
        </p:nvPicPr>
        <p:blipFill>
          <a:blip r:embed="rId2"/>
          <a:stretch/>
        </p:blipFill>
        <p:spPr>
          <a:xfrm>
            <a:off x="5643720" y="2857680"/>
            <a:ext cx="1841400" cy="235728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15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3. Если мы хотим перейти дорогу и видим, что приближается автомобиль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) подождём, пока автомобиль проед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) быстро, но осторожно перебежи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)дадим знак водителю рукой о желании перейти проезжую часть и, когда водитель остановит автомобиль, перейдём улиц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15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3. Если мы хотим перейти дорогу и видим, что приближается автомобиль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omic Sans MS"/>
              </a:rPr>
              <a:t>А) подождём, пока автомобиль проед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) быстро, но осторожно перебеж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)дадим знак водителю рукой о желании перейти проезжую часть и, когда водитель остановит автомобиль, перейдём улиц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4. По какой стороне обозначенного пешеходного перехода должен идти пешеход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781360"/>
            <a:ext cx="91440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) по той стороне, где больше мес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) по его левой полови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) по его правой полови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4. По какой стороне обозначенного пешеходного перехода должен идти пешеход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2781360"/>
            <a:ext cx="91440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) по той стороне, где больше мес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) по его левой полови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mic Sans MS"/>
              </a:rPr>
              <a:t>В) по его правой половин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5. Ходьба по краю тротуара (бордюру) являетс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) опасной, т.к. существует возможность быть задеты движущимся транспортом, который едет близко от края тротуа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) неопасной, т.к. транспорт ни в коем случае не должен ехать так близко к тротуару, чтобы задеть пешех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) неопасной, потому что бордюр-это часть, а на тротуар транспорт не должен наезж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5. Ходьба по краю тротуара (бордюру) являетс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А) опасной, т.к. существует возможность быть задеты движущимся транспортом, который едет близко от края тротуа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) неопасной, т.к. транспорт ни в коем случае не должен ехать так близко к тротуару, чтобы задеть пешех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) неопасной, потому что бордюр-это часть, а на тротуар транспорт не должен наезж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5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6. Если пешеход не успел дойти до середины дороги, где он должен остановитьс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2204640"/>
            <a:ext cx="889308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) в любом месте на проезжей части, не мешая движению транспортных сред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) обязательно дойти до тротуара или обочины независимо от движения транспортных сред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) на середине пешеходного перехода, а при его отсутствии - на середине проезжей части доро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5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6. Если пешеход не успел дойти до середины дороги, где он должен остановитьс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2204640"/>
            <a:ext cx="889308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) в любом месте на проезжей части, не мешая движению транспортных сред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) обязательно дойти до тротуара или обочины независимо от движения транспортных сред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omic Sans MS"/>
              </a:rPr>
              <a:t>В) на середине пешеходного перехода, а при его отсутствии - на середине проезжей части дорог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7. Где нужно ждать автобуса, троллейбуса, трамвая, такс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) на посадочных площадках, тротуаре или обочине, где установлены указатели остановки общественного транспор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) в любом месте на проезжей ча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7. Где нужно ждать автобуса, троллейбуса, трамвая, такс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А) на посадочных площадках, тротуаре или обочине, где установлены указатели остановки общественного транспор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) в любом месте на проезжей ча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5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2. Какое средство для автомобильной аптечки можно применить для уменьшения боли при перелом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Валидо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Анальгин и охлаждающий пакет-контейне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горчични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8. Какой дорожный знак устанавливают непосредственно у пешеходного переход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5867280" cy="45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) предупреждающий знак «пешеходный переход»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) информационно-указательный знак «пешеходный переход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1 009"/>
          <p:cNvPicPr/>
          <p:nvPr/>
        </p:nvPicPr>
        <p:blipFill>
          <a:blip r:embed="rId1"/>
          <a:stretch/>
        </p:blipFill>
        <p:spPr>
          <a:xfrm>
            <a:off x="6156360" y="198900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1 010"/>
          <p:cNvPicPr/>
          <p:nvPr/>
        </p:nvPicPr>
        <p:blipFill>
          <a:blip r:embed="rId2"/>
          <a:stretch/>
        </p:blipFill>
        <p:spPr>
          <a:xfrm>
            <a:off x="6156360" y="414972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8. Какой дорожный знак устанавливают непосредственно у пешеходного переход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5867280" cy="45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) предупреждающий знак «пешеходный переход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Б) информационно-указательный знак «пешеходный переход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1 009"/>
          <p:cNvPicPr/>
          <p:nvPr/>
        </p:nvPicPr>
        <p:blipFill>
          <a:blip r:embed="rId1"/>
          <a:stretch/>
        </p:blipFill>
        <p:spPr>
          <a:xfrm>
            <a:off x="6659640" y="1989000"/>
            <a:ext cx="1657440" cy="1295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1 010"/>
          <p:cNvPicPr/>
          <p:nvPr/>
        </p:nvPicPr>
        <p:blipFill>
          <a:blip r:embed="rId2"/>
          <a:stretch/>
        </p:blipFill>
        <p:spPr>
          <a:xfrm>
            <a:off x="5724360" y="3789360"/>
            <a:ext cx="3168720" cy="2735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9. Где пешеход должен ожидать смену сигнала светофора, если он не успел перейти середину проезжей час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79912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А) остановиться там, где его застал запрещающий сигнал светофор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Б) быстро закончить переход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) остановиться на островке безопасности или середине проезжей част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9. Где пешеход должен ожидать смену сигнала светофора, если он не успел перейти середину проезжей час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79912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) остановиться там, где его застал запрещающий сигнал светофор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) быстро закончить перех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В) остановиться на островке безопасности или середине проезжей част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20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10. С какой стороны разрешается производить высадку пассажиров из кузова грузового автомобил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) со стороны левого борта, предварительно убедившись в безопас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) постараемся преодолеть находящееся на тротуаре препятств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) со стороны правого и заднего бор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20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10. С какой стороны разрешается производить высадку пассажиров из кузова грузового автомобил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) со стороны левого борта, предварительно убедившись в безопас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) постараемся преодолеть находящееся на тротуаре препятств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В) со стороны правого и заднего борт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036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1.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Если на тротуаре, по которому мы идём, находиться препятствие, например выкопанная яма или загражд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) перейдём на другую сторону улиц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) выйдем на проезжую часть и продолжим движение по проезжей части вдоль тротуара до тех пор, пока не сможем на него вернуть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) постараемся преодолеть находящиеся на тротуаре препятств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036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11. Если на тротуаре, по которому мы идём, находиться препятствие, например выкопанная яма или загражд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4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) перейдём на другую сторону улиц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Б) выйдем на проезжую часть и продолжим движение по проезжей части вдоль тротуара до тех пор, пока не сможем на него вернуть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) постараемся преодолеть находящиеся на тротуаре препятств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893080" cy="15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12. Кататься на санках и на лыжах можно только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) по дорожкам, предназначенным для пешеход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) по правой стороне проезжей ча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) в парках, скверах, стадионах, там, где не ходят пешеходы и нет опасности выехать на проезжую ча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893080" cy="15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12. Кататься на санках и на лыжах можно только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) по дорожкам, предназначенным для пешеход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) по правой стороне проезжей час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В) в парках, скверах, стадионах, там, где не ходят пешеходы и нет опасности выехать на проезжую час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13840"/>
            <a:ext cx="8785440" cy="15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Анальгин и охлаждающий пакет-контейнер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Рисунок 5" descr="111.jpg"/>
          <p:cNvPicPr/>
          <p:nvPr/>
        </p:nvPicPr>
        <p:blipFill>
          <a:blip r:embed="rId1"/>
          <a:stretch/>
        </p:blipFill>
        <p:spPr>
          <a:xfrm>
            <a:off x="2071800" y="2571840"/>
            <a:ext cx="4786200" cy="36860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748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13. На оборудованном дополнительным сиденьем и подножками велосипеде можно перевозить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640" y="2923920"/>
            <a:ext cx="777240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А) взрослого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Б) одного ребёнк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) двоих дет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748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13. На оборудованном дополнительным сиденьем и подножками велосипеде можно перевозить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640" y="2923920"/>
            <a:ext cx="777240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) взрослог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Б) одного ребёнк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) двоих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8" descr="1 002"/>
          <p:cNvPicPr/>
          <p:nvPr/>
        </p:nvPicPr>
        <p:blipFill>
          <a:blip r:embed="rId1"/>
          <a:stretch/>
        </p:blipFill>
        <p:spPr>
          <a:xfrm>
            <a:off x="5003640" y="2565360"/>
            <a:ext cx="3240360" cy="28796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На каком рис. №1,№2 правильно показаны места для движения пешеходов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1 001"/>
          <p:cNvPicPr/>
          <p:nvPr/>
        </p:nvPicPr>
        <p:blipFill>
          <a:blip r:embed="rId2"/>
          <a:stretch/>
        </p:blipFill>
        <p:spPr>
          <a:xfrm>
            <a:off x="179280" y="270828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1 002"/>
          <p:cNvPicPr/>
          <p:nvPr/>
        </p:nvPicPr>
        <p:blipFill>
          <a:blip r:embed="rId3"/>
          <a:stretch/>
        </p:blipFill>
        <p:spPr>
          <a:xfrm>
            <a:off x="4572000" y="2565360"/>
            <a:ext cx="4032360" cy="3384720"/>
          </a:xfrm>
          <a:prstGeom prst="rect">
            <a:avLst/>
          </a:prstGeom>
          <a:ln w="76320">
            <a:solidFill>
              <a:srgbClr val="00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На каком из рис. правильно показано движение колонн учащихся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1 003"/>
          <p:cNvPicPr/>
          <p:nvPr/>
        </p:nvPicPr>
        <p:blipFill>
          <a:blip r:embed="rId1"/>
          <a:stretch/>
        </p:blipFill>
        <p:spPr>
          <a:xfrm>
            <a:off x="395280" y="213372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1 004"/>
          <p:cNvPicPr/>
          <p:nvPr/>
        </p:nvPicPr>
        <p:blipFill>
          <a:blip r:embed="rId2"/>
          <a:stretch/>
        </p:blipFill>
        <p:spPr>
          <a:xfrm>
            <a:off x="5292720" y="2205000"/>
            <a:ext cx="3024360" cy="4032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1 004"/>
          <p:cNvPicPr/>
          <p:nvPr/>
        </p:nvPicPr>
        <p:blipFill>
          <a:blip r:embed="rId3"/>
          <a:stretch/>
        </p:blipFill>
        <p:spPr>
          <a:xfrm>
            <a:off x="4643280" y="2205000"/>
            <a:ext cx="3672000" cy="4464000"/>
          </a:xfrm>
          <a:prstGeom prst="rect">
            <a:avLst/>
          </a:prstGeom>
          <a:ln w="76320">
            <a:solidFill>
              <a:srgbClr val="00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964720" cy="149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3. Для чего нужен валидол в автомобильной аптечк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Для приёма при высокой температуре те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Для приёма при болях в области перелом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Для приёма при болях в области сердц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560" y="1643040"/>
            <a:ext cx="8713800" cy="15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Comic Sans MS"/>
              </a:rPr>
              <a:t>Для приёма при болях в области сердц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omic Sans MS"/>
              </a:rPr>
              <a:t>4. Как оказать помощь пострадавшему при болях в области сердце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Дать принять одну таблетку анальгина или аспири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Дать понюхать нашатырный спир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Дать принять под язык таблетку валидола или нитроглицерина, дать внутрь 15 капель корвалола в 50 мл. во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Дать принять под язык таблетку валидола или нитроглицерина, дать внутрь 15 капель корвалола в 50 мл. вод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ster</cp:lastModifiedBy>
  <dcterms:modified xsi:type="dcterms:W3CDTF">2013-03-13T13:36:34Z</dcterms:modified>
  <cp:revision>19</cp:revision>
  <dc:subject/>
  <dc:title>PowerPoint Presentation</dc:title>
</cp:coreProperties>
</file>