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0.wmf" ContentType="image/x-wmf"/>
  <Override PartName="/ppt/media/image22.gif" ContentType="image/gif"/>
  <Override PartName="/ppt/media/image25.png" ContentType="image/png"/>
  <Override PartName="/ppt/media/image9.jpeg" ContentType="image/jpeg"/>
  <Override PartName="/ppt/media/image11.wmf" ContentType="image/x-wmf"/>
  <Override PartName="/ppt/media/image3.png" ContentType="image/png"/>
  <Override PartName="/ppt/media/image23.gif" ContentType="image/gif"/>
  <Override PartName="/ppt/media/image26.png" ContentType="image/png"/>
  <Override PartName="/ppt/media/image7.png" ContentType="image/png"/>
  <Override PartName="/ppt/media/image27.gif" ContentType="image/gif"/>
  <Override PartName="/ppt/media/image6.wmf" ContentType="image/x-wmf"/>
  <Override PartName="/ppt/media/image5.jpeg" ContentType="image/jpeg"/>
  <Override PartName="/ppt/media/image8.jpeg" ContentType="image/jpeg"/>
  <Override PartName="/ppt/media/image21.gif" ContentType="image/gif"/>
  <Override PartName="/ppt/media/image19.png" ContentType="image/png"/>
  <Override PartName="/ppt/media/image15.gif" ContentType="image/gif"/>
  <Override PartName="/ppt/media/image20.gif" ContentType="image/gif"/>
  <Override PartName="/ppt/media/image18.gif" ContentType="image/gif"/>
  <Override PartName="/ppt/media/image17.wmf" ContentType="image/x-wmf"/>
  <Override PartName="/ppt/media/image16.jpeg" ContentType="image/jpeg"/>
  <Override PartName="/ppt/media/image28.gif" ContentType="image/gif"/>
  <Override PartName="/ppt/media/image14.jpeg" ContentType="image/jpeg"/>
  <Override PartName="/ppt/media/image2.wmf" ContentType="image/x-wmf"/>
  <Override PartName="/ppt/media/image4.png" ContentType="image/png"/>
  <Override PartName="/ppt/media/image24.gif" ContentType="image/gif"/>
  <Override PartName="/ppt/media/image1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85671-0225-4530-AD95-764DDDD4A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CAE81-1A9C-45B8-A54C-20950E7E0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F063B-0398-4FC8-8F16-BD89ACA51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DDAEB-2282-4430-B95B-46DA0FB42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1A54F-5DE3-45F8-88EA-7A6A9E1AB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38ECA-F238-4960-B82A-4235036D7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09150-43C7-4385-97F2-2F8498063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E8A1D-AC95-411B-B277-5FEECE3F8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AF024-FD40-4CC4-8BF1-87F7ADED1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12A8F-7610-45E6-8DD8-DFC0424CD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903FF-D156-4885-BA00-ABE7C6997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D80A4-B63E-41AF-B67C-5D9D616EF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2FC77-A327-4EE3-8D23-0BC869543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808FD-3876-46C1-AC15-661DF226D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D8359-37B2-463E-8697-9678F6052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009F8-8398-4A02-B55A-301BD9304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8AFC3-275C-41D7-AC6C-CB541D4A5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59BE85-0AA2-4A03-9347-216BA5BC5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793BC0-23B6-47B0-8DF9-8CD8AF375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AE31EC-6699-4FF8-BF90-D1FA6A874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9C81C5-08F9-4C0C-9000-743ACE40D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313E98-DA49-4109-AFCF-E7FA86B05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AB850-015E-4D39-BC23-CD0F15BC3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00E3A9-DFEB-4D3A-B4E0-9478151B2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D5D32D-AC45-41AB-B0C2-2CE5476A3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F8E3CF-2032-4599-A938-F577E1E91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7D5561-F13B-4447-9CDA-9DB351BCA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97CF46-4B5C-4A63-9CAE-BBF0AD992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925C9D-9435-4110-8D04-0C6AA6E30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D11192-B697-4F1B-A55A-590310773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389A68-2A8E-4412-8AFC-DDC9E8F56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AC387C-1193-4392-BA68-76C45F692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20B409-0B5D-4D60-8728-BEC03DBD5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F5852-C721-40C5-9229-493106F32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E5E6C3-E9AF-406A-96DC-FB8356314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F43D7B-30A0-454D-9E90-2F0D00010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7E8E94-478D-4D49-9F4D-5A391C89B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D81327-6602-4ABD-94AB-2E30D2288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2660E6-84FB-4779-BFA2-D19BE9E79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6F156D-754D-4B62-9D32-50E6459E1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19B2DA-565D-48DC-8CC4-17C317E19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403DBD-C9D9-4800-B4D8-AB0000C4F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B8C5F3-0CB3-4955-920B-5602E8712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818825-5F69-401B-88D3-6E495372E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3902B-FE9D-44ED-8C16-28531472E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F12858-8FAB-4CAE-94EC-FE278ABE3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C793BE-17D6-42C4-BCD1-DB4088B2D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885F0B-ADD2-456A-95E3-19C69BF2F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9440CB-4617-447A-9A17-4A854A5B4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F92636-B897-463B-846F-6D1DDBE89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ACCECC-FDEE-4ADB-91A3-7AEEBBBD5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201261-9956-42A9-94B0-423EE8ED9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EC8986-874E-43CD-81D9-A0E15D77F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3E2EA0-9D13-4BFE-801D-44AD3D99C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5991E2-1A1D-4D96-8735-AD5FAED97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1AF96-0C68-47C5-81E9-ECE286646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B5E222-576E-48C6-9EDC-BFD3FC5D1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D430F-B3E8-4767-9A5C-E4BCFE29F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1BF17-B434-484B-8A14-17CEC9770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EBCE6-02A7-4560-97A0-D6936D4D5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3240" y="5051520"/>
            <a:ext cx="3575160" cy="180648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-1440" y="5051520"/>
            <a:ext cx="9145440" cy="180648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omic Sans MS"/>
              </a:rPr>
              <a:t>шк. № 21 г.Шарьи Костромской обл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0A62B-FB82-4749-99B8-F877AA0B820D}" type="slidenum">
              <a:rPr b="0" lang="ru-RU" sz="16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ight Triangle 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Freeform 7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omic Sans MS"/>
              </a:rPr>
              <a:t>шк. № 21 г.Шарьи Костромской обл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4845D-A15D-4F22-9E23-D9AF3E341CF8}" type="slidenum">
              <a:rPr b="0" lang="ru-RU" sz="16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7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Right Triangle 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omic Sans MS"/>
              </a:rPr>
              <a:t>шк. № 21 г.Шарьи Костромской обл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6C70E-4E2C-4EF6-8138-B77F835900BF}" type="slidenum">
              <a:rPr b="0" lang="ru-RU" sz="16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ight Triangle 1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Right Triangle 17"/>
          <p:cNvSpPr/>
          <p:nvPr/>
        </p:nvSpPr>
        <p:spPr>
          <a:xfrm rot="5400000">
            <a:off x="433440" y="-433440"/>
            <a:ext cx="6858000" cy="7724880"/>
          </a:xfrm>
          <a:prstGeom prst="rtTriangle">
            <a:avLst/>
          </a:pr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omic Sans MS"/>
              </a:rPr>
              <a:t>шк. № 21 г.Шарьи Костромской обл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434342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434342"/>
                </a:solidFill>
                <a:latin typeface="Comic Sans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3397D-DFFF-4C93-9CB3-39D7698B5A2E}" type="slidenum">
              <a:rPr b="0" lang="ru-RU" sz="1600" spc="-1" strike="noStrike">
                <a:solidFill>
                  <a:srgbClr val="434342"/>
                </a:solidFill>
                <a:latin typeface="Comic Sans M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ight Triangle 8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Freeform 9"/>
          <p:cNvSpPr/>
          <p:nvPr/>
        </p:nvSpPr>
        <p:spPr>
          <a:xfrm>
            <a:off x="0" y="5048280"/>
            <a:ext cx="3571920" cy="1809720"/>
          </a:xfrm>
          <a:custGeom>
            <a:avLst/>
            <a:gdLst/>
            <a:ahLst/>
            <a:rect l="l" t="t" r="r" b="b"/>
            <a:pathLst>
              <a:path w="3571875" h="1809750">
                <a:moveTo>
                  <a:pt x="0" y="1809750"/>
                </a:moveTo>
                <a:lnTo>
                  <a:pt x="2038350" y="0"/>
                </a:lnTo>
                <a:lnTo>
                  <a:pt x="3571875" y="1809750"/>
                </a:lnTo>
                <a:lnTo>
                  <a:pt x="0" y="1809750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omic Sans MS"/>
              </a:rPr>
              <a:t>шк. № 21 г.Шарьи Костромской обл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68FB1-575F-4DA0-8FB5-A315CFBFEBBF}" type="slidenum">
              <a:rPr b="0" lang="ru-RU" sz="16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image" Target="../media/image1.gi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5.gif"/><Relationship Id="rId3" Type="http://schemas.openxmlformats.org/officeDocument/2006/relationships/slide" Target="slide14.xml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14.xml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7.wmf"/><Relationship Id="rId3" Type="http://schemas.openxmlformats.org/officeDocument/2006/relationships/image" Target="../media/image18.gif"/><Relationship Id="rId4" Type="http://schemas.openxmlformats.org/officeDocument/2006/relationships/slide" Target="slide14.xml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" Target="slide15.xml"/><Relationship Id="rId3" Type="http://schemas.openxmlformats.org/officeDocument/2006/relationships/image" Target="../media/image20.gi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image" Target="../media/image23.gi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image" Target="../media/image25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6.png"/><Relationship Id="rId3" Type="http://schemas.openxmlformats.org/officeDocument/2006/relationships/image" Target="../media/image27.gif"/><Relationship Id="rId4" Type="http://schemas.openxmlformats.org/officeDocument/2006/relationships/image" Target="../media/image28.gi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" Target="slide14.xml"/><Relationship Id="rId4" Type="http://schemas.openxmlformats.org/officeDocument/2006/relationships/image" Target="../media/image5.jpeg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14.xm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14.xm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9.jpeg"/><Relationship Id="rId3" Type="http://schemas.openxmlformats.org/officeDocument/2006/relationships/slide" Target="slide14.xm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slide" Target="slide14.xml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2.jpeg"/><Relationship Id="rId3" Type="http://schemas.openxmlformats.org/officeDocument/2006/relationships/slide" Target="slide14.xml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14.xml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14.xml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784080" y="175248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679a3"/>
                </a:solidFill>
                <a:latin typeface="Arial Black"/>
              </a:rPr>
              <a:t>ПРАВИЛА РАБОТЫ ЗА </a:t>
            </a:r>
            <a:r>
              <a:rPr b="0" lang="ru-RU" sz="4000" spc="-1" strike="noStrike" u="sng">
                <a:solidFill>
                  <a:srgbClr val="0679a3"/>
                </a:solidFill>
                <a:uFillTx/>
                <a:latin typeface="Arial Black"/>
              </a:rPr>
              <a:t>КОМПЬЮТЕРОМ</a:t>
            </a: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6" name="AutoShape 4">
            <a:hlinkClick r:id="" action="ppaction://hlinkshowjump?jump=nextslide"/>
          </p:cNvPr>
          <p:cNvSpPr/>
          <p:nvPr/>
        </p:nvSpPr>
        <p:spPr>
          <a:xfrm>
            <a:off x="5943600" y="601992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gradFill rotWithShape="0">
            <a:gsLst>
              <a:gs pos="0">
                <a:srgbClr val="7483ee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AutoShape 5">
            <a:hlinkClick r:id="rId1" action="ppaction://hlinksldjump"/>
          </p:cNvPr>
          <p:cNvSpPr/>
          <p:nvPr/>
        </p:nvSpPr>
        <p:spPr>
          <a:xfrm>
            <a:off x="2971800" y="594360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4299" y="10800"/>
                </a:moveTo>
                <a:lnTo>
                  <a:pt x="3794" y="17806"/>
                </a:lnTo>
                <a:lnTo>
                  <a:pt x="3794" y="3794"/>
                </a:lnTo>
                <a:close/>
              </a:path>
              <a:path fill="darken" w="21600" h="21600">
                <a:moveTo>
                  <a:pt x="16144" y="3794"/>
                </a:moveTo>
                <a:lnTo>
                  <a:pt x="16144" y="17806"/>
                </a:lnTo>
                <a:lnTo>
                  <a:pt x="17806" y="17806"/>
                </a:lnTo>
                <a:lnTo>
                  <a:pt x="17806" y="3794"/>
                </a:lnTo>
                <a:close/>
              </a:path>
            </a:pathLst>
          </a:custGeom>
          <a:gradFill rotWithShape="0">
            <a:gsLst>
              <a:gs pos="0">
                <a:srgbClr val="7483ee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AutoShape 6">
            <a:hlinkClick r:id="" action="ppaction://hlinkshowjump?jump=endshow"/>
          </p:cNvPr>
          <p:cNvSpPr/>
          <p:nvPr/>
        </p:nvSpPr>
        <p:spPr>
          <a:xfrm>
            <a:off x="4419720" y="594360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4989" y="7493"/>
                </a:moveTo>
                <a:lnTo>
                  <a:pt x="8497" y="7493"/>
                </a:lnTo>
                <a:lnTo>
                  <a:pt x="8497" y="12828"/>
                </a:lnTo>
                <a:cubicBezTo>
                  <a:pt x="8497" y="13751"/>
                  <a:pt x="9297" y="14482"/>
                  <a:pt x="10333" y="14482"/>
                </a:cubicBezTo>
                <a:lnTo>
                  <a:pt x="11996" y="14482"/>
                </a:lnTo>
                <a:cubicBezTo>
                  <a:pt x="13031" y="14482"/>
                  <a:pt x="13832" y="13751"/>
                  <a:pt x="13832" y="12828"/>
                </a:cubicBezTo>
                <a:lnTo>
                  <a:pt x="13832" y="7493"/>
                </a:lnTo>
                <a:lnTo>
                  <a:pt x="11996" y="7493"/>
                </a:lnTo>
                <a:lnTo>
                  <a:pt x="15503" y="3985"/>
                </a:lnTo>
                <a:lnTo>
                  <a:pt x="19176" y="7493"/>
                </a:lnTo>
                <a:lnTo>
                  <a:pt x="17340" y="7493"/>
                </a:lnTo>
                <a:lnTo>
                  <a:pt x="17340" y="12828"/>
                </a:lnTo>
                <a:cubicBezTo>
                  <a:pt x="17340" y="15596"/>
                  <a:pt x="14763" y="18155"/>
                  <a:pt x="11996" y="18155"/>
                </a:cubicBezTo>
                <a:lnTo>
                  <a:pt x="10333" y="18155"/>
                </a:lnTo>
                <a:cubicBezTo>
                  <a:pt x="7565" y="18155"/>
                  <a:pt x="4989" y="15596"/>
                  <a:pt x="4989" y="12828"/>
                </a:cubicBezTo>
                <a:close/>
              </a:path>
            </a:pathLst>
          </a:custGeom>
          <a:gradFill rotWithShape="0">
            <a:gsLst>
              <a:gs pos="0">
                <a:srgbClr val="7483ee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Text Box 14"/>
          <p:cNvSpPr/>
          <p:nvPr/>
        </p:nvSpPr>
        <p:spPr>
          <a:xfrm>
            <a:off x="6324480" y="838080"/>
            <a:ext cx="1981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0" name="Picture 15" descr="image412"/>
          <p:cNvPicPr/>
          <p:nvPr/>
        </p:nvPicPr>
        <p:blipFill>
          <a:blip r:embed="rId2"/>
          <a:stretch/>
        </p:blipFill>
        <p:spPr>
          <a:xfrm rot="646200">
            <a:off x="7586280" y="3141720"/>
            <a:ext cx="1123920" cy="137160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16" descr="j0292020"/>
          <p:cNvPicPr/>
          <p:nvPr/>
        </p:nvPicPr>
        <p:blipFill>
          <a:blip r:embed="rId3"/>
          <a:stretch/>
        </p:blipFill>
        <p:spPr>
          <a:xfrm>
            <a:off x="457200" y="3276720"/>
            <a:ext cx="1676520" cy="1496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6" name="Rectangle 13"/>
          <p:cNvGrpSpPr/>
          <p:nvPr/>
        </p:nvGrpSpPr>
        <p:grpSpPr>
          <a:xfrm>
            <a:off x="2590920" y="304920"/>
            <a:ext cx="4267080" cy="841320"/>
            <a:chOff x="2590920" y="304920"/>
            <a:chExt cx="4267080" cy="841320"/>
          </a:xfrm>
        </p:grpSpPr>
        <p:pic>
          <p:nvPicPr>
            <p:cNvPr id="307" name="Rectangle 13" descr=""/>
            <p:cNvPicPr/>
            <p:nvPr/>
          </p:nvPicPr>
          <p:blipFill>
            <a:blip r:embed="rId1"/>
            <a:stretch/>
          </p:blipFill>
          <p:spPr>
            <a:xfrm>
              <a:off x="2590920" y="304920"/>
              <a:ext cx="426708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8" name=""/>
            <p:cNvSpPr/>
            <p:nvPr/>
          </p:nvSpPr>
          <p:spPr>
            <a:xfrm>
              <a:off x="2590920" y="304920"/>
              <a:ext cx="426708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ff0000"/>
                  </a:solidFill>
                  <a:latin typeface="Franklin Gothic Medium"/>
                </a:rPr>
                <a:t>ПРАВИЛО 9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09" name=""/>
          <p:cNvSpPr txBox="1"/>
          <p:nvPr/>
        </p:nvSpPr>
        <p:spPr>
          <a:xfrm>
            <a:off x="685800" y="1905120"/>
            <a:ext cx="7696080" cy="27432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797b7e"/>
              </a:gs>
            </a:gsLst>
            <a:lin ang="2700000"/>
          </a:gradFill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Franklin Gothic Book"/>
              </a:rPr>
              <a:t>     </a:t>
            </a:r>
            <a:r>
              <a:rPr b="1" lang="ru-RU" sz="3200" spc="-1" strike="noStrike">
                <a:solidFill>
                  <a:srgbClr val="000000"/>
                </a:solidFill>
                <a:latin typeface="Arial Black"/>
              </a:rPr>
              <a:t>Шрифт на экране должен быть темным, а фон светлым. Зеленые и оранжевые цвета «плывут» и редко дают отчетливое изображение. </a:t>
            </a:r>
            <a:endParaRPr b="1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0" name="AutoShape 20">
            <a:hlinkClick r:id="" action="ppaction://hlinkshowjump?jump=nextslide"/>
          </p:cNvPr>
          <p:cNvSpPr/>
          <p:nvPr/>
        </p:nvSpPr>
        <p:spPr>
          <a:xfrm>
            <a:off x="8418600" y="6324480"/>
            <a:ext cx="573120" cy="533520"/>
          </a:xfrm>
          <a:custGeom>
            <a:avLst/>
            <a:gdLst>
              <a:gd name="textAreaLeft" fmla="*/ 34560 w 573120"/>
              <a:gd name="textAreaRight" fmla="*/ 538560 w 5731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3202" h="21600">
                <a:moveTo>
                  <a:pt x="0" y="0"/>
                </a:moveTo>
                <a:lnTo>
                  <a:pt x="23202" y="0"/>
                </a:lnTo>
                <a:lnTo>
                  <a:pt x="23202" y="21600"/>
                </a:lnTo>
                <a:lnTo>
                  <a:pt x="0" y="21600"/>
                </a:lnTo>
                <a:close/>
              </a:path>
              <a:path fill="lightenLess" w="23202" h="21600">
                <a:moveTo>
                  <a:pt x="0" y="0"/>
                </a:moveTo>
                <a:lnTo>
                  <a:pt x="23202" y="0"/>
                </a:lnTo>
                <a:lnTo>
                  <a:pt x="21802" y="1400"/>
                </a:lnTo>
                <a:lnTo>
                  <a:pt x="1400" y="1400"/>
                </a:lnTo>
                <a:close/>
              </a:path>
              <a:path fill="darken" w="23202" h="21600">
                <a:moveTo>
                  <a:pt x="23202" y="0"/>
                </a:moveTo>
                <a:lnTo>
                  <a:pt x="23202" y="21600"/>
                </a:lnTo>
                <a:lnTo>
                  <a:pt x="21802" y="20200"/>
                </a:lnTo>
                <a:lnTo>
                  <a:pt x="21802" y="1400"/>
                </a:lnTo>
                <a:close/>
              </a:path>
              <a:path fill="darkenLess" w="23202" h="21600">
                <a:moveTo>
                  <a:pt x="23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802" y="20200"/>
                </a:lnTo>
                <a:close/>
              </a:path>
              <a:path fill="lighten" w="23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202" h="21600">
                <a:moveTo>
                  <a:pt x="4595" y="3794"/>
                </a:moveTo>
                <a:lnTo>
                  <a:pt x="18608" y="10800"/>
                </a:lnTo>
                <a:lnTo>
                  <a:pt x="4595" y="17806"/>
                </a:lnTo>
                <a:close/>
              </a:path>
            </a:pathLst>
          </a:custGeom>
          <a:gradFill rotWithShape="0">
            <a:gsLst>
              <a:gs pos="0">
                <a:srgbClr val="969696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AutoShape 21">
            <a:hlinkClick r:id="" action="ppaction://hlinkshowjump?jump=previousslide"/>
          </p:cNvPr>
          <p:cNvSpPr/>
          <p:nvPr/>
        </p:nvSpPr>
        <p:spPr>
          <a:xfrm>
            <a:off x="7631280" y="6324480"/>
            <a:ext cx="572760" cy="533520"/>
          </a:xfrm>
          <a:custGeom>
            <a:avLst/>
            <a:gdLst>
              <a:gd name="textAreaLeft" fmla="*/ 34560 w 572760"/>
              <a:gd name="textAreaRight" fmla="*/ 538200 w 57276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3188" h="21600">
                <a:moveTo>
                  <a:pt x="0" y="0"/>
                </a:moveTo>
                <a:lnTo>
                  <a:pt x="23188" y="0"/>
                </a:lnTo>
                <a:lnTo>
                  <a:pt x="23188" y="21600"/>
                </a:lnTo>
                <a:lnTo>
                  <a:pt x="0" y="21600"/>
                </a:lnTo>
                <a:close/>
              </a:path>
              <a:path fill="lightenLess" w="23188" h="21600">
                <a:moveTo>
                  <a:pt x="0" y="0"/>
                </a:moveTo>
                <a:lnTo>
                  <a:pt x="23188" y="0"/>
                </a:lnTo>
                <a:lnTo>
                  <a:pt x="21788" y="1400"/>
                </a:lnTo>
                <a:lnTo>
                  <a:pt x="1400" y="1400"/>
                </a:lnTo>
                <a:close/>
              </a:path>
              <a:path fill="darken" w="23188" h="21600">
                <a:moveTo>
                  <a:pt x="23188" y="0"/>
                </a:moveTo>
                <a:lnTo>
                  <a:pt x="23188" y="21600"/>
                </a:lnTo>
                <a:lnTo>
                  <a:pt x="21788" y="20200"/>
                </a:lnTo>
                <a:lnTo>
                  <a:pt x="21788" y="1400"/>
                </a:lnTo>
                <a:close/>
              </a:path>
              <a:path fill="darkenLess" w="23188" h="21600">
                <a:moveTo>
                  <a:pt x="231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788" y="20200"/>
                </a:lnTo>
                <a:close/>
              </a:path>
              <a:path fill="lighten" w="231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188" h="21600">
                <a:moveTo>
                  <a:pt x="4587" y="10800"/>
                </a:moveTo>
                <a:lnTo>
                  <a:pt x="18600" y="3794"/>
                </a:lnTo>
                <a:lnTo>
                  <a:pt x="18600" y="17806"/>
                </a:lnTo>
                <a:close/>
              </a:path>
            </a:pathLst>
          </a:custGeom>
          <a:gradFill rotWithShape="0">
            <a:gsLst>
              <a:gs pos="0">
                <a:srgbClr val="969696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" name="AutoShape 22">
            <a:hlinkClick r:id="" action="ppaction://hlinkshowjump?jump=firstslide"/>
          </p:cNvPr>
          <p:cNvSpPr/>
          <p:nvPr/>
        </p:nvSpPr>
        <p:spPr>
          <a:xfrm>
            <a:off x="5410080" y="6324480"/>
            <a:ext cx="573120" cy="533520"/>
          </a:xfrm>
          <a:custGeom>
            <a:avLst/>
            <a:gdLst>
              <a:gd name="textAreaLeft" fmla="*/ 34560 w 573120"/>
              <a:gd name="textAreaRight" fmla="*/ 538560 w 5731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3202" h="21600">
                <a:moveTo>
                  <a:pt x="0" y="0"/>
                </a:moveTo>
                <a:lnTo>
                  <a:pt x="23202" y="0"/>
                </a:lnTo>
                <a:lnTo>
                  <a:pt x="23202" y="21600"/>
                </a:lnTo>
                <a:lnTo>
                  <a:pt x="0" y="21600"/>
                </a:lnTo>
                <a:close/>
              </a:path>
              <a:path fill="lightenLess" w="23202" h="21600">
                <a:moveTo>
                  <a:pt x="0" y="0"/>
                </a:moveTo>
                <a:lnTo>
                  <a:pt x="23202" y="0"/>
                </a:lnTo>
                <a:lnTo>
                  <a:pt x="21802" y="1400"/>
                </a:lnTo>
                <a:lnTo>
                  <a:pt x="1400" y="1400"/>
                </a:lnTo>
                <a:close/>
              </a:path>
              <a:path fill="darken" w="23202" h="21600">
                <a:moveTo>
                  <a:pt x="23202" y="0"/>
                </a:moveTo>
                <a:lnTo>
                  <a:pt x="23202" y="21600"/>
                </a:lnTo>
                <a:lnTo>
                  <a:pt x="21802" y="20200"/>
                </a:lnTo>
                <a:lnTo>
                  <a:pt x="21802" y="1400"/>
                </a:lnTo>
                <a:close/>
              </a:path>
              <a:path fill="darkenLess" w="23202" h="21600">
                <a:moveTo>
                  <a:pt x="23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802" y="20200"/>
                </a:lnTo>
                <a:close/>
              </a:path>
              <a:path fill="lighten" w="23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202" h="21600">
                <a:moveTo>
                  <a:pt x="8102" y="10800"/>
                </a:moveTo>
                <a:lnTo>
                  <a:pt x="18608" y="3794"/>
                </a:lnTo>
                <a:lnTo>
                  <a:pt x="18608" y="17806"/>
                </a:lnTo>
                <a:close/>
              </a:path>
              <a:path fill="darken" w="23202" h="21600">
                <a:moveTo>
                  <a:pt x="4595" y="3794"/>
                </a:moveTo>
                <a:lnTo>
                  <a:pt x="6257" y="3794"/>
                </a:lnTo>
                <a:lnTo>
                  <a:pt x="6257" y="17806"/>
                </a:lnTo>
                <a:lnTo>
                  <a:pt x="4595" y="17806"/>
                </a:lnTo>
                <a:close/>
              </a:path>
            </a:pathLst>
          </a:custGeom>
          <a:gradFill rotWithShape="0">
            <a:gsLst>
              <a:gs pos="0">
                <a:srgbClr val="969696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" name="AutoShape 23">
            <a:hlinkClick r:id="rId2" action="ppaction://hlinksldjump"/>
          </p:cNvPr>
          <p:cNvSpPr/>
          <p:nvPr/>
        </p:nvSpPr>
        <p:spPr>
          <a:xfrm>
            <a:off x="6269040" y="6324480"/>
            <a:ext cx="573120" cy="533520"/>
          </a:xfrm>
          <a:custGeom>
            <a:avLst/>
            <a:gdLst>
              <a:gd name="textAreaLeft" fmla="*/ 34560 w 573120"/>
              <a:gd name="textAreaRight" fmla="*/ 538560 w 5731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3202" h="21600">
                <a:moveTo>
                  <a:pt x="0" y="0"/>
                </a:moveTo>
                <a:lnTo>
                  <a:pt x="23202" y="0"/>
                </a:lnTo>
                <a:lnTo>
                  <a:pt x="23202" y="21600"/>
                </a:lnTo>
                <a:lnTo>
                  <a:pt x="0" y="21600"/>
                </a:lnTo>
                <a:close/>
              </a:path>
              <a:path fill="lightenLess" w="23202" h="21600">
                <a:moveTo>
                  <a:pt x="0" y="0"/>
                </a:moveTo>
                <a:lnTo>
                  <a:pt x="23202" y="0"/>
                </a:lnTo>
                <a:lnTo>
                  <a:pt x="21802" y="1400"/>
                </a:lnTo>
                <a:lnTo>
                  <a:pt x="1400" y="1400"/>
                </a:lnTo>
                <a:close/>
              </a:path>
              <a:path fill="darken" w="23202" h="21600">
                <a:moveTo>
                  <a:pt x="23202" y="0"/>
                </a:moveTo>
                <a:lnTo>
                  <a:pt x="23202" y="21600"/>
                </a:lnTo>
                <a:lnTo>
                  <a:pt x="21802" y="20200"/>
                </a:lnTo>
                <a:lnTo>
                  <a:pt x="21802" y="1400"/>
                </a:lnTo>
                <a:close/>
              </a:path>
              <a:path fill="darkenLess" w="23202" h="21600">
                <a:moveTo>
                  <a:pt x="23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802" y="20200"/>
                </a:lnTo>
                <a:close/>
              </a:path>
              <a:path fill="lighten" w="23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202" h="21600">
                <a:moveTo>
                  <a:pt x="15100" y="10800"/>
                </a:moveTo>
                <a:lnTo>
                  <a:pt x="4595" y="17806"/>
                </a:lnTo>
                <a:lnTo>
                  <a:pt x="4595" y="3794"/>
                </a:lnTo>
                <a:close/>
              </a:path>
              <a:path fill="darken" w="23202" h="21600">
                <a:moveTo>
                  <a:pt x="16945" y="3794"/>
                </a:moveTo>
                <a:lnTo>
                  <a:pt x="16945" y="17806"/>
                </a:lnTo>
                <a:lnTo>
                  <a:pt x="18608" y="17806"/>
                </a:lnTo>
                <a:lnTo>
                  <a:pt x="18608" y="3794"/>
                </a:lnTo>
                <a:close/>
              </a:path>
            </a:pathLst>
          </a:custGeom>
          <a:gradFill rotWithShape="0">
            <a:gsLst>
              <a:gs pos="0">
                <a:srgbClr val="969696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4" name="AutoShape 24">
            <a:hlinkClick r:id="" action="ppaction://hlinkshowjump?jump=endshow"/>
          </p:cNvPr>
          <p:cNvSpPr/>
          <p:nvPr/>
        </p:nvSpPr>
        <p:spPr>
          <a:xfrm>
            <a:off x="4343400" y="6324480"/>
            <a:ext cx="609480" cy="53352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73" h="21600">
                <a:moveTo>
                  <a:pt x="0" y="0"/>
                </a:moveTo>
                <a:lnTo>
                  <a:pt x="24673" y="0"/>
                </a:lnTo>
                <a:lnTo>
                  <a:pt x="24673" y="21600"/>
                </a:lnTo>
                <a:lnTo>
                  <a:pt x="0" y="21600"/>
                </a:lnTo>
                <a:close/>
              </a:path>
              <a:path fill="lightenLess" w="24673" h="21600">
                <a:moveTo>
                  <a:pt x="0" y="0"/>
                </a:moveTo>
                <a:lnTo>
                  <a:pt x="24673" y="0"/>
                </a:lnTo>
                <a:lnTo>
                  <a:pt x="23273" y="1400"/>
                </a:lnTo>
                <a:lnTo>
                  <a:pt x="1400" y="1400"/>
                </a:lnTo>
                <a:close/>
              </a:path>
              <a:path fill="darken" w="24673" h="21600">
                <a:moveTo>
                  <a:pt x="24673" y="0"/>
                </a:moveTo>
                <a:lnTo>
                  <a:pt x="24673" y="21600"/>
                </a:lnTo>
                <a:lnTo>
                  <a:pt x="23273" y="20200"/>
                </a:lnTo>
                <a:lnTo>
                  <a:pt x="23273" y="1400"/>
                </a:lnTo>
                <a:close/>
              </a:path>
              <a:path fill="darkenLess" w="24673" h="21600">
                <a:moveTo>
                  <a:pt x="246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3" y="20200"/>
                </a:lnTo>
                <a:close/>
              </a:path>
              <a:path fill="lighten" w="246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73" h="21600">
                <a:moveTo>
                  <a:pt x="5330" y="7493"/>
                </a:moveTo>
                <a:lnTo>
                  <a:pt x="8838" y="7493"/>
                </a:lnTo>
                <a:lnTo>
                  <a:pt x="8838" y="12828"/>
                </a:lnTo>
                <a:cubicBezTo>
                  <a:pt x="8838" y="13751"/>
                  <a:pt x="9638" y="14482"/>
                  <a:pt x="10674" y="14482"/>
                </a:cubicBezTo>
                <a:lnTo>
                  <a:pt x="12337" y="14482"/>
                </a:lnTo>
                <a:cubicBezTo>
                  <a:pt x="13372" y="14482"/>
                  <a:pt x="14173" y="13751"/>
                  <a:pt x="14173" y="12828"/>
                </a:cubicBezTo>
                <a:lnTo>
                  <a:pt x="14173" y="7493"/>
                </a:lnTo>
                <a:lnTo>
                  <a:pt x="12337" y="7493"/>
                </a:lnTo>
                <a:lnTo>
                  <a:pt x="15844" y="3985"/>
                </a:lnTo>
                <a:lnTo>
                  <a:pt x="19517" y="7493"/>
                </a:lnTo>
                <a:lnTo>
                  <a:pt x="17681" y="7493"/>
                </a:lnTo>
                <a:lnTo>
                  <a:pt x="17681" y="12828"/>
                </a:lnTo>
                <a:cubicBezTo>
                  <a:pt x="17681" y="15596"/>
                  <a:pt x="15104" y="18155"/>
                  <a:pt x="12337" y="18155"/>
                </a:cubicBezTo>
                <a:lnTo>
                  <a:pt x="10674" y="18155"/>
                </a:lnTo>
                <a:cubicBezTo>
                  <a:pt x="7906" y="18155"/>
                  <a:pt x="5330" y="15596"/>
                  <a:pt x="5330" y="12828"/>
                </a:cubicBezTo>
                <a:close/>
              </a:path>
            </a:pathLst>
          </a:custGeom>
          <a:gradFill rotWithShape="0">
            <a:gsLst>
              <a:gs pos="0">
                <a:srgbClr val="969696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0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5" name="Rectangle 13"/>
          <p:cNvGrpSpPr/>
          <p:nvPr/>
        </p:nvGrpSpPr>
        <p:grpSpPr>
          <a:xfrm>
            <a:off x="2590920" y="304920"/>
            <a:ext cx="4267080" cy="841320"/>
            <a:chOff x="2590920" y="304920"/>
            <a:chExt cx="4267080" cy="841320"/>
          </a:xfrm>
        </p:grpSpPr>
        <p:pic>
          <p:nvPicPr>
            <p:cNvPr id="316" name="Rectangle 13" descr=""/>
            <p:cNvPicPr/>
            <p:nvPr/>
          </p:nvPicPr>
          <p:blipFill>
            <a:blip r:embed="rId1"/>
            <a:stretch/>
          </p:blipFill>
          <p:spPr>
            <a:xfrm>
              <a:off x="2590920" y="304920"/>
              <a:ext cx="426708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7" name=""/>
            <p:cNvSpPr/>
            <p:nvPr/>
          </p:nvSpPr>
          <p:spPr>
            <a:xfrm>
              <a:off x="2590920" y="304920"/>
              <a:ext cx="426708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ff0000"/>
                  </a:solidFill>
                  <a:latin typeface="Franklin Gothic Medium"/>
                </a:rPr>
                <a:t>ПРАВИЛО 10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18" name=""/>
          <p:cNvSpPr txBox="1"/>
          <p:nvPr/>
        </p:nvSpPr>
        <p:spPr>
          <a:xfrm>
            <a:off x="609120" y="1752120"/>
            <a:ext cx="7696440" cy="29718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797b7e"/>
              </a:gs>
            </a:gsLst>
            <a:lin ang="2700000"/>
          </a:gra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Arial Black"/>
              </a:rPr>
              <a:t>Мелкий шрифт вреден для глаз. Задайте масштаб изображения 120 - 150%. Масштабирование никак не повлияет на реальные параметры вашего текста. </a:t>
            </a:r>
            <a:endParaRPr b="1" lang="en-US" sz="33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319" name="Picture 20" descr="MAGNIFY"/>
          <p:cNvPicPr/>
          <p:nvPr/>
        </p:nvPicPr>
        <p:blipFill>
          <a:blip r:embed="rId2"/>
          <a:stretch/>
        </p:blipFill>
        <p:spPr>
          <a:xfrm>
            <a:off x="3581280" y="4724280"/>
            <a:ext cx="1600200" cy="1397160"/>
          </a:xfrm>
          <a:prstGeom prst="rect">
            <a:avLst/>
          </a:prstGeom>
          <a:ln w="0">
            <a:noFill/>
          </a:ln>
        </p:spPr>
      </p:pic>
      <p:sp>
        <p:nvSpPr>
          <p:cNvPr id="320" name="AutoShape 21">
            <a:hlinkClick r:id="" action="ppaction://hlinkshowjump?jump=nextslide"/>
          </p:cNvPr>
          <p:cNvSpPr/>
          <p:nvPr/>
        </p:nvSpPr>
        <p:spPr>
          <a:xfrm>
            <a:off x="8418600" y="6324480"/>
            <a:ext cx="573120" cy="533520"/>
          </a:xfrm>
          <a:custGeom>
            <a:avLst/>
            <a:gdLst>
              <a:gd name="textAreaLeft" fmla="*/ 34560 w 573120"/>
              <a:gd name="textAreaRight" fmla="*/ 538560 w 5731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3202" h="21600">
                <a:moveTo>
                  <a:pt x="0" y="0"/>
                </a:moveTo>
                <a:lnTo>
                  <a:pt x="23202" y="0"/>
                </a:lnTo>
                <a:lnTo>
                  <a:pt x="23202" y="21600"/>
                </a:lnTo>
                <a:lnTo>
                  <a:pt x="0" y="21600"/>
                </a:lnTo>
                <a:close/>
              </a:path>
              <a:path fill="lightenLess" w="23202" h="21600">
                <a:moveTo>
                  <a:pt x="0" y="0"/>
                </a:moveTo>
                <a:lnTo>
                  <a:pt x="23202" y="0"/>
                </a:lnTo>
                <a:lnTo>
                  <a:pt x="21802" y="1400"/>
                </a:lnTo>
                <a:lnTo>
                  <a:pt x="1400" y="1400"/>
                </a:lnTo>
                <a:close/>
              </a:path>
              <a:path fill="darken" w="23202" h="21600">
                <a:moveTo>
                  <a:pt x="23202" y="0"/>
                </a:moveTo>
                <a:lnTo>
                  <a:pt x="23202" y="21600"/>
                </a:lnTo>
                <a:lnTo>
                  <a:pt x="21802" y="20200"/>
                </a:lnTo>
                <a:lnTo>
                  <a:pt x="21802" y="1400"/>
                </a:lnTo>
                <a:close/>
              </a:path>
              <a:path fill="darkenLess" w="23202" h="21600">
                <a:moveTo>
                  <a:pt x="23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802" y="20200"/>
                </a:lnTo>
                <a:close/>
              </a:path>
              <a:path fill="lighten" w="23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202" h="21600">
                <a:moveTo>
                  <a:pt x="4595" y="3794"/>
                </a:moveTo>
                <a:lnTo>
                  <a:pt x="18608" y="10800"/>
                </a:lnTo>
                <a:lnTo>
                  <a:pt x="4595" y="17806"/>
                </a:lnTo>
                <a:close/>
              </a:path>
            </a:pathLst>
          </a:custGeom>
          <a:gradFill rotWithShape="0">
            <a:gsLst>
              <a:gs pos="0">
                <a:srgbClr val="969696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" name="AutoShape 22">
            <a:hlinkClick r:id="" action="ppaction://hlinkshowjump?jump=previousslide"/>
          </p:cNvPr>
          <p:cNvSpPr/>
          <p:nvPr/>
        </p:nvSpPr>
        <p:spPr>
          <a:xfrm>
            <a:off x="7631280" y="6324480"/>
            <a:ext cx="572760" cy="533520"/>
          </a:xfrm>
          <a:custGeom>
            <a:avLst/>
            <a:gdLst>
              <a:gd name="textAreaLeft" fmla="*/ 34560 w 572760"/>
              <a:gd name="textAreaRight" fmla="*/ 538200 w 57276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3188" h="21600">
                <a:moveTo>
                  <a:pt x="0" y="0"/>
                </a:moveTo>
                <a:lnTo>
                  <a:pt x="23188" y="0"/>
                </a:lnTo>
                <a:lnTo>
                  <a:pt x="23188" y="21600"/>
                </a:lnTo>
                <a:lnTo>
                  <a:pt x="0" y="21600"/>
                </a:lnTo>
                <a:close/>
              </a:path>
              <a:path fill="lightenLess" w="23188" h="21600">
                <a:moveTo>
                  <a:pt x="0" y="0"/>
                </a:moveTo>
                <a:lnTo>
                  <a:pt x="23188" y="0"/>
                </a:lnTo>
                <a:lnTo>
                  <a:pt x="21788" y="1400"/>
                </a:lnTo>
                <a:lnTo>
                  <a:pt x="1400" y="1400"/>
                </a:lnTo>
                <a:close/>
              </a:path>
              <a:path fill="darken" w="23188" h="21600">
                <a:moveTo>
                  <a:pt x="23188" y="0"/>
                </a:moveTo>
                <a:lnTo>
                  <a:pt x="23188" y="21600"/>
                </a:lnTo>
                <a:lnTo>
                  <a:pt x="21788" y="20200"/>
                </a:lnTo>
                <a:lnTo>
                  <a:pt x="21788" y="1400"/>
                </a:lnTo>
                <a:close/>
              </a:path>
              <a:path fill="darkenLess" w="23188" h="21600">
                <a:moveTo>
                  <a:pt x="231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788" y="20200"/>
                </a:lnTo>
                <a:close/>
              </a:path>
              <a:path fill="lighten" w="231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188" h="21600">
                <a:moveTo>
                  <a:pt x="4587" y="10800"/>
                </a:moveTo>
                <a:lnTo>
                  <a:pt x="18600" y="3794"/>
                </a:lnTo>
                <a:lnTo>
                  <a:pt x="18600" y="17806"/>
                </a:lnTo>
                <a:close/>
              </a:path>
            </a:pathLst>
          </a:custGeom>
          <a:gradFill rotWithShape="0">
            <a:gsLst>
              <a:gs pos="0">
                <a:srgbClr val="969696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AutoShape 23">
            <a:hlinkClick r:id="" action="ppaction://hlinkshowjump?jump=firstslide"/>
          </p:cNvPr>
          <p:cNvSpPr/>
          <p:nvPr/>
        </p:nvSpPr>
        <p:spPr>
          <a:xfrm>
            <a:off x="5410080" y="6324480"/>
            <a:ext cx="573120" cy="533520"/>
          </a:xfrm>
          <a:custGeom>
            <a:avLst/>
            <a:gdLst>
              <a:gd name="textAreaLeft" fmla="*/ 34560 w 573120"/>
              <a:gd name="textAreaRight" fmla="*/ 538560 w 5731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3202" h="21600">
                <a:moveTo>
                  <a:pt x="0" y="0"/>
                </a:moveTo>
                <a:lnTo>
                  <a:pt x="23202" y="0"/>
                </a:lnTo>
                <a:lnTo>
                  <a:pt x="23202" y="21600"/>
                </a:lnTo>
                <a:lnTo>
                  <a:pt x="0" y="21600"/>
                </a:lnTo>
                <a:close/>
              </a:path>
              <a:path fill="lightenLess" w="23202" h="21600">
                <a:moveTo>
                  <a:pt x="0" y="0"/>
                </a:moveTo>
                <a:lnTo>
                  <a:pt x="23202" y="0"/>
                </a:lnTo>
                <a:lnTo>
                  <a:pt x="21802" y="1400"/>
                </a:lnTo>
                <a:lnTo>
                  <a:pt x="1400" y="1400"/>
                </a:lnTo>
                <a:close/>
              </a:path>
              <a:path fill="darken" w="23202" h="21600">
                <a:moveTo>
                  <a:pt x="23202" y="0"/>
                </a:moveTo>
                <a:lnTo>
                  <a:pt x="23202" y="21600"/>
                </a:lnTo>
                <a:lnTo>
                  <a:pt x="21802" y="20200"/>
                </a:lnTo>
                <a:lnTo>
                  <a:pt x="21802" y="1400"/>
                </a:lnTo>
                <a:close/>
              </a:path>
              <a:path fill="darkenLess" w="23202" h="21600">
                <a:moveTo>
                  <a:pt x="23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802" y="20200"/>
                </a:lnTo>
                <a:close/>
              </a:path>
              <a:path fill="lighten" w="23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202" h="21600">
                <a:moveTo>
                  <a:pt x="8102" y="10800"/>
                </a:moveTo>
                <a:lnTo>
                  <a:pt x="18608" y="3794"/>
                </a:lnTo>
                <a:lnTo>
                  <a:pt x="18608" y="17806"/>
                </a:lnTo>
                <a:close/>
              </a:path>
              <a:path fill="darken" w="23202" h="21600">
                <a:moveTo>
                  <a:pt x="4595" y="3794"/>
                </a:moveTo>
                <a:lnTo>
                  <a:pt x="6257" y="3794"/>
                </a:lnTo>
                <a:lnTo>
                  <a:pt x="6257" y="17806"/>
                </a:lnTo>
                <a:lnTo>
                  <a:pt x="4595" y="17806"/>
                </a:lnTo>
                <a:close/>
              </a:path>
            </a:pathLst>
          </a:custGeom>
          <a:gradFill rotWithShape="0">
            <a:gsLst>
              <a:gs pos="0">
                <a:srgbClr val="969696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3" name="AutoShape 24">
            <a:hlinkClick r:id="rId3" action="ppaction://hlinksldjump"/>
          </p:cNvPr>
          <p:cNvSpPr/>
          <p:nvPr/>
        </p:nvSpPr>
        <p:spPr>
          <a:xfrm>
            <a:off x="6269040" y="6324480"/>
            <a:ext cx="573120" cy="533520"/>
          </a:xfrm>
          <a:custGeom>
            <a:avLst/>
            <a:gdLst>
              <a:gd name="textAreaLeft" fmla="*/ 34560 w 573120"/>
              <a:gd name="textAreaRight" fmla="*/ 538560 w 5731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3202" h="21600">
                <a:moveTo>
                  <a:pt x="0" y="0"/>
                </a:moveTo>
                <a:lnTo>
                  <a:pt x="23202" y="0"/>
                </a:lnTo>
                <a:lnTo>
                  <a:pt x="23202" y="21600"/>
                </a:lnTo>
                <a:lnTo>
                  <a:pt x="0" y="21600"/>
                </a:lnTo>
                <a:close/>
              </a:path>
              <a:path fill="lightenLess" w="23202" h="21600">
                <a:moveTo>
                  <a:pt x="0" y="0"/>
                </a:moveTo>
                <a:lnTo>
                  <a:pt x="23202" y="0"/>
                </a:lnTo>
                <a:lnTo>
                  <a:pt x="21802" y="1400"/>
                </a:lnTo>
                <a:lnTo>
                  <a:pt x="1400" y="1400"/>
                </a:lnTo>
                <a:close/>
              </a:path>
              <a:path fill="darken" w="23202" h="21600">
                <a:moveTo>
                  <a:pt x="23202" y="0"/>
                </a:moveTo>
                <a:lnTo>
                  <a:pt x="23202" y="21600"/>
                </a:lnTo>
                <a:lnTo>
                  <a:pt x="21802" y="20200"/>
                </a:lnTo>
                <a:lnTo>
                  <a:pt x="21802" y="1400"/>
                </a:lnTo>
                <a:close/>
              </a:path>
              <a:path fill="darkenLess" w="23202" h="21600">
                <a:moveTo>
                  <a:pt x="23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802" y="20200"/>
                </a:lnTo>
                <a:close/>
              </a:path>
              <a:path fill="lighten" w="23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202" h="21600">
                <a:moveTo>
                  <a:pt x="15100" y="10800"/>
                </a:moveTo>
                <a:lnTo>
                  <a:pt x="4595" y="17806"/>
                </a:lnTo>
                <a:lnTo>
                  <a:pt x="4595" y="3794"/>
                </a:lnTo>
                <a:close/>
              </a:path>
              <a:path fill="darken" w="23202" h="21600">
                <a:moveTo>
                  <a:pt x="16945" y="3794"/>
                </a:moveTo>
                <a:lnTo>
                  <a:pt x="16945" y="17806"/>
                </a:lnTo>
                <a:lnTo>
                  <a:pt x="18608" y="17806"/>
                </a:lnTo>
                <a:lnTo>
                  <a:pt x="18608" y="3794"/>
                </a:lnTo>
                <a:close/>
              </a:path>
            </a:pathLst>
          </a:custGeom>
          <a:gradFill rotWithShape="0">
            <a:gsLst>
              <a:gs pos="0">
                <a:srgbClr val="969696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" name="AutoShape 25">
            <a:hlinkClick r:id="" action="ppaction://hlinkshowjump?jump=endshow"/>
          </p:cNvPr>
          <p:cNvSpPr/>
          <p:nvPr/>
        </p:nvSpPr>
        <p:spPr>
          <a:xfrm>
            <a:off x="4343400" y="6324480"/>
            <a:ext cx="609480" cy="53352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73" h="21600">
                <a:moveTo>
                  <a:pt x="0" y="0"/>
                </a:moveTo>
                <a:lnTo>
                  <a:pt x="24673" y="0"/>
                </a:lnTo>
                <a:lnTo>
                  <a:pt x="24673" y="21600"/>
                </a:lnTo>
                <a:lnTo>
                  <a:pt x="0" y="21600"/>
                </a:lnTo>
                <a:close/>
              </a:path>
              <a:path fill="lightenLess" w="24673" h="21600">
                <a:moveTo>
                  <a:pt x="0" y="0"/>
                </a:moveTo>
                <a:lnTo>
                  <a:pt x="24673" y="0"/>
                </a:lnTo>
                <a:lnTo>
                  <a:pt x="23273" y="1400"/>
                </a:lnTo>
                <a:lnTo>
                  <a:pt x="1400" y="1400"/>
                </a:lnTo>
                <a:close/>
              </a:path>
              <a:path fill="darken" w="24673" h="21600">
                <a:moveTo>
                  <a:pt x="24673" y="0"/>
                </a:moveTo>
                <a:lnTo>
                  <a:pt x="24673" y="21600"/>
                </a:lnTo>
                <a:lnTo>
                  <a:pt x="23273" y="20200"/>
                </a:lnTo>
                <a:lnTo>
                  <a:pt x="23273" y="1400"/>
                </a:lnTo>
                <a:close/>
              </a:path>
              <a:path fill="darkenLess" w="24673" h="21600">
                <a:moveTo>
                  <a:pt x="246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3" y="20200"/>
                </a:lnTo>
                <a:close/>
              </a:path>
              <a:path fill="lighten" w="246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73" h="21600">
                <a:moveTo>
                  <a:pt x="5330" y="7493"/>
                </a:moveTo>
                <a:lnTo>
                  <a:pt x="8838" y="7493"/>
                </a:lnTo>
                <a:lnTo>
                  <a:pt x="8838" y="12828"/>
                </a:lnTo>
                <a:cubicBezTo>
                  <a:pt x="8838" y="13751"/>
                  <a:pt x="9638" y="14482"/>
                  <a:pt x="10674" y="14482"/>
                </a:cubicBezTo>
                <a:lnTo>
                  <a:pt x="12337" y="14482"/>
                </a:lnTo>
                <a:cubicBezTo>
                  <a:pt x="13372" y="14482"/>
                  <a:pt x="14173" y="13751"/>
                  <a:pt x="14173" y="12828"/>
                </a:cubicBezTo>
                <a:lnTo>
                  <a:pt x="14173" y="7493"/>
                </a:lnTo>
                <a:lnTo>
                  <a:pt x="12337" y="7493"/>
                </a:lnTo>
                <a:lnTo>
                  <a:pt x="15844" y="3985"/>
                </a:lnTo>
                <a:lnTo>
                  <a:pt x="19517" y="7493"/>
                </a:lnTo>
                <a:lnTo>
                  <a:pt x="17681" y="7493"/>
                </a:lnTo>
                <a:lnTo>
                  <a:pt x="17681" y="12828"/>
                </a:lnTo>
                <a:cubicBezTo>
                  <a:pt x="17681" y="15596"/>
                  <a:pt x="15104" y="18155"/>
                  <a:pt x="12337" y="18155"/>
                </a:cubicBezTo>
                <a:lnTo>
                  <a:pt x="10674" y="18155"/>
                </a:lnTo>
                <a:cubicBezTo>
                  <a:pt x="7906" y="18155"/>
                  <a:pt x="5330" y="15596"/>
                  <a:pt x="5330" y="12828"/>
                </a:cubicBezTo>
                <a:close/>
              </a:path>
            </a:pathLst>
          </a:custGeom>
          <a:gradFill rotWithShape="0">
            <a:gsLst>
              <a:gs pos="0">
                <a:srgbClr val="969696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0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5" name="Rectangle 13"/>
          <p:cNvGrpSpPr/>
          <p:nvPr/>
        </p:nvGrpSpPr>
        <p:grpSpPr>
          <a:xfrm>
            <a:off x="2590920" y="304920"/>
            <a:ext cx="4267080" cy="841320"/>
            <a:chOff x="2590920" y="304920"/>
            <a:chExt cx="4267080" cy="841320"/>
          </a:xfrm>
        </p:grpSpPr>
        <p:pic>
          <p:nvPicPr>
            <p:cNvPr id="326" name="Rectangle 13" descr=""/>
            <p:cNvPicPr/>
            <p:nvPr/>
          </p:nvPicPr>
          <p:blipFill>
            <a:blip r:embed="rId1"/>
            <a:stretch/>
          </p:blipFill>
          <p:spPr>
            <a:xfrm>
              <a:off x="2590920" y="304920"/>
              <a:ext cx="426708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7" name=""/>
            <p:cNvSpPr/>
            <p:nvPr/>
          </p:nvSpPr>
          <p:spPr>
            <a:xfrm>
              <a:off x="2590920" y="304920"/>
              <a:ext cx="426708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ff0000"/>
                  </a:solidFill>
                  <a:latin typeface="Franklin Gothic Medium"/>
                </a:rPr>
                <a:t>ПРАВИЛО 11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28" name=""/>
          <p:cNvSpPr txBox="1"/>
          <p:nvPr/>
        </p:nvSpPr>
        <p:spPr>
          <a:xfrm>
            <a:off x="3962520" y="1904760"/>
            <a:ext cx="4495680" cy="28954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797b7e"/>
              </a:gs>
            </a:gsLst>
            <a:lin ang="2700000"/>
          </a:gradFill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Black"/>
              </a:rPr>
              <a:t>     </a:t>
            </a:r>
            <a:r>
              <a:rPr b="1" lang="ru-RU" sz="2800" spc="-1" strike="noStrike">
                <a:solidFill>
                  <a:srgbClr val="000000"/>
                </a:solidFill>
                <a:latin typeface="Arial Black"/>
              </a:rPr>
              <a:t>Монитор должен находиться от вас на расстоянии 60 - 70 см       на 20 градусов ниже уровня глаз. 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9" name="AutoShape 35">
            <a:hlinkClick r:id="" action="ppaction://hlinkshowjump?jump=nextslide"/>
          </p:cNvPr>
          <p:cNvSpPr/>
          <p:nvPr/>
        </p:nvSpPr>
        <p:spPr>
          <a:xfrm>
            <a:off x="8418600" y="6324480"/>
            <a:ext cx="573120" cy="533520"/>
          </a:xfrm>
          <a:custGeom>
            <a:avLst/>
            <a:gdLst>
              <a:gd name="textAreaLeft" fmla="*/ 34560 w 573120"/>
              <a:gd name="textAreaRight" fmla="*/ 538560 w 5731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3202" h="21600">
                <a:moveTo>
                  <a:pt x="0" y="0"/>
                </a:moveTo>
                <a:lnTo>
                  <a:pt x="23202" y="0"/>
                </a:lnTo>
                <a:lnTo>
                  <a:pt x="23202" y="21600"/>
                </a:lnTo>
                <a:lnTo>
                  <a:pt x="0" y="21600"/>
                </a:lnTo>
                <a:close/>
              </a:path>
              <a:path fill="lightenLess" w="23202" h="21600">
                <a:moveTo>
                  <a:pt x="0" y="0"/>
                </a:moveTo>
                <a:lnTo>
                  <a:pt x="23202" y="0"/>
                </a:lnTo>
                <a:lnTo>
                  <a:pt x="21802" y="1400"/>
                </a:lnTo>
                <a:lnTo>
                  <a:pt x="1400" y="1400"/>
                </a:lnTo>
                <a:close/>
              </a:path>
              <a:path fill="darken" w="23202" h="21600">
                <a:moveTo>
                  <a:pt x="23202" y="0"/>
                </a:moveTo>
                <a:lnTo>
                  <a:pt x="23202" y="21600"/>
                </a:lnTo>
                <a:lnTo>
                  <a:pt x="21802" y="20200"/>
                </a:lnTo>
                <a:lnTo>
                  <a:pt x="21802" y="1400"/>
                </a:lnTo>
                <a:close/>
              </a:path>
              <a:path fill="darkenLess" w="23202" h="21600">
                <a:moveTo>
                  <a:pt x="23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802" y="20200"/>
                </a:lnTo>
                <a:close/>
              </a:path>
              <a:path fill="lighten" w="23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202" h="21600">
                <a:moveTo>
                  <a:pt x="4595" y="3794"/>
                </a:moveTo>
                <a:lnTo>
                  <a:pt x="18608" y="10800"/>
                </a:lnTo>
                <a:lnTo>
                  <a:pt x="4595" y="17806"/>
                </a:lnTo>
                <a:close/>
              </a:path>
            </a:pathLst>
          </a:custGeom>
          <a:gradFill rotWithShape="0">
            <a:gsLst>
              <a:gs pos="0">
                <a:srgbClr val="969696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0" name="AutoShape 36">
            <a:hlinkClick r:id="" action="ppaction://hlinkshowjump?jump=previousslide"/>
          </p:cNvPr>
          <p:cNvSpPr/>
          <p:nvPr/>
        </p:nvSpPr>
        <p:spPr>
          <a:xfrm>
            <a:off x="7631280" y="6324480"/>
            <a:ext cx="572760" cy="533520"/>
          </a:xfrm>
          <a:custGeom>
            <a:avLst/>
            <a:gdLst>
              <a:gd name="textAreaLeft" fmla="*/ 34560 w 572760"/>
              <a:gd name="textAreaRight" fmla="*/ 538200 w 57276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3188" h="21600">
                <a:moveTo>
                  <a:pt x="0" y="0"/>
                </a:moveTo>
                <a:lnTo>
                  <a:pt x="23188" y="0"/>
                </a:lnTo>
                <a:lnTo>
                  <a:pt x="23188" y="21600"/>
                </a:lnTo>
                <a:lnTo>
                  <a:pt x="0" y="21600"/>
                </a:lnTo>
                <a:close/>
              </a:path>
              <a:path fill="lightenLess" w="23188" h="21600">
                <a:moveTo>
                  <a:pt x="0" y="0"/>
                </a:moveTo>
                <a:lnTo>
                  <a:pt x="23188" y="0"/>
                </a:lnTo>
                <a:lnTo>
                  <a:pt x="21788" y="1400"/>
                </a:lnTo>
                <a:lnTo>
                  <a:pt x="1400" y="1400"/>
                </a:lnTo>
                <a:close/>
              </a:path>
              <a:path fill="darken" w="23188" h="21600">
                <a:moveTo>
                  <a:pt x="23188" y="0"/>
                </a:moveTo>
                <a:lnTo>
                  <a:pt x="23188" y="21600"/>
                </a:lnTo>
                <a:lnTo>
                  <a:pt x="21788" y="20200"/>
                </a:lnTo>
                <a:lnTo>
                  <a:pt x="21788" y="1400"/>
                </a:lnTo>
                <a:close/>
              </a:path>
              <a:path fill="darkenLess" w="23188" h="21600">
                <a:moveTo>
                  <a:pt x="231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788" y="20200"/>
                </a:lnTo>
                <a:close/>
              </a:path>
              <a:path fill="lighten" w="231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188" h="21600">
                <a:moveTo>
                  <a:pt x="4587" y="10800"/>
                </a:moveTo>
                <a:lnTo>
                  <a:pt x="18600" y="3794"/>
                </a:lnTo>
                <a:lnTo>
                  <a:pt x="18600" y="17806"/>
                </a:lnTo>
                <a:close/>
              </a:path>
            </a:pathLst>
          </a:custGeom>
          <a:gradFill rotWithShape="0">
            <a:gsLst>
              <a:gs pos="0">
                <a:srgbClr val="969696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1" name="AutoShape 37">
            <a:hlinkClick r:id="" action="ppaction://hlinkshowjump?jump=firstslide"/>
          </p:cNvPr>
          <p:cNvSpPr/>
          <p:nvPr/>
        </p:nvSpPr>
        <p:spPr>
          <a:xfrm>
            <a:off x="5410080" y="6324480"/>
            <a:ext cx="573120" cy="533520"/>
          </a:xfrm>
          <a:custGeom>
            <a:avLst/>
            <a:gdLst>
              <a:gd name="textAreaLeft" fmla="*/ 34560 w 573120"/>
              <a:gd name="textAreaRight" fmla="*/ 538560 w 5731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3202" h="21600">
                <a:moveTo>
                  <a:pt x="0" y="0"/>
                </a:moveTo>
                <a:lnTo>
                  <a:pt x="23202" y="0"/>
                </a:lnTo>
                <a:lnTo>
                  <a:pt x="23202" y="21600"/>
                </a:lnTo>
                <a:lnTo>
                  <a:pt x="0" y="21600"/>
                </a:lnTo>
                <a:close/>
              </a:path>
              <a:path fill="lightenLess" w="23202" h="21600">
                <a:moveTo>
                  <a:pt x="0" y="0"/>
                </a:moveTo>
                <a:lnTo>
                  <a:pt x="23202" y="0"/>
                </a:lnTo>
                <a:lnTo>
                  <a:pt x="21802" y="1400"/>
                </a:lnTo>
                <a:lnTo>
                  <a:pt x="1400" y="1400"/>
                </a:lnTo>
                <a:close/>
              </a:path>
              <a:path fill="darken" w="23202" h="21600">
                <a:moveTo>
                  <a:pt x="23202" y="0"/>
                </a:moveTo>
                <a:lnTo>
                  <a:pt x="23202" y="21600"/>
                </a:lnTo>
                <a:lnTo>
                  <a:pt x="21802" y="20200"/>
                </a:lnTo>
                <a:lnTo>
                  <a:pt x="21802" y="1400"/>
                </a:lnTo>
                <a:close/>
              </a:path>
              <a:path fill="darkenLess" w="23202" h="21600">
                <a:moveTo>
                  <a:pt x="23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802" y="20200"/>
                </a:lnTo>
                <a:close/>
              </a:path>
              <a:path fill="lighten" w="23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202" h="21600">
                <a:moveTo>
                  <a:pt x="8102" y="10800"/>
                </a:moveTo>
                <a:lnTo>
                  <a:pt x="18608" y="3794"/>
                </a:lnTo>
                <a:lnTo>
                  <a:pt x="18608" y="17806"/>
                </a:lnTo>
                <a:close/>
              </a:path>
              <a:path fill="darken" w="23202" h="21600">
                <a:moveTo>
                  <a:pt x="4595" y="3794"/>
                </a:moveTo>
                <a:lnTo>
                  <a:pt x="6257" y="3794"/>
                </a:lnTo>
                <a:lnTo>
                  <a:pt x="6257" y="17806"/>
                </a:lnTo>
                <a:lnTo>
                  <a:pt x="4595" y="17806"/>
                </a:lnTo>
                <a:close/>
              </a:path>
            </a:pathLst>
          </a:custGeom>
          <a:gradFill rotWithShape="0">
            <a:gsLst>
              <a:gs pos="0">
                <a:srgbClr val="969696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" name="AutoShape 38">
            <a:hlinkClick r:id="rId2" action="ppaction://hlinksldjump"/>
          </p:cNvPr>
          <p:cNvSpPr/>
          <p:nvPr/>
        </p:nvSpPr>
        <p:spPr>
          <a:xfrm>
            <a:off x="6269040" y="6324480"/>
            <a:ext cx="573120" cy="533520"/>
          </a:xfrm>
          <a:custGeom>
            <a:avLst/>
            <a:gdLst>
              <a:gd name="textAreaLeft" fmla="*/ 34560 w 573120"/>
              <a:gd name="textAreaRight" fmla="*/ 538560 w 5731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3202" h="21600">
                <a:moveTo>
                  <a:pt x="0" y="0"/>
                </a:moveTo>
                <a:lnTo>
                  <a:pt x="23202" y="0"/>
                </a:lnTo>
                <a:lnTo>
                  <a:pt x="23202" y="21600"/>
                </a:lnTo>
                <a:lnTo>
                  <a:pt x="0" y="21600"/>
                </a:lnTo>
                <a:close/>
              </a:path>
              <a:path fill="lightenLess" w="23202" h="21600">
                <a:moveTo>
                  <a:pt x="0" y="0"/>
                </a:moveTo>
                <a:lnTo>
                  <a:pt x="23202" y="0"/>
                </a:lnTo>
                <a:lnTo>
                  <a:pt x="21802" y="1400"/>
                </a:lnTo>
                <a:lnTo>
                  <a:pt x="1400" y="1400"/>
                </a:lnTo>
                <a:close/>
              </a:path>
              <a:path fill="darken" w="23202" h="21600">
                <a:moveTo>
                  <a:pt x="23202" y="0"/>
                </a:moveTo>
                <a:lnTo>
                  <a:pt x="23202" y="21600"/>
                </a:lnTo>
                <a:lnTo>
                  <a:pt x="21802" y="20200"/>
                </a:lnTo>
                <a:lnTo>
                  <a:pt x="21802" y="1400"/>
                </a:lnTo>
                <a:close/>
              </a:path>
              <a:path fill="darkenLess" w="23202" h="21600">
                <a:moveTo>
                  <a:pt x="23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802" y="20200"/>
                </a:lnTo>
                <a:close/>
              </a:path>
              <a:path fill="lighten" w="23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202" h="21600">
                <a:moveTo>
                  <a:pt x="15100" y="10800"/>
                </a:moveTo>
                <a:lnTo>
                  <a:pt x="4595" y="17806"/>
                </a:lnTo>
                <a:lnTo>
                  <a:pt x="4595" y="3794"/>
                </a:lnTo>
                <a:close/>
              </a:path>
              <a:path fill="darken" w="23202" h="21600">
                <a:moveTo>
                  <a:pt x="16945" y="3794"/>
                </a:moveTo>
                <a:lnTo>
                  <a:pt x="16945" y="17806"/>
                </a:lnTo>
                <a:lnTo>
                  <a:pt x="18608" y="17806"/>
                </a:lnTo>
                <a:lnTo>
                  <a:pt x="18608" y="3794"/>
                </a:lnTo>
                <a:close/>
              </a:path>
            </a:pathLst>
          </a:custGeom>
          <a:gradFill rotWithShape="0">
            <a:gsLst>
              <a:gs pos="0">
                <a:srgbClr val="969696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3" name="AutoShape 39">
            <a:hlinkClick r:id="" action="ppaction://hlinkshowjump?jump=endshow"/>
          </p:cNvPr>
          <p:cNvSpPr/>
          <p:nvPr/>
        </p:nvSpPr>
        <p:spPr>
          <a:xfrm>
            <a:off x="4343400" y="6324480"/>
            <a:ext cx="609480" cy="53352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73" h="21600">
                <a:moveTo>
                  <a:pt x="0" y="0"/>
                </a:moveTo>
                <a:lnTo>
                  <a:pt x="24673" y="0"/>
                </a:lnTo>
                <a:lnTo>
                  <a:pt x="24673" y="21600"/>
                </a:lnTo>
                <a:lnTo>
                  <a:pt x="0" y="21600"/>
                </a:lnTo>
                <a:close/>
              </a:path>
              <a:path fill="lightenLess" w="24673" h="21600">
                <a:moveTo>
                  <a:pt x="0" y="0"/>
                </a:moveTo>
                <a:lnTo>
                  <a:pt x="24673" y="0"/>
                </a:lnTo>
                <a:lnTo>
                  <a:pt x="23273" y="1400"/>
                </a:lnTo>
                <a:lnTo>
                  <a:pt x="1400" y="1400"/>
                </a:lnTo>
                <a:close/>
              </a:path>
              <a:path fill="darken" w="24673" h="21600">
                <a:moveTo>
                  <a:pt x="24673" y="0"/>
                </a:moveTo>
                <a:lnTo>
                  <a:pt x="24673" y="21600"/>
                </a:lnTo>
                <a:lnTo>
                  <a:pt x="23273" y="20200"/>
                </a:lnTo>
                <a:lnTo>
                  <a:pt x="23273" y="1400"/>
                </a:lnTo>
                <a:close/>
              </a:path>
              <a:path fill="darkenLess" w="24673" h="21600">
                <a:moveTo>
                  <a:pt x="246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3" y="20200"/>
                </a:lnTo>
                <a:close/>
              </a:path>
              <a:path fill="lighten" w="246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73" h="21600">
                <a:moveTo>
                  <a:pt x="5330" y="7493"/>
                </a:moveTo>
                <a:lnTo>
                  <a:pt x="8838" y="7493"/>
                </a:lnTo>
                <a:lnTo>
                  <a:pt x="8838" y="12828"/>
                </a:lnTo>
                <a:cubicBezTo>
                  <a:pt x="8838" y="13751"/>
                  <a:pt x="9638" y="14482"/>
                  <a:pt x="10674" y="14482"/>
                </a:cubicBezTo>
                <a:lnTo>
                  <a:pt x="12337" y="14482"/>
                </a:lnTo>
                <a:cubicBezTo>
                  <a:pt x="13372" y="14482"/>
                  <a:pt x="14173" y="13751"/>
                  <a:pt x="14173" y="12828"/>
                </a:cubicBezTo>
                <a:lnTo>
                  <a:pt x="14173" y="7493"/>
                </a:lnTo>
                <a:lnTo>
                  <a:pt x="12337" y="7493"/>
                </a:lnTo>
                <a:lnTo>
                  <a:pt x="15844" y="3985"/>
                </a:lnTo>
                <a:lnTo>
                  <a:pt x="19517" y="7493"/>
                </a:lnTo>
                <a:lnTo>
                  <a:pt x="17681" y="7493"/>
                </a:lnTo>
                <a:lnTo>
                  <a:pt x="17681" y="12828"/>
                </a:lnTo>
                <a:cubicBezTo>
                  <a:pt x="17681" y="15596"/>
                  <a:pt x="15104" y="18155"/>
                  <a:pt x="12337" y="18155"/>
                </a:cubicBezTo>
                <a:lnTo>
                  <a:pt x="10674" y="18155"/>
                </a:lnTo>
                <a:cubicBezTo>
                  <a:pt x="7906" y="18155"/>
                  <a:pt x="5330" y="15596"/>
                  <a:pt x="5330" y="12828"/>
                </a:cubicBezTo>
                <a:close/>
              </a:path>
            </a:pathLst>
          </a:custGeom>
          <a:gradFill rotWithShape="0">
            <a:gsLst>
              <a:gs pos="0">
                <a:srgbClr val="969696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34" name="Picture 40" descr="worker_place_displey"/>
          <p:cNvPicPr/>
          <p:nvPr/>
        </p:nvPicPr>
        <p:blipFill>
          <a:blip r:embed="rId3"/>
          <a:stretch/>
        </p:blipFill>
        <p:spPr>
          <a:xfrm>
            <a:off x="0" y="1600200"/>
            <a:ext cx="3943440" cy="3048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0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5" name="Rectangle 13"/>
          <p:cNvGrpSpPr/>
          <p:nvPr/>
        </p:nvGrpSpPr>
        <p:grpSpPr>
          <a:xfrm>
            <a:off x="2590920" y="304920"/>
            <a:ext cx="4267080" cy="841320"/>
            <a:chOff x="2590920" y="304920"/>
            <a:chExt cx="4267080" cy="841320"/>
          </a:xfrm>
        </p:grpSpPr>
        <p:pic>
          <p:nvPicPr>
            <p:cNvPr id="336" name="Rectangle 13" descr=""/>
            <p:cNvPicPr/>
            <p:nvPr/>
          </p:nvPicPr>
          <p:blipFill>
            <a:blip r:embed="rId1"/>
            <a:stretch/>
          </p:blipFill>
          <p:spPr>
            <a:xfrm>
              <a:off x="2590920" y="304920"/>
              <a:ext cx="426708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7" name=""/>
            <p:cNvSpPr/>
            <p:nvPr/>
          </p:nvSpPr>
          <p:spPr>
            <a:xfrm>
              <a:off x="2590920" y="304920"/>
              <a:ext cx="426708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ff0000"/>
                  </a:solidFill>
                  <a:latin typeface="Franklin Gothic Medium"/>
                </a:rPr>
                <a:t>ПРАВИЛО 12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38" name=""/>
          <p:cNvSpPr txBox="1"/>
          <p:nvPr/>
        </p:nvSpPr>
        <p:spPr>
          <a:xfrm>
            <a:off x="685800" y="1599840"/>
            <a:ext cx="7696080" cy="28954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797b7e"/>
              </a:gs>
            </a:gsLst>
            <a:lin ang="2700000"/>
          </a:gradFill>
          <a:ln w="0">
            <a:noFill/>
          </a:ln>
        </p:spPr>
        <p:txBody>
          <a:bodyPr anchor="t">
            <a:normAutofit fontScale="95000"/>
          </a:bodyPr>
          <a:p>
            <a:pPr marL="578880" indent="-5788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Через каждые 15 - 20 минут работы за компьютером следует делать перерыв. Во время этих перерывов не стоит читать или смотреть телевизор. Общая продолжительность работы не должна превышать в день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578880" indent="-5788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       </a:t>
            </a: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а) 20 – 30 мин (дети до 10 лет)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578880" indent="-5788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       </a:t>
            </a: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б) 1-2 час (10 – 18 лет)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578880" indent="-5788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       </a:t>
            </a: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в) 4 час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&gt; 18 </a:t>
            </a: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лет). 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339" name="Picture 20" descr="j0195384"/>
          <p:cNvPicPr/>
          <p:nvPr/>
        </p:nvPicPr>
        <p:blipFill>
          <a:blip r:embed="rId2"/>
          <a:stretch/>
        </p:blipFill>
        <p:spPr>
          <a:xfrm>
            <a:off x="5410080" y="4267080"/>
            <a:ext cx="1795680" cy="167652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22" descr="WATCH"/>
          <p:cNvPicPr/>
          <p:nvPr/>
        </p:nvPicPr>
        <p:blipFill>
          <a:blip r:embed="rId3"/>
          <a:stretch/>
        </p:blipFill>
        <p:spPr>
          <a:xfrm>
            <a:off x="6095880" y="914400"/>
            <a:ext cx="498600" cy="609480"/>
          </a:xfrm>
          <a:prstGeom prst="rect">
            <a:avLst/>
          </a:prstGeom>
          <a:ln w="0">
            <a:noFill/>
          </a:ln>
        </p:spPr>
      </p:pic>
      <p:sp>
        <p:nvSpPr>
          <p:cNvPr id="341" name="AutoShape 23">
            <a:hlinkClick r:id="" action="ppaction://hlinkshowjump?jump=nextslide"/>
          </p:cNvPr>
          <p:cNvSpPr/>
          <p:nvPr/>
        </p:nvSpPr>
        <p:spPr>
          <a:xfrm>
            <a:off x="8418600" y="6324480"/>
            <a:ext cx="573120" cy="533520"/>
          </a:xfrm>
          <a:custGeom>
            <a:avLst/>
            <a:gdLst>
              <a:gd name="textAreaLeft" fmla="*/ 34560 w 573120"/>
              <a:gd name="textAreaRight" fmla="*/ 538560 w 5731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3202" h="21600">
                <a:moveTo>
                  <a:pt x="0" y="0"/>
                </a:moveTo>
                <a:lnTo>
                  <a:pt x="23202" y="0"/>
                </a:lnTo>
                <a:lnTo>
                  <a:pt x="23202" y="21600"/>
                </a:lnTo>
                <a:lnTo>
                  <a:pt x="0" y="21600"/>
                </a:lnTo>
                <a:close/>
              </a:path>
              <a:path fill="lightenLess" w="23202" h="21600">
                <a:moveTo>
                  <a:pt x="0" y="0"/>
                </a:moveTo>
                <a:lnTo>
                  <a:pt x="23202" y="0"/>
                </a:lnTo>
                <a:lnTo>
                  <a:pt x="21802" y="1400"/>
                </a:lnTo>
                <a:lnTo>
                  <a:pt x="1400" y="1400"/>
                </a:lnTo>
                <a:close/>
              </a:path>
              <a:path fill="darken" w="23202" h="21600">
                <a:moveTo>
                  <a:pt x="23202" y="0"/>
                </a:moveTo>
                <a:lnTo>
                  <a:pt x="23202" y="21600"/>
                </a:lnTo>
                <a:lnTo>
                  <a:pt x="21802" y="20200"/>
                </a:lnTo>
                <a:lnTo>
                  <a:pt x="21802" y="1400"/>
                </a:lnTo>
                <a:close/>
              </a:path>
              <a:path fill="darkenLess" w="23202" h="21600">
                <a:moveTo>
                  <a:pt x="23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802" y="20200"/>
                </a:lnTo>
                <a:close/>
              </a:path>
              <a:path fill="lighten" w="23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202" h="21600">
                <a:moveTo>
                  <a:pt x="4595" y="3794"/>
                </a:moveTo>
                <a:lnTo>
                  <a:pt x="18608" y="10800"/>
                </a:lnTo>
                <a:lnTo>
                  <a:pt x="4595" y="17806"/>
                </a:lnTo>
                <a:close/>
              </a:path>
            </a:pathLst>
          </a:custGeom>
          <a:gradFill rotWithShape="0">
            <a:gsLst>
              <a:gs pos="0">
                <a:srgbClr val="969696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2" name="AutoShape 24">
            <a:hlinkClick r:id="" action="ppaction://hlinkshowjump?jump=previousslide"/>
          </p:cNvPr>
          <p:cNvSpPr/>
          <p:nvPr/>
        </p:nvSpPr>
        <p:spPr>
          <a:xfrm>
            <a:off x="7631280" y="6324480"/>
            <a:ext cx="572760" cy="533520"/>
          </a:xfrm>
          <a:custGeom>
            <a:avLst/>
            <a:gdLst>
              <a:gd name="textAreaLeft" fmla="*/ 34560 w 572760"/>
              <a:gd name="textAreaRight" fmla="*/ 538200 w 57276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3188" h="21600">
                <a:moveTo>
                  <a:pt x="0" y="0"/>
                </a:moveTo>
                <a:lnTo>
                  <a:pt x="23188" y="0"/>
                </a:lnTo>
                <a:lnTo>
                  <a:pt x="23188" y="21600"/>
                </a:lnTo>
                <a:lnTo>
                  <a:pt x="0" y="21600"/>
                </a:lnTo>
                <a:close/>
              </a:path>
              <a:path fill="lightenLess" w="23188" h="21600">
                <a:moveTo>
                  <a:pt x="0" y="0"/>
                </a:moveTo>
                <a:lnTo>
                  <a:pt x="23188" y="0"/>
                </a:lnTo>
                <a:lnTo>
                  <a:pt x="21788" y="1400"/>
                </a:lnTo>
                <a:lnTo>
                  <a:pt x="1400" y="1400"/>
                </a:lnTo>
                <a:close/>
              </a:path>
              <a:path fill="darken" w="23188" h="21600">
                <a:moveTo>
                  <a:pt x="23188" y="0"/>
                </a:moveTo>
                <a:lnTo>
                  <a:pt x="23188" y="21600"/>
                </a:lnTo>
                <a:lnTo>
                  <a:pt x="21788" y="20200"/>
                </a:lnTo>
                <a:lnTo>
                  <a:pt x="21788" y="1400"/>
                </a:lnTo>
                <a:close/>
              </a:path>
              <a:path fill="darkenLess" w="23188" h="21600">
                <a:moveTo>
                  <a:pt x="231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788" y="20200"/>
                </a:lnTo>
                <a:close/>
              </a:path>
              <a:path fill="lighten" w="231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188" h="21600">
                <a:moveTo>
                  <a:pt x="4587" y="10800"/>
                </a:moveTo>
                <a:lnTo>
                  <a:pt x="18600" y="3794"/>
                </a:lnTo>
                <a:lnTo>
                  <a:pt x="18600" y="17806"/>
                </a:lnTo>
                <a:close/>
              </a:path>
            </a:pathLst>
          </a:custGeom>
          <a:gradFill rotWithShape="0">
            <a:gsLst>
              <a:gs pos="0">
                <a:srgbClr val="969696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3" name="AutoShape 25">
            <a:hlinkClick r:id="" action="ppaction://hlinkshowjump?jump=firstslide"/>
          </p:cNvPr>
          <p:cNvSpPr/>
          <p:nvPr/>
        </p:nvSpPr>
        <p:spPr>
          <a:xfrm>
            <a:off x="5410080" y="6324480"/>
            <a:ext cx="573120" cy="533520"/>
          </a:xfrm>
          <a:custGeom>
            <a:avLst/>
            <a:gdLst>
              <a:gd name="textAreaLeft" fmla="*/ 34560 w 573120"/>
              <a:gd name="textAreaRight" fmla="*/ 538560 w 5731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3202" h="21600">
                <a:moveTo>
                  <a:pt x="0" y="0"/>
                </a:moveTo>
                <a:lnTo>
                  <a:pt x="23202" y="0"/>
                </a:lnTo>
                <a:lnTo>
                  <a:pt x="23202" y="21600"/>
                </a:lnTo>
                <a:lnTo>
                  <a:pt x="0" y="21600"/>
                </a:lnTo>
                <a:close/>
              </a:path>
              <a:path fill="lightenLess" w="23202" h="21600">
                <a:moveTo>
                  <a:pt x="0" y="0"/>
                </a:moveTo>
                <a:lnTo>
                  <a:pt x="23202" y="0"/>
                </a:lnTo>
                <a:lnTo>
                  <a:pt x="21802" y="1400"/>
                </a:lnTo>
                <a:lnTo>
                  <a:pt x="1400" y="1400"/>
                </a:lnTo>
                <a:close/>
              </a:path>
              <a:path fill="darken" w="23202" h="21600">
                <a:moveTo>
                  <a:pt x="23202" y="0"/>
                </a:moveTo>
                <a:lnTo>
                  <a:pt x="23202" y="21600"/>
                </a:lnTo>
                <a:lnTo>
                  <a:pt x="21802" y="20200"/>
                </a:lnTo>
                <a:lnTo>
                  <a:pt x="21802" y="1400"/>
                </a:lnTo>
                <a:close/>
              </a:path>
              <a:path fill="darkenLess" w="23202" h="21600">
                <a:moveTo>
                  <a:pt x="23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802" y="20200"/>
                </a:lnTo>
                <a:close/>
              </a:path>
              <a:path fill="lighten" w="23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202" h="21600">
                <a:moveTo>
                  <a:pt x="8102" y="10800"/>
                </a:moveTo>
                <a:lnTo>
                  <a:pt x="18608" y="3794"/>
                </a:lnTo>
                <a:lnTo>
                  <a:pt x="18608" y="17806"/>
                </a:lnTo>
                <a:close/>
              </a:path>
              <a:path fill="darken" w="23202" h="21600">
                <a:moveTo>
                  <a:pt x="4595" y="3794"/>
                </a:moveTo>
                <a:lnTo>
                  <a:pt x="6257" y="3794"/>
                </a:lnTo>
                <a:lnTo>
                  <a:pt x="6257" y="17806"/>
                </a:lnTo>
                <a:lnTo>
                  <a:pt x="4595" y="17806"/>
                </a:lnTo>
                <a:close/>
              </a:path>
            </a:pathLst>
          </a:custGeom>
          <a:gradFill rotWithShape="0">
            <a:gsLst>
              <a:gs pos="0">
                <a:srgbClr val="969696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4" name="AutoShape 26">
            <a:hlinkClick r:id="rId4" action="ppaction://hlinksldjump"/>
          </p:cNvPr>
          <p:cNvSpPr/>
          <p:nvPr/>
        </p:nvSpPr>
        <p:spPr>
          <a:xfrm>
            <a:off x="6269040" y="6324480"/>
            <a:ext cx="573120" cy="533520"/>
          </a:xfrm>
          <a:custGeom>
            <a:avLst/>
            <a:gdLst>
              <a:gd name="textAreaLeft" fmla="*/ 34560 w 573120"/>
              <a:gd name="textAreaRight" fmla="*/ 538560 w 5731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3202" h="21600">
                <a:moveTo>
                  <a:pt x="0" y="0"/>
                </a:moveTo>
                <a:lnTo>
                  <a:pt x="23202" y="0"/>
                </a:lnTo>
                <a:lnTo>
                  <a:pt x="23202" y="21600"/>
                </a:lnTo>
                <a:lnTo>
                  <a:pt x="0" y="21600"/>
                </a:lnTo>
                <a:close/>
              </a:path>
              <a:path fill="lightenLess" w="23202" h="21600">
                <a:moveTo>
                  <a:pt x="0" y="0"/>
                </a:moveTo>
                <a:lnTo>
                  <a:pt x="23202" y="0"/>
                </a:lnTo>
                <a:lnTo>
                  <a:pt x="21802" y="1400"/>
                </a:lnTo>
                <a:lnTo>
                  <a:pt x="1400" y="1400"/>
                </a:lnTo>
                <a:close/>
              </a:path>
              <a:path fill="darken" w="23202" h="21600">
                <a:moveTo>
                  <a:pt x="23202" y="0"/>
                </a:moveTo>
                <a:lnTo>
                  <a:pt x="23202" y="21600"/>
                </a:lnTo>
                <a:lnTo>
                  <a:pt x="21802" y="20200"/>
                </a:lnTo>
                <a:lnTo>
                  <a:pt x="21802" y="1400"/>
                </a:lnTo>
                <a:close/>
              </a:path>
              <a:path fill="darkenLess" w="23202" h="21600">
                <a:moveTo>
                  <a:pt x="23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802" y="20200"/>
                </a:lnTo>
                <a:close/>
              </a:path>
              <a:path fill="lighten" w="23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202" h="21600">
                <a:moveTo>
                  <a:pt x="15100" y="10800"/>
                </a:moveTo>
                <a:lnTo>
                  <a:pt x="4595" y="17806"/>
                </a:lnTo>
                <a:lnTo>
                  <a:pt x="4595" y="3794"/>
                </a:lnTo>
                <a:close/>
              </a:path>
              <a:path fill="darken" w="23202" h="21600">
                <a:moveTo>
                  <a:pt x="16945" y="3794"/>
                </a:moveTo>
                <a:lnTo>
                  <a:pt x="16945" y="17806"/>
                </a:lnTo>
                <a:lnTo>
                  <a:pt x="18608" y="17806"/>
                </a:lnTo>
                <a:lnTo>
                  <a:pt x="18608" y="3794"/>
                </a:lnTo>
                <a:close/>
              </a:path>
            </a:pathLst>
          </a:custGeom>
          <a:gradFill rotWithShape="0">
            <a:gsLst>
              <a:gs pos="0">
                <a:srgbClr val="969696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5" name="AutoShape 27">
            <a:hlinkClick r:id="" action="ppaction://hlinkshowjump?jump=endshow"/>
          </p:cNvPr>
          <p:cNvSpPr/>
          <p:nvPr/>
        </p:nvSpPr>
        <p:spPr>
          <a:xfrm>
            <a:off x="4343400" y="6324480"/>
            <a:ext cx="609480" cy="53352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73" h="21600">
                <a:moveTo>
                  <a:pt x="0" y="0"/>
                </a:moveTo>
                <a:lnTo>
                  <a:pt x="24673" y="0"/>
                </a:lnTo>
                <a:lnTo>
                  <a:pt x="24673" y="21600"/>
                </a:lnTo>
                <a:lnTo>
                  <a:pt x="0" y="21600"/>
                </a:lnTo>
                <a:close/>
              </a:path>
              <a:path fill="lightenLess" w="24673" h="21600">
                <a:moveTo>
                  <a:pt x="0" y="0"/>
                </a:moveTo>
                <a:lnTo>
                  <a:pt x="24673" y="0"/>
                </a:lnTo>
                <a:lnTo>
                  <a:pt x="23273" y="1400"/>
                </a:lnTo>
                <a:lnTo>
                  <a:pt x="1400" y="1400"/>
                </a:lnTo>
                <a:close/>
              </a:path>
              <a:path fill="darken" w="24673" h="21600">
                <a:moveTo>
                  <a:pt x="24673" y="0"/>
                </a:moveTo>
                <a:lnTo>
                  <a:pt x="24673" y="21600"/>
                </a:lnTo>
                <a:lnTo>
                  <a:pt x="23273" y="20200"/>
                </a:lnTo>
                <a:lnTo>
                  <a:pt x="23273" y="1400"/>
                </a:lnTo>
                <a:close/>
              </a:path>
              <a:path fill="darkenLess" w="24673" h="21600">
                <a:moveTo>
                  <a:pt x="246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3" y="20200"/>
                </a:lnTo>
                <a:close/>
              </a:path>
              <a:path fill="lighten" w="246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73" h="21600">
                <a:moveTo>
                  <a:pt x="5330" y="7493"/>
                </a:moveTo>
                <a:lnTo>
                  <a:pt x="8838" y="7493"/>
                </a:lnTo>
                <a:lnTo>
                  <a:pt x="8838" y="12828"/>
                </a:lnTo>
                <a:cubicBezTo>
                  <a:pt x="8838" y="13751"/>
                  <a:pt x="9638" y="14482"/>
                  <a:pt x="10674" y="14482"/>
                </a:cubicBezTo>
                <a:lnTo>
                  <a:pt x="12337" y="14482"/>
                </a:lnTo>
                <a:cubicBezTo>
                  <a:pt x="13372" y="14482"/>
                  <a:pt x="14173" y="13751"/>
                  <a:pt x="14173" y="12828"/>
                </a:cubicBezTo>
                <a:lnTo>
                  <a:pt x="14173" y="7493"/>
                </a:lnTo>
                <a:lnTo>
                  <a:pt x="12337" y="7493"/>
                </a:lnTo>
                <a:lnTo>
                  <a:pt x="15844" y="3985"/>
                </a:lnTo>
                <a:lnTo>
                  <a:pt x="19517" y="7493"/>
                </a:lnTo>
                <a:lnTo>
                  <a:pt x="17681" y="7493"/>
                </a:lnTo>
                <a:lnTo>
                  <a:pt x="17681" y="12828"/>
                </a:lnTo>
                <a:cubicBezTo>
                  <a:pt x="17681" y="15596"/>
                  <a:pt x="15104" y="18155"/>
                  <a:pt x="12337" y="18155"/>
                </a:cubicBezTo>
                <a:lnTo>
                  <a:pt x="10674" y="18155"/>
                </a:lnTo>
                <a:cubicBezTo>
                  <a:pt x="7906" y="18155"/>
                  <a:pt x="5330" y="15596"/>
                  <a:pt x="5330" y="12828"/>
                </a:cubicBezTo>
                <a:close/>
              </a:path>
            </a:pathLst>
          </a:custGeom>
          <a:gradFill rotWithShape="0">
            <a:gsLst>
              <a:gs pos="0">
                <a:srgbClr val="969696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0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5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6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6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2342880" y="2133720"/>
            <a:ext cx="6667560" cy="22096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797b7e"/>
              </a:gs>
            </a:gsLst>
            <a:lin ang="2700000"/>
          </a:gra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cc6600"/>
                </a:solidFill>
                <a:latin typeface="Arial"/>
              </a:rPr>
              <a:t>Отдыхайте!</a:t>
            </a:r>
            <a:endParaRPr b="1" lang="en-US" sz="4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cc6600"/>
                </a:solidFill>
                <a:latin typeface="Arial"/>
              </a:rPr>
              <a:t> </a:t>
            </a:r>
            <a:r>
              <a:rPr b="1" i="1" lang="ru-RU" sz="4800" spc="-1" strike="noStrike">
                <a:solidFill>
                  <a:srgbClr val="cc6600"/>
                </a:solidFill>
                <a:latin typeface="Arial"/>
              </a:rPr>
              <a:t>Расслабляйтесь! </a:t>
            </a:r>
            <a:endParaRPr b="1" lang="en-US" sz="4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cc6600"/>
                </a:solidFill>
                <a:latin typeface="Arial"/>
              </a:rPr>
              <a:t>Двигайтесь!</a:t>
            </a:r>
            <a:endParaRPr b="1" lang="en-US" sz="4800" spc="-1" strike="noStrike">
              <a:solidFill>
                <a:srgbClr val="000000"/>
              </a:solidFill>
              <a:latin typeface="Franklin Gothic Book"/>
            </a:endParaRPr>
          </a:p>
        </p:txBody>
      </p:sp>
      <p:grpSp>
        <p:nvGrpSpPr>
          <p:cNvPr id="347" name="Rectangle 6"/>
          <p:cNvGrpSpPr/>
          <p:nvPr/>
        </p:nvGrpSpPr>
        <p:grpSpPr>
          <a:xfrm>
            <a:off x="2212920" y="457200"/>
            <a:ext cx="4425840" cy="764280"/>
            <a:chOff x="2212920" y="457200"/>
            <a:chExt cx="4425840" cy="764280"/>
          </a:xfrm>
        </p:grpSpPr>
        <p:pic>
          <p:nvPicPr>
            <p:cNvPr id="348" name="Rectangle 6" descr=""/>
            <p:cNvPicPr/>
            <p:nvPr/>
          </p:nvPicPr>
          <p:blipFill>
            <a:blip r:embed="rId1"/>
            <a:stretch/>
          </p:blipFill>
          <p:spPr>
            <a:xfrm>
              <a:off x="2215800" y="457200"/>
              <a:ext cx="4422600" cy="76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9" name=""/>
            <p:cNvSpPr/>
            <p:nvPr/>
          </p:nvSpPr>
          <p:spPr>
            <a:xfrm>
              <a:off x="2212920" y="457200"/>
              <a:ext cx="44258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400" spc="-1" strike="noStrike" u="sng">
                  <a:solidFill>
                    <a:srgbClr val="ca4b05"/>
                  </a:solidFill>
                  <a:uFillTx/>
                  <a:latin typeface="Franklin Gothic Medium"/>
                </a:rPr>
                <a:t>Итак,</a:t>
              </a: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50" name="Text Box 8"/>
          <p:cNvSpPr/>
          <p:nvPr/>
        </p:nvSpPr>
        <p:spPr>
          <a:xfrm>
            <a:off x="762120" y="5272200"/>
            <a:ext cx="54100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6600"/>
                </a:solidFill>
                <a:latin typeface="Comic Sans MS"/>
              </a:rPr>
              <a:t> </a:t>
            </a:r>
            <a:r>
              <a:rPr b="1" lang="ru-RU" sz="1800" spc="-1" strike="noStrike">
                <a:solidFill>
                  <a:srgbClr val="002060"/>
                </a:solidFill>
                <a:latin typeface="Comic Sans MS"/>
              </a:rPr>
              <a:t>Правила серьёзные и не очень </a:t>
            </a:r>
            <a:r>
              <a:rPr b="0" lang="en-US" sz="1800" spc="-1" strike="noStrike" u="sng">
                <a:solidFill>
                  <a:srgbClr val="5f5f5f"/>
                </a:solidFill>
                <a:uFillTx/>
                <a:latin typeface="Comic Sans MS"/>
                <a:hlinkClick r:id="rId2" action="ppaction://hlinksldjump"/>
              </a:rPr>
              <a:t>&gt;&gt;&gt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1" name="Text Box 11"/>
          <p:cNvSpPr/>
          <p:nvPr/>
        </p:nvSpPr>
        <p:spPr>
          <a:xfrm>
            <a:off x="1066680" y="1447920"/>
            <a:ext cx="6934320" cy="825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ef66"/>
              </a:gs>
            </a:gsLst>
            <a:lin ang="2700000"/>
          </a:gradFill>
          <a:ln w="9360">
            <a:solidFill>
              <a:srgbClr val="797b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Comic Sans MS"/>
              </a:rPr>
              <a:t>чтобы компьютер не превратился во врага,</a:t>
            </a:r>
            <a:r>
              <a:rPr b="0" lang="ru-RU" sz="1800" spc="-1" strike="noStrike">
                <a:solidFill>
                  <a:srgbClr val="969696"/>
                </a:solidFill>
                <a:latin typeface="Comic Sans MS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2" name="AutoShape 15">
            <a:hlinkClick r:id="" action="ppaction://hlinkshowjump?jump=previousslide"/>
          </p:cNvPr>
          <p:cNvSpPr/>
          <p:nvPr/>
        </p:nvSpPr>
        <p:spPr>
          <a:xfrm>
            <a:off x="8534520" y="5638680"/>
            <a:ext cx="609480" cy="552600"/>
          </a:xfrm>
          <a:custGeom>
            <a:avLst/>
            <a:gdLst>
              <a:gd name="textAreaLeft" fmla="*/ 35640 w 609480"/>
              <a:gd name="textAreaRight" fmla="*/ 573840 w 609480"/>
              <a:gd name="textAreaTop" fmla="*/ 35640 h 552600"/>
              <a:gd name="textAreaBottom" fmla="*/ 516960 h 552600"/>
            </a:gdLst>
            <a:ahLst/>
            <a:rect l="textAreaLeft" t="textAreaTop" r="textAreaRight" b="textAreaBottom"/>
            <a:pathLst>
              <a:path w="23822" h="21600">
                <a:moveTo>
                  <a:pt x="0" y="0"/>
                </a:moveTo>
                <a:lnTo>
                  <a:pt x="23822" y="0"/>
                </a:lnTo>
                <a:lnTo>
                  <a:pt x="23822" y="21600"/>
                </a:lnTo>
                <a:lnTo>
                  <a:pt x="0" y="21600"/>
                </a:lnTo>
                <a:close/>
              </a:path>
              <a:path fill="lightenLess" w="23822" h="21600">
                <a:moveTo>
                  <a:pt x="0" y="0"/>
                </a:moveTo>
                <a:lnTo>
                  <a:pt x="23822" y="0"/>
                </a:lnTo>
                <a:lnTo>
                  <a:pt x="22422" y="1400"/>
                </a:lnTo>
                <a:lnTo>
                  <a:pt x="1400" y="1400"/>
                </a:lnTo>
                <a:close/>
              </a:path>
              <a:path fill="darken" w="23822" h="21600">
                <a:moveTo>
                  <a:pt x="23822" y="0"/>
                </a:moveTo>
                <a:lnTo>
                  <a:pt x="23822" y="21600"/>
                </a:lnTo>
                <a:lnTo>
                  <a:pt x="22422" y="20200"/>
                </a:lnTo>
                <a:lnTo>
                  <a:pt x="22422" y="1400"/>
                </a:lnTo>
                <a:close/>
              </a:path>
              <a:path fill="darkenLess" w="23822" h="21600">
                <a:moveTo>
                  <a:pt x="238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422" y="20200"/>
                </a:lnTo>
                <a:close/>
              </a:path>
              <a:path fill="lighten" w="238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822" h="21600">
                <a:moveTo>
                  <a:pt x="4904" y="10800"/>
                </a:moveTo>
                <a:lnTo>
                  <a:pt x="18917" y="3794"/>
                </a:lnTo>
                <a:lnTo>
                  <a:pt x="18917" y="17806"/>
                </a:lnTo>
                <a:close/>
              </a:path>
            </a:pathLst>
          </a:custGeom>
          <a:gradFill rotWithShape="0">
            <a:gsLst>
              <a:gs pos="0">
                <a:srgbClr val="969696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3" name="AutoShape 16">
            <a:hlinkClick r:id="" action="ppaction://hlinkshowjump?jump=firstslide"/>
          </p:cNvPr>
          <p:cNvSpPr/>
          <p:nvPr/>
        </p:nvSpPr>
        <p:spPr>
          <a:xfrm>
            <a:off x="8567640" y="6381720"/>
            <a:ext cx="576360" cy="476280"/>
          </a:xfrm>
          <a:custGeom>
            <a:avLst/>
            <a:gdLst>
              <a:gd name="textAreaLeft" fmla="*/ 30600 w 576360"/>
              <a:gd name="textAreaRight" fmla="*/ 545760 w 57636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6135" h="21600">
                <a:moveTo>
                  <a:pt x="0" y="0"/>
                </a:moveTo>
                <a:lnTo>
                  <a:pt x="26135" y="0"/>
                </a:lnTo>
                <a:lnTo>
                  <a:pt x="26135" y="21600"/>
                </a:lnTo>
                <a:lnTo>
                  <a:pt x="0" y="21600"/>
                </a:lnTo>
                <a:close/>
              </a:path>
              <a:path fill="lightenLess" w="26135" h="21600">
                <a:moveTo>
                  <a:pt x="0" y="0"/>
                </a:moveTo>
                <a:lnTo>
                  <a:pt x="26135" y="0"/>
                </a:lnTo>
                <a:lnTo>
                  <a:pt x="24735" y="1400"/>
                </a:lnTo>
                <a:lnTo>
                  <a:pt x="1400" y="1400"/>
                </a:lnTo>
                <a:close/>
              </a:path>
              <a:path fill="darken" w="26135" h="21600">
                <a:moveTo>
                  <a:pt x="26135" y="0"/>
                </a:moveTo>
                <a:lnTo>
                  <a:pt x="26135" y="21600"/>
                </a:lnTo>
                <a:lnTo>
                  <a:pt x="24735" y="20200"/>
                </a:lnTo>
                <a:lnTo>
                  <a:pt x="24735" y="1400"/>
                </a:lnTo>
                <a:close/>
              </a:path>
              <a:path fill="darkenLess" w="26135" h="21600">
                <a:moveTo>
                  <a:pt x="261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35" y="20200"/>
                </a:lnTo>
                <a:close/>
              </a:path>
              <a:path fill="lighten" w="261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35" h="21600">
                <a:moveTo>
                  <a:pt x="9569" y="10800"/>
                </a:moveTo>
                <a:lnTo>
                  <a:pt x="20074" y="3794"/>
                </a:lnTo>
                <a:lnTo>
                  <a:pt x="20074" y="17806"/>
                </a:lnTo>
                <a:close/>
              </a:path>
              <a:path fill="darken" w="26135" h="21600">
                <a:moveTo>
                  <a:pt x="6061" y="3794"/>
                </a:moveTo>
                <a:lnTo>
                  <a:pt x="7724" y="3794"/>
                </a:lnTo>
                <a:lnTo>
                  <a:pt x="7724" y="17806"/>
                </a:lnTo>
                <a:lnTo>
                  <a:pt x="6061" y="17806"/>
                </a:lnTo>
                <a:close/>
              </a:path>
            </a:pathLst>
          </a:custGeom>
          <a:gradFill rotWithShape="0">
            <a:gsLst>
              <a:gs pos="0">
                <a:srgbClr val="969696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4" name="AutoShape 18">
            <a:hlinkClick r:id="" action="ppaction://hlinkshowjump?jump=endshow"/>
          </p:cNvPr>
          <p:cNvSpPr/>
          <p:nvPr/>
        </p:nvSpPr>
        <p:spPr>
          <a:xfrm>
            <a:off x="8534520" y="4876920"/>
            <a:ext cx="609480" cy="6094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gradFill rotWithShape="0">
            <a:gsLst>
              <a:gs pos="0">
                <a:srgbClr val="969696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5" name="Text Box 20"/>
          <p:cNvSpPr/>
          <p:nvPr/>
        </p:nvSpPr>
        <p:spPr>
          <a:xfrm>
            <a:off x="4867920" y="6248520"/>
            <a:ext cx="110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69696"/>
                </a:solidFill>
                <a:latin typeface="Comic Sans MS"/>
              </a:rPr>
              <a:t>Ресурсы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56" name="Picture 21" descr="a_1"/>
          <p:cNvPicPr/>
          <p:nvPr/>
        </p:nvPicPr>
        <p:blipFill>
          <a:blip r:embed="rId3"/>
          <a:stretch/>
        </p:blipFill>
        <p:spPr>
          <a:xfrm>
            <a:off x="504720" y="2057400"/>
            <a:ext cx="1123920" cy="1495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0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3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3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1300"/>
                            </p:stCondLst>
                            <p:childTnLst>
                              <p:par>
                                <p:cTn id="18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3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3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2900"/>
                            </p:stCondLst>
                            <p:childTnLst>
                              <p:par>
                                <p:cTn id="18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300" fill="hold"/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300" fill="hold"/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4800"/>
                            </p:stCondLst>
                            <p:childTnLst>
                              <p:par>
                                <p:cTn id="19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300" fill="hold"/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300" fill="hold"/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904760" y="304920"/>
            <a:ext cx="5257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34342"/>
                </a:solidFill>
                <a:latin typeface="Franklin Gothic Medium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761760" y="1523880"/>
            <a:ext cx="7521480" cy="3579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797b7e"/>
              </a:gs>
            </a:gsLst>
            <a:lin ang="2700000"/>
          </a:gradFill>
          <a:ln w="0">
            <a:noFill/>
          </a:ln>
        </p:spPr>
        <p:txBody>
          <a:bodyPr anchor="t">
            <a:normAutofit fontScale="97000"/>
          </a:bodyPr>
          <a:p>
            <a:pPr marL="332640" indent="-332640" algn="ctr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32640" indent="-332640" algn="ctr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Если вдруг твоя машина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32640" indent="-332640" algn="ctr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Не работает, как надо,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32640" indent="-332640" algn="ctr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Ты по материнской плате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32640" indent="-332640" algn="ctr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ильно стукни кулаком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    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32640" indent="-332640" algn="ctr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Не поможет - бей кувалдой,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32640" indent="-332640" algn="ctr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Дай ногой по монитору...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32640" indent="-332640" algn="ctr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И кричи, глотая слезы,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32640" indent="-332640" algn="ctr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"Она первой начала!"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32640" indent="-332640" algn="ctr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  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9" name="Text Box 4"/>
          <p:cNvSpPr/>
          <p:nvPr/>
        </p:nvSpPr>
        <p:spPr>
          <a:xfrm>
            <a:off x="6172200" y="594360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6600"/>
                </a:solidFill>
                <a:latin typeface="Comic Sans MS"/>
              </a:rPr>
              <a:t>Далее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0" name="WordArt 8"/>
          <p:cNvSpPr txBox="1"/>
          <p:nvPr/>
        </p:nvSpPr>
        <p:spPr>
          <a:xfrm>
            <a:off x="1371600" y="152280"/>
            <a:ext cx="5943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2625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beac7"/>
                    </a:gs>
                    <a:gs pos="100000">
                      <a:srgbClr val="fee7f2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"Вредные советы"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beac7"/>
                  </a:gs>
                  <a:gs pos="100000">
                    <a:srgbClr val="fee7f2"/>
                  </a:gs>
                </a:gsLst>
                <a:lin ang="5400000"/>
              </a:gra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61" name="AutoShape 9">
            <a:hlinkClick r:id="" action="ppaction://hlinkshowjump?jump=endshow"/>
          </p:cNvPr>
          <p:cNvSpPr/>
          <p:nvPr/>
        </p:nvSpPr>
        <p:spPr>
          <a:xfrm>
            <a:off x="8534520" y="6248520"/>
            <a:ext cx="609480" cy="6094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gradFill rotWithShape="0">
            <a:gsLst>
              <a:gs pos="0">
                <a:srgbClr val="969696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62" name="Picture 11" descr="AN134"/>
          <p:cNvPicPr/>
          <p:nvPr/>
        </p:nvPicPr>
        <p:blipFill>
          <a:blip r:embed="rId1"/>
          <a:stretch/>
        </p:blipFill>
        <p:spPr>
          <a:xfrm>
            <a:off x="6461280" y="3124080"/>
            <a:ext cx="920520" cy="124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0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3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3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3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3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3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3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3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3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3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3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3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3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3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3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3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3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622160" y="365040"/>
            <a:ext cx="752148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Medium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4" name="Rectangle 4"/>
          <p:cNvSpPr/>
          <p:nvPr/>
        </p:nvSpPr>
        <p:spPr>
          <a:xfrm>
            <a:off x="685800" y="1619280"/>
            <a:ext cx="7696080" cy="3657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797b7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Если ваш компьютер виснет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И С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-шник не читает ни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D,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ни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VD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То, наверное, сломалось что-то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В коврике для мышки…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Разобрать его вам надо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И быстрее починить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  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5" name="Text Box 5"/>
          <p:cNvSpPr/>
          <p:nvPr/>
        </p:nvSpPr>
        <p:spPr>
          <a:xfrm>
            <a:off x="6172200" y="594360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6600"/>
                </a:solidFill>
                <a:latin typeface="Comic Sans MS"/>
              </a:rPr>
              <a:t>Далее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" name="Rectangle 6"/>
          <p:cNvSpPr/>
          <p:nvPr/>
        </p:nvSpPr>
        <p:spPr>
          <a:xfrm>
            <a:off x="1905120" y="304920"/>
            <a:ext cx="5257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434342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7" name="WordArt 7"/>
          <p:cNvSpPr txBox="1"/>
          <p:nvPr/>
        </p:nvSpPr>
        <p:spPr>
          <a:xfrm>
            <a:off x="1371600" y="76320"/>
            <a:ext cx="594360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2625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ee7f2"/>
                    </a:gs>
                    <a:gs pos="100000">
                      <a:srgbClr val="fee7f2"/>
                    </a:gs>
                  </a:gsLst>
                  <a:lin ang="2700000"/>
                </a:gra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"Вредные советы"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ee7f2"/>
                  </a:gs>
                  <a:gs pos="100000">
                    <a:srgbClr val="fee7f2"/>
                  </a:gs>
                </a:gsLst>
                <a:lin ang="2700000"/>
              </a:gra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68" name="AutoShape 8">
            <a:hlinkClick r:id="" action="ppaction://hlinkshowjump?jump=endshow"/>
          </p:cNvPr>
          <p:cNvSpPr/>
          <p:nvPr/>
        </p:nvSpPr>
        <p:spPr>
          <a:xfrm>
            <a:off x="8534520" y="6248520"/>
            <a:ext cx="609480" cy="6094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gradFill rotWithShape="0">
            <a:gsLst>
              <a:gs pos="0">
                <a:srgbClr val="969696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69" name="Picture 9" descr="computer"/>
          <p:cNvPicPr/>
          <p:nvPr/>
        </p:nvPicPr>
        <p:blipFill>
          <a:blip r:embed="rId1"/>
          <a:stretch/>
        </p:blipFill>
        <p:spPr>
          <a:xfrm>
            <a:off x="6172200" y="4038480"/>
            <a:ext cx="1905120" cy="131760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10" descr="image539"/>
          <p:cNvPicPr/>
          <p:nvPr/>
        </p:nvPicPr>
        <p:blipFill>
          <a:blip r:embed="rId2"/>
          <a:stretch/>
        </p:blipFill>
        <p:spPr>
          <a:xfrm rot="846000">
            <a:off x="4800240" y="5105160"/>
            <a:ext cx="733320" cy="676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0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3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3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3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3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3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3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Medium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372" name="Picture 9" descr="j0300520"/>
          <p:cNvPicPr/>
          <p:nvPr/>
        </p:nvPicPr>
        <p:blipFill>
          <a:blip r:embed="rId1"/>
          <a:stretch/>
        </p:blipFill>
        <p:spPr>
          <a:xfrm>
            <a:off x="4106880" y="2481120"/>
            <a:ext cx="952560" cy="819360"/>
          </a:xfrm>
          <a:prstGeom prst="rect">
            <a:avLst/>
          </a:prstGeom>
          <a:ln w="0">
            <a:noFill/>
          </a:ln>
        </p:spPr>
      </p:pic>
      <p:sp>
        <p:nvSpPr>
          <p:cNvPr id="373" name="Rectangle 4"/>
          <p:cNvSpPr/>
          <p:nvPr/>
        </p:nvSpPr>
        <p:spPr>
          <a:xfrm>
            <a:off x="685800" y="1523880"/>
            <a:ext cx="7696080" cy="4038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797b7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Ну а если вы достали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упер-классную программу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Ту, которая ненужной стала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очему–то другу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т которой на десктопе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друг пропали все значки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мело выходите в сетку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И по почте посылайте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Другу самый страшный вирус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И тогда посмотришь, как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Друг в ремонт свой комп несёт!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  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4" name="Text Box 5"/>
          <p:cNvSpPr/>
          <p:nvPr/>
        </p:nvSpPr>
        <p:spPr>
          <a:xfrm>
            <a:off x="7201080" y="563868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6600"/>
                </a:solidFill>
                <a:latin typeface="Comic Sans MS"/>
              </a:rPr>
              <a:t>Далее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5" name="Rectangle 6"/>
          <p:cNvSpPr/>
          <p:nvPr/>
        </p:nvSpPr>
        <p:spPr>
          <a:xfrm>
            <a:off x="1905120" y="304920"/>
            <a:ext cx="5257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434342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6" name="WordArt 7"/>
          <p:cNvSpPr txBox="1"/>
          <p:nvPr/>
        </p:nvSpPr>
        <p:spPr>
          <a:xfrm>
            <a:off x="1371600" y="152280"/>
            <a:ext cx="5943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2625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"Вредные советы"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77" name="AutoShape 8">
            <a:hlinkClick r:id="" action="ppaction://hlinkshowjump?jump=endshow"/>
          </p:cNvPr>
          <p:cNvSpPr/>
          <p:nvPr/>
        </p:nvSpPr>
        <p:spPr>
          <a:xfrm>
            <a:off x="8534520" y="6248520"/>
            <a:ext cx="609480" cy="6094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gradFill rotWithShape="0">
            <a:gsLst>
              <a:gs pos="0">
                <a:srgbClr val="969696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nodeType="clickEffect" fill="hold">
                      <p:stCondLst>
                        <p:cond delay="0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3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3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3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3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3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3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3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3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3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3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3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3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3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3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3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3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37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37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622160" y="365040"/>
            <a:ext cx="752148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Medium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9" name="Rectangle 4"/>
          <p:cNvSpPr/>
          <p:nvPr/>
        </p:nvSpPr>
        <p:spPr>
          <a:xfrm>
            <a:off x="838080" y="1676520"/>
            <a:ext cx="7543800" cy="387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797b7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Ну, а если вас убил вдруг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Босс крутой в игре прикольной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Разозлитесь - и кидайте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 монитор вы топором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И, конечно же, разбейте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Мышку с клавиатурой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ы поверьте – станет легче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еселее на душе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  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0" name="Rectangle 6"/>
          <p:cNvSpPr/>
          <p:nvPr/>
        </p:nvSpPr>
        <p:spPr>
          <a:xfrm>
            <a:off x="1905120" y="304920"/>
            <a:ext cx="5257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434342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1" name="WordArt 7"/>
          <p:cNvSpPr txBox="1"/>
          <p:nvPr/>
        </p:nvSpPr>
        <p:spPr>
          <a:xfrm>
            <a:off x="1371600" y="152280"/>
            <a:ext cx="5943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2625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"Вредные советы"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82" name="AutoShape 8">
            <a:hlinkClick r:id="" action="ppaction://hlinkshowjump?jump=endshow"/>
          </p:cNvPr>
          <p:cNvSpPr/>
          <p:nvPr/>
        </p:nvSpPr>
        <p:spPr>
          <a:xfrm>
            <a:off x="8534520" y="6248520"/>
            <a:ext cx="609480" cy="6094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gradFill rotWithShape="0">
            <a:gsLst>
              <a:gs pos="0">
                <a:srgbClr val="969696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83" name="Picture 9" descr="anim069[1]"/>
          <p:cNvPicPr/>
          <p:nvPr/>
        </p:nvPicPr>
        <p:blipFill>
          <a:blip r:embed="rId3"/>
          <a:stretch/>
        </p:blipFill>
        <p:spPr>
          <a:xfrm>
            <a:off x="590400" y="5664240"/>
            <a:ext cx="1562400" cy="116028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10" descr="k8"/>
          <p:cNvPicPr/>
          <p:nvPr/>
        </p:nvPicPr>
        <p:blipFill>
          <a:blip r:embed="rId4"/>
          <a:stretch/>
        </p:blipFill>
        <p:spPr>
          <a:xfrm>
            <a:off x="7696080" y="461880"/>
            <a:ext cx="1143000" cy="90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nodeType="clickEffect" fill="hold">
                      <p:stCondLst>
                        <p:cond delay="0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7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8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3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3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3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3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3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3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3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3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3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3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2" name="Rectangle 13"/>
          <p:cNvGrpSpPr/>
          <p:nvPr/>
        </p:nvGrpSpPr>
        <p:grpSpPr>
          <a:xfrm>
            <a:off x="2286000" y="304920"/>
            <a:ext cx="4346640" cy="841320"/>
            <a:chOff x="2286000" y="304920"/>
            <a:chExt cx="4346640" cy="841320"/>
          </a:xfrm>
        </p:grpSpPr>
        <p:pic>
          <p:nvPicPr>
            <p:cNvPr id="223" name="Rectangle 13" descr=""/>
            <p:cNvPicPr/>
            <p:nvPr/>
          </p:nvPicPr>
          <p:blipFill>
            <a:blip r:embed="rId1"/>
            <a:stretch/>
          </p:blipFill>
          <p:spPr>
            <a:xfrm>
              <a:off x="2286000" y="304920"/>
              <a:ext cx="434664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4" name=""/>
            <p:cNvSpPr/>
            <p:nvPr/>
          </p:nvSpPr>
          <p:spPr>
            <a:xfrm>
              <a:off x="2286000" y="304920"/>
              <a:ext cx="434340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ff0000"/>
                  </a:solidFill>
                  <a:latin typeface="Franklin Gothic Medium"/>
                </a:rPr>
                <a:t>ПРАВИЛО 1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25" name="Rectangle 3"/>
          <p:cNvGrpSpPr/>
          <p:nvPr/>
        </p:nvGrpSpPr>
        <p:grpSpPr>
          <a:xfrm>
            <a:off x="304920" y="1603440"/>
            <a:ext cx="8003880" cy="2206440"/>
            <a:chOff x="304920" y="1603440"/>
            <a:chExt cx="8003880" cy="2206440"/>
          </a:xfrm>
        </p:grpSpPr>
        <p:pic>
          <p:nvPicPr>
            <p:cNvPr id="226" name="Rectangle 3" descr=""/>
            <p:cNvPicPr/>
            <p:nvPr/>
          </p:nvPicPr>
          <p:blipFill>
            <a:blip r:embed="rId2"/>
            <a:stretch/>
          </p:blipFill>
          <p:spPr>
            <a:xfrm>
              <a:off x="304920" y="1606320"/>
              <a:ext cx="8003880" cy="220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"/>
            <p:cNvSpPr/>
            <p:nvPr/>
          </p:nvSpPr>
          <p:spPr>
            <a:xfrm>
              <a:off x="304920" y="1603440"/>
              <a:ext cx="8001000" cy="22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609480" indent="-609480">
                <a:lnSpc>
                  <a:spcPct val="8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Franklin Gothic Book"/>
                </a:rPr>
                <a:t>            </a:t>
              </a:r>
              <a:r>
                <a:rPr b="1" lang="ru-RU" sz="2400" spc="-1" strike="noStrike">
                  <a:solidFill>
                    <a:srgbClr val="0679a3"/>
                  </a:solidFill>
                  <a:latin typeface="Arial Black"/>
                </a:rPr>
                <a:t>Устанавливайте компьютер  так, чтобы на экран не падал прямой свет. Иначе экран будет отсвечивать. Кстати говоря, прямой свет вреден не только вам, но и вашему монитору. Оптимальное положение при работе - боком к окну, желательно левым. 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28" name="AutoShape 6">
            <a:hlinkClick r:id="" action="ppaction://hlinkshowjump?jump=nextslide"/>
          </p:cNvPr>
          <p:cNvSpPr/>
          <p:nvPr/>
        </p:nvSpPr>
        <p:spPr>
          <a:xfrm>
            <a:off x="8418600" y="6324480"/>
            <a:ext cx="573120" cy="533520"/>
          </a:xfrm>
          <a:custGeom>
            <a:avLst/>
            <a:gdLst>
              <a:gd name="textAreaLeft" fmla="*/ 34560 w 573120"/>
              <a:gd name="textAreaRight" fmla="*/ 538560 w 5731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3202" h="21600">
                <a:moveTo>
                  <a:pt x="0" y="0"/>
                </a:moveTo>
                <a:lnTo>
                  <a:pt x="23202" y="0"/>
                </a:lnTo>
                <a:lnTo>
                  <a:pt x="23202" y="21600"/>
                </a:lnTo>
                <a:lnTo>
                  <a:pt x="0" y="21600"/>
                </a:lnTo>
                <a:close/>
              </a:path>
              <a:path fill="lightenLess" w="23202" h="21600">
                <a:moveTo>
                  <a:pt x="0" y="0"/>
                </a:moveTo>
                <a:lnTo>
                  <a:pt x="23202" y="0"/>
                </a:lnTo>
                <a:lnTo>
                  <a:pt x="21802" y="1400"/>
                </a:lnTo>
                <a:lnTo>
                  <a:pt x="1400" y="1400"/>
                </a:lnTo>
                <a:close/>
              </a:path>
              <a:path fill="darken" w="23202" h="21600">
                <a:moveTo>
                  <a:pt x="23202" y="0"/>
                </a:moveTo>
                <a:lnTo>
                  <a:pt x="23202" y="21600"/>
                </a:lnTo>
                <a:lnTo>
                  <a:pt x="21802" y="20200"/>
                </a:lnTo>
                <a:lnTo>
                  <a:pt x="21802" y="1400"/>
                </a:lnTo>
                <a:close/>
              </a:path>
              <a:path fill="darkenLess" w="23202" h="21600">
                <a:moveTo>
                  <a:pt x="23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802" y="20200"/>
                </a:lnTo>
                <a:close/>
              </a:path>
              <a:path fill="lighten" w="23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202" h="21600">
                <a:moveTo>
                  <a:pt x="4595" y="3794"/>
                </a:moveTo>
                <a:lnTo>
                  <a:pt x="18608" y="10800"/>
                </a:lnTo>
                <a:lnTo>
                  <a:pt x="4595" y="17806"/>
                </a:lnTo>
                <a:close/>
              </a:path>
            </a:pathLst>
          </a:custGeom>
          <a:gradFill rotWithShape="0">
            <a:gsLst>
              <a:gs pos="0">
                <a:srgbClr val="969696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AutoShape 7">
            <a:hlinkClick r:id="" action="ppaction://hlinkshowjump?jump=previousslide"/>
          </p:cNvPr>
          <p:cNvSpPr/>
          <p:nvPr/>
        </p:nvSpPr>
        <p:spPr>
          <a:xfrm>
            <a:off x="7631280" y="6324480"/>
            <a:ext cx="572760" cy="533520"/>
          </a:xfrm>
          <a:custGeom>
            <a:avLst/>
            <a:gdLst>
              <a:gd name="textAreaLeft" fmla="*/ 34560 w 572760"/>
              <a:gd name="textAreaRight" fmla="*/ 538200 w 57276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3188" h="21600">
                <a:moveTo>
                  <a:pt x="0" y="0"/>
                </a:moveTo>
                <a:lnTo>
                  <a:pt x="23188" y="0"/>
                </a:lnTo>
                <a:lnTo>
                  <a:pt x="23188" y="21600"/>
                </a:lnTo>
                <a:lnTo>
                  <a:pt x="0" y="21600"/>
                </a:lnTo>
                <a:close/>
              </a:path>
              <a:path fill="lightenLess" w="23188" h="21600">
                <a:moveTo>
                  <a:pt x="0" y="0"/>
                </a:moveTo>
                <a:lnTo>
                  <a:pt x="23188" y="0"/>
                </a:lnTo>
                <a:lnTo>
                  <a:pt x="21788" y="1400"/>
                </a:lnTo>
                <a:lnTo>
                  <a:pt x="1400" y="1400"/>
                </a:lnTo>
                <a:close/>
              </a:path>
              <a:path fill="darken" w="23188" h="21600">
                <a:moveTo>
                  <a:pt x="23188" y="0"/>
                </a:moveTo>
                <a:lnTo>
                  <a:pt x="23188" y="21600"/>
                </a:lnTo>
                <a:lnTo>
                  <a:pt x="21788" y="20200"/>
                </a:lnTo>
                <a:lnTo>
                  <a:pt x="21788" y="1400"/>
                </a:lnTo>
                <a:close/>
              </a:path>
              <a:path fill="darkenLess" w="23188" h="21600">
                <a:moveTo>
                  <a:pt x="231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788" y="20200"/>
                </a:lnTo>
                <a:close/>
              </a:path>
              <a:path fill="lighten" w="231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188" h="21600">
                <a:moveTo>
                  <a:pt x="4587" y="10800"/>
                </a:moveTo>
                <a:lnTo>
                  <a:pt x="18600" y="3794"/>
                </a:lnTo>
                <a:lnTo>
                  <a:pt x="18600" y="17806"/>
                </a:lnTo>
                <a:close/>
              </a:path>
            </a:pathLst>
          </a:custGeom>
          <a:gradFill rotWithShape="0">
            <a:gsLst>
              <a:gs pos="0">
                <a:srgbClr val="969696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AutoShape 8">
            <a:hlinkClick r:id="" action="ppaction://hlinkshowjump?jump=firstslide"/>
          </p:cNvPr>
          <p:cNvSpPr/>
          <p:nvPr/>
        </p:nvSpPr>
        <p:spPr>
          <a:xfrm>
            <a:off x="5410080" y="6324480"/>
            <a:ext cx="573120" cy="533520"/>
          </a:xfrm>
          <a:custGeom>
            <a:avLst/>
            <a:gdLst>
              <a:gd name="textAreaLeft" fmla="*/ 34560 w 573120"/>
              <a:gd name="textAreaRight" fmla="*/ 538560 w 5731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3202" h="21600">
                <a:moveTo>
                  <a:pt x="0" y="0"/>
                </a:moveTo>
                <a:lnTo>
                  <a:pt x="23202" y="0"/>
                </a:lnTo>
                <a:lnTo>
                  <a:pt x="23202" y="21600"/>
                </a:lnTo>
                <a:lnTo>
                  <a:pt x="0" y="21600"/>
                </a:lnTo>
                <a:close/>
              </a:path>
              <a:path fill="lightenLess" w="23202" h="21600">
                <a:moveTo>
                  <a:pt x="0" y="0"/>
                </a:moveTo>
                <a:lnTo>
                  <a:pt x="23202" y="0"/>
                </a:lnTo>
                <a:lnTo>
                  <a:pt x="21802" y="1400"/>
                </a:lnTo>
                <a:lnTo>
                  <a:pt x="1400" y="1400"/>
                </a:lnTo>
                <a:close/>
              </a:path>
              <a:path fill="darken" w="23202" h="21600">
                <a:moveTo>
                  <a:pt x="23202" y="0"/>
                </a:moveTo>
                <a:lnTo>
                  <a:pt x="23202" y="21600"/>
                </a:lnTo>
                <a:lnTo>
                  <a:pt x="21802" y="20200"/>
                </a:lnTo>
                <a:lnTo>
                  <a:pt x="21802" y="1400"/>
                </a:lnTo>
                <a:close/>
              </a:path>
              <a:path fill="darkenLess" w="23202" h="21600">
                <a:moveTo>
                  <a:pt x="23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802" y="20200"/>
                </a:lnTo>
                <a:close/>
              </a:path>
              <a:path fill="lighten" w="23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202" h="21600">
                <a:moveTo>
                  <a:pt x="8102" y="10800"/>
                </a:moveTo>
                <a:lnTo>
                  <a:pt x="18608" y="3794"/>
                </a:lnTo>
                <a:lnTo>
                  <a:pt x="18608" y="17806"/>
                </a:lnTo>
                <a:close/>
              </a:path>
              <a:path fill="darken" w="23202" h="21600">
                <a:moveTo>
                  <a:pt x="4595" y="3794"/>
                </a:moveTo>
                <a:lnTo>
                  <a:pt x="6257" y="3794"/>
                </a:lnTo>
                <a:lnTo>
                  <a:pt x="6257" y="17806"/>
                </a:lnTo>
                <a:lnTo>
                  <a:pt x="4595" y="17806"/>
                </a:lnTo>
                <a:close/>
              </a:path>
            </a:pathLst>
          </a:custGeom>
          <a:gradFill rotWithShape="0">
            <a:gsLst>
              <a:gs pos="0">
                <a:srgbClr val="969696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AutoShape 9">
            <a:hlinkClick r:id="rId3" action="ppaction://hlinksldjump"/>
          </p:cNvPr>
          <p:cNvSpPr/>
          <p:nvPr/>
        </p:nvSpPr>
        <p:spPr>
          <a:xfrm>
            <a:off x="6269040" y="6324480"/>
            <a:ext cx="573120" cy="533520"/>
          </a:xfrm>
          <a:custGeom>
            <a:avLst/>
            <a:gdLst>
              <a:gd name="textAreaLeft" fmla="*/ 34560 w 573120"/>
              <a:gd name="textAreaRight" fmla="*/ 538560 w 5731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3202" h="21600">
                <a:moveTo>
                  <a:pt x="0" y="0"/>
                </a:moveTo>
                <a:lnTo>
                  <a:pt x="23202" y="0"/>
                </a:lnTo>
                <a:lnTo>
                  <a:pt x="23202" y="21600"/>
                </a:lnTo>
                <a:lnTo>
                  <a:pt x="0" y="21600"/>
                </a:lnTo>
                <a:close/>
              </a:path>
              <a:path fill="lightenLess" w="23202" h="21600">
                <a:moveTo>
                  <a:pt x="0" y="0"/>
                </a:moveTo>
                <a:lnTo>
                  <a:pt x="23202" y="0"/>
                </a:lnTo>
                <a:lnTo>
                  <a:pt x="21802" y="1400"/>
                </a:lnTo>
                <a:lnTo>
                  <a:pt x="1400" y="1400"/>
                </a:lnTo>
                <a:close/>
              </a:path>
              <a:path fill="darken" w="23202" h="21600">
                <a:moveTo>
                  <a:pt x="23202" y="0"/>
                </a:moveTo>
                <a:lnTo>
                  <a:pt x="23202" y="21600"/>
                </a:lnTo>
                <a:lnTo>
                  <a:pt x="21802" y="20200"/>
                </a:lnTo>
                <a:lnTo>
                  <a:pt x="21802" y="1400"/>
                </a:lnTo>
                <a:close/>
              </a:path>
              <a:path fill="darkenLess" w="23202" h="21600">
                <a:moveTo>
                  <a:pt x="23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802" y="20200"/>
                </a:lnTo>
                <a:close/>
              </a:path>
              <a:path fill="lighten" w="23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202" h="21600">
                <a:moveTo>
                  <a:pt x="15100" y="10800"/>
                </a:moveTo>
                <a:lnTo>
                  <a:pt x="4595" y="17806"/>
                </a:lnTo>
                <a:lnTo>
                  <a:pt x="4595" y="3794"/>
                </a:lnTo>
                <a:close/>
              </a:path>
              <a:path fill="darken" w="23202" h="21600">
                <a:moveTo>
                  <a:pt x="16945" y="3794"/>
                </a:moveTo>
                <a:lnTo>
                  <a:pt x="16945" y="17806"/>
                </a:lnTo>
                <a:lnTo>
                  <a:pt x="18608" y="17806"/>
                </a:lnTo>
                <a:lnTo>
                  <a:pt x="18608" y="3794"/>
                </a:lnTo>
                <a:close/>
              </a:path>
            </a:pathLst>
          </a:custGeom>
          <a:gradFill rotWithShape="0">
            <a:gsLst>
              <a:gs pos="0">
                <a:srgbClr val="969696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AutoShape 10">
            <a:hlinkClick r:id="" action="ppaction://hlinkshowjump?jump=endshow"/>
          </p:cNvPr>
          <p:cNvSpPr/>
          <p:nvPr/>
        </p:nvSpPr>
        <p:spPr>
          <a:xfrm>
            <a:off x="4343400" y="6324480"/>
            <a:ext cx="609480" cy="53352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73" h="21600">
                <a:moveTo>
                  <a:pt x="0" y="0"/>
                </a:moveTo>
                <a:lnTo>
                  <a:pt x="24673" y="0"/>
                </a:lnTo>
                <a:lnTo>
                  <a:pt x="24673" y="21600"/>
                </a:lnTo>
                <a:lnTo>
                  <a:pt x="0" y="21600"/>
                </a:lnTo>
                <a:close/>
              </a:path>
              <a:path fill="lightenLess" w="24673" h="21600">
                <a:moveTo>
                  <a:pt x="0" y="0"/>
                </a:moveTo>
                <a:lnTo>
                  <a:pt x="24673" y="0"/>
                </a:lnTo>
                <a:lnTo>
                  <a:pt x="23273" y="1400"/>
                </a:lnTo>
                <a:lnTo>
                  <a:pt x="1400" y="1400"/>
                </a:lnTo>
                <a:close/>
              </a:path>
              <a:path fill="darken" w="24673" h="21600">
                <a:moveTo>
                  <a:pt x="24673" y="0"/>
                </a:moveTo>
                <a:lnTo>
                  <a:pt x="24673" y="21600"/>
                </a:lnTo>
                <a:lnTo>
                  <a:pt x="23273" y="20200"/>
                </a:lnTo>
                <a:lnTo>
                  <a:pt x="23273" y="1400"/>
                </a:lnTo>
                <a:close/>
              </a:path>
              <a:path fill="darkenLess" w="24673" h="21600">
                <a:moveTo>
                  <a:pt x="246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3" y="20200"/>
                </a:lnTo>
                <a:close/>
              </a:path>
              <a:path fill="lighten" w="246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73" h="21600">
                <a:moveTo>
                  <a:pt x="5330" y="7493"/>
                </a:moveTo>
                <a:lnTo>
                  <a:pt x="8838" y="7493"/>
                </a:lnTo>
                <a:lnTo>
                  <a:pt x="8838" y="12828"/>
                </a:lnTo>
                <a:cubicBezTo>
                  <a:pt x="8838" y="13751"/>
                  <a:pt x="9638" y="14482"/>
                  <a:pt x="10674" y="14482"/>
                </a:cubicBezTo>
                <a:lnTo>
                  <a:pt x="12337" y="14482"/>
                </a:lnTo>
                <a:cubicBezTo>
                  <a:pt x="13372" y="14482"/>
                  <a:pt x="14173" y="13751"/>
                  <a:pt x="14173" y="12828"/>
                </a:cubicBezTo>
                <a:lnTo>
                  <a:pt x="14173" y="7493"/>
                </a:lnTo>
                <a:lnTo>
                  <a:pt x="12337" y="7493"/>
                </a:lnTo>
                <a:lnTo>
                  <a:pt x="15844" y="3985"/>
                </a:lnTo>
                <a:lnTo>
                  <a:pt x="19517" y="7493"/>
                </a:lnTo>
                <a:lnTo>
                  <a:pt x="17681" y="7493"/>
                </a:lnTo>
                <a:lnTo>
                  <a:pt x="17681" y="12828"/>
                </a:lnTo>
                <a:cubicBezTo>
                  <a:pt x="17681" y="15596"/>
                  <a:pt x="15104" y="18155"/>
                  <a:pt x="12337" y="18155"/>
                </a:cubicBezTo>
                <a:lnTo>
                  <a:pt x="10674" y="18155"/>
                </a:lnTo>
                <a:cubicBezTo>
                  <a:pt x="7906" y="18155"/>
                  <a:pt x="5330" y="15596"/>
                  <a:pt x="5330" y="12828"/>
                </a:cubicBezTo>
                <a:close/>
              </a:path>
            </a:pathLst>
          </a:custGeom>
          <a:gradFill rotWithShape="0">
            <a:gsLst>
              <a:gs pos="0">
                <a:srgbClr val="969696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33" name="Picture 14" descr="image021"/>
          <p:cNvPicPr/>
          <p:nvPr/>
        </p:nvPicPr>
        <p:blipFill>
          <a:blip r:embed="rId4"/>
          <a:stretch/>
        </p:blipFill>
        <p:spPr>
          <a:xfrm>
            <a:off x="533520" y="394344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15" descr="j0285750"/>
          <p:cNvPicPr/>
          <p:nvPr/>
        </p:nvPicPr>
        <p:blipFill>
          <a:blip r:embed="rId5"/>
          <a:stretch/>
        </p:blipFill>
        <p:spPr>
          <a:xfrm>
            <a:off x="6535800" y="3743280"/>
            <a:ext cx="1828800" cy="112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5" name="Rectangle 12"/>
          <p:cNvGrpSpPr/>
          <p:nvPr/>
        </p:nvGrpSpPr>
        <p:grpSpPr>
          <a:xfrm>
            <a:off x="2286000" y="304920"/>
            <a:ext cx="4266720" cy="841320"/>
            <a:chOff x="2286000" y="304920"/>
            <a:chExt cx="4266720" cy="841320"/>
          </a:xfrm>
        </p:grpSpPr>
        <p:pic>
          <p:nvPicPr>
            <p:cNvPr id="236" name="Rectangle 12" descr=""/>
            <p:cNvPicPr/>
            <p:nvPr/>
          </p:nvPicPr>
          <p:blipFill>
            <a:blip r:embed="rId1"/>
            <a:stretch/>
          </p:blipFill>
          <p:spPr>
            <a:xfrm>
              <a:off x="2286000" y="304920"/>
              <a:ext cx="426528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287080" y="304920"/>
              <a:ext cx="426564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ff0000"/>
                  </a:solidFill>
                  <a:latin typeface="Franklin Gothic Medium"/>
                </a:rPr>
                <a:t>ПРАВИЛО 2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38" name=""/>
          <p:cNvSpPr txBox="1"/>
          <p:nvPr/>
        </p:nvSpPr>
        <p:spPr>
          <a:xfrm>
            <a:off x="2742840" y="1676160"/>
            <a:ext cx="5638680" cy="2361960"/>
          </a:xfrm>
          <a:prstGeom prst="rect">
            <a:avLst/>
          </a:prstGeom>
          <a:gradFill rotWithShape="0">
            <a:gsLst>
              <a:gs pos="0">
                <a:srgbClr val="ffef66"/>
              </a:gs>
              <a:gs pos="50000">
                <a:srgbClr val="ffffff"/>
              </a:gs>
              <a:gs pos="100000">
                <a:srgbClr val="ffef66"/>
              </a:gs>
            </a:gsLst>
            <a:lin ang="2700000"/>
          </a:gradFill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       </a:t>
            </a:r>
            <a:r>
              <a:rPr b="1" lang="ru-RU" sz="2400" spc="-1" strike="noStrike">
                <a:solidFill>
                  <a:srgbClr val="0679a3"/>
                </a:solidFill>
                <a:latin typeface="Arial Black"/>
              </a:rPr>
              <a:t>Располагайте компьютер на специальных компьютерных столиках.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679a3"/>
                </a:solidFill>
                <a:latin typeface="Arial Black"/>
              </a:rPr>
              <a:t>       </a:t>
            </a:r>
            <a:r>
              <a:rPr b="1" lang="ru-RU" sz="2400" spc="-1" strike="noStrike">
                <a:solidFill>
                  <a:srgbClr val="0679a3"/>
                </a:solidFill>
                <a:latin typeface="Arial Black"/>
              </a:rPr>
              <a:t>Пользуйтесь высоким вращающимся стулом с удобной спинкой. 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9" name="AutoShape 26">
            <a:hlinkClick r:id="" action="ppaction://hlinkshowjump?jump=nextslide"/>
          </p:cNvPr>
          <p:cNvSpPr/>
          <p:nvPr/>
        </p:nvSpPr>
        <p:spPr>
          <a:xfrm>
            <a:off x="8418600" y="6324480"/>
            <a:ext cx="573120" cy="533520"/>
          </a:xfrm>
          <a:custGeom>
            <a:avLst/>
            <a:gdLst>
              <a:gd name="textAreaLeft" fmla="*/ 34560 w 573120"/>
              <a:gd name="textAreaRight" fmla="*/ 538560 w 5731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3202" h="21600">
                <a:moveTo>
                  <a:pt x="0" y="0"/>
                </a:moveTo>
                <a:lnTo>
                  <a:pt x="23202" y="0"/>
                </a:lnTo>
                <a:lnTo>
                  <a:pt x="23202" y="21600"/>
                </a:lnTo>
                <a:lnTo>
                  <a:pt x="0" y="21600"/>
                </a:lnTo>
                <a:close/>
              </a:path>
              <a:path fill="lightenLess" w="23202" h="21600">
                <a:moveTo>
                  <a:pt x="0" y="0"/>
                </a:moveTo>
                <a:lnTo>
                  <a:pt x="23202" y="0"/>
                </a:lnTo>
                <a:lnTo>
                  <a:pt x="21802" y="1400"/>
                </a:lnTo>
                <a:lnTo>
                  <a:pt x="1400" y="1400"/>
                </a:lnTo>
                <a:close/>
              </a:path>
              <a:path fill="darken" w="23202" h="21600">
                <a:moveTo>
                  <a:pt x="23202" y="0"/>
                </a:moveTo>
                <a:lnTo>
                  <a:pt x="23202" y="21600"/>
                </a:lnTo>
                <a:lnTo>
                  <a:pt x="21802" y="20200"/>
                </a:lnTo>
                <a:lnTo>
                  <a:pt x="21802" y="1400"/>
                </a:lnTo>
                <a:close/>
              </a:path>
              <a:path fill="darkenLess" w="23202" h="21600">
                <a:moveTo>
                  <a:pt x="23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802" y="20200"/>
                </a:lnTo>
                <a:close/>
              </a:path>
              <a:path fill="lighten" w="23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202" h="21600">
                <a:moveTo>
                  <a:pt x="4595" y="3794"/>
                </a:moveTo>
                <a:lnTo>
                  <a:pt x="18608" y="10800"/>
                </a:lnTo>
                <a:lnTo>
                  <a:pt x="4595" y="17806"/>
                </a:lnTo>
                <a:close/>
              </a:path>
            </a:pathLst>
          </a:custGeom>
          <a:gradFill rotWithShape="0">
            <a:gsLst>
              <a:gs pos="0">
                <a:srgbClr val="969696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AutoShape 27">
            <a:hlinkClick r:id="" action="ppaction://hlinkshowjump?jump=previousslide"/>
          </p:cNvPr>
          <p:cNvSpPr/>
          <p:nvPr/>
        </p:nvSpPr>
        <p:spPr>
          <a:xfrm>
            <a:off x="7631280" y="6324480"/>
            <a:ext cx="572760" cy="533520"/>
          </a:xfrm>
          <a:custGeom>
            <a:avLst/>
            <a:gdLst>
              <a:gd name="textAreaLeft" fmla="*/ 34560 w 572760"/>
              <a:gd name="textAreaRight" fmla="*/ 538200 w 57276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3188" h="21600">
                <a:moveTo>
                  <a:pt x="0" y="0"/>
                </a:moveTo>
                <a:lnTo>
                  <a:pt x="23188" y="0"/>
                </a:lnTo>
                <a:lnTo>
                  <a:pt x="23188" y="21600"/>
                </a:lnTo>
                <a:lnTo>
                  <a:pt x="0" y="21600"/>
                </a:lnTo>
                <a:close/>
              </a:path>
              <a:path fill="lightenLess" w="23188" h="21600">
                <a:moveTo>
                  <a:pt x="0" y="0"/>
                </a:moveTo>
                <a:lnTo>
                  <a:pt x="23188" y="0"/>
                </a:lnTo>
                <a:lnTo>
                  <a:pt x="21788" y="1400"/>
                </a:lnTo>
                <a:lnTo>
                  <a:pt x="1400" y="1400"/>
                </a:lnTo>
                <a:close/>
              </a:path>
              <a:path fill="darken" w="23188" h="21600">
                <a:moveTo>
                  <a:pt x="23188" y="0"/>
                </a:moveTo>
                <a:lnTo>
                  <a:pt x="23188" y="21600"/>
                </a:lnTo>
                <a:lnTo>
                  <a:pt x="21788" y="20200"/>
                </a:lnTo>
                <a:lnTo>
                  <a:pt x="21788" y="1400"/>
                </a:lnTo>
                <a:close/>
              </a:path>
              <a:path fill="darkenLess" w="23188" h="21600">
                <a:moveTo>
                  <a:pt x="231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788" y="20200"/>
                </a:lnTo>
                <a:close/>
              </a:path>
              <a:path fill="lighten" w="231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188" h="21600">
                <a:moveTo>
                  <a:pt x="4587" y="10800"/>
                </a:moveTo>
                <a:lnTo>
                  <a:pt x="18600" y="3794"/>
                </a:lnTo>
                <a:lnTo>
                  <a:pt x="18600" y="17806"/>
                </a:lnTo>
                <a:close/>
              </a:path>
            </a:pathLst>
          </a:custGeom>
          <a:gradFill rotWithShape="0">
            <a:gsLst>
              <a:gs pos="0">
                <a:srgbClr val="969696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" name="AutoShape 28">
            <a:hlinkClick r:id="" action="ppaction://hlinkshowjump?jump=firstslide"/>
          </p:cNvPr>
          <p:cNvSpPr/>
          <p:nvPr/>
        </p:nvSpPr>
        <p:spPr>
          <a:xfrm>
            <a:off x="5410080" y="6324480"/>
            <a:ext cx="573120" cy="533520"/>
          </a:xfrm>
          <a:custGeom>
            <a:avLst/>
            <a:gdLst>
              <a:gd name="textAreaLeft" fmla="*/ 34560 w 573120"/>
              <a:gd name="textAreaRight" fmla="*/ 538560 w 5731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3202" h="21600">
                <a:moveTo>
                  <a:pt x="0" y="0"/>
                </a:moveTo>
                <a:lnTo>
                  <a:pt x="23202" y="0"/>
                </a:lnTo>
                <a:lnTo>
                  <a:pt x="23202" y="21600"/>
                </a:lnTo>
                <a:lnTo>
                  <a:pt x="0" y="21600"/>
                </a:lnTo>
                <a:close/>
              </a:path>
              <a:path fill="lightenLess" w="23202" h="21600">
                <a:moveTo>
                  <a:pt x="0" y="0"/>
                </a:moveTo>
                <a:lnTo>
                  <a:pt x="23202" y="0"/>
                </a:lnTo>
                <a:lnTo>
                  <a:pt x="21802" y="1400"/>
                </a:lnTo>
                <a:lnTo>
                  <a:pt x="1400" y="1400"/>
                </a:lnTo>
                <a:close/>
              </a:path>
              <a:path fill="darken" w="23202" h="21600">
                <a:moveTo>
                  <a:pt x="23202" y="0"/>
                </a:moveTo>
                <a:lnTo>
                  <a:pt x="23202" y="21600"/>
                </a:lnTo>
                <a:lnTo>
                  <a:pt x="21802" y="20200"/>
                </a:lnTo>
                <a:lnTo>
                  <a:pt x="21802" y="1400"/>
                </a:lnTo>
                <a:close/>
              </a:path>
              <a:path fill="darkenLess" w="23202" h="21600">
                <a:moveTo>
                  <a:pt x="23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802" y="20200"/>
                </a:lnTo>
                <a:close/>
              </a:path>
              <a:path fill="lighten" w="23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202" h="21600">
                <a:moveTo>
                  <a:pt x="8102" y="10800"/>
                </a:moveTo>
                <a:lnTo>
                  <a:pt x="18608" y="3794"/>
                </a:lnTo>
                <a:lnTo>
                  <a:pt x="18608" y="17806"/>
                </a:lnTo>
                <a:close/>
              </a:path>
              <a:path fill="darken" w="23202" h="21600">
                <a:moveTo>
                  <a:pt x="4595" y="3794"/>
                </a:moveTo>
                <a:lnTo>
                  <a:pt x="6257" y="3794"/>
                </a:lnTo>
                <a:lnTo>
                  <a:pt x="6257" y="17806"/>
                </a:lnTo>
                <a:lnTo>
                  <a:pt x="4595" y="17806"/>
                </a:lnTo>
                <a:close/>
              </a:path>
            </a:pathLst>
          </a:custGeom>
          <a:gradFill rotWithShape="0">
            <a:gsLst>
              <a:gs pos="0">
                <a:srgbClr val="969696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AutoShape 29">
            <a:hlinkClick r:id="rId2" action="ppaction://hlinksldjump"/>
          </p:cNvPr>
          <p:cNvSpPr/>
          <p:nvPr/>
        </p:nvSpPr>
        <p:spPr>
          <a:xfrm>
            <a:off x="6269040" y="6324480"/>
            <a:ext cx="573120" cy="533520"/>
          </a:xfrm>
          <a:custGeom>
            <a:avLst/>
            <a:gdLst>
              <a:gd name="textAreaLeft" fmla="*/ 34560 w 573120"/>
              <a:gd name="textAreaRight" fmla="*/ 538560 w 5731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3202" h="21600">
                <a:moveTo>
                  <a:pt x="0" y="0"/>
                </a:moveTo>
                <a:lnTo>
                  <a:pt x="23202" y="0"/>
                </a:lnTo>
                <a:lnTo>
                  <a:pt x="23202" y="21600"/>
                </a:lnTo>
                <a:lnTo>
                  <a:pt x="0" y="21600"/>
                </a:lnTo>
                <a:close/>
              </a:path>
              <a:path fill="lightenLess" w="23202" h="21600">
                <a:moveTo>
                  <a:pt x="0" y="0"/>
                </a:moveTo>
                <a:lnTo>
                  <a:pt x="23202" y="0"/>
                </a:lnTo>
                <a:lnTo>
                  <a:pt x="21802" y="1400"/>
                </a:lnTo>
                <a:lnTo>
                  <a:pt x="1400" y="1400"/>
                </a:lnTo>
                <a:close/>
              </a:path>
              <a:path fill="darken" w="23202" h="21600">
                <a:moveTo>
                  <a:pt x="23202" y="0"/>
                </a:moveTo>
                <a:lnTo>
                  <a:pt x="23202" y="21600"/>
                </a:lnTo>
                <a:lnTo>
                  <a:pt x="21802" y="20200"/>
                </a:lnTo>
                <a:lnTo>
                  <a:pt x="21802" y="1400"/>
                </a:lnTo>
                <a:close/>
              </a:path>
              <a:path fill="darkenLess" w="23202" h="21600">
                <a:moveTo>
                  <a:pt x="23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802" y="20200"/>
                </a:lnTo>
                <a:close/>
              </a:path>
              <a:path fill="lighten" w="23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202" h="21600">
                <a:moveTo>
                  <a:pt x="15100" y="10800"/>
                </a:moveTo>
                <a:lnTo>
                  <a:pt x="4595" y="17806"/>
                </a:lnTo>
                <a:lnTo>
                  <a:pt x="4595" y="3794"/>
                </a:lnTo>
                <a:close/>
              </a:path>
              <a:path fill="darken" w="23202" h="21600">
                <a:moveTo>
                  <a:pt x="16945" y="3794"/>
                </a:moveTo>
                <a:lnTo>
                  <a:pt x="16945" y="17806"/>
                </a:lnTo>
                <a:lnTo>
                  <a:pt x="18608" y="17806"/>
                </a:lnTo>
                <a:lnTo>
                  <a:pt x="18608" y="3794"/>
                </a:lnTo>
                <a:close/>
              </a:path>
            </a:pathLst>
          </a:custGeom>
          <a:gradFill rotWithShape="0">
            <a:gsLst>
              <a:gs pos="0">
                <a:srgbClr val="969696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" name="AutoShape 30">
            <a:hlinkClick r:id="" action="ppaction://hlinkshowjump?jump=endshow"/>
          </p:cNvPr>
          <p:cNvSpPr/>
          <p:nvPr/>
        </p:nvSpPr>
        <p:spPr>
          <a:xfrm>
            <a:off x="4343400" y="6324480"/>
            <a:ext cx="609480" cy="53352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73" h="21600">
                <a:moveTo>
                  <a:pt x="0" y="0"/>
                </a:moveTo>
                <a:lnTo>
                  <a:pt x="24673" y="0"/>
                </a:lnTo>
                <a:lnTo>
                  <a:pt x="24673" y="21600"/>
                </a:lnTo>
                <a:lnTo>
                  <a:pt x="0" y="21600"/>
                </a:lnTo>
                <a:close/>
              </a:path>
              <a:path fill="lightenLess" w="24673" h="21600">
                <a:moveTo>
                  <a:pt x="0" y="0"/>
                </a:moveTo>
                <a:lnTo>
                  <a:pt x="24673" y="0"/>
                </a:lnTo>
                <a:lnTo>
                  <a:pt x="23273" y="1400"/>
                </a:lnTo>
                <a:lnTo>
                  <a:pt x="1400" y="1400"/>
                </a:lnTo>
                <a:close/>
              </a:path>
              <a:path fill="darken" w="24673" h="21600">
                <a:moveTo>
                  <a:pt x="24673" y="0"/>
                </a:moveTo>
                <a:lnTo>
                  <a:pt x="24673" y="21600"/>
                </a:lnTo>
                <a:lnTo>
                  <a:pt x="23273" y="20200"/>
                </a:lnTo>
                <a:lnTo>
                  <a:pt x="23273" y="1400"/>
                </a:lnTo>
                <a:close/>
              </a:path>
              <a:path fill="darkenLess" w="24673" h="21600">
                <a:moveTo>
                  <a:pt x="246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3" y="20200"/>
                </a:lnTo>
                <a:close/>
              </a:path>
              <a:path fill="lighten" w="246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73" h="21600">
                <a:moveTo>
                  <a:pt x="5330" y="7493"/>
                </a:moveTo>
                <a:lnTo>
                  <a:pt x="8838" y="7493"/>
                </a:lnTo>
                <a:lnTo>
                  <a:pt x="8838" y="12828"/>
                </a:lnTo>
                <a:cubicBezTo>
                  <a:pt x="8838" y="13751"/>
                  <a:pt x="9638" y="14482"/>
                  <a:pt x="10674" y="14482"/>
                </a:cubicBezTo>
                <a:lnTo>
                  <a:pt x="12337" y="14482"/>
                </a:lnTo>
                <a:cubicBezTo>
                  <a:pt x="13372" y="14482"/>
                  <a:pt x="14173" y="13751"/>
                  <a:pt x="14173" y="12828"/>
                </a:cubicBezTo>
                <a:lnTo>
                  <a:pt x="14173" y="7493"/>
                </a:lnTo>
                <a:lnTo>
                  <a:pt x="12337" y="7493"/>
                </a:lnTo>
                <a:lnTo>
                  <a:pt x="15844" y="3985"/>
                </a:lnTo>
                <a:lnTo>
                  <a:pt x="19517" y="7493"/>
                </a:lnTo>
                <a:lnTo>
                  <a:pt x="17681" y="7493"/>
                </a:lnTo>
                <a:lnTo>
                  <a:pt x="17681" y="12828"/>
                </a:lnTo>
                <a:cubicBezTo>
                  <a:pt x="17681" y="15596"/>
                  <a:pt x="15104" y="18155"/>
                  <a:pt x="12337" y="18155"/>
                </a:cubicBezTo>
                <a:lnTo>
                  <a:pt x="10674" y="18155"/>
                </a:lnTo>
                <a:cubicBezTo>
                  <a:pt x="7906" y="18155"/>
                  <a:pt x="5330" y="15596"/>
                  <a:pt x="5330" y="12828"/>
                </a:cubicBezTo>
                <a:close/>
              </a:path>
            </a:pathLst>
          </a:custGeom>
          <a:gradFill rotWithShape="0">
            <a:gsLst>
              <a:gs pos="0">
                <a:srgbClr val="969696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44" name="Picture 33" descr="worker_place"/>
          <p:cNvPicPr/>
          <p:nvPr/>
        </p:nvPicPr>
        <p:blipFill>
          <a:blip r:embed="rId3"/>
          <a:stretch/>
        </p:blipFill>
        <p:spPr>
          <a:xfrm>
            <a:off x="380880" y="1600200"/>
            <a:ext cx="2197080" cy="2743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5" name="Rectangle 13"/>
          <p:cNvGrpSpPr/>
          <p:nvPr/>
        </p:nvGrpSpPr>
        <p:grpSpPr>
          <a:xfrm>
            <a:off x="2590920" y="304920"/>
            <a:ext cx="4267080" cy="841320"/>
            <a:chOff x="2590920" y="304920"/>
            <a:chExt cx="4267080" cy="841320"/>
          </a:xfrm>
        </p:grpSpPr>
        <p:pic>
          <p:nvPicPr>
            <p:cNvPr id="246" name="Rectangle 13" descr=""/>
            <p:cNvPicPr/>
            <p:nvPr/>
          </p:nvPicPr>
          <p:blipFill>
            <a:blip r:embed="rId1"/>
            <a:stretch/>
          </p:blipFill>
          <p:spPr>
            <a:xfrm>
              <a:off x="2590920" y="304920"/>
              <a:ext cx="426708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7" name=""/>
            <p:cNvSpPr/>
            <p:nvPr/>
          </p:nvSpPr>
          <p:spPr>
            <a:xfrm>
              <a:off x="2590920" y="304920"/>
              <a:ext cx="426708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ff0000"/>
                  </a:solidFill>
                  <a:latin typeface="Franklin Gothic Medium"/>
                </a:rPr>
                <a:t>ПРАВИЛО 3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48" name=""/>
          <p:cNvSpPr txBox="1"/>
          <p:nvPr/>
        </p:nvSpPr>
        <p:spPr>
          <a:xfrm>
            <a:off x="3352680" y="1752120"/>
            <a:ext cx="5181840" cy="25146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797b7e"/>
              </a:gs>
            </a:gsLst>
            <a:lin ang="2700000"/>
          </a:gradFill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679a3"/>
                </a:solidFill>
                <a:latin typeface="Arial Black"/>
              </a:rPr>
              <a:t>            </a:t>
            </a:r>
            <a:r>
              <a:rPr b="1" lang="ru-RU" sz="2400" spc="-1" strike="noStrike">
                <a:solidFill>
                  <a:srgbClr val="0679a3"/>
                </a:solidFill>
                <a:latin typeface="Arial Black"/>
              </a:rPr>
              <a:t>Располагайтесь перед компьютером так, как вам удобно. Ноги при этом должны быть согнуты под прямым углом. 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9" name="AutoShape 29">
            <a:hlinkClick r:id="" action="ppaction://hlinkshowjump?jump=nextslide"/>
          </p:cNvPr>
          <p:cNvSpPr/>
          <p:nvPr/>
        </p:nvSpPr>
        <p:spPr>
          <a:xfrm>
            <a:off x="8418600" y="6324480"/>
            <a:ext cx="573120" cy="533520"/>
          </a:xfrm>
          <a:custGeom>
            <a:avLst/>
            <a:gdLst>
              <a:gd name="textAreaLeft" fmla="*/ 34560 w 573120"/>
              <a:gd name="textAreaRight" fmla="*/ 538560 w 5731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3202" h="21600">
                <a:moveTo>
                  <a:pt x="0" y="0"/>
                </a:moveTo>
                <a:lnTo>
                  <a:pt x="23202" y="0"/>
                </a:lnTo>
                <a:lnTo>
                  <a:pt x="23202" y="21600"/>
                </a:lnTo>
                <a:lnTo>
                  <a:pt x="0" y="21600"/>
                </a:lnTo>
                <a:close/>
              </a:path>
              <a:path fill="lightenLess" w="23202" h="21600">
                <a:moveTo>
                  <a:pt x="0" y="0"/>
                </a:moveTo>
                <a:lnTo>
                  <a:pt x="23202" y="0"/>
                </a:lnTo>
                <a:lnTo>
                  <a:pt x="21802" y="1400"/>
                </a:lnTo>
                <a:lnTo>
                  <a:pt x="1400" y="1400"/>
                </a:lnTo>
                <a:close/>
              </a:path>
              <a:path fill="darken" w="23202" h="21600">
                <a:moveTo>
                  <a:pt x="23202" y="0"/>
                </a:moveTo>
                <a:lnTo>
                  <a:pt x="23202" y="21600"/>
                </a:lnTo>
                <a:lnTo>
                  <a:pt x="21802" y="20200"/>
                </a:lnTo>
                <a:lnTo>
                  <a:pt x="21802" y="1400"/>
                </a:lnTo>
                <a:close/>
              </a:path>
              <a:path fill="darkenLess" w="23202" h="21600">
                <a:moveTo>
                  <a:pt x="23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802" y="20200"/>
                </a:lnTo>
                <a:close/>
              </a:path>
              <a:path fill="lighten" w="23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202" h="21600">
                <a:moveTo>
                  <a:pt x="4595" y="3794"/>
                </a:moveTo>
                <a:lnTo>
                  <a:pt x="18608" y="10800"/>
                </a:lnTo>
                <a:lnTo>
                  <a:pt x="4595" y="17806"/>
                </a:lnTo>
                <a:close/>
              </a:path>
            </a:pathLst>
          </a:custGeom>
          <a:gradFill rotWithShape="0">
            <a:gsLst>
              <a:gs pos="0">
                <a:srgbClr val="969696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AutoShape 30">
            <a:hlinkClick r:id="" action="ppaction://hlinkshowjump?jump=previousslide"/>
          </p:cNvPr>
          <p:cNvSpPr/>
          <p:nvPr/>
        </p:nvSpPr>
        <p:spPr>
          <a:xfrm>
            <a:off x="7631280" y="6324480"/>
            <a:ext cx="572760" cy="533520"/>
          </a:xfrm>
          <a:custGeom>
            <a:avLst/>
            <a:gdLst>
              <a:gd name="textAreaLeft" fmla="*/ 34560 w 572760"/>
              <a:gd name="textAreaRight" fmla="*/ 538200 w 57276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3188" h="21600">
                <a:moveTo>
                  <a:pt x="0" y="0"/>
                </a:moveTo>
                <a:lnTo>
                  <a:pt x="23188" y="0"/>
                </a:lnTo>
                <a:lnTo>
                  <a:pt x="23188" y="21600"/>
                </a:lnTo>
                <a:lnTo>
                  <a:pt x="0" y="21600"/>
                </a:lnTo>
                <a:close/>
              </a:path>
              <a:path fill="lightenLess" w="23188" h="21600">
                <a:moveTo>
                  <a:pt x="0" y="0"/>
                </a:moveTo>
                <a:lnTo>
                  <a:pt x="23188" y="0"/>
                </a:lnTo>
                <a:lnTo>
                  <a:pt x="21788" y="1400"/>
                </a:lnTo>
                <a:lnTo>
                  <a:pt x="1400" y="1400"/>
                </a:lnTo>
                <a:close/>
              </a:path>
              <a:path fill="darken" w="23188" h="21600">
                <a:moveTo>
                  <a:pt x="23188" y="0"/>
                </a:moveTo>
                <a:lnTo>
                  <a:pt x="23188" y="21600"/>
                </a:lnTo>
                <a:lnTo>
                  <a:pt x="21788" y="20200"/>
                </a:lnTo>
                <a:lnTo>
                  <a:pt x="21788" y="1400"/>
                </a:lnTo>
                <a:close/>
              </a:path>
              <a:path fill="darkenLess" w="23188" h="21600">
                <a:moveTo>
                  <a:pt x="231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788" y="20200"/>
                </a:lnTo>
                <a:close/>
              </a:path>
              <a:path fill="lighten" w="231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188" h="21600">
                <a:moveTo>
                  <a:pt x="4587" y="10800"/>
                </a:moveTo>
                <a:lnTo>
                  <a:pt x="18600" y="3794"/>
                </a:lnTo>
                <a:lnTo>
                  <a:pt x="18600" y="17806"/>
                </a:lnTo>
                <a:close/>
              </a:path>
            </a:pathLst>
          </a:custGeom>
          <a:gradFill rotWithShape="0">
            <a:gsLst>
              <a:gs pos="0">
                <a:srgbClr val="969696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" name="AutoShape 31">
            <a:hlinkClick r:id="" action="ppaction://hlinkshowjump?jump=firstslide"/>
          </p:cNvPr>
          <p:cNvSpPr/>
          <p:nvPr/>
        </p:nvSpPr>
        <p:spPr>
          <a:xfrm>
            <a:off x="5410080" y="6324480"/>
            <a:ext cx="573120" cy="533520"/>
          </a:xfrm>
          <a:custGeom>
            <a:avLst/>
            <a:gdLst>
              <a:gd name="textAreaLeft" fmla="*/ 34560 w 573120"/>
              <a:gd name="textAreaRight" fmla="*/ 538560 w 5731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3202" h="21600">
                <a:moveTo>
                  <a:pt x="0" y="0"/>
                </a:moveTo>
                <a:lnTo>
                  <a:pt x="23202" y="0"/>
                </a:lnTo>
                <a:lnTo>
                  <a:pt x="23202" y="21600"/>
                </a:lnTo>
                <a:lnTo>
                  <a:pt x="0" y="21600"/>
                </a:lnTo>
                <a:close/>
              </a:path>
              <a:path fill="lightenLess" w="23202" h="21600">
                <a:moveTo>
                  <a:pt x="0" y="0"/>
                </a:moveTo>
                <a:lnTo>
                  <a:pt x="23202" y="0"/>
                </a:lnTo>
                <a:lnTo>
                  <a:pt x="21802" y="1400"/>
                </a:lnTo>
                <a:lnTo>
                  <a:pt x="1400" y="1400"/>
                </a:lnTo>
                <a:close/>
              </a:path>
              <a:path fill="darken" w="23202" h="21600">
                <a:moveTo>
                  <a:pt x="23202" y="0"/>
                </a:moveTo>
                <a:lnTo>
                  <a:pt x="23202" y="21600"/>
                </a:lnTo>
                <a:lnTo>
                  <a:pt x="21802" y="20200"/>
                </a:lnTo>
                <a:lnTo>
                  <a:pt x="21802" y="1400"/>
                </a:lnTo>
                <a:close/>
              </a:path>
              <a:path fill="darkenLess" w="23202" h="21600">
                <a:moveTo>
                  <a:pt x="23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802" y="20200"/>
                </a:lnTo>
                <a:close/>
              </a:path>
              <a:path fill="lighten" w="23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202" h="21600">
                <a:moveTo>
                  <a:pt x="8102" y="10800"/>
                </a:moveTo>
                <a:lnTo>
                  <a:pt x="18608" y="3794"/>
                </a:lnTo>
                <a:lnTo>
                  <a:pt x="18608" y="17806"/>
                </a:lnTo>
                <a:close/>
              </a:path>
              <a:path fill="darken" w="23202" h="21600">
                <a:moveTo>
                  <a:pt x="4595" y="3794"/>
                </a:moveTo>
                <a:lnTo>
                  <a:pt x="6257" y="3794"/>
                </a:lnTo>
                <a:lnTo>
                  <a:pt x="6257" y="17806"/>
                </a:lnTo>
                <a:lnTo>
                  <a:pt x="4595" y="17806"/>
                </a:lnTo>
                <a:close/>
              </a:path>
            </a:pathLst>
          </a:custGeom>
          <a:gradFill rotWithShape="0">
            <a:gsLst>
              <a:gs pos="0">
                <a:srgbClr val="969696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" name="AutoShape 32">
            <a:hlinkClick r:id="rId2" action="ppaction://hlinksldjump"/>
          </p:cNvPr>
          <p:cNvSpPr/>
          <p:nvPr/>
        </p:nvSpPr>
        <p:spPr>
          <a:xfrm>
            <a:off x="6269040" y="6324480"/>
            <a:ext cx="573120" cy="533520"/>
          </a:xfrm>
          <a:custGeom>
            <a:avLst/>
            <a:gdLst>
              <a:gd name="textAreaLeft" fmla="*/ 34560 w 573120"/>
              <a:gd name="textAreaRight" fmla="*/ 538560 w 5731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3202" h="21600">
                <a:moveTo>
                  <a:pt x="0" y="0"/>
                </a:moveTo>
                <a:lnTo>
                  <a:pt x="23202" y="0"/>
                </a:lnTo>
                <a:lnTo>
                  <a:pt x="23202" y="21600"/>
                </a:lnTo>
                <a:lnTo>
                  <a:pt x="0" y="21600"/>
                </a:lnTo>
                <a:close/>
              </a:path>
              <a:path fill="lightenLess" w="23202" h="21600">
                <a:moveTo>
                  <a:pt x="0" y="0"/>
                </a:moveTo>
                <a:lnTo>
                  <a:pt x="23202" y="0"/>
                </a:lnTo>
                <a:lnTo>
                  <a:pt x="21802" y="1400"/>
                </a:lnTo>
                <a:lnTo>
                  <a:pt x="1400" y="1400"/>
                </a:lnTo>
                <a:close/>
              </a:path>
              <a:path fill="darken" w="23202" h="21600">
                <a:moveTo>
                  <a:pt x="23202" y="0"/>
                </a:moveTo>
                <a:lnTo>
                  <a:pt x="23202" y="21600"/>
                </a:lnTo>
                <a:lnTo>
                  <a:pt x="21802" y="20200"/>
                </a:lnTo>
                <a:lnTo>
                  <a:pt x="21802" y="1400"/>
                </a:lnTo>
                <a:close/>
              </a:path>
              <a:path fill="darkenLess" w="23202" h="21600">
                <a:moveTo>
                  <a:pt x="23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802" y="20200"/>
                </a:lnTo>
                <a:close/>
              </a:path>
              <a:path fill="lighten" w="23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202" h="21600">
                <a:moveTo>
                  <a:pt x="15100" y="10800"/>
                </a:moveTo>
                <a:lnTo>
                  <a:pt x="4595" y="17806"/>
                </a:lnTo>
                <a:lnTo>
                  <a:pt x="4595" y="3794"/>
                </a:lnTo>
                <a:close/>
              </a:path>
              <a:path fill="darken" w="23202" h="21600">
                <a:moveTo>
                  <a:pt x="16945" y="3794"/>
                </a:moveTo>
                <a:lnTo>
                  <a:pt x="16945" y="17806"/>
                </a:lnTo>
                <a:lnTo>
                  <a:pt x="18608" y="17806"/>
                </a:lnTo>
                <a:lnTo>
                  <a:pt x="18608" y="3794"/>
                </a:lnTo>
                <a:close/>
              </a:path>
            </a:pathLst>
          </a:custGeom>
          <a:gradFill rotWithShape="0">
            <a:gsLst>
              <a:gs pos="0">
                <a:srgbClr val="969696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AutoShape 33">
            <a:hlinkClick r:id="" action="ppaction://hlinkshowjump?jump=endshow"/>
          </p:cNvPr>
          <p:cNvSpPr/>
          <p:nvPr/>
        </p:nvSpPr>
        <p:spPr>
          <a:xfrm>
            <a:off x="4343400" y="6324480"/>
            <a:ext cx="609480" cy="53352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73" h="21600">
                <a:moveTo>
                  <a:pt x="0" y="0"/>
                </a:moveTo>
                <a:lnTo>
                  <a:pt x="24673" y="0"/>
                </a:lnTo>
                <a:lnTo>
                  <a:pt x="24673" y="21600"/>
                </a:lnTo>
                <a:lnTo>
                  <a:pt x="0" y="21600"/>
                </a:lnTo>
                <a:close/>
              </a:path>
              <a:path fill="lightenLess" w="24673" h="21600">
                <a:moveTo>
                  <a:pt x="0" y="0"/>
                </a:moveTo>
                <a:lnTo>
                  <a:pt x="24673" y="0"/>
                </a:lnTo>
                <a:lnTo>
                  <a:pt x="23273" y="1400"/>
                </a:lnTo>
                <a:lnTo>
                  <a:pt x="1400" y="1400"/>
                </a:lnTo>
                <a:close/>
              </a:path>
              <a:path fill="darken" w="24673" h="21600">
                <a:moveTo>
                  <a:pt x="24673" y="0"/>
                </a:moveTo>
                <a:lnTo>
                  <a:pt x="24673" y="21600"/>
                </a:lnTo>
                <a:lnTo>
                  <a:pt x="23273" y="20200"/>
                </a:lnTo>
                <a:lnTo>
                  <a:pt x="23273" y="1400"/>
                </a:lnTo>
                <a:close/>
              </a:path>
              <a:path fill="darkenLess" w="24673" h="21600">
                <a:moveTo>
                  <a:pt x="246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3" y="20200"/>
                </a:lnTo>
                <a:close/>
              </a:path>
              <a:path fill="lighten" w="246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73" h="21600">
                <a:moveTo>
                  <a:pt x="5330" y="7493"/>
                </a:moveTo>
                <a:lnTo>
                  <a:pt x="8838" y="7493"/>
                </a:lnTo>
                <a:lnTo>
                  <a:pt x="8838" y="12828"/>
                </a:lnTo>
                <a:cubicBezTo>
                  <a:pt x="8838" y="13751"/>
                  <a:pt x="9638" y="14482"/>
                  <a:pt x="10674" y="14482"/>
                </a:cubicBezTo>
                <a:lnTo>
                  <a:pt x="12337" y="14482"/>
                </a:lnTo>
                <a:cubicBezTo>
                  <a:pt x="13372" y="14482"/>
                  <a:pt x="14173" y="13751"/>
                  <a:pt x="14173" y="12828"/>
                </a:cubicBezTo>
                <a:lnTo>
                  <a:pt x="14173" y="7493"/>
                </a:lnTo>
                <a:lnTo>
                  <a:pt x="12337" y="7493"/>
                </a:lnTo>
                <a:lnTo>
                  <a:pt x="15844" y="3985"/>
                </a:lnTo>
                <a:lnTo>
                  <a:pt x="19517" y="7493"/>
                </a:lnTo>
                <a:lnTo>
                  <a:pt x="17681" y="7493"/>
                </a:lnTo>
                <a:lnTo>
                  <a:pt x="17681" y="12828"/>
                </a:lnTo>
                <a:cubicBezTo>
                  <a:pt x="17681" y="15596"/>
                  <a:pt x="15104" y="18155"/>
                  <a:pt x="12337" y="18155"/>
                </a:cubicBezTo>
                <a:lnTo>
                  <a:pt x="10674" y="18155"/>
                </a:lnTo>
                <a:cubicBezTo>
                  <a:pt x="7906" y="18155"/>
                  <a:pt x="5330" y="15596"/>
                  <a:pt x="5330" y="12828"/>
                </a:cubicBezTo>
                <a:close/>
              </a:path>
            </a:pathLst>
          </a:custGeom>
          <a:gradFill rotWithShape="0">
            <a:gsLst>
              <a:gs pos="0">
                <a:srgbClr val="969696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54" name="Picture 34" descr="worker_place"/>
          <p:cNvPicPr/>
          <p:nvPr/>
        </p:nvPicPr>
        <p:blipFill>
          <a:blip r:embed="rId3"/>
          <a:stretch/>
        </p:blipFill>
        <p:spPr>
          <a:xfrm>
            <a:off x="609480" y="2057400"/>
            <a:ext cx="2479680" cy="2895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5" name="Rectangle 17"/>
          <p:cNvGrpSpPr/>
          <p:nvPr/>
        </p:nvGrpSpPr>
        <p:grpSpPr>
          <a:xfrm>
            <a:off x="2590920" y="304920"/>
            <a:ext cx="4267080" cy="841320"/>
            <a:chOff x="2590920" y="304920"/>
            <a:chExt cx="4267080" cy="841320"/>
          </a:xfrm>
        </p:grpSpPr>
        <p:pic>
          <p:nvPicPr>
            <p:cNvPr id="256" name="Rectangle 17" descr=""/>
            <p:cNvPicPr/>
            <p:nvPr/>
          </p:nvPicPr>
          <p:blipFill>
            <a:blip r:embed="rId1"/>
            <a:stretch/>
          </p:blipFill>
          <p:spPr>
            <a:xfrm>
              <a:off x="2590920" y="304920"/>
              <a:ext cx="426708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7" name=""/>
            <p:cNvSpPr/>
            <p:nvPr/>
          </p:nvSpPr>
          <p:spPr>
            <a:xfrm>
              <a:off x="2590920" y="304920"/>
              <a:ext cx="426708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ff0000"/>
                  </a:solidFill>
                  <a:latin typeface="Franklin Gothic Medium"/>
                </a:rPr>
                <a:t>ПРАВИЛО 4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58" name=""/>
          <p:cNvSpPr txBox="1"/>
          <p:nvPr/>
        </p:nvSpPr>
        <p:spPr>
          <a:xfrm>
            <a:off x="609120" y="1295280"/>
            <a:ext cx="7696440" cy="289584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797b7e"/>
              </a:gs>
            </a:gsLst>
            <a:lin ang="2700000"/>
          </a:gradFill>
          <a:ln w="0">
            <a:noFill/>
          </a:ln>
        </p:spPr>
        <p:txBody>
          <a:bodyPr anchor="t">
            <a:normAutofit fontScale="94000"/>
          </a:bodyPr>
          <a:p>
            <a:pPr marL="572760" indent="-5727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Black"/>
              </a:rPr>
              <a:t>Монитор, клавиатура и корпус компьютера должны находиться прямо перед вами. При диагональном расположении монитора вам придётся непрерывно поворачиваться  на стуле. От этого неизбежно пострадает осанка. 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59" name="Picture 24" descr="image056"/>
          <p:cNvPicPr/>
          <p:nvPr/>
        </p:nvPicPr>
        <p:blipFill>
          <a:blip r:embed="rId2"/>
          <a:stretch/>
        </p:blipFill>
        <p:spPr>
          <a:xfrm>
            <a:off x="609480" y="5133960"/>
            <a:ext cx="3905280" cy="1457280"/>
          </a:xfrm>
          <a:prstGeom prst="rect">
            <a:avLst/>
          </a:prstGeom>
          <a:ln w="0">
            <a:noFill/>
          </a:ln>
        </p:spPr>
      </p:pic>
      <p:sp>
        <p:nvSpPr>
          <p:cNvPr id="260" name="AutoShape 26">
            <a:hlinkClick r:id="" action="ppaction://hlinkshowjump?jump=nextslide"/>
          </p:cNvPr>
          <p:cNvSpPr/>
          <p:nvPr/>
        </p:nvSpPr>
        <p:spPr>
          <a:xfrm>
            <a:off x="8418600" y="6324480"/>
            <a:ext cx="573120" cy="533520"/>
          </a:xfrm>
          <a:custGeom>
            <a:avLst/>
            <a:gdLst>
              <a:gd name="textAreaLeft" fmla="*/ 34560 w 573120"/>
              <a:gd name="textAreaRight" fmla="*/ 538560 w 5731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3202" h="21600">
                <a:moveTo>
                  <a:pt x="0" y="0"/>
                </a:moveTo>
                <a:lnTo>
                  <a:pt x="23202" y="0"/>
                </a:lnTo>
                <a:lnTo>
                  <a:pt x="23202" y="21600"/>
                </a:lnTo>
                <a:lnTo>
                  <a:pt x="0" y="21600"/>
                </a:lnTo>
                <a:close/>
              </a:path>
              <a:path fill="lightenLess" w="23202" h="21600">
                <a:moveTo>
                  <a:pt x="0" y="0"/>
                </a:moveTo>
                <a:lnTo>
                  <a:pt x="23202" y="0"/>
                </a:lnTo>
                <a:lnTo>
                  <a:pt x="21802" y="1400"/>
                </a:lnTo>
                <a:lnTo>
                  <a:pt x="1400" y="1400"/>
                </a:lnTo>
                <a:close/>
              </a:path>
              <a:path fill="darken" w="23202" h="21600">
                <a:moveTo>
                  <a:pt x="23202" y="0"/>
                </a:moveTo>
                <a:lnTo>
                  <a:pt x="23202" y="21600"/>
                </a:lnTo>
                <a:lnTo>
                  <a:pt x="21802" y="20200"/>
                </a:lnTo>
                <a:lnTo>
                  <a:pt x="21802" y="1400"/>
                </a:lnTo>
                <a:close/>
              </a:path>
              <a:path fill="darkenLess" w="23202" h="21600">
                <a:moveTo>
                  <a:pt x="23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802" y="20200"/>
                </a:lnTo>
                <a:close/>
              </a:path>
              <a:path fill="lighten" w="23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202" h="21600">
                <a:moveTo>
                  <a:pt x="4595" y="3794"/>
                </a:moveTo>
                <a:lnTo>
                  <a:pt x="18608" y="10800"/>
                </a:lnTo>
                <a:lnTo>
                  <a:pt x="4595" y="17806"/>
                </a:lnTo>
                <a:close/>
              </a:path>
            </a:pathLst>
          </a:custGeom>
          <a:gradFill rotWithShape="0">
            <a:gsLst>
              <a:gs pos="0">
                <a:srgbClr val="969696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AutoShape 27">
            <a:hlinkClick r:id="" action="ppaction://hlinkshowjump?jump=previousslide"/>
          </p:cNvPr>
          <p:cNvSpPr/>
          <p:nvPr/>
        </p:nvSpPr>
        <p:spPr>
          <a:xfrm>
            <a:off x="7631280" y="6324480"/>
            <a:ext cx="572760" cy="533520"/>
          </a:xfrm>
          <a:custGeom>
            <a:avLst/>
            <a:gdLst>
              <a:gd name="textAreaLeft" fmla="*/ 34560 w 572760"/>
              <a:gd name="textAreaRight" fmla="*/ 538200 w 57276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3188" h="21600">
                <a:moveTo>
                  <a:pt x="0" y="0"/>
                </a:moveTo>
                <a:lnTo>
                  <a:pt x="23188" y="0"/>
                </a:lnTo>
                <a:lnTo>
                  <a:pt x="23188" y="21600"/>
                </a:lnTo>
                <a:lnTo>
                  <a:pt x="0" y="21600"/>
                </a:lnTo>
                <a:close/>
              </a:path>
              <a:path fill="lightenLess" w="23188" h="21600">
                <a:moveTo>
                  <a:pt x="0" y="0"/>
                </a:moveTo>
                <a:lnTo>
                  <a:pt x="23188" y="0"/>
                </a:lnTo>
                <a:lnTo>
                  <a:pt x="21788" y="1400"/>
                </a:lnTo>
                <a:lnTo>
                  <a:pt x="1400" y="1400"/>
                </a:lnTo>
                <a:close/>
              </a:path>
              <a:path fill="darken" w="23188" h="21600">
                <a:moveTo>
                  <a:pt x="23188" y="0"/>
                </a:moveTo>
                <a:lnTo>
                  <a:pt x="23188" y="21600"/>
                </a:lnTo>
                <a:lnTo>
                  <a:pt x="21788" y="20200"/>
                </a:lnTo>
                <a:lnTo>
                  <a:pt x="21788" y="1400"/>
                </a:lnTo>
                <a:close/>
              </a:path>
              <a:path fill="darkenLess" w="23188" h="21600">
                <a:moveTo>
                  <a:pt x="231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788" y="20200"/>
                </a:lnTo>
                <a:close/>
              </a:path>
              <a:path fill="lighten" w="231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188" h="21600">
                <a:moveTo>
                  <a:pt x="4587" y="10800"/>
                </a:moveTo>
                <a:lnTo>
                  <a:pt x="18600" y="3794"/>
                </a:lnTo>
                <a:lnTo>
                  <a:pt x="18600" y="17806"/>
                </a:lnTo>
                <a:close/>
              </a:path>
            </a:pathLst>
          </a:custGeom>
          <a:gradFill rotWithShape="0">
            <a:gsLst>
              <a:gs pos="0">
                <a:srgbClr val="969696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" name="AutoShape 28">
            <a:hlinkClick r:id="" action="ppaction://hlinkshowjump?jump=firstslide"/>
          </p:cNvPr>
          <p:cNvSpPr/>
          <p:nvPr/>
        </p:nvSpPr>
        <p:spPr>
          <a:xfrm>
            <a:off x="5410080" y="6324480"/>
            <a:ext cx="573120" cy="533520"/>
          </a:xfrm>
          <a:custGeom>
            <a:avLst/>
            <a:gdLst>
              <a:gd name="textAreaLeft" fmla="*/ 34560 w 573120"/>
              <a:gd name="textAreaRight" fmla="*/ 538560 w 5731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3202" h="21600">
                <a:moveTo>
                  <a:pt x="0" y="0"/>
                </a:moveTo>
                <a:lnTo>
                  <a:pt x="23202" y="0"/>
                </a:lnTo>
                <a:lnTo>
                  <a:pt x="23202" y="21600"/>
                </a:lnTo>
                <a:lnTo>
                  <a:pt x="0" y="21600"/>
                </a:lnTo>
                <a:close/>
              </a:path>
              <a:path fill="lightenLess" w="23202" h="21600">
                <a:moveTo>
                  <a:pt x="0" y="0"/>
                </a:moveTo>
                <a:lnTo>
                  <a:pt x="23202" y="0"/>
                </a:lnTo>
                <a:lnTo>
                  <a:pt x="21802" y="1400"/>
                </a:lnTo>
                <a:lnTo>
                  <a:pt x="1400" y="1400"/>
                </a:lnTo>
                <a:close/>
              </a:path>
              <a:path fill="darken" w="23202" h="21600">
                <a:moveTo>
                  <a:pt x="23202" y="0"/>
                </a:moveTo>
                <a:lnTo>
                  <a:pt x="23202" y="21600"/>
                </a:lnTo>
                <a:lnTo>
                  <a:pt x="21802" y="20200"/>
                </a:lnTo>
                <a:lnTo>
                  <a:pt x="21802" y="1400"/>
                </a:lnTo>
                <a:close/>
              </a:path>
              <a:path fill="darkenLess" w="23202" h="21600">
                <a:moveTo>
                  <a:pt x="23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802" y="20200"/>
                </a:lnTo>
                <a:close/>
              </a:path>
              <a:path fill="lighten" w="23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202" h="21600">
                <a:moveTo>
                  <a:pt x="8102" y="10800"/>
                </a:moveTo>
                <a:lnTo>
                  <a:pt x="18608" y="3794"/>
                </a:lnTo>
                <a:lnTo>
                  <a:pt x="18608" y="17806"/>
                </a:lnTo>
                <a:close/>
              </a:path>
              <a:path fill="darken" w="23202" h="21600">
                <a:moveTo>
                  <a:pt x="4595" y="3794"/>
                </a:moveTo>
                <a:lnTo>
                  <a:pt x="6257" y="3794"/>
                </a:lnTo>
                <a:lnTo>
                  <a:pt x="6257" y="17806"/>
                </a:lnTo>
                <a:lnTo>
                  <a:pt x="4595" y="17806"/>
                </a:lnTo>
                <a:close/>
              </a:path>
            </a:pathLst>
          </a:custGeom>
          <a:gradFill rotWithShape="0">
            <a:gsLst>
              <a:gs pos="0">
                <a:srgbClr val="969696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" name="AutoShape 29">
            <a:hlinkClick r:id="rId3" action="ppaction://hlinksldjump"/>
          </p:cNvPr>
          <p:cNvSpPr/>
          <p:nvPr/>
        </p:nvSpPr>
        <p:spPr>
          <a:xfrm>
            <a:off x="6269040" y="6324480"/>
            <a:ext cx="573120" cy="533520"/>
          </a:xfrm>
          <a:custGeom>
            <a:avLst/>
            <a:gdLst>
              <a:gd name="textAreaLeft" fmla="*/ 34560 w 573120"/>
              <a:gd name="textAreaRight" fmla="*/ 538560 w 5731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3202" h="21600">
                <a:moveTo>
                  <a:pt x="0" y="0"/>
                </a:moveTo>
                <a:lnTo>
                  <a:pt x="23202" y="0"/>
                </a:lnTo>
                <a:lnTo>
                  <a:pt x="23202" y="21600"/>
                </a:lnTo>
                <a:lnTo>
                  <a:pt x="0" y="21600"/>
                </a:lnTo>
                <a:close/>
              </a:path>
              <a:path fill="lightenLess" w="23202" h="21600">
                <a:moveTo>
                  <a:pt x="0" y="0"/>
                </a:moveTo>
                <a:lnTo>
                  <a:pt x="23202" y="0"/>
                </a:lnTo>
                <a:lnTo>
                  <a:pt x="21802" y="1400"/>
                </a:lnTo>
                <a:lnTo>
                  <a:pt x="1400" y="1400"/>
                </a:lnTo>
                <a:close/>
              </a:path>
              <a:path fill="darken" w="23202" h="21600">
                <a:moveTo>
                  <a:pt x="23202" y="0"/>
                </a:moveTo>
                <a:lnTo>
                  <a:pt x="23202" y="21600"/>
                </a:lnTo>
                <a:lnTo>
                  <a:pt x="21802" y="20200"/>
                </a:lnTo>
                <a:lnTo>
                  <a:pt x="21802" y="1400"/>
                </a:lnTo>
                <a:close/>
              </a:path>
              <a:path fill="darkenLess" w="23202" h="21600">
                <a:moveTo>
                  <a:pt x="23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802" y="20200"/>
                </a:lnTo>
                <a:close/>
              </a:path>
              <a:path fill="lighten" w="23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202" h="21600">
                <a:moveTo>
                  <a:pt x="15100" y="10800"/>
                </a:moveTo>
                <a:lnTo>
                  <a:pt x="4595" y="17806"/>
                </a:lnTo>
                <a:lnTo>
                  <a:pt x="4595" y="3794"/>
                </a:lnTo>
                <a:close/>
              </a:path>
              <a:path fill="darken" w="23202" h="21600">
                <a:moveTo>
                  <a:pt x="16945" y="3794"/>
                </a:moveTo>
                <a:lnTo>
                  <a:pt x="16945" y="17806"/>
                </a:lnTo>
                <a:lnTo>
                  <a:pt x="18608" y="17806"/>
                </a:lnTo>
                <a:lnTo>
                  <a:pt x="18608" y="3794"/>
                </a:lnTo>
                <a:close/>
              </a:path>
            </a:pathLst>
          </a:custGeom>
          <a:gradFill rotWithShape="0">
            <a:gsLst>
              <a:gs pos="0">
                <a:srgbClr val="969696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" name="AutoShape 30">
            <a:hlinkClick r:id="" action="ppaction://hlinkshowjump?jump=endshow"/>
          </p:cNvPr>
          <p:cNvSpPr/>
          <p:nvPr/>
        </p:nvSpPr>
        <p:spPr>
          <a:xfrm>
            <a:off x="4343400" y="6324480"/>
            <a:ext cx="609480" cy="53352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73" h="21600">
                <a:moveTo>
                  <a:pt x="0" y="0"/>
                </a:moveTo>
                <a:lnTo>
                  <a:pt x="24673" y="0"/>
                </a:lnTo>
                <a:lnTo>
                  <a:pt x="24673" y="21600"/>
                </a:lnTo>
                <a:lnTo>
                  <a:pt x="0" y="21600"/>
                </a:lnTo>
                <a:close/>
              </a:path>
              <a:path fill="lightenLess" w="24673" h="21600">
                <a:moveTo>
                  <a:pt x="0" y="0"/>
                </a:moveTo>
                <a:lnTo>
                  <a:pt x="24673" y="0"/>
                </a:lnTo>
                <a:lnTo>
                  <a:pt x="23273" y="1400"/>
                </a:lnTo>
                <a:lnTo>
                  <a:pt x="1400" y="1400"/>
                </a:lnTo>
                <a:close/>
              </a:path>
              <a:path fill="darken" w="24673" h="21600">
                <a:moveTo>
                  <a:pt x="24673" y="0"/>
                </a:moveTo>
                <a:lnTo>
                  <a:pt x="24673" y="21600"/>
                </a:lnTo>
                <a:lnTo>
                  <a:pt x="23273" y="20200"/>
                </a:lnTo>
                <a:lnTo>
                  <a:pt x="23273" y="1400"/>
                </a:lnTo>
                <a:close/>
              </a:path>
              <a:path fill="darkenLess" w="24673" h="21600">
                <a:moveTo>
                  <a:pt x="246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3" y="20200"/>
                </a:lnTo>
                <a:close/>
              </a:path>
              <a:path fill="lighten" w="246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73" h="21600">
                <a:moveTo>
                  <a:pt x="5330" y="7493"/>
                </a:moveTo>
                <a:lnTo>
                  <a:pt x="8838" y="7493"/>
                </a:lnTo>
                <a:lnTo>
                  <a:pt x="8838" y="12828"/>
                </a:lnTo>
                <a:cubicBezTo>
                  <a:pt x="8838" y="13751"/>
                  <a:pt x="9638" y="14482"/>
                  <a:pt x="10674" y="14482"/>
                </a:cubicBezTo>
                <a:lnTo>
                  <a:pt x="12337" y="14482"/>
                </a:lnTo>
                <a:cubicBezTo>
                  <a:pt x="13372" y="14482"/>
                  <a:pt x="14173" y="13751"/>
                  <a:pt x="14173" y="12828"/>
                </a:cubicBezTo>
                <a:lnTo>
                  <a:pt x="14173" y="7493"/>
                </a:lnTo>
                <a:lnTo>
                  <a:pt x="12337" y="7493"/>
                </a:lnTo>
                <a:lnTo>
                  <a:pt x="15844" y="3985"/>
                </a:lnTo>
                <a:lnTo>
                  <a:pt x="19517" y="7493"/>
                </a:lnTo>
                <a:lnTo>
                  <a:pt x="17681" y="7493"/>
                </a:lnTo>
                <a:lnTo>
                  <a:pt x="17681" y="12828"/>
                </a:lnTo>
                <a:cubicBezTo>
                  <a:pt x="17681" y="15596"/>
                  <a:pt x="15104" y="18155"/>
                  <a:pt x="12337" y="18155"/>
                </a:cubicBezTo>
                <a:lnTo>
                  <a:pt x="10674" y="18155"/>
                </a:lnTo>
                <a:cubicBezTo>
                  <a:pt x="7906" y="18155"/>
                  <a:pt x="5330" y="15596"/>
                  <a:pt x="5330" y="12828"/>
                </a:cubicBezTo>
                <a:close/>
              </a:path>
            </a:pathLst>
          </a:custGeom>
          <a:gradFill rotWithShape="0">
            <a:gsLst>
              <a:gs pos="0">
                <a:srgbClr val="969696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5" name="Rectangle 2"/>
          <p:cNvGrpSpPr/>
          <p:nvPr/>
        </p:nvGrpSpPr>
        <p:grpSpPr>
          <a:xfrm>
            <a:off x="2590920" y="304920"/>
            <a:ext cx="4267080" cy="841320"/>
            <a:chOff x="2590920" y="304920"/>
            <a:chExt cx="4267080" cy="841320"/>
          </a:xfrm>
        </p:grpSpPr>
        <p:pic>
          <p:nvPicPr>
            <p:cNvPr id="266" name="Rectangle 2" descr=""/>
            <p:cNvPicPr/>
            <p:nvPr/>
          </p:nvPicPr>
          <p:blipFill>
            <a:blip r:embed="rId1"/>
            <a:stretch/>
          </p:blipFill>
          <p:spPr>
            <a:xfrm>
              <a:off x="2590920" y="304920"/>
              <a:ext cx="426708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7" name=""/>
            <p:cNvSpPr/>
            <p:nvPr/>
          </p:nvSpPr>
          <p:spPr>
            <a:xfrm>
              <a:off x="2590920" y="304920"/>
              <a:ext cx="426708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ff0000"/>
                  </a:solidFill>
                  <a:latin typeface="Franklin Gothic Medium"/>
                </a:rPr>
                <a:t>ПРАВИЛО 5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68" name=""/>
          <p:cNvSpPr txBox="1"/>
          <p:nvPr/>
        </p:nvSpPr>
        <p:spPr>
          <a:xfrm>
            <a:off x="533520" y="1523520"/>
            <a:ext cx="7772400" cy="312444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797b7e"/>
              </a:gs>
            </a:gsLst>
            <a:lin ang="2700000"/>
          </a:gradFill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Black"/>
              </a:rPr>
              <a:t>     </a:t>
            </a:r>
            <a:r>
              <a:rPr b="1" lang="ru-RU" sz="2800" spc="-1" strike="noStrike">
                <a:solidFill>
                  <a:srgbClr val="000000"/>
                </a:solidFill>
                <a:latin typeface="Arial Black"/>
              </a:rPr>
              <a:t>Некоторые в качестве монитора используют обычный телевизионный экран. Делать этого не следует. Излучение от экрана телевизора в девяносто раз выше. чем от экрана компьютера. 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69" name="Picture 17" descr="j0293236"/>
          <p:cNvPicPr/>
          <p:nvPr/>
        </p:nvPicPr>
        <p:blipFill>
          <a:blip r:embed="rId2"/>
          <a:stretch/>
        </p:blipFill>
        <p:spPr>
          <a:xfrm>
            <a:off x="4114800" y="4495680"/>
            <a:ext cx="838080" cy="61776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18" descr="j0292982"/>
          <p:cNvPicPr/>
          <p:nvPr/>
        </p:nvPicPr>
        <p:blipFill>
          <a:blip r:embed="rId3"/>
          <a:stretch/>
        </p:blipFill>
        <p:spPr>
          <a:xfrm>
            <a:off x="376200" y="4805280"/>
            <a:ext cx="1981080" cy="1971720"/>
          </a:xfrm>
          <a:prstGeom prst="rect">
            <a:avLst/>
          </a:prstGeom>
          <a:ln w="0">
            <a:noFill/>
          </a:ln>
        </p:spPr>
      </p:pic>
      <p:sp>
        <p:nvSpPr>
          <p:cNvPr id="271" name="AutoShape 20">
            <a:hlinkClick r:id="" action="ppaction://hlinkshowjump?jump=nextslide"/>
          </p:cNvPr>
          <p:cNvSpPr/>
          <p:nvPr/>
        </p:nvSpPr>
        <p:spPr>
          <a:xfrm>
            <a:off x="8418600" y="6324480"/>
            <a:ext cx="573120" cy="533520"/>
          </a:xfrm>
          <a:custGeom>
            <a:avLst/>
            <a:gdLst>
              <a:gd name="textAreaLeft" fmla="*/ 34560 w 573120"/>
              <a:gd name="textAreaRight" fmla="*/ 538560 w 5731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3202" h="21600">
                <a:moveTo>
                  <a:pt x="0" y="0"/>
                </a:moveTo>
                <a:lnTo>
                  <a:pt x="23202" y="0"/>
                </a:lnTo>
                <a:lnTo>
                  <a:pt x="23202" y="21600"/>
                </a:lnTo>
                <a:lnTo>
                  <a:pt x="0" y="21600"/>
                </a:lnTo>
                <a:close/>
              </a:path>
              <a:path fill="lightenLess" w="23202" h="21600">
                <a:moveTo>
                  <a:pt x="0" y="0"/>
                </a:moveTo>
                <a:lnTo>
                  <a:pt x="23202" y="0"/>
                </a:lnTo>
                <a:lnTo>
                  <a:pt x="21802" y="1400"/>
                </a:lnTo>
                <a:lnTo>
                  <a:pt x="1400" y="1400"/>
                </a:lnTo>
                <a:close/>
              </a:path>
              <a:path fill="darken" w="23202" h="21600">
                <a:moveTo>
                  <a:pt x="23202" y="0"/>
                </a:moveTo>
                <a:lnTo>
                  <a:pt x="23202" y="21600"/>
                </a:lnTo>
                <a:lnTo>
                  <a:pt x="21802" y="20200"/>
                </a:lnTo>
                <a:lnTo>
                  <a:pt x="21802" y="1400"/>
                </a:lnTo>
                <a:close/>
              </a:path>
              <a:path fill="darkenLess" w="23202" h="21600">
                <a:moveTo>
                  <a:pt x="23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802" y="20200"/>
                </a:lnTo>
                <a:close/>
              </a:path>
              <a:path fill="lighten" w="23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202" h="21600">
                <a:moveTo>
                  <a:pt x="4595" y="3794"/>
                </a:moveTo>
                <a:lnTo>
                  <a:pt x="18608" y="10800"/>
                </a:lnTo>
                <a:lnTo>
                  <a:pt x="4595" y="17806"/>
                </a:lnTo>
                <a:close/>
              </a:path>
            </a:pathLst>
          </a:custGeom>
          <a:gradFill rotWithShape="0">
            <a:gsLst>
              <a:gs pos="0">
                <a:srgbClr val="969696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" name="AutoShape 21">
            <a:hlinkClick r:id="" action="ppaction://hlinkshowjump?jump=previousslide"/>
          </p:cNvPr>
          <p:cNvSpPr/>
          <p:nvPr/>
        </p:nvSpPr>
        <p:spPr>
          <a:xfrm>
            <a:off x="7631280" y="6324480"/>
            <a:ext cx="572760" cy="533520"/>
          </a:xfrm>
          <a:custGeom>
            <a:avLst/>
            <a:gdLst>
              <a:gd name="textAreaLeft" fmla="*/ 34560 w 572760"/>
              <a:gd name="textAreaRight" fmla="*/ 538200 w 57276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3188" h="21600">
                <a:moveTo>
                  <a:pt x="0" y="0"/>
                </a:moveTo>
                <a:lnTo>
                  <a:pt x="23188" y="0"/>
                </a:lnTo>
                <a:lnTo>
                  <a:pt x="23188" y="21600"/>
                </a:lnTo>
                <a:lnTo>
                  <a:pt x="0" y="21600"/>
                </a:lnTo>
                <a:close/>
              </a:path>
              <a:path fill="lightenLess" w="23188" h="21600">
                <a:moveTo>
                  <a:pt x="0" y="0"/>
                </a:moveTo>
                <a:lnTo>
                  <a:pt x="23188" y="0"/>
                </a:lnTo>
                <a:lnTo>
                  <a:pt x="21788" y="1400"/>
                </a:lnTo>
                <a:lnTo>
                  <a:pt x="1400" y="1400"/>
                </a:lnTo>
                <a:close/>
              </a:path>
              <a:path fill="darken" w="23188" h="21600">
                <a:moveTo>
                  <a:pt x="23188" y="0"/>
                </a:moveTo>
                <a:lnTo>
                  <a:pt x="23188" y="21600"/>
                </a:lnTo>
                <a:lnTo>
                  <a:pt x="21788" y="20200"/>
                </a:lnTo>
                <a:lnTo>
                  <a:pt x="21788" y="1400"/>
                </a:lnTo>
                <a:close/>
              </a:path>
              <a:path fill="darkenLess" w="23188" h="21600">
                <a:moveTo>
                  <a:pt x="231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788" y="20200"/>
                </a:lnTo>
                <a:close/>
              </a:path>
              <a:path fill="lighten" w="231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188" h="21600">
                <a:moveTo>
                  <a:pt x="4587" y="10800"/>
                </a:moveTo>
                <a:lnTo>
                  <a:pt x="18600" y="3794"/>
                </a:lnTo>
                <a:lnTo>
                  <a:pt x="18600" y="17806"/>
                </a:lnTo>
                <a:close/>
              </a:path>
            </a:pathLst>
          </a:custGeom>
          <a:gradFill rotWithShape="0">
            <a:gsLst>
              <a:gs pos="0">
                <a:srgbClr val="969696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" name="AutoShape 22">
            <a:hlinkClick r:id="" action="ppaction://hlinkshowjump?jump=firstslide"/>
          </p:cNvPr>
          <p:cNvSpPr/>
          <p:nvPr/>
        </p:nvSpPr>
        <p:spPr>
          <a:xfrm>
            <a:off x="5410080" y="6324480"/>
            <a:ext cx="573120" cy="533520"/>
          </a:xfrm>
          <a:custGeom>
            <a:avLst/>
            <a:gdLst>
              <a:gd name="textAreaLeft" fmla="*/ 34560 w 573120"/>
              <a:gd name="textAreaRight" fmla="*/ 538560 w 5731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3202" h="21600">
                <a:moveTo>
                  <a:pt x="0" y="0"/>
                </a:moveTo>
                <a:lnTo>
                  <a:pt x="23202" y="0"/>
                </a:lnTo>
                <a:lnTo>
                  <a:pt x="23202" y="21600"/>
                </a:lnTo>
                <a:lnTo>
                  <a:pt x="0" y="21600"/>
                </a:lnTo>
                <a:close/>
              </a:path>
              <a:path fill="lightenLess" w="23202" h="21600">
                <a:moveTo>
                  <a:pt x="0" y="0"/>
                </a:moveTo>
                <a:lnTo>
                  <a:pt x="23202" y="0"/>
                </a:lnTo>
                <a:lnTo>
                  <a:pt x="21802" y="1400"/>
                </a:lnTo>
                <a:lnTo>
                  <a:pt x="1400" y="1400"/>
                </a:lnTo>
                <a:close/>
              </a:path>
              <a:path fill="darken" w="23202" h="21600">
                <a:moveTo>
                  <a:pt x="23202" y="0"/>
                </a:moveTo>
                <a:lnTo>
                  <a:pt x="23202" y="21600"/>
                </a:lnTo>
                <a:lnTo>
                  <a:pt x="21802" y="20200"/>
                </a:lnTo>
                <a:lnTo>
                  <a:pt x="21802" y="1400"/>
                </a:lnTo>
                <a:close/>
              </a:path>
              <a:path fill="darkenLess" w="23202" h="21600">
                <a:moveTo>
                  <a:pt x="23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802" y="20200"/>
                </a:lnTo>
                <a:close/>
              </a:path>
              <a:path fill="lighten" w="23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202" h="21600">
                <a:moveTo>
                  <a:pt x="8102" y="10800"/>
                </a:moveTo>
                <a:lnTo>
                  <a:pt x="18608" y="3794"/>
                </a:lnTo>
                <a:lnTo>
                  <a:pt x="18608" y="17806"/>
                </a:lnTo>
                <a:close/>
              </a:path>
              <a:path fill="darken" w="23202" h="21600">
                <a:moveTo>
                  <a:pt x="4595" y="3794"/>
                </a:moveTo>
                <a:lnTo>
                  <a:pt x="6257" y="3794"/>
                </a:lnTo>
                <a:lnTo>
                  <a:pt x="6257" y="17806"/>
                </a:lnTo>
                <a:lnTo>
                  <a:pt x="4595" y="17806"/>
                </a:lnTo>
                <a:close/>
              </a:path>
            </a:pathLst>
          </a:custGeom>
          <a:gradFill rotWithShape="0">
            <a:gsLst>
              <a:gs pos="0">
                <a:srgbClr val="969696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AutoShape 23">
            <a:hlinkClick r:id="rId4" action="ppaction://hlinksldjump"/>
          </p:cNvPr>
          <p:cNvSpPr/>
          <p:nvPr/>
        </p:nvSpPr>
        <p:spPr>
          <a:xfrm>
            <a:off x="6269040" y="6324480"/>
            <a:ext cx="573120" cy="533520"/>
          </a:xfrm>
          <a:custGeom>
            <a:avLst/>
            <a:gdLst>
              <a:gd name="textAreaLeft" fmla="*/ 34560 w 573120"/>
              <a:gd name="textAreaRight" fmla="*/ 538560 w 5731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3202" h="21600">
                <a:moveTo>
                  <a:pt x="0" y="0"/>
                </a:moveTo>
                <a:lnTo>
                  <a:pt x="23202" y="0"/>
                </a:lnTo>
                <a:lnTo>
                  <a:pt x="23202" y="21600"/>
                </a:lnTo>
                <a:lnTo>
                  <a:pt x="0" y="21600"/>
                </a:lnTo>
                <a:close/>
              </a:path>
              <a:path fill="lightenLess" w="23202" h="21600">
                <a:moveTo>
                  <a:pt x="0" y="0"/>
                </a:moveTo>
                <a:lnTo>
                  <a:pt x="23202" y="0"/>
                </a:lnTo>
                <a:lnTo>
                  <a:pt x="21802" y="1400"/>
                </a:lnTo>
                <a:lnTo>
                  <a:pt x="1400" y="1400"/>
                </a:lnTo>
                <a:close/>
              </a:path>
              <a:path fill="darken" w="23202" h="21600">
                <a:moveTo>
                  <a:pt x="23202" y="0"/>
                </a:moveTo>
                <a:lnTo>
                  <a:pt x="23202" y="21600"/>
                </a:lnTo>
                <a:lnTo>
                  <a:pt x="21802" y="20200"/>
                </a:lnTo>
                <a:lnTo>
                  <a:pt x="21802" y="1400"/>
                </a:lnTo>
                <a:close/>
              </a:path>
              <a:path fill="darkenLess" w="23202" h="21600">
                <a:moveTo>
                  <a:pt x="23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802" y="20200"/>
                </a:lnTo>
                <a:close/>
              </a:path>
              <a:path fill="lighten" w="23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202" h="21600">
                <a:moveTo>
                  <a:pt x="15100" y="10800"/>
                </a:moveTo>
                <a:lnTo>
                  <a:pt x="4595" y="17806"/>
                </a:lnTo>
                <a:lnTo>
                  <a:pt x="4595" y="3794"/>
                </a:lnTo>
                <a:close/>
              </a:path>
              <a:path fill="darken" w="23202" h="21600">
                <a:moveTo>
                  <a:pt x="16945" y="3794"/>
                </a:moveTo>
                <a:lnTo>
                  <a:pt x="16945" y="17806"/>
                </a:lnTo>
                <a:lnTo>
                  <a:pt x="18608" y="17806"/>
                </a:lnTo>
                <a:lnTo>
                  <a:pt x="18608" y="3794"/>
                </a:lnTo>
                <a:close/>
              </a:path>
            </a:pathLst>
          </a:custGeom>
          <a:gradFill rotWithShape="0">
            <a:gsLst>
              <a:gs pos="0">
                <a:srgbClr val="969696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5" name="AutoShape 24">
            <a:hlinkClick r:id="" action="ppaction://hlinkshowjump?jump=endshow"/>
          </p:cNvPr>
          <p:cNvSpPr/>
          <p:nvPr/>
        </p:nvSpPr>
        <p:spPr>
          <a:xfrm>
            <a:off x="4343400" y="6324480"/>
            <a:ext cx="609480" cy="53352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73" h="21600">
                <a:moveTo>
                  <a:pt x="0" y="0"/>
                </a:moveTo>
                <a:lnTo>
                  <a:pt x="24673" y="0"/>
                </a:lnTo>
                <a:lnTo>
                  <a:pt x="24673" y="21600"/>
                </a:lnTo>
                <a:lnTo>
                  <a:pt x="0" y="21600"/>
                </a:lnTo>
                <a:close/>
              </a:path>
              <a:path fill="lightenLess" w="24673" h="21600">
                <a:moveTo>
                  <a:pt x="0" y="0"/>
                </a:moveTo>
                <a:lnTo>
                  <a:pt x="24673" y="0"/>
                </a:lnTo>
                <a:lnTo>
                  <a:pt x="23273" y="1400"/>
                </a:lnTo>
                <a:lnTo>
                  <a:pt x="1400" y="1400"/>
                </a:lnTo>
                <a:close/>
              </a:path>
              <a:path fill="darken" w="24673" h="21600">
                <a:moveTo>
                  <a:pt x="24673" y="0"/>
                </a:moveTo>
                <a:lnTo>
                  <a:pt x="24673" y="21600"/>
                </a:lnTo>
                <a:lnTo>
                  <a:pt x="23273" y="20200"/>
                </a:lnTo>
                <a:lnTo>
                  <a:pt x="23273" y="1400"/>
                </a:lnTo>
                <a:close/>
              </a:path>
              <a:path fill="darkenLess" w="24673" h="21600">
                <a:moveTo>
                  <a:pt x="246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3" y="20200"/>
                </a:lnTo>
                <a:close/>
              </a:path>
              <a:path fill="lighten" w="246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73" h="21600">
                <a:moveTo>
                  <a:pt x="5330" y="7493"/>
                </a:moveTo>
                <a:lnTo>
                  <a:pt x="8838" y="7493"/>
                </a:lnTo>
                <a:lnTo>
                  <a:pt x="8838" y="12828"/>
                </a:lnTo>
                <a:cubicBezTo>
                  <a:pt x="8838" y="13751"/>
                  <a:pt x="9638" y="14482"/>
                  <a:pt x="10674" y="14482"/>
                </a:cubicBezTo>
                <a:lnTo>
                  <a:pt x="12337" y="14482"/>
                </a:lnTo>
                <a:cubicBezTo>
                  <a:pt x="13372" y="14482"/>
                  <a:pt x="14173" y="13751"/>
                  <a:pt x="14173" y="12828"/>
                </a:cubicBezTo>
                <a:lnTo>
                  <a:pt x="14173" y="7493"/>
                </a:lnTo>
                <a:lnTo>
                  <a:pt x="12337" y="7493"/>
                </a:lnTo>
                <a:lnTo>
                  <a:pt x="15844" y="3985"/>
                </a:lnTo>
                <a:lnTo>
                  <a:pt x="19517" y="7493"/>
                </a:lnTo>
                <a:lnTo>
                  <a:pt x="17681" y="7493"/>
                </a:lnTo>
                <a:lnTo>
                  <a:pt x="17681" y="12828"/>
                </a:lnTo>
                <a:cubicBezTo>
                  <a:pt x="17681" y="15596"/>
                  <a:pt x="15104" y="18155"/>
                  <a:pt x="12337" y="18155"/>
                </a:cubicBezTo>
                <a:lnTo>
                  <a:pt x="10674" y="18155"/>
                </a:lnTo>
                <a:cubicBezTo>
                  <a:pt x="7906" y="18155"/>
                  <a:pt x="5330" y="15596"/>
                  <a:pt x="5330" y="12828"/>
                </a:cubicBezTo>
                <a:close/>
              </a:path>
            </a:pathLst>
          </a:custGeom>
          <a:gradFill rotWithShape="0">
            <a:gsLst>
              <a:gs pos="0">
                <a:srgbClr val="969696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0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2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6" name="Rectangle 13"/>
          <p:cNvGrpSpPr/>
          <p:nvPr/>
        </p:nvGrpSpPr>
        <p:grpSpPr>
          <a:xfrm>
            <a:off x="2590920" y="304920"/>
            <a:ext cx="4267080" cy="841320"/>
            <a:chOff x="2590920" y="304920"/>
            <a:chExt cx="4267080" cy="841320"/>
          </a:xfrm>
        </p:grpSpPr>
        <p:pic>
          <p:nvPicPr>
            <p:cNvPr id="277" name="Rectangle 13" descr=""/>
            <p:cNvPicPr/>
            <p:nvPr/>
          </p:nvPicPr>
          <p:blipFill>
            <a:blip r:embed="rId1"/>
            <a:stretch/>
          </p:blipFill>
          <p:spPr>
            <a:xfrm>
              <a:off x="2590920" y="304920"/>
              <a:ext cx="426708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"/>
            <p:cNvSpPr/>
            <p:nvPr/>
          </p:nvSpPr>
          <p:spPr>
            <a:xfrm>
              <a:off x="2590920" y="304920"/>
              <a:ext cx="426708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ff0000"/>
                  </a:solidFill>
                  <a:latin typeface="Franklin Gothic Medium"/>
                </a:rPr>
                <a:t>ПРАВИЛО 6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79" name=""/>
          <p:cNvSpPr txBox="1"/>
          <p:nvPr/>
        </p:nvSpPr>
        <p:spPr>
          <a:xfrm>
            <a:off x="228240" y="1523880"/>
            <a:ext cx="5334120" cy="36576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797b7e"/>
              </a:gs>
            </a:gsLst>
            <a:lin ang="2700000"/>
          </a:gradFill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        </a:t>
            </a: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Включенный монитор образует электромагнитное поле. Навесные защитные экраны, используемые в старых моделях, часто неэффективны. Новые модели компьютеров производятся со встроенными защитными экранами. Они несколько дороже. но экономить на этом не стоит. 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80" name="Picture 20" descr="image030"/>
          <p:cNvPicPr/>
          <p:nvPr/>
        </p:nvPicPr>
        <p:blipFill>
          <a:blip r:embed="rId2"/>
          <a:stretch/>
        </p:blipFill>
        <p:spPr>
          <a:xfrm>
            <a:off x="5961240" y="1600200"/>
            <a:ext cx="2743200" cy="3352680"/>
          </a:xfrm>
          <a:prstGeom prst="rect">
            <a:avLst/>
          </a:prstGeom>
          <a:ln w="0">
            <a:noFill/>
          </a:ln>
        </p:spPr>
      </p:pic>
      <p:sp>
        <p:nvSpPr>
          <p:cNvPr id="281" name="AutoShape 21">
            <a:hlinkClick r:id="" action="ppaction://hlinkshowjump?jump=nextslide"/>
          </p:cNvPr>
          <p:cNvSpPr/>
          <p:nvPr/>
        </p:nvSpPr>
        <p:spPr>
          <a:xfrm>
            <a:off x="8418600" y="6324480"/>
            <a:ext cx="573120" cy="533520"/>
          </a:xfrm>
          <a:custGeom>
            <a:avLst/>
            <a:gdLst>
              <a:gd name="textAreaLeft" fmla="*/ 34560 w 573120"/>
              <a:gd name="textAreaRight" fmla="*/ 538560 w 5731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3202" h="21600">
                <a:moveTo>
                  <a:pt x="0" y="0"/>
                </a:moveTo>
                <a:lnTo>
                  <a:pt x="23202" y="0"/>
                </a:lnTo>
                <a:lnTo>
                  <a:pt x="23202" y="21600"/>
                </a:lnTo>
                <a:lnTo>
                  <a:pt x="0" y="21600"/>
                </a:lnTo>
                <a:close/>
              </a:path>
              <a:path fill="lightenLess" w="23202" h="21600">
                <a:moveTo>
                  <a:pt x="0" y="0"/>
                </a:moveTo>
                <a:lnTo>
                  <a:pt x="23202" y="0"/>
                </a:lnTo>
                <a:lnTo>
                  <a:pt x="21802" y="1400"/>
                </a:lnTo>
                <a:lnTo>
                  <a:pt x="1400" y="1400"/>
                </a:lnTo>
                <a:close/>
              </a:path>
              <a:path fill="darken" w="23202" h="21600">
                <a:moveTo>
                  <a:pt x="23202" y="0"/>
                </a:moveTo>
                <a:lnTo>
                  <a:pt x="23202" y="21600"/>
                </a:lnTo>
                <a:lnTo>
                  <a:pt x="21802" y="20200"/>
                </a:lnTo>
                <a:lnTo>
                  <a:pt x="21802" y="1400"/>
                </a:lnTo>
                <a:close/>
              </a:path>
              <a:path fill="darkenLess" w="23202" h="21600">
                <a:moveTo>
                  <a:pt x="23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802" y="20200"/>
                </a:lnTo>
                <a:close/>
              </a:path>
              <a:path fill="lighten" w="23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202" h="21600">
                <a:moveTo>
                  <a:pt x="4595" y="3794"/>
                </a:moveTo>
                <a:lnTo>
                  <a:pt x="18608" y="10800"/>
                </a:lnTo>
                <a:lnTo>
                  <a:pt x="4595" y="17806"/>
                </a:lnTo>
                <a:close/>
              </a:path>
            </a:pathLst>
          </a:custGeom>
          <a:gradFill rotWithShape="0">
            <a:gsLst>
              <a:gs pos="0">
                <a:srgbClr val="969696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2" name="AutoShape 22">
            <a:hlinkClick r:id="" action="ppaction://hlinkshowjump?jump=previousslide"/>
          </p:cNvPr>
          <p:cNvSpPr/>
          <p:nvPr/>
        </p:nvSpPr>
        <p:spPr>
          <a:xfrm>
            <a:off x="7631280" y="6324480"/>
            <a:ext cx="572760" cy="533520"/>
          </a:xfrm>
          <a:custGeom>
            <a:avLst/>
            <a:gdLst>
              <a:gd name="textAreaLeft" fmla="*/ 34560 w 572760"/>
              <a:gd name="textAreaRight" fmla="*/ 538200 w 57276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3188" h="21600">
                <a:moveTo>
                  <a:pt x="0" y="0"/>
                </a:moveTo>
                <a:lnTo>
                  <a:pt x="23188" y="0"/>
                </a:lnTo>
                <a:lnTo>
                  <a:pt x="23188" y="21600"/>
                </a:lnTo>
                <a:lnTo>
                  <a:pt x="0" y="21600"/>
                </a:lnTo>
                <a:close/>
              </a:path>
              <a:path fill="lightenLess" w="23188" h="21600">
                <a:moveTo>
                  <a:pt x="0" y="0"/>
                </a:moveTo>
                <a:lnTo>
                  <a:pt x="23188" y="0"/>
                </a:lnTo>
                <a:lnTo>
                  <a:pt x="21788" y="1400"/>
                </a:lnTo>
                <a:lnTo>
                  <a:pt x="1400" y="1400"/>
                </a:lnTo>
                <a:close/>
              </a:path>
              <a:path fill="darken" w="23188" h="21600">
                <a:moveTo>
                  <a:pt x="23188" y="0"/>
                </a:moveTo>
                <a:lnTo>
                  <a:pt x="23188" y="21600"/>
                </a:lnTo>
                <a:lnTo>
                  <a:pt x="21788" y="20200"/>
                </a:lnTo>
                <a:lnTo>
                  <a:pt x="21788" y="1400"/>
                </a:lnTo>
                <a:close/>
              </a:path>
              <a:path fill="darkenLess" w="23188" h="21600">
                <a:moveTo>
                  <a:pt x="231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788" y="20200"/>
                </a:lnTo>
                <a:close/>
              </a:path>
              <a:path fill="lighten" w="231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188" h="21600">
                <a:moveTo>
                  <a:pt x="4587" y="10800"/>
                </a:moveTo>
                <a:lnTo>
                  <a:pt x="18600" y="3794"/>
                </a:lnTo>
                <a:lnTo>
                  <a:pt x="18600" y="17806"/>
                </a:lnTo>
                <a:close/>
              </a:path>
            </a:pathLst>
          </a:custGeom>
          <a:gradFill rotWithShape="0">
            <a:gsLst>
              <a:gs pos="0">
                <a:srgbClr val="969696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3" name="AutoShape 23">
            <a:hlinkClick r:id="" action="ppaction://hlinkshowjump?jump=firstslide"/>
          </p:cNvPr>
          <p:cNvSpPr/>
          <p:nvPr/>
        </p:nvSpPr>
        <p:spPr>
          <a:xfrm>
            <a:off x="5410080" y="6324480"/>
            <a:ext cx="573120" cy="533520"/>
          </a:xfrm>
          <a:custGeom>
            <a:avLst/>
            <a:gdLst>
              <a:gd name="textAreaLeft" fmla="*/ 34560 w 573120"/>
              <a:gd name="textAreaRight" fmla="*/ 538560 w 5731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3202" h="21600">
                <a:moveTo>
                  <a:pt x="0" y="0"/>
                </a:moveTo>
                <a:lnTo>
                  <a:pt x="23202" y="0"/>
                </a:lnTo>
                <a:lnTo>
                  <a:pt x="23202" y="21600"/>
                </a:lnTo>
                <a:lnTo>
                  <a:pt x="0" y="21600"/>
                </a:lnTo>
                <a:close/>
              </a:path>
              <a:path fill="lightenLess" w="23202" h="21600">
                <a:moveTo>
                  <a:pt x="0" y="0"/>
                </a:moveTo>
                <a:lnTo>
                  <a:pt x="23202" y="0"/>
                </a:lnTo>
                <a:lnTo>
                  <a:pt x="21802" y="1400"/>
                </a:lnTo>
                <a:lnTo>
                  <a:pt x="1400" y="1400"/>
                </a:lnTo>
                <a:close/>
              </a:path>
              <a:path fill="darken" w="23202" h="21600">
                <a:moveTo>
                  <a:pt x="23202" y="0"/>
                </a:moveTo>
                <a:lnTo>
                  <a:pt x="23202" y="21600"/>
                </a:lnTo>
                <a:lnTo>
                  <a:pt x="21802" y="20200"/>
                </a:lnTo>
                <a:lnTo>
                  <a:pt x="21802" y="1400"/>
                </a:lnTo>
                <a:close/>
              </a:path>
              <a:path fill="darkenLess" w="23202" h="21600">
                <a:moveTo>
                  <a:pt x="23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802" y="20200"/>
                </a:lnTo>
                <a:close/>
              </a:path>
              <a:path fill="lighten" w="23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202" h="21600">
                <a:moveTo>
                  <a:pt x="8102" y="10800"/>
                </a:moveTo>
                <a:lnTo>
                  <a:pt x="18608" y="3794"/>
                </a:lnTo>
                <a:lnTo>
                  <a:pt x="18608" y="17806"/>
                </a:lnTo>
                <a:close/>
              </a:path>
              <a:path fill="darken" w="23202" h="21600">
                <a:moveTo>
                  <a:pt x="4595" y="3794"/>
                </a:moveTo>
                <a:lnTo>
                  <a:pt x="6257" y="3794"/>
                </a:lnTo>
                <a:lnTo>
                  <a:pt x="6257" y="17806"/>
                </a:lnTo>
                <a:lnTo>
                  <a:pt x="4595" y="17806"/>
                </a:lnTo>
                <a:close/>
              </a:path>
            </a:pathLst>
          </a:custGeom>
          <a:gradFill rotWithShape="0">
            <a:gsLst>
              <a:gs pos="0">
                <a:srgbClr val="969696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" name="AutoShape 24">
            <a:hlinkClick r:id="rId3" action="ppaction://hlinksldjump"/>
          </p:cNvPr>
          <p:cNvSpPr/>
          <p:nvPr/>
        </p:nvSpPr>
        <p:spPr>
          <a:xfrm>
            <a:off x="6269040" y="6324480"/>
            <a:ext cx="573120" cy="533520"/>
          </a:xfrm>
          <a:custGeom>
            <a:avLst/>
            <a:gdLst>
              <a:gd name="textAreaLeft" fmla="*/ 34560 w 573120"/>
              <a:gd name="textAreaRight" fmla="*/ 538560 w 5731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3202" h="21600">
                <a:moveTo>
                  <a:pt x="0" y="0"/>
                </a:moveTo>
                <a:lnTo>
                  <a:pt x="23202" y="0"/>
                </a:lnTo>
                <a:lnTo>
                  <a:pt x="23202" y="21600"/>
                </a:lnTo>
                <a:lnTo>
                  <a:pt x="0" y="21600"/>
                </a:lnTo>
                <a:close/>
              </a:path>
              <a:path fill="lightenLess" w="23202" h="21600">
                <a:moveTo>
                  <a:pt x="0" y="0"/>
                </a:moveTo>
                <a:lnTo>
                  <a:pt x="23202" y="0"/>
                </a:lnTo>
                <a:lnTo>
                  <a:pt x="21802" y="1400"/>
                </a:lnTo>
                <a:lnTo>
                  <a:pt x="1400" y="1400"/>
                </a:lnTo>
                <a:close/>
              </a:path>
              <a:path fill="darken" w="23202" h="21600">
                <a:moveTo>
                  <a:pt x="23202" y="0"/>
                </a:moveTo>
                <a:lnTo>
                  <a:pt x="23202" y="21600"/>
                </a:lnTo>
                <a:lnTo>
                  <a:pt x="21802" y="20200"/>
                </a:lnTo>
                <a:lnTo>
                  <a:pt x="21802" y="1400"/>
                </a:lnTo>
                <a:close/>
              </a:path>
              <a:path fill="darkenLess" w="23202" h="21600">
                <a:moveTo>
                  <a:pt x="23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802" y="20200"/>
                </a:lnTo>
                <a:close/>
              </a:path>
              <a:path fill="lighten" w="23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202" h="21600">
                <a:moveTo>
                  <a:pt x="15100" y="10800"/>
                </a:moveTo>
                <a:lnTo>
                  <a:pt x="4595" y="17806"/>
                </a:lnTo>
                <a:lnTo>
                  <a:pt x="4595" y="3794"/>
                </a:lnTo>
                <a:close/>
              </a:path>
              <a:path fill="darken" w="23202" h="21600">
                <a:moveTo>
                  <a:pt x="16945" y="3794"/>
                </a:moveTo>
                <a:lnTo>
                  <a:pt x="16945" y="17806"/>
                </a:lnTo>
                <a:lnTo>
                  <a:pt x="18608" y="17806"/>
                </a:lnTo>
                <a:lnTo>
                  <a:pt x="18608" y="3794"/>
                </a:lnTo>
                <a:close/>
              </a:path>
            </a:pathLst>
          </a:custGeom>
          <a:gradFill rotWithShape="0">
            <a:gsLst>
              <a:gs pos="0">
                <a:srgbClr val="969696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5" name="AutoShape 25">
            <a:hlinkClick r:id="" action="ppaction://hlinkshowjump?jump=endshow"/>
          </p:cNvPr>
          <p:cNvSpPr/>
          <p:nvPr/>
        </p:nvSpPr>
        <p:spPr>
          <a:xfrm>
            <a:off x="4343400" y="6324480"/>
            <a:ext cx="609480" cy="53352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73" h="21600">
                <a:moveTo>
                  <a:pt x="0" y="0"/>
                </a:moveTo>
                <a:lnTo>
                  <a:pt x="24673" y="0"/>
                </a:lnTo>
                <a:lnTo>
                  <a:pt x="24673" y="21600"/>
                </a:lnTo>
                <a:lnTo>
                  <a:pt x="0" y="21600"/>
                </a:lnTo>
                <a:close/>
              </a:path>
              <a:path fill="lightenLess" w="24673" h="21600">
                <a:moveTo>
                  <a:pt x="0" y="0"/>
                </a:moveTo>
                <a:lnTo>
                  <a:pt x="24673" y="0"/>
                </a:lnTo>
                <a:lnTo>
                  <a:pt x="23273" y="1400"/>
                </a:lnTo>
                <a:lnTo>
                  <a:pt x="1400" y="1400"/>
                </a:lnTo>
                <a:close/>
              </a:path>
              <a:path fill="darken" w="24673" h="21600">
                <a:moveTo>
                  <a:pt x="24673" y="0"/>
                </a:moveTo>
                <a:lnTo>
                  <a:pt x="24673" y="21600"/>
                </a:lnTo>
                <a:lnTo>
                  <a:pt x="23273" y="20200"/>
                </a:lnTo>
                <a:lnTo>
                  <a:pt x="23273" y="1400"/>
                </a:lnTo>
                <a:close/>
              </a:path>
              <a:path fill="darkenLess" w="24673" h="21600">
                <a:moveTo>
                  <a:pt x="246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3" y="20200"/>
                </a:lnTo>
                <a:close/>
              </a:path>
              <a:path fill="lighten" w="246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73" h="21600">
                <a:moveTo>
                  <a:pt x="5330" y="7493"/>
                </a:moveTo>
                <a:lnTo>
                  <a:pt x="8838" y="7493"/>
                </a:lnTo>
                <a:lnTo>
                  <a:pt x="8838" y="12828"/>
                </a:lnTo>
                <a:cubicBezTo>
                  <a:pt x="8838" y="13751"/>
                  <a:pt x="9638" y="14482"/>
                  <a:pt x="10674" y="14482"/>
                </a:cubicBezTo>
                <a:lnTo>
                  <a:pt x="12337" y="14482"/>
                </a:lnTo>
                <a:cubicBezTo>
                  <a:pt x="13372" y="14482"/>
                  <a:pt x="14173" y="13751"/>
                  <a:pt x="14173" y="12828"/>
                </a:cubicBezTo>
                <a:lnTo>
                  <a:pt x="14173" y="7493"/>
                </a:lnTo>
                <a:lnTo>
                  <a:pt x="12337" y="7493"/>
                </a:lnTo>
                <a:lnTo>
                  <a:pt x="15844" y="3985"/>
                </a:lnTo>
                <a:lnTo>
                  <a:pt x="19517" y="7493"/>
                </a:lnTo>
                <a:lnTo>
                  <a:pt x="17681" y="7493"/>
                </a:lnTo>
                <a:lnTo>
                  <a:pt x="17681" y="12828"/>
                </a:lnTo>
                <a:cubicBezTo>
                  <a:pt x="17681" y="15596"/>
                  <a:pt x="15104" y="18155"/>
                  <a:pt x="12337" y="18155"/>
                </a:cubicBezTo>
                <a:lnTo>
                  <a:pt x="10674" y="18155"/>
                </a:lnTo>
                <a:cubicBezTo>
                  <a:pt x="7906" y="18155"/>
                  <a:pt x="5330" y="15596"/>
                  <a:pt x="5330" y="12828"/>
                </a:cubicBezTo>
                <a:close/>
              </a:path>
            </a:pathLst>
          </a:custGeom>
          <a:gradFill rotWithShape="0">
            <a:gsLst>
              <a:gs pos="0">
                <a:srgbClr val="969696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0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6" name="Rectangle 13"/>
          <p:cNvGrpSpPr/>
          <p:nvPr/>
        </p:nvGrpSpPr>
        <p:grpSpPr>
          <a:xfrm>
            <a:off x="2590920" y="304920"/>
            <a:ext cx="4267080" cy="841320"/>
            <a:chOff x="2590920" y="304920"/>
            <a:chExt cx="4267080" cy="841320"/>
          </a:xfrm>
        </p:grpSpPr>
        <p:pic>
          <p:nvPicPr>
            <p:cNvPr id="287" name="Rectangle 13" descr=""/>
            <p:cNvPicPr/>
            <p:nvPr/>
          </p:nvPicPr>
          <p:blipFill>
            <a:blip r:embed="rId1"/>
            <a:stretch/>
          </p:blipFill>
          <p:spPr>
            <a:xfrm>
              <a:off x="2590920" y="304920"/>
              <a:ext cx="426708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8" name=""/>
            <p:cNvSpPr/>
            <p:nvPr/>
          </p:nvSpPr>
          <p:spPr>
            <a:xfrm>
              <a:off x="2590920" y="304920"/>
              <a:ext cx="426708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ff0000"/>
                  </a:solidFill>
                  <a:latin typeface="Franklin Gothic Medium"/>
                </a:rPr>
                <a:t>ПРАВИЛО 7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89" name=""/>
          <p:cNvSpPr txBox="1"/>
          <p:nvPr/>
        </p:nvSpPr>
        <p:spPr>
          <a:xfrm>
            <a:off x="887040" y="1371600"/>
            <a:ext cx="7521480" cy="357984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797b7e"/>
              </a:gs>
            </a:gsLst>
            <a:lin ang="2700000"/>
          </a:gradFill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Black"/>
              </a:rPr>
              <a:t>Монитор должен работать с частотой не менее 75 Гц. Слабо мерцающий монитор значительно снижает нагрузки на зрение. Минимум необходимого разрешения (800х600) имеют мониторы типа SVGA. Опускаться ниже этого предела - опасно. 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0" name="AutoShape 20">
            <a:hlinkClick r:id="" action="ppaction://hlinkshowjump?jump=nextslide"/>
          </p:cNvPr>
          <p:cNvSpPr/>
          <p:nvPr/>
        </p:nvSpPr>
        <p:spPr>
          <a:xfrm>
            <a:off x="8418600" y="6324480"/>
            <a:ext cx="573120" cy="533520"/>
          </a:xfrm>
          <a:custGeom>
            <a:avLst/>
            <a:gdLst>
              <a:gd name="textAreaLeft" fmla="*/ 34560 w 573120"/>
              <a:gd name="textAreaRight" fmla="*/ 538560 w 5731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3202" h="21600">
                <a:moveTo>
                  <a:pt x="0" y="0"/>
                </a:moveTo>
                <a:lnTo>
                  <a:pt x="23202" y="0"/>
                </a:lnTo>
                <a:lnTo>
                  <a:pt x="23202" y="21600"/>
                </a:lnTo>
                <a:lnTo>
                  <a:pt x="0" y="21600"/>
                </a:lnTo>
                <a:close/>
              </a:path>
              <a:path fill="lightenLess" w="23202" h="21600">
                <a:moveTo>
                  <a:pt x="0" y="0"/>
                </a:moveTo>
                <a:lnTo>
                  <a:pt x="23202" y="0"/>
                </a:lnTo>
                <a:lnTo>
                  <a:pt x="21802" y="1400"/>
                </a:lnTo>
                <a:lnTo>
                  <a:pt x="1400" y="1400"/>
                </a:lnTo>
                <a:close/>
              </a:path>
              <a:path fill="darken" w="23202" h="21600">
                <a:moveTo>
                  <a:pt x="23202" y="0"/>
                </a:moveTo>
                <a:lnTo>
                  <a:pt x="23202" y="21600"/>
                </a:lnTo>
                <a:lnTo>
                  <a:pt x="21802" y="20200"/>
                </a:lnTo>
                <a:lnTo>
                  <a:pt x="21802" y="1400"/>
                </a:lnTo>
                <a:close/>
              </a:path>
              <a:path fill="darkenLess" w="23202" h="21600">
                <a:moveTo>
                  <a:pt x="23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802" y="20200"/>
                </a:lnTo>
                <a:close/>
              </a:path>
              <a:path fill="lighten" w="23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202" h="21600">
                <a:moveTo>
                  <a:pt x="4595" y="3794"/>
                </a:moveTo>
                <a:lnTo>
                  <a:pt x="18608" y="10800"/>
                </a:lnTo>
                <a:lnTo>
                  <a:pt x="4595" y="17806"/>
                </a:lnTo>
                <a:close/>
              </a:path>
            </a:pathLst>
          </a:custGeom>
          <a:gradFill rotWithShape="0">
            <a:gsLst>
              <a:gs pos="0">
                <a:srgbClr val="969696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1" name="AutoShape 21">
            <a:hlinkClick r:id="" action="ppaction://hlinkshowjump?jump=previousslide"/>
          </p:cNvPr>
          <p:cNvSpPr/>
          <p:nvPr/>
        </p:nvSpPr>
        <p:spPr>
          <a:xfrm>
            <a:off x="7631280" y="6324480"/>
            <a:ext cx="572760" cy="533520"/>
          </a:xfrm>
          <a:custGeom>
            <a:avLst/>
            <a:gdLst>
              <a:gd name="textAreaLeft" fmla="*/ 34560 w 572760"/>
              <a:gd name="textAreaRight" fmla="*/ 538200 w 57276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3188" h="21600">
                <a:moveTo>
                  <a:pt x="0" y="0"/>
                </a:moveTo>
                <a:lnTo>
                  <a:pt x="23188" y="0"/>
                </a:lnTo>
                <a:lnTo>
                  <a:pt x="23188" y="21600"/>
                </a:lnTo>
                <a:lnTo>
                  <a:pt x="0" y="21600"/>
                </a:lnTo>
                <a:close/>
              </a:path>
              <a:path fill="lightenLess" w="23188" h="21600">
                <a:moveTo>
                  <a:pt x="0" y="0"/>
                </a:moveTo>
                <a:lnTo>
                  <a:pt x="23188" y="0"/>
                </a:lnTo>
                <a:lnTo>
                  <a:pt x="21788" y="1400"/>
                </a:lnTo>
                <a:lnTo>
                  <a:pt x="1400" y="1400"/>
                </a:lnTo>
                <a:close/>
              </a:path>
              <a:path fill="darken" w="23188" h="21600">
                <a:moveTo>
                  <a:pt x="23188" y="0"/>
                </a:moveTo>
                <a:lnTo>
                  <a:pt x="23188" y="21600"/>
                </a:lnTo>
                <a:lnTo>
                  <a:pt x="21788" y="20200"/>
                </a:lnTo>
                <a:lnTo>
                  <a:pt x="21788" y="1400"/>
                </a:lnTo>
                <a:close/>
              </a:path>
              <a:path fill="darkenLess" w="23188" h="21600">
                <a:moveTo>
                  <a:pt x="231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788" y="20200"/>
                </a:lnTo>
                <a:close/>
              </a:path>
              <a:path fill="lighten" w="231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188" h="21600">
                <a:moveTo>
                  <a:pt x="4587" y="10800"/>
                </a:moveTo>
                <a:lnTo>
                  <a:pt x="18600" y="3794"/>
                </a:lnTo>
                <a:lnTo>
                  <a:pt x="18600" y="17806"/>
                </a:lnTo>
                <a:close/>
              </a:path>
            </a:pathLst>
          </a:custGeom>
          <a:gradFill rotWithShape="0">
            <a:gsLst>
              <a:gs pos="0">
                <a:srgbClr val="969696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2" name="AutoShape 22">
            <a:hlinkClick r:id="" action="ppaction://hlinkshowjump?jump=firstslide"/>
          </p:cNvPr>
          <p:cNvSpPr/>
          <p:nvPr/>
        </p:nvSpPr>
        <p:spPr>
          <a:xfrm>
            <a:off x="5410080" y="6324480"/>
            <a:ext cx="573120" cy="533520"/>
          </a:xfrm>
          <a:custGeom>
            <a:avLst/>
            <a:gdLst>
              <a:gd name="textAreaLeft" fmla="*/ 34560 w 573120"/>
              <a:gd name="textAreaRight" fmla="*/ 538560 w 5731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3202" h="21600">
                <a:moveTo>
                  <a:pt x="0" y="0"/>
                </a:moveTo>
                <a:lnTo>
                  <a:pt x="23202" y="0"/>
                </a:lnTo>
                <a:lnTo>
                  <a:pt x="23202" y="21600"/>
                </a:lnTo>
                <a:lnTo>
                  <a:pt x="0" y="21600"/>
                </a:lnTo>
                <a:close/>
              </a:path>
              <a:path fill="lightenLess" w="23202" h="21600">
                <a:moveTo>
                  <a:pt x="0" y="0"/>
                </a:moveTo>
                <a:lnTo>
                  <a:pt x="23202" y="0"/>
                </a:lnTo>
                <a:lnTo>
                  <a:pt x="21802" y="1400"/>
                </a:lnTo>
                <a:lnTo>
                  <a:pt x="1400" y="1400"/>
                </a:lnTo>
                <a:close/>
              </a:path>
              <a:path fill="darken" w="23202" h="21600">
                <a:moveTo>
                  <a:pt x="23202" y="0"/>
                </a:moveTo>
                <a:lnTo>
                  <a:pt x="23202" y="21600"/>
                </a:lnTo>
                <a:lnTo>
                  <a:pt x="21802" y="20200"/>
                </a:lnTo>
                <a:lnTo>
                  <a:pt x="21802" y="1400"/>
                </a:lnTo>
                <a:close/>
              </a:path>
              <a:path fill="darkenLess" w="23202" h="21600">
                <a:moveTo>
                  <a:pt x="23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802" y="20200"/>
                </a:lnTo>
                <a:close/>
              </a:path>
              <a:path fill="lighten" w="23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202" h="21600">
                <a:moveTo>
                  <a:pt x="8102" y="10800"/>
                </a:moveTo>
                <a:lnTo>
                  <a:pt x="18608" y="3794"/>
                </a:lnTo>
                <a:lnTo>
                  <a:pt x="18608" y="17806"/>
                </a:lnTo>
                <a:close/>
              </a:path>
              <a:path fill="darken" w="23202" h="21600">
                <a:moveTo>
                  <a:pt x="4595" y="3794"/>
                </a:moveTo>
                <a:lnTo>
                  <a:pt x="6257" y="3794"/>
                </a:lnTo>
                <a:lnTo>
                  <a:pt x="6257" y="17806"/>
                </a:lnTo>
                <a:lnTo>
                  <a:pt x="4595" y="17806"/>
                </a:lnTo>
                <a:close/>
              </a:path>
            </a:pathLst>
          </a:custGeom>
          <a:gradFill rotWithShape="0">
            <a:gsLst>
              <a:gs pos="0">
                <a:srgbClr val="969696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" name="AutoShape 23">
            <a:hlinkClick r:id="rId2" action="ppaction://hlinksldjump"/>
          </p:cNvPr>
          <p:cNvSpPr/>
          <p:nvPr/>
        </p:nvSpPr>
        <p:spPr>
          <a:xfrm>
            <a:off x="6269040" y="6324480"/>
            <a:ext cx="573120" cy="533520"/>
          </a:xfrm>
          <a:custGeom>
            <a:avLst/>
            <a:gdLst>
              <a:gd name="textAreaLeft" fmla="*/ 34560 w 573120"/>
              <a:gd name="textAreaRight" fmla="*/ 538560 w 5731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3202" h="21600">
                <a:moveTo>
                  <a:pt x="0" y="0"/>
                </a:moveTo>
                <a:lnTo>
                  <a:pt x="23202" y="0"/>
                </a:lnTo>
                <a:lnTo>
                  <a:pt x="23202" y="21600"/>
                </a:lnTo>
                <a:lnTo>
                  <a:pt x="0" y="21600"/>
                </a:lnTo>
                <a:close/>
              </a:path>
              <a:path fill="lightenLess" w="23202" h="21600">
                <a:moveTo>
                  <a:pt x="0" y="0"/>
                </a:moveTo>
                <a:lnTo>
                  <a:pt x="23202" y="0"/>
                </a:lnTo>
                <a:lnTo>
                  <a:pt x="21802" y="1400"/>
                </a:lnTo>
                <a:lnTo>
                  <a:pt x="1400" y="1400"/>
                </a:lnTo>
                <a:close/>
              </a:path>
              <a:path fill="darken" w="23202" h="21600">
                <a:moveTo>
                  <a:pt x="23202" y="0"/>
                </a:moveTo>
                <a:lnTo>
                  <a:pt x="23202" y="21600"/>
                </a:lnTo>
                <a:lnTo>
                  <a:pt x="21802" y="20200"/>
                </a:lnTo>
                <a:lnTo>
                  <a:pt x="21802" y="1400"/>
                </a:lnTo>
                <a:close/>
              </a:path>
              <a:path fill="darkenLess" w="23202" h="21600">
                <a:moveTo>
                  <a:pt x="23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802" y="20200"/>
                </a:lnTo>
                <a:close/>
              </a:path>
              <a:path fill="lighten" w="23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202" h="21600">
                <a:moveTo>
                  <a:pt x="15100" y="10800"/>
                </a:moveTo>
                <a:lnTo>
                  <a:pt x="4595" y="17806"/>
                </a:lnTo>
                <a:lnTo>
                  <a:pt x="4595" y="3794"/>
                </a:lnTo>
                <a:close/>
              </a:path>
              <a:path fill="darken" w="23202" h="21600">
                <a:moveTo>
                  <a:pt x="16945" y="3794"/>
                </a:moveTo>
                <a:lnTo>
                  <a:pt x="16945" y="17806"/>
                </a:lnTo>
                <a:lnTo>
                  <a:pt x="18608" y="17806"/>
                </a:lnTo>
                <a:lnTo>
                  <a:pt x="18608" y="3794"/>
                </a:lnTo>
                <a:close/>
              </a:path>
            </a:pathLst>
          </a:custGeom>
          <a:gradFill rotWithShape="0">
            <a:gsLst>
              <a:gs pos="0">
                <a:srgbClr val="969696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" name="AutoShape 24">
            <a:hlinkClick r:id="" action="ppaction://hlinkshowjump?jump=endshow"/>
          </p:cNvPr>
          <p:cNvSpPr/>
          <p:nvPr/>
        </p:nvSpPr>
        <p:spPr>
          <a:xfrm>
            <a:off x="4343400" y="6324480"/>
            <a:ext cx="609480" cy="53352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73" h="21600">
                <a:moveTo>
                  <a:pt x="0" y="0"/>
                </a:moveTo>
                <a:lnTo>
                  <a:pt x="24673" y="0"/>
                </a:lnTo>
                <a:lnTo>
                  <a:pt x="24673" y="21600"/>
                </a:lnTo>
                <a:lnTo>
                  <a:pt x="0" y="21600"/>
                </a:lnTo>
                <a:close/>
              </a:path>
              <a:path fill="lightenLess" w="24673" h="21600">
                <a:moveTo>
                  <a:pt x="0" y="0"/>
                </a:moveTo>
                <a:lnTo>
                  <a:pt x="24673" y="0"/>
                </a:lnTo>
                <a:lnTo>
                  <a:pt x="23273" y="1400"/>
                </a:lnTo>
                <a:lnTo>
                  <a:pt x="1400" y="1400"/>
                </a:lnTo>
                <a:close/>
              </a:path>
              <a:path fill="darken" w="24673" h="21600">
                <a:moveTo>
                  <a:pt x="24673" y="0"/>
                </a:moveTo>
                <a:lnTo>
                  <a:pt x="24673" y="21600"/>
                </a:lnTo>
                <a:lnTo>
                  <a:pt x="23273" y="20200"/>
                </a:lnTo>
                <a:lnTo>
                  <a:pt x="23273" y="1400"/>
                </a:lnTo>
                <a:close/>
              </a:path>
              <a:path fill="darkenLess" w="24673" h="21600">
                <a:moveTo>
                  <a:pt x="246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3" y="20200"/>
                </a:lnTo>
                <a:close/>
              </a:path>
              <a:path fill="lighten" w="246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73" h="21600">
                <a:moveTo>
                  <a:pt x="5330" y="7493"/>
                </a:moveTo>
                <a:lnTo>
                  <a:pt x="8838" y="7493"/>
                </a:lnTo>
                <a:lnTo>
                  <a:pt x="8838" y="12828"/>
                </a:lnTo>
                <a:cubicBezTo>
                  <a:pt x="8838" y="13751"/>
                  <a:pt x="9638" y="14482"/>
                  <a:pt x="10674" y="14482"/>
                </a:cubicBezTo>
                <a:lnTo>
                  <a:pt x="12337" y="14482"/>
                </a:lnTo>
                <a:cubicBezTo>
                  <a:pt x="13372" y="14482"/>
                  <a:pt x="14173" y="13751"/>
                  <a:pt x="14173" y="12828"/>
                </a:cubicBezTo>
                <a:lnTo>
                  <a:pt x="14173" y="7493"/>
                </a:lnTo>
                <a:lnTo>
                  <a:pt x="12337" y="7493"/>
                </a:lnTo>
                <a:lnTo>
                  <a:pt x="15844" y="3985"/>
                </a:lnTo>
                <a:lnTo>
                  <a:pt x="19517" y="7493"/>
                </a:lnTo>
                <a:lnTo>
                  <a:pt x="17681" y="7493"/>
                </a:lnTo>
                <a:lnTo>
                  <a:pt x="17681" y="12828"/>
                </a:lnTo>
                <a:cubicBezTo>
                  <a:pt x="17681" y="15596"/>
                  <a:pt x="15104" y="18155"/>
                  <a:pt x="12337" y="18155"/>
                </a:cubicBezTo>
                <a:lnTo>
                  <a:pt x="10674" y="18155"/>
                </a:lnTo>
                <a:cubicBezTo>
                  <a:pt x="7906" y="18155"/>
                  <a:pt x="5330" y="15596"/>
                  <a:pt x="5330" y="12828"/>
                </a:cubicBezTo>
                <a:close/>
              </a:path>
            </a:pathLst>
          </a:custGeom>
          <a:gradFill rotWithShape="0">
            <a:gsLst>
              <a:gs pos="0">
                <a:srgbClr val="969696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95" name="Picture 25" descr="image011"/>
          <p:cNvPicPr/>
          <p:nvPr/>
        </p:nvPicPr>
        <p:blipFill>
          <a:blip r:embed="rId3"/>
          <a:srcRect l="0" t="0" r="0" b="29197"/>
          <a:stretch/>
        </p:blipFill>
        <p:spPr>
          <a:xfrm>
            <a:off x="380880" y="5227560"/>
            <a:ext cx="1828800" cy="1436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0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6" name="Rectangle 13"/>
          <p:cNvGrpSpPr/>
          <p:nvPr/>
        </p:nvGrpSpPr>
        <p:grpSpPr>
          <a:xfrm>
            <a:off x="2590920" y="304920"/>
            <a:ext cx="4267080" cy="841320"/>
            <a:chOff x="2590920" y="304920"/>
            <a:chExt cx="4267080" cy="841320"/>
          </a:xfrm>
        </p:grpSpPr>
        <p:pic>
          <p:nvPicPr>
            <p:cNvPr id="297" name="Rectangle 13" descr=""/>
            <p:cNvPicPr/>
            <p:nvPr/>
          </p:nvPicPr>
          <p:blipFill>
            <a:blip r:embed="rId1"/>
            <a:stretch/>
          </p:blipFill>
          <p:spPr>
            <a:xfrm>
              <a:off x="2590920" y="304920"/>
              <a:ext cx="426708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8" name=""/>
            <p:cNvSpPr/>
            <p:nvPr/>
          </p:nvSpPr>
          <p:spPr>
            <a:xfrm>
              <a:off x="2590920" y="304920"/>
              <a:ext cx="426708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ff0000"/>
                  </a:solidFill>
                  <a:latin typeface="Franklin Gothic Medium"/>
                </a:rPr>
                <a:t>ПРАВИЛО 8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99" name=""/>
          <p:cNvSpPr txBox="1"/>
          <p:nvPr/>
        </p:nvSpPr>
        <p:spPr>
          <a:xfrm>
            <a:off x="704880" y="2285640"/>
            <a:ext cx="7696080" cy="25909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797b7e"/>
              </a:gs>
            </a:gsLst>
            <a:lin ang="2700000"/>
          </a:gradFill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Black"/>
              </a:rPr>
              <a:t>     </a:t>
            </a:r>
            <a:r>
              <a:rPr b="1" lang="ru-RU" sz="2800" spc="-1" strike="noStrike">
                <a:solidFill>
                  <a:srgbClr val="000000"/>
                </a:solidFill>
                <a:latin typeface="Arial Black"/>
              </a:rPr>
              <a:t>Новые  мониторы дают крупное и отчетливое изображение. При постоянной работе на таком мониторе глаза устают значительно меньше. 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0" name="AutoShape 21">
            <a:hlinkClick r:id="" action="ppaction://hlinkshowjump?jump=nextslide"/>
          </p:cNvPr>
          <p:cNvSpPr/>
          <p:nvPr/>
        </p:nvSpPr>
        <p:spPr>
          <a:xfrm>
            <a:off x="8418600" y="6324480"/>
            <a:ext cx="573120" cy="533520"/>
          </a:xfrm>
          <a:custGeom>
            <a:avLst/>
            <a:gdLst>
              <a:gd name="textAreaLeft" fmla="*/ 34560 w 573120"/>
              <a:gd name="textAreaRight" fmla="*/ 538560 w 5731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3202" h="21600">
                <a:moveTo>
                  <a:pt x="0" y="0"/>
                </a:moveTo>
                <a:lnTo>
                  <a:pt x="23202" y="0"/>
                </a:lnTo>
                <a:lnTo>
                  <a:pt x="23202" y="21600"/>
                </a:lnTo>
                <a:lnTo>
                  <a:pt x="0" y="21600"/>
                </a:lnTo>
                <a:close/>
              </a:path>
              <a:path fill="lightenLess" w="23202" h="21600">
                <a:moveTo>
                  <a:pt x="0" y="0"/>
                </a:moveTo>
                <a:lnTo>
                  <a:pt x="23202" y="0"/>
                </a:lnTo>
                <a:lnTo>
                  <a:pt x="21802" y="1400"/>
                </a:lnTo>
                <a:lnTo>
                  <a:pt x="1400" y="1400"/>
                </a:lnTo>
                <a:close/>
              </a:path>
              <a:path fill="darken" w="23202" h="21600">
                <a:moveTo>
                  <a:pt x="23202" y="0"/>
                </a:moveTo>
                <a:lnTo>
                  <a:pt x="23202" y="21600"/>
                </a:lnTo>
                <a:lnTo>
                  <a:pt x="21802" y="20200"/>
                </a:lnTo>
                <a:lnTo>
                  <a:pt x="21802" y="1400"/>
                </a:lnTo>
                <a:close/>
              </a:path>
              <a:path fill="darkenLess" w="23202" h="21600">
                <a:moveTo>
                  <a:pt x="23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802" y="20200"/>
                </a:lnTo>
                <a:close/>
              </a:path>
              <a:path fill="lighten" w="23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202" h="21600">
                <a:moveTo>
                  <a:pt x="4595" y="3794"/>
                </a:moveTo>
                <a:lnTo>
                  <a:pt x="18608" y="10800"/>
                </a:lnTo>
                <a:lnTo>
                  <a:pt x="4595" y="17806"/>
                </a:lnTo>
                <a:close/>
              </a:path>
            </a:pathLst>
          </a:custGeom>
          <a:gradFill rotWithShape="0">
            <a:gsLst>
              <a:gs pos="0">
                <a:srgbClr val="969696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1" name="AutoShape 22">
            <a:hlinkClick r:id="" action="ppaction://hlinkshowjump?jump=previousslide"/>
          </p:cNvPr>
          <p:cNvSpPr/>
          <p:nvPr/>
        </p:nvSpPr>
        <p:spPr>
          <a:xfrm>
            <a:off x="7631280" y="6324480"/>
            <a:ext cx="572760" cy="533520"/>
          </a:xfrm>
          <a:custGeom>
            <a:avLst/>
            <a:gdLst>
              <a:gd name="textAreaLeft" fmla="*/ 34560 w 572760"/>
              <a:gd name="textAreaRight" fmla="*/ 538200 w 57276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3188" h="21600">
                <a:moveTo>
                  <a:pt x="0" y="0"/>
                </a:moveTo>
                <a:lnTo>
                  <a:pt x="23188" y="0"/>
                </a:lnTo>
                <a:lnTo>
                  <a:pt x="23188" y="21600"/>
                </a:lnTo>
                <a:lnTo>
                  <a:pt x="0" y="21600"/>
                </a:lnTo>
                <a:close/>
              </a:path>
              <a:path fill="lightenLess" w="23188" h="21600">
                <a:moveTo>
                  <a:pt x="0" y="0"/>
                </a:moveTo>
                <a:lnTo>
                  <a:pt x="23188" y="0"/>
                </a:lnTo>
                <a:lnTo>
                  <a:pt x="21788" y="1400"/>
                </a:lnTo>
                <a:lnTo>
                  <a:pt x="1400" y="1400"/>
                </a:lnTo>
                <a:close/>
              </a:path>
              <a:path fill="darken" w="23188" h="21600">
                <a:moveTo>
                  <a:pt x="23188" y="0"/>
                </a:moveTo>
                <a:lnTo>
                  <a:pt x="23188" y="21600"/>
                </a:lnTo>
                <a:lnTo>
                  <a:pt x="21788" y="20200"/>
                </a:lnTo>
                <a:lnTo>
                  <a:pt x="21788" y="1400"/>
                </a:lnTo>
                <a:close/>
              </a:path>
              <a:path fill="darkenLess" w="23188" h="21600">
                <a:moveTo>
                  <a:pt x="231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788" y="20200"/>
                </a:lnTo>
                <a:close/>
              </a:path>
              <a:path fill="lighten" w="231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188" h="21600">
                <a:moveTo>
                  <a:pt x="4587" y="10800"/>
                </a:moveTo>
                <a:lnTo>
                  <a:pt x="18600" y="3794"/>
                </a:lnTo>
                <a:lnTo>
                  <a:pt x="18600" y="17806"/>
                </a:lnTo>
                <a:close/>
              </a:path>
            </a:pathLst>
          </a:custGeom>
          <a:gradFill rotWithShape="0">
            <a:gsLst>
              <a:gs pos="0">
                <a:srgbClr val="969696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2" name="AutoShape 23">
            <a:hlinkClick r:id="" action="ppaction://hlinkshowjump?jump=firstslide"/>
          </p:cNvPr>
          <p:cNvSpPr/>
          <p:nvPr/>
        </p:nvSpPr>
        <p:spPr>
          <a:xfrm>
            <a:off x="5410080" y="6324480"/>
            <a:ext cx="573120" cy="533520"/>
          </a:xfrm>
          <a:custGeom>
            <a:avLst/>
            <a:gdLst>
              <a:gd name="textAreaLeft" fmla="*/ 34560 w 573120"/>
              <a:gd name="textAreaRight" fmla="*/ 538560 w 5731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3202" h="21600">
                <a:moveTo>
                  <a:pt x="0" y="0"/>
                </a:moveTo>
                <a:lnTo>
                  <a:pt x="23202" y="0"/>
                </a:lnTo>
                <a:lnTo>
                  <a:pt x="23202" y="21600"/>
                </a:lnTo>
                <a:lnTo>
                  <a:pt x="0" y="21600"/>
                </a:lnTo>
                <a:close/>
              </a:path>
              <a:path fill="lightenLess" w="23202" h="21600">
                <a:moveTo>
                  <a:pt x="0" y="0"/>
                </a:moveTo>
                <a:lnTo>
                  <a:pt x="23202" y="0"/>
                </a:lnTo>
                <a:lnTo>
                  <a:pt x="21802" y="1400"/>
                </a:lnTo>
                <a:lnTo>
                  <a:pt x="1400" y="1400"/>
                </a:lnTo>
                <a:close/>
              </a:path>
              <a:path fill="darken" w="23202" h="21600">
                <a:moveTo>
                  <a:pt x="23202" y="0"/>
                </a:moveTo>
                <a:lnTo>
                  <a:pt x="23202" y="21600"/>
                </a:lnTo>
                <a:lnTo>
                  <a:pt x="21802" y="20200"/>
                </a:lnTo>
                <a:lnTo>
                  <a:pt x="21802" y="1400"/>
                </a:lnTo>
                <a:close/>
              </a:path>
              <a:path fill="darkenLess" w="23202" h="21600">
                <a:moveTo>
                  <a:pt x="23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802" y="20200"/>
                </a:lnTo>
                <a:close/>
              </a:path>
              <a:path fill="lighten" w="23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202" h="21600">
                <a:moveTo>
                  <a:pt x="8102" y="10800"/>
                </a:moveTo>
                <a:lnTo>
                  <a:pt x="18608" y="3794"/>
                </a:lnTo>
                <a:lnTo>
                  <a:pt x="18608" y="17806"/>
                </a:lnTo>
                <a:close/>
              </a:path>
              <a:path fill="darken" w="23202" h="21600">
                <a:moveTo>
                  <a:pt x="4595" y="3794"/>
                </a:moveTo>
                <a:lnTo>
                  <a:pt x="6257" y="3794"/>
                </a:lnTo>
                <a:lnTo>
                  <a:pt x="6257" y="17806"/>
                </a:lnTo>
                <a:lnTo>
                  <a:pt x="4595" y="17806"/>
                </a:lnTo>
                <a:close/>
              </a:path>
            </a:pathLst>
          </a:custGeom>
          <a:gradFill rotWithShape="0">
            <a:gsLst>
              <a:gs pos="0">
                <a:srgbClr val="969696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" name="AutoShape 24">
            <a:hlinkClick r:id="rId2" action="ppaction://hlinksldjump"/>
          </p:cNvPr>
          <p:cNvSpPr/>
          <p:nvPr/>
        </p:nvSpPr>
        <p:spPr>
          <a:xfrm>
            <a:off x="6269040" y="6324480"/>
            <a:ext cx="573120" cy="533520"/>
          </a:xfrm>
          <a:custGeom>
            <a:avLst/>
            <a:gdLst>
              <a:gd name="textAreaLeft" fmla="*/ 34560 w 573120"/>
              <a:gd name="textAreaRight" fmla="*/ 538560 w 5731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3202" h="21600">
                <a:moveTo>
                  <a:pt x="0" y="0"/>
                </a:moveTo>
                <a:lnTo>
                  <a:pt x="23202" y="0"/>
                </a:lnTo>
                <a:lnTo>
                  <a:pt x="23202" y="21600"/>
                </a:lnTo>
                <a:lnTo>
                  <a:pt x="0" y="21600"/>
                </a:lnTo>
                <a:close/>
              </a:path>
              <a:path fill="lightenLess" w="23202" h="21600">
                <a:moveTo>
                  <a:pt x="0" y="0"/>
                </a:moveTo>
                <a:lnTo>
                  <a:pt x="23202" y="0"/>
                </a:lnTo>
                <a:lnTo>
                  <a:pt x="21802" y="1400"/>
                </a:lnTo>
                <a:lnTo>
                  <a:pt x="1400" y="1400"/>
                </a:lnTo>
                <a:close/>
              </a:path>
              <a:path fill="darken" w="23202" h="21600">
                <a:moveTo>
                  <a:pt x="23202" y="0"/>
                </a:moveTo>
                <a:lnTo>
                  <a:pt x="23202" y="21600"/>
                </a:lnTo>
                <a:lnTo>
                  <a:pt x="21802" y="20200"/>
                </a:lnTo>
                <a:lnTo>
                  <a:pt x="21802" y="1400"/>
                </a:lnTo>
                <a:close/>
              </a:path>
              <a:path fill="darkenLess" w="23202" h="21600">
                <a:moveTo>
                  <a:pt x="23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802" y="20200"/>
                </a:lnTo>
                <a:close/>
              </a:path>
              <a:path fill="lighten" w="23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202" h="21600">
                <a:moveTo>
                  <a:pt x="15100" y="10800"/>
                </a:moveTo>
                <a:lnTo>
                  <a:pt x="4595" y="17806"/>
                </a:lnTo>
                <a:lnTo>
                  <a:pt x="4595" y="3794"/>
                </a:lnTo>
                <a:close/>
              </a:path>
              <a:path fill="darken" w="23202" h="21600">
                <a:moveTo>
                  <a:pt x="16945" y="3794"/>
                </a:moveTo>
                <a:lnTo>
                  <a:pt x="16945" y="17806"/>
                </a:lnTo>
                <a:lnTo>
                  <a:pt x="18608" y="17806"/>
                </a:lnTo>
                <a:lnTo>
                  <a:pt x="18608" y="3794"/>
                </a:lnTo>
                <a:close/>
              </a:path>
            </a:pathLst>
          </a:custGeom>
          <a:gradFill rotWithShape="0">
            <a:gsLst>
              <a:gs pos="0">
                <a:srgbClr val="969696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" name="AutoShape 25">
            <a:hlinkClick r:id="" action="ppaction://hlinkshowjump?jump=endshow"/>
          </p:cNvPr>
          <p:cNvSpPr/>
          <p:nvPr/>
        </p:nvSpPr>
        <p:spPr>
          <a:xfrm>
            <a:off x="4343400" y="6324480"/>
            <a:ext cx="609480" cy="53352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73" h="21600">
                <a:moveTo>
                  <a:pt x="0" y="0"/>
                </a:moveTo>
                <a:lnTo>
                  <a:pt x="24673" y="0"/>
                </a:lnTo>
                <a:lnTo>
                  <a:pt x="24673" y="21600"/>
                </a:lnTo>
                <a:lnTo>
                  <a:pt x="0" y="21600"/>
                </a:lnTo>
                <a:close/>
              </a:path>
              <a:path fill="lightenLess" w="24673" h="21600">
                <a:moveTo>
                  <a:pt x="0" y="0"/>
                </a:moveTo>
                <a:lnTo>
                  <a:pt x="24673" y="0"/>
                </a:lnTo>
                <a:lnTo>
                  <a:pt x="23273" y="1400"/>
                </a:lnTo>
                <a:lnTo>
                  <a:pt x="1400" y="1400"/>
                </a:lnTo>
                <a:close/>
              </a:path>
              <a:path fill="darken" w="24673" h="21600">
                <a:moveTo>
                  <a:pt x="24673" y="0"/>
                </a:moveTo>
                <a:lnTo>
                  <a:pt x="24673" y="21600"/>
                </a:lnTo>
                <a:lnTo>
                  <a:pt x="23273" y="20200"/>
                </a:lnTo>
                <a:lnTo>
                  <a:pt x="23273" y="1400"/>
                </a:lnTo>
                <a:close/>
              </a:path>
              <a:path fill="darkenLess" w="24673" h="21600">
                <a:moveTo>
                  <a:pt x="246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3" y="20200"/>
                </a:lnTo>
                <a:close/>
              </a:path>
              <a:path fill="lighten" w="246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73" h="21600">
                <a:moveTo>
                  <a:pt x="5330" y="7493"/>
                </a:moveTo>
                <a:lnTo>
                  <a:pt x="8838" y="7493"/>
                </a:lnTo>
                <a:lnTo>
                  <a:pt x="8838" y="12828"/>
                </a:lnTo>
                <a:cubicBezTo>
                  <a:pt x="8838" y="13751"/>
                  <a:pt x="9638" y="14482"/>
                  <a:pt x="10674" y="14482"/>
                </a:cubicBezTo>
                <a:lnTo>
                  <a:pt x="12337" y="14482"/>
                </a:lnTo>
                <a:cubicBezTo>
                  <a:pt x="13372" y="14482"/>
                  <a:pt x="14173" y="13751"/>
                  <a:pt x="14173" y="12828"/>
                </a:cubicBezTo>
                <a:lnTo>
                  <a:pt x="14173" y="7493"/>
                </a:lnTo>
                <a:lnTo>
                  <a:pt x="12337" y="7493"/>
                </a:lnTo>
                <a:lnTo>
                  <a:pt x="15844" y="3985"/>
                </a:lnTo>
                <a:lnTo>
                  <a:pt x="19517" y="7493"/>
                </a:lnTo>
                <a:lnTo>
                  <a:pt x="17681" y="7493"/>
                </a:lnTo>
                <a:lnTo>
                  <a:pt x="17681" y="12828"/>
                </a:lnTo>
                <a:cubicBezTo>
                  <a:pt x="17681" y="15596"/>
                  <a:pt x="15104" y="18155"/>
                  <a:pt x="12337" y="18155"/>
                </a:cubicBezTo>
                <a:lnTo>
                  <a:pt x="10674" y="18155"/>
                </a:lnTo>
                <a:cubicBezTo>
                  <a:pt x="7906" y="18155"/>
                  <a:pt x="5330" y="15596"/>
                  <a:pt x="5330" y="12828"/>
                </a:cubicBezTo>
                <a:close/>
              </a:path>
            </a:pathLst>
          </a:custGeom>
          <a:gradFill rotWithShape="0">
            <a:gsLst>
              <a:gs pos="0">
                <a:srgbClr val="969696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05" name="Picture 26" descr="image002"/>
          <p:cNvPicPr/>
          <p:nvPr/>
        </p:nvPicPr>
        <p:blipFill>
          <a:blip r:embed="rId3"/>
          <a:stretch/>
        </p:blipFill>
        <p:spPr>
          <a:xfrm>
            <a:off x="6113520" y="1371600"/>
            <a:ext cx="2305080" cy="685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0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Учитель</dc:creator>
  <dc:description/>
  <dc:language>en-US</dc:language>
  <cp:lastModifiedBy>Учитель</cp:lastModifiedBy>
  <dcterms:modified xsi:type="dcterms:W3CDTF">2013-03-13T12:53:49Z</dcterms:modified>
  <cp:revision>13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