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wmf" ContentType="image/x-wmf"/>
  <Override PartName="/ppt/media/image22.gif" ContentType="image/gif"/>
  <Override PartName="/ppt/media/image25.png" ContentType="image/png"/>
  <Override PartName="/ppt/media/image9.jpeg" ContentType="image/jpeg"/>
  <Override PartName="/ppt/media/image11.wmf" ContentType="image/x-wmf"/>
  <Override PartName="/ppt/media/image3.png" ContentType="image/png"/>
  <Override PartName="/ppt/media/image23.gif" ContentType="image/gif"/>
  <Override PartName="/ppt/media/image26.png" ContentType="image/png"/>
  <Override PartName="/ppt/media/image7.png" ContentType="image/png"/>
  <Override PartName="/ppt/media/image27.gif" ContentType="image/gif"/>
  <Override PartName="/ppt/media/image6.wmf" ContentType="image/x-wmf"/>
  <Override PartName="/ppt/media/image5.jpeg" ContentType="image/jpeg"/>
  <Override PartName="/ppt/media/image8.jpeg" ContentType="image/jpeg"/>
  <Override PartName="/ppt/media/image21.gif" ContentType="image/gif"/>
  <Override PartName="/ppt/media/image19.png" ContentType="image/png"/>
  <Override PartName="/ppt/media/image15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6.jpeg" ContentType="image/jpeg"/>
  <Override PartName="/ppt/media/image28.gif" ContentType="image/gif"/>
  <Override PartName="/ppt/media/image14.jpeg" ContentType="image/jpeg"/>
  <Override PartName="/ppt/media/image2.wmf" ContentType="image/x-wmf"/>
  <Override PartName="/ppt/media/image4.png" ContentType="image/png"/>
  <Override PartName="/ppt/media/image24.gif" ContentType="image/gif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047-8E9B-43F7-BAAC-36D1970A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1EE-8D5D-483A-8F13-9D407EA9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E45-26B4-40B0-B5F1-15C57DEE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8A5-7F74-4BF7-925D-DAB0FE72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1711-BFE1-43B3-85B3-A8B2875A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A737-4741-49F0-AE7D-93847CE5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100D-43BF-49B4-99CE-A01DE4BC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E2D9-E298-4361-9C0D-C855813A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9E60-2BEF-491A-80BE-0AD05420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DFDA-CD8A-462A-9F4D-E6C20205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0ADC-1894-4B76-948F-F57D5F8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EC1-E813-4097-8558-B459EDE5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33C2-8EF3-4B57-8EB2-D7A487F5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35D3-4C2B-4298-955B-7DF59C30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A129-E302-4E4E-BB71-BBAC1911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8174-6B3E-4E3D-9AE5-E46BA68B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1C52-47B2-48CE-9FCE-029CD557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F036-593F-49E2-A3B5-DC25E6FD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0CA5-5AD0-490A-A4D1-186FC1B3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0972-1F31-42B7-A673-F82F8F6D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BE10-C9B6-4AD4-A647-3208A6B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F016-B2B6-47E2-93BE-6C86DEE3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0B3-0F84-4DC0-95D6-EB003252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A164-C8BB-4634-B667-B4B7FFB1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578D-28D2-4F5C-B1F6-6A0F43B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EE56D-E339-424B-BE95-7CE1A8C9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58C9-0F97-457E-BA61-5A0C634A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59C6-DD69-4752-94ED-82E5F018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A38B-4239-4971-97D5-F980F60F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4371-C6FF-46A9-80D8-38F3F01A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00174-8B6B-4643-9427-982265BB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E8EAD-E18A-45A4-9D64-B85C7F51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80C3-AFEF-4F5C-B722-8093A465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88D-7F06-4456-AC8D-EC0C48E6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5F15-94B2-488D-AEC2-E75D66E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2C0D-8335-404C-A87E-B7F6DE82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2E6C-EF3B-4C29-9FB6-2F09D08A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DC6F-44D3-4ECC-9A9C-209E0977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028A-C8F4-4B26-BA5F-0A6EA4DD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91CD-24B2-41C8-88EE-CC19D510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5D90-6D3E-4DE9-97ED-C66A60B7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A05A8-61B5-4E88-B591-5305AFF7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33E1-351B-468C-83E1-111F0DDB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E633-57C3-4D24-A994-11A5AB79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46D-EEC1-48B7-B5EF-8079EF37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1D7BE-E33D-44EC-BAA3-5171031B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A642-76A8-4AF6-821A-C11B5860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4982-0209-466A-ABF6-05FE55CA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2164C-1673-4BD8-BFFC-38DE20C4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130C0-96C0-4B52-8FF6-1D10EDAE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E5B5-8B09-4369-8080-12584F8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FA79F-12BE-4C86-A742-9A934FF6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F0F3-3E59-471A-B35A-BBDDC100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2225-6AB9-4332-A7E9-DFADA144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28B3-4601-4E94-AE66-D3248503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A54-C0F5-4241-9869-45ED1ED0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8927-CC82-494D-A05C-E02F1544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773-9099-45B4-B74D-3BE64BA8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D13-F1D8-468C-AF73-568AC94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537-DC9E-42D0-B8D4-91DFA9E1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BB54-7881-4098-A7A0-8A545A35DE81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10A1-9F4B-4E28-957F-AF8A28DC74A5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FC1-BAF7-4A8C-A6AC-8C2AB2CE891A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F65B-55DA-4732-8CC2-9D2AA003771C}" type="slidenum">
              <a:rPr b="0" lang="ru-RU" sz="1600" spc="-1" strike="noStrike">
                <a:solidFill>
                  <a:srgbClr val="434342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шк. № 21 г.Шарьи Костромской об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9B31-4BAC-4409-A517-BCBA6A130CA4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gif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5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4.xml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84080" y="175248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79a3"/>
                </a:solidFill>
                <a:latin typeface="Arial Black"/>
              </a:rPr>
              <a:t>ПРАВИЛА РАБОТЫ ЗА </a:t>
            </a:r>
            <a:r>
              <a:rPr b="0" lang="ru-RU" sz="4000" spc="-1" strike="noStrike" u="sng">
                <a:solidFill>
                  <a:srgbClr val="0679a3"/>
                </a:solidFill>
                <a:uFillTx/>
                <a:latin typeface="Arial Black"/>
              </a:rPr>
              <a:t>КОМПЬЮТЕРОМ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AutoShape 4">
            <a:hlinkClick r:id="" action="ppaction://hlinkshowjump?jump=nextslide"/>
          </p:cNvPr>
          <p:cNvSpPr/>
          <p:nvPr/>
        </p:nvSpPr>
        <p:spPr>
          <a:xfrm>
            <a:off x="5943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483e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5">
            <a:hlinkClick r:id="rId1" action="ppaction://hlinksldjump"/>
          </p:cNvPr>
          <p:cNvSpPr/>
          <p:nvPr/>
        </p:nvSpPr>
        <p:spPr>
          <a:xfrm>
            <a:off x="29718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gradFill rotWithShape="0">
            <a:gsLst>
              <a:gs pos="0">
                <a:srgbClr val="7483e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6">
            <a:hlinkClick r:id="" action="ppaction://hlinkshowjump?jump=endshow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7493"/>
                </a:moveTo>
                <a:lnTo>
                  <a:pt x="8497" y="7493"/>
                </a:lnTo>
                <a:lnTo>
                  <a:pt x="8497" y="12828"/>
                </a:lnTo>
                <a:cubicBezTo>
                  <a:pt x="8497" y="13751"/>
                  <a:pt x="9297" y="14482"/>
                  <a:pt x="10333" y="14482"/>
                </a:cubicBezTo>
                <a:lnTo>
                  <a:pt x="11996" y="14482"/>
                </a:lnTo>
                <a:cubicBezTo>
                  <a:pt x="13031" y="14482"/>
                  <a:pt x="13832" y="13751"/>
                  <a:pt x="13832" y="12828"/>
                </a:cubicBezTo>
                <a:lnTo>
                  <a:pt x="13832" y="7493"/>
                </a:lnTo>
                <a:lnTo>
                  <a:pt x="11996" y="7493"/>
                </a:lnTo>
                <a:lnTo>
                  <a:pt x="15503" y="3985"/>
                </a:lnTo>
                <a:lnTo>
                  <a:pt x="19176" y="7493"/>
                </a:lnTo>
                <a:lnTo>
                  <a:pt x="17340" y="7493"/>
                </a:lnTo>
                <a:lnTo>
                  <a:pt x="17340" y="12828"/>
                </a:lnTo>
                <a:cubicBezTo>
                  <a:pt x="17340" y="15596"/>
                  <a:pt x="14763" y="18155"/>
                  <a:pt x="11996" y="18155"/>
                </a:cubicBezTo>
                <a:lnTo>
                  <a:pt x="10333" y="18155"/>
                </a:lnTo>
                <a:cubicBezTo>
                  <a:pt x="7565" y="18155"/>
                  <a:pt x="4989" y="15596"/>
                  <a:pt x="4989" y="12828"/>
                </a:cubicBezTo>
                <a:close/>
              </a:path>
            </a:pathLst>
          </a:custGeom>
          <a:gradFill rotWithShape="0">
            <a:gsLst>
              <a:gs pos="0">
                <a:srgbClr val="7483e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6324480" y="838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5" descr="image412"/>
          <p:cNvPicPr/>
          <p:nvPr/>
        </p:nvPicPr>
        <p:blipFill>
          <a:blip r:embed="rId2"/>
          <a:stretch/>
        </p:blipFill>
        <p:spPr>
          <a:xfrm rot="646200">
            <a:off x="7586280" y="3141720"/>
            <a:ext cx="1123920" cy="1371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j0292020"/>
          <p:cNvPicPr/>
          <p:nvPr/>
        </p:nvPicPr>
        <p:blipFill>
          <a:blip r:embed="rId3"/>
          <a:stretch/>
        </p:blipFill>
        <p:spPr>
          <a:xfrm>
            <a:off x="457200" y="3276720"/>
            <a:ext cx="167652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307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9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685800" y="1905120"/>
            <a:ext cx="7696080" cy="274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Шрифт на экране должен быть темным, а фон светлым. Зеленые и оранжевые цвета «плывут» и редко дают отчетливое изображение.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AutoShape 20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AutoShape 21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AutoShape 22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AutoShape 23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24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316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10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8" name=""/>
          <p:cNvSpPr txBox="1"/>
          <p:nvPr/>
        </p:nvSpPr>
        <p:spPr>
          <a:xfrm>
            <a:off x="609120" y="1752120"/>
            <a:ext cx="7696440" cy="2971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 Black"/>
              </a:rPr>
              <a:t>Мелкий шрифт вреден для глаз. Задайте масштаб изображения 120 - 150%. Масштабирование никак не повлияет на реальные параметры вашего текста. </a:t>
            </a:r>
            <a:endParaRPr b="1" lang="en-US" sz="3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9" name="Picture 20" descr="MAGNIFY"/>
          <p:cNvPicPr/>
          <p:nvPr/>
        </p:nvPicPr>
        <p:blipFill>
          <a:blip r:embed="rId2"/>
          <a:stretch/>
        </p:blipFill>
        <p:spPr>
          <a:xfrm>
            <a:off x="3581280" y="4724280"/>
            <a:ext cx="1600200" cy="139716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21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22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23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AutoShape 24">
            <a:hlinkClick r:id="rId3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25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326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1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"/>
          <p:cNvSpPr txBox="1"/>
          <p:nvPr/>
        </p:nvSpPr>
        <p:spPr>
          <a:xfrm>
            <a:off x="3962520" y="1904760"/>
            <a:ext cx="44956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онитор должен находиться от вас на расстоянии 60 - 70 см       на 20 градусов ниже уровня глаз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AutoShape 35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36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AutoShape 37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AutoShape 38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AutoShape 39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4" name="Picture 40" descr="worker_place_displey"/>
          <p:cNvPicPr/>
          <p:nvPr/>
        </p:nvPicPr>
        <p:blipFill>
          <a:blip r:embed="rId3"/>
          <a:stretch/>
        </p:blipFill>
        <p:spPr>
          <a:xfrm>
            <a:off x="0" y="1600200"/>
            <a:ext cx="39434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336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1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8" name=""/>
          <p:cNvSpPr txBox="1"/>
          <p:nvPr/>
        </p:nvSpPr>
        <p:spPr>
          <a:xfrm>
            <a:off x="685800" y="1599840"/>
            <a:ext cx="76960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ерез каждые 15 - 20 минут работы за компьютером следует делать перерыв. Во время этих перерывов не стоит читать или смотреть телевизор. Общая продолжительность работы не должна превышать в ден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а) 20 – 30 мин (дети до 10 лет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) 1-2 час (10 – 18 лет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) 4 час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&gt; 18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лет)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9" name="Picture 20" descr="j0195384"/>
          <p:cNvPicPr/>
          <p:nvPr/>
        </p:nvPicPr>
        <p:blipFill>
          <a:blip r:embed="rId2"/>
          <a:stretch/>
        </p:blipFill>
        <p:spPr>
          <a:xfrm>
            <a:off x="5410080" y="4267080"/>
            <a:ext cx="1795680" cy="1676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2" descr="WATCH"/>
          <p:cNvPicPr/>
          <p:nvPr/>
        </p:nvPicPr>
        <p:blipFill>
          <a:blip r:embed="rId3"/>
          <a:stretch/>
        </p:blipFill>
        <p:spPr>
          <a:xfrm>
            <a:off x="6095880" y="914400"/>
            <a:ext cx="498600" cy="60948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23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24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AutoShape 25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AutoShape 26">
            <a:hlinkClick r:id="rId4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AutoShape 27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342880" y="2133720"/>
            <a:ext cx="6667560" cy="2209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Arial"/>
              </a:rPr>
              <a:t>Отдыхайте!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cc6600"/>
                </a:solidFill>
                <a:latin typeface="Arial"/>
              </a:rPr>
              <a:t>Расслабляйтесь! 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Arial"/>
              </a:rPr>
              <a:t>Двигайтесь!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47" name="Rectangle 6"/>
          <p:cNvGrpSpPr/>
          <p:nvPr/>
        </p:nvGrpSpPr>
        <p:grpSpPr>
          <a:xfrm>
            <a:off x="2212920" y="457200"/>
            <a:ext cx="4425840" cy="764280"/>
            <a:chOff x="2212920" y="457200"/>
            <a:chExt cx="4425840" cy="764280"/>
          </a:xfrm>
        </p:grpSpPr>
        <p:pic>
          <p:nvPicPr>
            <p:cNvPr id="348" name="Rectangle 6" descr=""/>
            <p:cNvPicPr/>
            <p:nvPr/>
          </p:nvPicPr>
          <p:blipFill>
            <a:blip r:embed="rId1"/>
            <a:stretch/>
          </p:blipFill>
          <p:spPr>
            <a:xfrm>
              <a:off x="2215800" y="457200"/>
              <a:ext cx="4422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212920" y="457200"/>
              <a:ext cx="442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 u="sng">
                  <a:solidFill>
                    <a:srgbClr val="ca4b05"/>
                  </a:solidFill>
                  <a:uFillTx/>
                  <a:latin typeface="Franklin Gothic Medium"/>
                </a:rPr>
                <a:t>Итак,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0" name="Text Box 8"/>
          <p:cNvSpPr/>
          <p:nvPr/>
        </p:nvSpPr>
        <p:spPr>
          <a:xfrm>
            <a:off x="762120" y="5272200"/>
            <a:ext cx="541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Правила серьёзные и не очень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Comic Sans MS"/>
                <a:hlinkClick r:id="rId2" action="ppaction://hlinksldjump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066680" y="1447920"/>
            <a:ext cx="69343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lin ang="2700000"/>
          </a:gradFill>
          <a:ln w="9360">
            <a:solidFill>
              <a:srgbClr val="797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чтобы компьютер не превратился во врага,</a:t>
            </a:r>
            <a:r>
              <a:rPr b="0" lang="ru-RU" sz="1800" spc="-1" strike="noStrike">
                <a:solidFill>
                  <a:srgbClr val="96969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AutoShape 15">
            <a:hlinkClick r:id="" action="ppaction://hlinkshowjump?jump=previousslide"/>
          </p:cNvPr>
          <p:cNvSpPr/>
          <p:nvPr/>
        </p:nvSpPr>
        <p:spPr>
          <a:xfrm>
            <a:off x="8534520" y="5638680"/>
            <a:ext cx="609480" cy="552600"/>
          </a:xfrm>
          <a:custGeom>
            <a:avLst/>
            <a:gdLst>
              <a:gd name="textAreaLeft" fmla="*/ 35640 w 609480"/>
              <a:gd name="textAreaRight" fmla="*/ 573840 w 609480"/>
              <a:gd name="textAreaTop" fmla="*/ 35640 h 552600"/>
              <a:gd name="textAreaBottom" fmla="*/ 516960 h 552600"/>
            </a:gdLst>
            <a:ahLst/>
            <a:rect l="textAreaLeft" t="textAreaTop" r="textAreaRight" b="textAreaBottom"/>
            <a:pathLst>
              <a:path w="23822" h="21600">
                <a:moveTo>
                  <a:pt x="0" y="0"/>
                </a:moveTo>
                <a:lnTo>
                  <a:pt x="23822" y="0"/>
                </a:lnTo>
                <a:lnTo>
                  <a:pt x="23822" y="21600"/>
                </a:lnTo>
                <a:lnTo>
                  <a:pt x="0" y="21600"/>
                </a:lnTo>
                <a:close/>
              </a:path>
              <a:path fill="lightenLess" w="23822" h="21600">
                <a:moveTo>
                  <a:pt x="0" y="0"/>
                </a:moveTo>
                <a:lnTo>
                  <a:pt x="23822" y="0"/>
                </a:lnTo>
                <a:lnTo>
                  <a:pt x="22422" y="1400"/>
                </a:lnTo>
                <a:lnTo>
                  <a:pt x="1400" y="1400"/>
                </a:lnTo>
                <a:close/>
              </a:path>
              <a:path fill="darken" w="23822" h="21600">
                <a:moveTo>
                  <a:pt x="23822" y="0"/>
                </a:moveTo>
                <a:lnTo>
                  <a:pt x="23822" y="21600"/>
                </a:lnTo>
                <a:lnTo>
                  <a:pt x="22422" y="20200"/>
                </a:lnTo>
                <a:lnTo>
                  <a:pt x="22422" y="1400"/>
                </a:lnTo>
                <a:close/>
              </a:path>
              <a:path fill="darkenLess" w="23822" h="21600">
                <a:moveTo>
                  <a:pt x="23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2" y="20200"/>
                </a:lnTo>
                <a:close/>
              </a:path>
              <a:path fill="lighten" w="23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2" h="21600">
                <a:moveTo>
                  <a:pt x="4904" y="10800"/>
                </a:moveTo>
                <a:lnTo>
                  <a:pt x="18917" y="3794"/>
                </a:lnTo>
                <a:lnTo>
                  <a:pt x="18917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AutoShape 16">
            <a:hlinkClick r:id="" action="ppaction://hlinkshowjump?jump=firstslide"/>
          </p:cNvPr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9569" y="10800"/>
                </a:moveTo>
                <a:lnTo>
                  <a:pt x="20074" y="3794"/>
                </a:lnTo>
                <a:lnTo>
                  <a:pt x="20074" y="17806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7724" y="3794"/>
                </a:lnTo>
                <a:lnTo>
                  <a:pt x="7724" y="17806"/>
                </a:lnTo>
                <a:lnTo>
                  <a:pt x="6061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AutoShape 18">
            <a:hlinkClick r:id="" action="ppaction://hlinkshowjump?jump=endshow"/>
          </p:cNvPr>
          <p:cNvSpPr/>
          <p:nvPr/>
        </p:nvSpPr>
        <p:spPr>
          <a:xfrm>
            <a:off x="8534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4867920" y="624852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Comic Sans MS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6" name="Picture 21" descr="a_1"/>
          <p:cNvPicPr/>
          <p:nvPr/>
        </p:nvPicPr>
        <p:blipFill>
          <a:blip r:embed="rId3"/>
          <a:stretch/>
        </p:blipFill>
        <p:spPr>
          <a:xfrm>
            <a:off x="504720" y="2057400"/>
            <a:ext cx="112392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4342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1760" y="1523880"/>
            <a:ext cx="7521480" cy="357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друг твоя машин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работает, как надо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ы по материнской плат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льно стукни кулако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поможет - бей кувалдой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й ногой по монитору..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кричи, глотая слезы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"Она первой начала!"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61722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WordArt 8"/>
          <p:cNvSpPr txBox="1"/>
          <p:nvPr/>
        </p:nvSpPr>
        <p:spPr>
          <a:xfrm>
            <a:off x="1371600" y="152280"/>
            <a:ext cx="5943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редные советы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AutoShape 9">
            <a:hlinkClick r:id="" action="ppaction://hlinkshowjump?jump=endshow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11" descr="AN134"/>
          <p:cNvPicPr/>
          <p:nvPr/>
        </p:nvPicPr>
        <p:blipFill>
          <a:blip r:embed="rId1"/>
          <a:stretch/>
        </p:blipFill>
        <p:spPr>
          <a:xfrm>
            <a:off x="6461280" y="3124080"/>
            <a:ext cx="92052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22160" y="3650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85800" y="1619280"/>
            <a:ext cx="76960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ваш компьютер висне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шник не читает 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V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о, наверное, сломалось что-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коврике для мышки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обрать его вам над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быстрее починит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1722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190512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3434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1371600" y="76320"/>
            <a:ext cx="5943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редные советы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lin ang="27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8" name="AutoShape 8">
            <a:hlinkClick r:id="" action="ppaction://hlinkshowjump?jump=endshow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Picture 9" descr="computer"/>
          <p:cNvPicPr/>
          <p:nvPr/>
        </p:nvPicPr>
        <p:blipFill>
          <a:blip r:embed="rId1"/>
          <a:stretch/>
        </p:blipFill>
        <p:spPr>
          <a:xfrm>
            <a:off x="6172200" y="4038480"/>
            <a:ext cx="1905120" cy="1317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image539"/>
          <p:cNvPicPr/>
          <p:nvPr/>
        </p:nvPicPr>
        <p:blipFill>
          <a:blip r:embed="rId2"/>
          <a:stretch/>
        </p:blipFill>
        <p:spPr>
          <a:xfrm rot="846000">
            <a:off x="4800240" y="5105160"/>
            <a:ext cx="733320" cy="67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72" name="Picture 9" descr="j0300520"/>
          <p:cNvPicPr/>
          <p:nvPr/>
        </p:nvPicPr>
        <p:blipFill>
          <a:blip r:embed="rId1"/>
          <a:stretch/>
        </p:blipFill>
        <p:spPr>
          <a:xfrm>
            <a:off x="4106880" y="2481120"/>
            <a:ext cx="952560" cy="81936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4"/>
          <p:cNvSpPr/>
          <p:nvPr/>
        </p:nvSpPr>
        <p:spPr>
          <a:xfrm>
            <a:off x="685800" y="1523880"/>
            <a:ext cx="7696080" cy="403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 а если вы доста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пер-классную программу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у, которая ненужной ста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чему–то другу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 которой на десктоп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друг пропали все знач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мело выходите в сет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по почте посылай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у самый страшный вирус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тогда посмотришь, ка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 в ремонт свой комп несёт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7201080" y="5638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190512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3434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WordArt 7"/>
          <p:cNvSpPr txBox="1"/>
          <p:nvPr/>
        </p:nvSpPr>
        <p:spPr>
          <a:xfrm>
            <a:off x="1371600" y="152280"/>
            <a:ext cx="5943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редные советы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7" name="AutoShape 8">
            <a:hlinkClick r:id="" action="ppaction://hlinkshowjump?jump=endshow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22160" y="3650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38080" y="1676520"/>
            <a:ext cx="7543800" cy="387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, а если вас убил вдру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осс крутой в игре прикольно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озлитесь - и кидай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монитор вы топором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, конечно же, разбей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ышку с клавиатуро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 поверьте – станет легч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селее на душе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90512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3434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WordArt 7"/>
          <p:cNvSpPr txBox="1"/>
          <p:nvPr/>
        </p:nvSpPr>
        <p:spPr>
          <a:xfrm>
            <a:off x="1371600" y="152280"/>
            <a:ext cx="5943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редные советы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2" name="AutoShape 8">
            <a:hlinkClick r:id="" action="ppaction://hlinkshowjump?jump=endshow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9" descr="anim069[1]"/>
          <p:cNvPicPr/>
          <p:nvPr/>
        </p:nvPicPr>
        <p:blipFill>
          <a:blip r:embed="rId3"/>
          <a:stretch/>
        </p:blipFill>
        <p:spPr>
          <a:xfrm>
            <a:off x="590400" y="5664240"/>
            <a:ext cx="1562400" cy="1160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k8"/>
          <p:cNvPicPr/>
          <p:nvPr/>
        </p:nvPicPr>
        <p:blipFill>
          <a:blip r:embed="rId4"/>
          <a:stretch/>
        </p:blipFill>
        <p:spPr>
          <a:xfrm>
            <a:off x="7696080" y="461880"/>
            <a:ext cx="114300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13"/>
          <p:cNvGrpSpPr/>
          <p:nvPr/>
        </p:nvGrpSpPr>
        <p:grpSpPr>
          <a:xfrm>
            <a:off x="2286000" y="304920"/>
            <a:ext cx="4346640" cy="841320"/>
            <a:chOff x="2286000" y="304920"/>
            <a:chExt cx="4346640" cy="841320"/>
          </a:xfrm>
        </p:grpSpPr>
        <p:pic>
          <p:nvPicPr>
            <p:cNvPr id="223" name="Rectangle 13" descr=""/>
            <p:cNvPicPr/>
            <p:nvPr/>
          </p:nvPicPr>
          <p:blipFill>
            <a:blip r:embed="rId1"/>
            <a:stretch/>
          </p:blipFill>
          <p:spPr>
            <a:xfrm>
              <a:off x="2286000" y="304920"/>
              <a:ext cx="43466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286000" y="304920"/>
              <a:ext cx="4343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5" name="Rectangle 3"/>
          <p:cNvGrpSpPr/>
          <p:nvPr/>
        </p:nvGrpSpPr>
        <p:grpSpPr>
          <a:xfrm>
            <a:off x="304920" y="1603440"/>
            <a:ext cx="8003880" cy="2206440"/>
            <a:chOff x="304920" y="1603440"/>
            <a:chExt cx="8003880" cy="2206440"/>
          </a:xfrm>
        </p:grpSpPr>
        <p:pic>
          <p:nvPicPr>
            <p:cNvPr id="226" name="Rectangle 3" descr=""/>
            <p:cNvPicPr/>
            <p:nvPr/>
          </p:nvPicPr>
          <p:blipFill>
            <a:blip r:embed="rId2"/>
            <a:stretch/>
          </p:blipFill>
          <p:spPr>
            <a:xfrm>
              <a:off x="304920" y="1606320"/>
              <a:ext cx="8003880" cy="22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04920" y="1603440"/>
              <a:ext cx="800100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Franklin Gothic Book"/>
                </a:rPr>
                <a:t>            </a:t>
              </a:r>
              <a:r>
                <a:rPr b="1" lang="ru-RU" sz="2400" spc="-1" strike="noStrike">
                  <a:solidFill>
                    <a:srgbClr val="0679a3"/>
                  </a:solidFill>
                  <a:latin typeface="Arial Black"/>
                </a:rPr>
                <a:t>Устанавливайте компьютер  так, чтобы на экран не падал прямой свет. Иначе экран будет отсвечивать. Кстати говоря, прямой свет вреден не только вам, но и вашему монитору. Оптимальное положение при работе - боком к окну, желательно левым.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8" name="AutoShape 6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7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8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9">
            <a:hlinkClick r:id="rId3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10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14" descr="image021"/>
          <p:cNvPicPr/>
          <p:nvPr/>
        </p:nvPicPr>
        <p:blipFill>
          <a:blip r:embed="rId4"/>
          <a:stretch/>
        </p:blipFill>
        <p:spPr>
          <a:xfrm>
            <a:off x="533520" y="39434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5" descr="j0285750"/>
          <p:cNvPicPr/>
          <p:nvPr/>
        </p:nvPicPr>
        <p:blipFill>
          <a:blip r:embed="rId5"/>
          <a:stretch/>
        </p:blipFill>
        <p:spPr>
          <a:xfrm>
            <a:off x="6535800" y="3743280"/>
            <a:ext cx="182880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Rectangle 12"/>
          <p:cNvGrpSpPr/>
          <p:nvPr/>
        </p:nvGrpSpPr>
        <p:grpSpPr>
          <a:xfrm>
            <a:off x="2286000" y="304920"/>
            <a:ext cx="4266720" cy="841320"/>
            <a:chOff x="2286000" y="304920"/>
            <a:chExt cx="4266720" cy="841320"/>
          </a:xfrm>
        </p:grpSpPr>
        <p:pic>
          <p:nvPicPr>
            <p:cNvPr id="236" name="Rectangle 12" descr=""/>
            <p:cNvPicPr/>
            <p:nvPr/>
          </p:nvPicPr>
          <p:blipFill>
            <a:blip r:embed="rId1"/>
            <a:stretch/>
          </p:blipFill>
          <p:spPr>
            <a:xfrm>
              <a:off x="2286000" y="304920"/>
              <a:ext cx="4265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287080" y="304920"/>
              <a:ext cx="42656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"/>
          <p:cNvSpPr txBox="1"/>
          <p:nvPr/>
        </p:nvSpPr>
        <p:spPr>
          <a:xfrm>
            <a:off x="2742840" y="1676160"/>
            <a:ext cx="5638680" cy="23619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Располагайте компьютер на специальных компьютерных столиках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       </a:t>
            </a: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Пользуйтесь высоким вращающимся стулом с удобной спинкой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AutoShape 26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27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28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29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0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33" descr="worker_place"/>
          <p:cNvPicPr/>
          <p:nvPr/>
        </p:nvPicPr>
        <p:blipFill>
          <a:blip r:embed="rId3"/>
          <a:stretch/>
        </p:blipFill>
        <p:spPr>
          <a:xfrm>
            <a:off x="380880" y="1600200"/>
            <a:ext cx="2197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46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3352680" y="1752120"/>
            <a:ext cx="5181840" cy="2514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            </a:t>
            </a:r>
            <a:r>
              <a:rPr b="1" lang="ru-RU" sz="2400" spc="-1" strike="noStrike">
                <a:solidFill>
                  <a:srgbClr val="0679a3"/>
                </a:solidFill>
                <a:latin typeface="Arial Black"/>
              </a:rPr>
              <a:t>Располагайтесь перед компьютером так, как вам удобно. Ноги при этом должны быть согнуты под прямым углом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AutoShape 29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30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31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32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AutoShape 33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34" descr="worker_place"/>
          <p:cNvPicPr/>
          <p:nvPr/>
        </p:nvPicPr>
        <p:blipFill>
          <a:blip r:embed="rId3"/>
          <a:stretch/>
        </p:blipFill>
        <p:spPr>
          <a:xfrm>
            <a:off x="609480" y="2057400"/>
            <a:ext cx="24796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17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56" name="Rectangle 17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609120" y="1295280"/>
            <a:ext cx="7696440" cy="2895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онитор, клавиатура и корпус компьютера должны находиться прямо перед вами. При диагональном расположении монитора вам придётся непрерывно поворачиваться  на стуле. От этого неизбежно пострадает осанка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Picture 24" descr="image056"/>
          <p:cNvPicPr/>
          <p:nvPr/>
        </p:nvPicPr>
        <p:blipFill>
          <a:blip r:embed="rId2"/>
          <a:stretch/>
        </p:blipFill>
        <p:spPr>
          <a:xfrm>
            <a:off x="609480" y="5133960"/>
            <a:ext cx="3905280" cy="14572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26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27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28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AutoShape 29">
            <a:hlinkClick r:id="rId3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AutoShape 30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2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66" name="Rectangle 2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5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8" name=""/>
          <p:cNvSpPr txBox="1"/>
          <p:nvPr/>
        </p:nvSpPr>
        <p:spPr>
          <a:xfrm>
            <a:off x="533520" y="1523520"/>
            <a:ext cx="7772400" cy="3124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екоторые в качестве монитора используют обычный телевизионный экран. Делать этого не следует. Излучение от экрана телевизора в девяносто раз выше. чем от экрана компьютера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9" name="Picture 17" descr="j0293236"/>
          <p:cNvPicPr/>
          <p:nvPr/>
        </p:nvPicPr>
        <p:blipFill>
          <a:blip r:embed="rId2"/>
          <a:stretch/>
        </p:blipFill>
        <p:spPr>
          <a:xfrm>
            <a:off x="4114800" y="4495680"/>
            <a:ext cx="838080" cy="617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8" descr="j0292982"/>
          <p:cNvPicPr/>
          <p:nvPr/>
        </p:nvPicPr>
        <p:blipFill>
          <a:blip r:embed="rId3"/>
          <a:stretch/>
        </p:blipFill>
        <p:spPr>
          <a:xfrm>
            <a:off x="376200" y="4805280"/>
            <a:ext cx="1981080" cy="197172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20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AutoShape 21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22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23">
            <a:hlinkClick r:id="rId4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24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77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6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" name=""/>
          <p:cNvSpPr txBox="1"/>
          <p:nvPr/>
        </p:nvSpPr>
        <p:spPr>
          <a:xfrm>
            <a:off x="228240" y="1523880"/>
            <a:ext cx="5334120" cy="3657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ключенный монитор образует электромагнитное поле. Навесные защитные экраны, используемые в старых моделях, часто неэффективны. Новые модели компьютеров производятся со встроенными защитными экранами. Они несколько дороже. но экономить на этом не стоит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0" name="Picture 20" descr="image030"/>
          <p:cNvPicPr/>
          <p:nvPr/>
        </p:nvPicPr>
        <p:blipFill>
          <a:blip r:embed="rId2"/>
          <a:stretch/>
        </p:blipFill>
        <p:spPr>
          <a:xfrm>
            <a:off x="5961240" y="1600200"/>
            <a:ext cx="2743200" cy="335268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21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AutoShape 22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AutoShape 23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AutoShape 24">
            <a:hlinkClick r:id="rId3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25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87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7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9" name=""/>
          <p:cNvSpPr txBox="1"/>
          <p:nvPr/>
        </p:nvSpPr>
        <p:spPr>
          <a:xfrm>
            <a:off x="887040" y="1371600"/>
            <a:ext cx="7521480" cy="357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онитор должен работать с частотой не менее 75 Гц. Слабо мерцающий монитор значительно снижает нагрузки на зрение. Минимум необходимого разрешения (800х600) имеют мониторы типа SVGA. Опускаться ниже этого предела - опасно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AutoShape 20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21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2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23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24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25" descr="image011"/>
          <p:cNvPicPr/>
          <p:nvPr/>
        </p:nvPicPr>
        <p:blipFill>
          <a:blip r:embed="rId3"/>
          <a:srcRect l="0" t="0" r="0" b="29197"/>
          <a:stretch/>
        </p:blipFill>
        <p:spPr>
          <a:xfrm>
            <a:off x="380880" y="5227560"/>
            <a:ext cx="182880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Rectangle 13"/>
          <p:cNvGrpSpPr/>
          <p:nvPr/>
        </p:nvGrpSpPr>
        <p:grpSpPr>
          <a:xfrm>
            <a:off x="2590920" y="304920"/>
            <a:ext cx="4267080" cy="841320"/>
            <a:chOff x="2590920" y="304920"/>
            <a:chExt cx="4267080" cy="841320"/>
          </a:xfrm>
        </p:grpSpPr>
        <p:pic>
          <p:nvPicPr>
            <p:cNvPr id="297" name="Rectangle 13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4267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90920" y="30492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Franklin Gothic Medium"/>
                </a:rPr>
                <a:t>ПРАВИЛО 8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704880" y="2285640"/>
            <a:ext cx="7696080" cy="2590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97b7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овые  мониторы дают крупное и отчетливое изображение. При постоянной работе на таком мониторе глаза устают значительно меньше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AutoShape 21">
            <a:hlinkClick r:id="" action="ppaction://hlinkshowjump?jump=nextslide"/>
          </p:cNvPr>
          <p:cNvSpPr/>
          <p:nvPr/>
        </p:nvSpPr>
        <p:spPr>
          <a:xfrm>
            <a:off x="841860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18608" y="10800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AutoShape 22">
            <a:hlinkClick r:id="" action="ppaction://hlinkshowjump?jump=previousslide"/>
          </p:cNvPr>
          <p:cNvSpPr/>
          <p:nvPr/>
        </p:nvSpPr>
        <p:spPr>
          <a:xfrm>
            <a:off x="7631280" y="6324480"/>
            <a:ext cx="572760" cy="533520"/>
          </a:xfrm>
          <a:custGeom>
            <a:avLst/>
            <a:gdLst>
              <a:gd name="textAreaLeft" fmla="*/ 34560 w 572760"/>
              <a:gd name="textAreaRight" fmla="*/ 538200 w 57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188" h="21600">
                <a:moveTo>
                  <a:pt x="0" y="0"/>
                </a:moveTo>
                <a:lnTo>
                  <a:pt x="23188" y="0"/>
                </a:lnTo>
                <a:lnTo>
                  <a:pt x="23188" y="21600"/>
                </a:lnTo>
                <a:lnTo>
                  <a:pt x="0" y="21600"/>
                </a:lnTo>
                <a:close/>
              </a:path>
              <a:path fill="lightenLess" w="23188" h="21600">
                <a:moveTo>
                  <a:pt x="0" y="0"/>
                </a:moveTo>
                <a:lnTo>
                  <a:pt x="23188" y="0"/>
                </a:lnTo>
                <a:lnTo>
                  <a:pt x="21788" y="1400"/>
                </a:lnTo>
                <a:lnTo>
                  <a:pt x="1400" y="1400"/>
                </a:lnTo>
                <a:close/>
              </a:path>
              <a:path fill="darken" w="23188" h="21600">
                <a:moveTo>
                  <a:pt x="23188" y="0"/>
                </a:moveTo>
                <a:lnTo>
                  <a:pt x="23188" y="21600"/>
                </a:lnTo>
                <a:lnTo>
                  <a:pt x="21788" y="20200"/>
                </a:lnTo>
                <a:lnTo>
                  <a:pt x="21788" y="1400"/>
                </a:lnTo>
                <a:close/>
              </a:path>
              <a:path fill="darkenLess" w="23188" h="21600">
                <a:moveTo>
                  <a:pt x="2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8" y="20200"/>
                </a:lnTo>
                <a:close/>
              </a:path>
              <a:path fill="lighten" w="2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8" h="21600">
                <a:moveTo>
                  <a:pt x="4587" y="10800"/>
                </a:moveTo>
                <a:lnTo>
                  <a:pt x="18600" y="3794"/>
                </a:lnTo>
                <a:lnTo>
                  <a:pt x="18600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23">
            <a:hlinkClick r:id="" action="ppaction://hlinkshowjump?jump=firstslide"/>
          </p:cNvPr>
          <p:cNvSpPr/>
          <p:nvPr/>
        </p:nvSpPr>
        <p:spPr>
          <a:xfrm>
            <a:off x="541008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8102" y="10800"/>
                </a:moveTo>
                <a:lnTo>
                  <a:pt x="18608" y="3794"/>
                </a:lnTo>
                <a:lnTo>
                  <a:pt x="18608" y="17806"/>
                </a:lnTo>
                <a:close/>
              </a:path>
              <a:path fill="darken" w="23202" h="21600">
                <a:moveTo>
                  <a:pt x="4595" y="3794"/>
                </a:moveTo>
                <a:lnTo>
                  <a:pt x="6257" y="3794"/>
                </a:lnTo>
                <a:lnTo>
                  <a:pt x="6257" y="17806"/>
                </a:lnTo>
                <a:lnTo>
                  <a:pt x="4595" y="1780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24">
            <a:hlinkClick r:id="rId2" action="ppaction://hlinksldjump"/>
          </p:cNvPr>
          <p:cNvSpPr/>
          <p:nvPr/>
        </p:nvSpPr>
        <p:spPr>
          <a:xfrm>
            <a:off x="6269040" y="6324480"/>
            <a:ext cx="573120" cy="533520"/>
          </a:xfrm>
          <a:custGeom>
            <a:avLst/>
            <a:gdLst>
              <a:gd name="textAreaLeft" fmla="*/ 34560 w 573120"/>
              <a:gd name="textAreaRight" fmla="*/ 538560 w 573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5100" y="10800"/>
                </a:moveTo>
                <a:lnTo>
                  <a:pt x="4595" y="17806"/>
                </a:lnTo>
                <a:lnTo>
                  <a:pt x="4595" y="3794"/>
                </a:lnTo>
                <a:close/>
              </a:path>
              <a:path fill="darken" w="23202" h="21600">
                <a:moveTo>
                  <a:pt x="16945" y="3794"/>
                </a:moveTo>
                <a:lnTo>
                  <a:pt x="16945" y="17806"/>
                </a:lnTo>
                <a:lnTo>
                  <a:pt x="18608" y="17806"/>
                </a:lnTo>
                <a:lnTo>
                  <a:pt x="18608" y="379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25">
            <a:hlinkClick r:id="" action="ppaction://hlinkshowjump?jump=endshow"/>
          </p:cNvPr>
          <p:cNvSpPr/>
          <p:nvPr/>
        </p:nvSpPr>
        <p:spPr>
          <a:xfrm>
            <a:off x="4343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26" descr="image002"/>
          <p:cNvPicPr/>
          <p:nvPr/>
        </p:nvPicPr>
        <p:blipFill>
          <a:blip r:embed="rId3"/>
          <a:stretch/>
        </p:blipFill>
        <p:spPr>
          <a:xfrm>
            <a:off x="6113520" y="1371600"/>
            <a:ext cx="23050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3-03-13T12:53:49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