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7A3-23F9-4A77-B4E9-F420D9D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8FF-18D3-4A74-9734-EED6D5EB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C2B-9A87-4590-B290-BE367CA1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98D-4A23-4BC7-86DA-37B33026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89F-C1AB-48D9-B6EC-29D0FEDC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595B-8370-4057-8CC5-D8F58CE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E09C-E3CA-4614-930A-4FDCED6D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879-6F09-4604-A32C-C32A8F2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FA5-D041-4546-945F-33917C5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B7B2-731D-437E-87AD-D5A93FA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54E4-6F75-4DA3-B337-A92EC50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B33-6323-43C3-BD28-57E1734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000-21C0-4854-8D06-725C02D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AD89-C6D6-4D32-8313-94FA745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08BA-D029-4F51-9F14-E90F2C1A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C089-F16E-4BF6-9D3E-BFABD8B1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3A7-6E63-42C9-B337-7C9DA6B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0C1-7287-41D9-AAF9-2080455D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64B-E0D6-4A95-8C1B-268AD31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794-6F07-402C-9237-FDDA188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AD1-74DB-4270-B928-331C1BA5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5E0-A9DA-4FDE-BAB3-09DA835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9B3-0720-4AEC-B814-D32135C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844-3C3C-464F-A120-C3C7D47B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EEC-C5CF-4031-9090-A2A19FE3B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F3A-B2E6-4870-960C-F0C76B37E0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2492280"/>
            <a:ext cx="547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МЕИЗ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626480"/>
            <a:ext cx="58338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 </a:t>
            </a: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А. Ахматова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 (1889-1966) лишена тяготения к экзотическим сюжетам и пестрой образ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Своеобразие творческой манеры Ахмат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как поэта акмеистического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составляет запечатление одухотворенной предметности. Посредством поразительной точности вещного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Ахматова отображает целый душевный строй, изящно обрисовывает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00720" y="476280"/>
            <a:ext cx="25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85920" y="703440"/>
            <a:ext cx="47757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Подушка уже гор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С обеи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Вот и втора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Гаснет, и крик в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Становится всё слыш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Я эту ночь не с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Поздно думать о с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Как нестерпимо б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Штора на белом ок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-Здравству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(19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03320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Так беспомощно грудь холодела,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Но шаги мои были легки.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Я на правую руку надела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ерчатку с левой руки.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оказалось, что много ступеней,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А я знала - их только три!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Между кленов шепот осенний </a:t>
            </a:r>
            <a:br>
              <a:rPr sz="3600"/>
            </a:b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Попросил: "С мною умри!"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048920"/>
            <a:ext cx="58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62000"/>
            <a:ext cx="4967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Здешн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О. Мандельштама (1891-1938) был отмечен ощущением смертной хрупкости перед безликой вечностью. Среди акмеистов Мандельштама выделяло необыкновенно остро развитое </a:t>
            </a:r>
            <a:r>
              <a:rPr b="0" i="1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чувство ист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Вещь вписана в его поэзии в культурный контекст, в мир, согретый «тайным телеологическим теплом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человек окружался не безличными предме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а «утварью», все упомянутые предметы обретали библейский под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726120"/>
            <a:ext cx="785016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Бессонница. Гомер. Тугие паруса.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Я список кораблей прочел до середины: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Сей длинный выводок, сей поезд журавлиный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Что над Элладою когда-то поднялся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ак журавлиный клин в чужие рубежи,-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На головах царей божественная пена,-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уда плывете вы? Когда бы не Елена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Что Троя вам одна, ахейские мужи?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море, и Гомер - всё движется любовью.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Кого же слушать мне? И вот Гомер молчит,</a:t>
            </a: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море черное, витийствуя, шумит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И с тяжким грохотом подходит к изгол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24960"/>
            <a:ext cx="8280360" cy="204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дамизм-</a:t>
            </a: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 это ещё одно название акмеизма, подразумевающее «мужественно твердый и ясный взгляд на жизнь»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. Городецкий, М. Зенкевич, В. Нарбу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95400" y="41641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924280"/>
            <a:ext cx="568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осторен мир и многозвуч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многоцветен радуг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вот Адаму мир поруч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зобетателю им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азвать, узнать, сорвать покр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И праздных тайн, и ветхой мгл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от первый подвиг. Подвиг новый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Живой земле воспеть х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ahoma"/>
              </a:rPr>
              <a:t>С. Город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132880"/>
            <a:ext cx="828036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ahoma"/>
              </a:rPr>
              <a:t>5. Что такое адамизм? Его представ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1640" y="3141720"/>
            <a:ext cx="183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0880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 </a:t>
            </a: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95400" y="41641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620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ahoma"/>
              </a:rPr>
              <a:t>ТЕСТ ПО ТЕМЕ АКМ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126828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Что такое акмеизм? На смену какому направлению  он пришёл и почему? Временные ра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565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2. Кружок акмеистов называл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41720"/>
            <a:ext cx="970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3. Наиболее яркие представители д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литературного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149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4. Особенности творчества Н. Гумилёва, А.Ахматовой, О. Мандельшт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108840"/>
            <a:ext cx="116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6. Основные принципы и особенности акмеиз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ahoma"/>
              </a:rPr>
              <a:t>как литературного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620640"/>
            <a:ext cx="806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К 1910-м годам начался кризис символизма как литературного направления. Должно было появиться некое новое направление, иначе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ставящее вопрос о соотношении поэзии и действительност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Именно таким и стал акмеизм. Как литературное направление акмеизм просуществовал недолго — около двух лет.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620640"/>
            <a:ext cx="8066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Акмеизм</a:t>
            </a:r>
            <a:r>
              <a:rPr b="0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(от слова acm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(“акме”) высшая степень чего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либо, цвет, цветущая пор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620640"/>
            <a:ext cx="8066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i="1" lang="ru-RU" sz="3200" spc="-1" strike="noStrike">
                <a:solidFill>
                  <a:srgbClr val="009900"/>
                </a:solidFill>
                <a:latin typeface="Tahoma"/>
              </a:rPr>
              <a:t>Цех поэто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В 1911 году в среде поэтов, стремившихся создать новое направление в литературе, возникает кружок “Цех поэтов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во главе которого становятся </a:t>
            </a:r>
            <a:r>
              <a:rPr b="0" i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Николай Гумилёв и Сергей Городецкий.</a:t>
            </a: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 Членами “Цеха” были в основном начинающие поэты: А. Ахматова, Н. Бурлю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З. Гиппиус, М. Зенкеви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Георгий Ива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ahoma"/>
              </a:rPr>
              <a:t>О. Мандельштам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836640"/>
            <a:ext cx="8496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ahoma"/>
              </a:rPr>
              <a:t>ИСТОРИЯ СОЗ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О создании же литературного направления под названием «акме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было официально заявлено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11 февраля 1912 года</a:t>
            </a: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на заседании «Академии стиха», а в № 1 журнала «Аполлон» за 1913 год появились статьи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Гумилева «Наследие символизма и акмеизм»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Городецкого «Некоторые течения в современной русской поэзии»,</a:t>
            </a: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которые считались манифестами нов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92280"/>
            <a:ext cx="84960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сновные принципы акме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освобождение поэзии от символистских призывов                               к идеальному,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возвращение ей ясности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отказ от мистической туманности,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принятие земного мира в его многообразии, зримой конкретности, звучности, красочности; 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стремление придать слову определенное, точное значение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предметность и 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четкость образов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, отточенность деталей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обращение к человеку, к «подлинности» его чувств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— перекличка с минувшими литературными эпохами, широчайшие эстетические ассоциации, «тоска по мировой культу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20640"/>
            <a:ext cx="820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 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 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Жанрово-композиционные и стилистически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Основное внимание акмеистов было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сосредоточено на поэзи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Конечно, была у них и проза, но именно стихи сложили это направление. Как правило, это были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небольшие по объему произведения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, иногда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в жанре сонета, элегии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. Самым главным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критерием</a:t>
            </a: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 стало </a:t>
            </a:r>
            <a:r>
              <a:rPr b="0" i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внимание к слову, к красоте звучащего стиха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971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Н.Гумилёв( 1886-19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857680" cy="4676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2421000"/>
            <a:ext cx="48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В поэзии Н. Гумилева акмеизм реализуется в тяге к открытию новых миров, экзотическим образам и сюж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620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692280"/>
            <a:ext cx="84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3480" y="221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-168480"/>
            <a:ext cx="7272360" cy="72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ahoma"/>
              </a:rPr>
              <a:t>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Сегодня, я вижу, особенно грустен твой взгляд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руки особенно тонки, колени обняв.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ослушай: далеко, далеко, на озере Чад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зысканный бродит жираф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Ему грациозная стройность и нега дана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шкуру его украшает волшебный узор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С которым равняться осмелится только луна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Дробясь и качаясь на влаге широких озер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Вдали он подобен цветным парусам корабл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бег его плавен, как радостный птичий полет.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Я знаю, что много чудесного видит земл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Когда на закате он прячется в мраморный грот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Я знаю веселые сказки таинственных стран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ро черную деву, про страсть молодого вождя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Но ты слишком долго вдыхала тяжелый туман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Ты верить не хочешь во что-нибудь, кроме дожд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 как я тебе расскажу про тропический сад,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Про стройные пальмы, про запах немыслимых трав…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Ты плачешь? Послушай… далеко, на озере Чад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Изысканный бродит жира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5:41:38Z</dcterms:created>
  <dc:creator>секретарь</dc:creator>
  <dc:description/>
  <dc:language>en-US</dc:language>
  <cp:lastModifiedBy>User</cp:lastModifiedBy>
  <dcterms:modified xsi:type="dcterms:W3CDTF">2012-10-15T05:08:3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