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674-6BCF-4CAB-9367-9C32DBD2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117-1A84-4439-B107-D39B31F6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F73-EE83-4BB3-ABA3-7DD5D801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839-7AE7-4A5F-A003-0290BAD7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144F-0A64-4AAC-AD5A-4E0355E7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1C0D-A0D3-44DC-A64C-DA44CC4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9B2A-6EFC-45C6-A05D-8F584F26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E532-815D-4CBC-B1A2-5687BC0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B075-AC11-45A7-A496-7AF9C80D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F6EB-4F4B-4157-BE34-0F26D840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0A20-B478-482B-938A-13BEE86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374-EBF5-4A31-B472-D57D8CA5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CE8D-1AA5-46E0-99E7-BB9EC95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DDF2-AC2D-4945-AB14-E568F9E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AF0D-BB9F-402F-A730-4350F9DF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E439-600E-46BA-AE4E-8F3B12F5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FB67-5A46-41E8-ACE5-194B9106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D28-0CED-403E-85B0-FD4149A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ADA-9F6A-46B7-8A2F-B8A73D2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8B9-6EAF-4BFE-A7B8-06D87CA4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4AF-A938-4B0A-80D1-14D1B233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B64-7CC5-4A82-9252-E260520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7AF-0CAF-48FB-965D-7DA5090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5C9-8CDB-4F94-8F44-F1A71FE5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A082-3875-4F96-B4AE-0557408E1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F04-3008-4730-805B-D216FB43F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2492280"/>
            <a:ext cx="547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МЕИЗ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626480"/>
            <a:ext cx="583380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 </a:t>
            </a: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А. Ахматова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  (1889-1966) лишена тяготения к экзотическим сюжетам и пестрой образ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Своеобразие творческой манеры Ахмат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как поэта акмеистического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составляет запечатление одухотворенной предметности. Посредством поразительной точности вещного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Ахматова отображает целый душевный строй, изящно обрисовывает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476280"/>
            <a:ext cx="25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48920"/>
            <a:ext cx="58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85920" y="703440"/>
            <a:ext cx="47757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Подушка уже горя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С обеи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Вот и вторая св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Гаснет, и крик в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Становится всё слыш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Я эту ночь не с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Поздно думать о с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Как нестерпимо б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Штора на белом ок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-Здравству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(19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4048920"/>
            <a:ext cx="58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03320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Так беспомощно грудь холодела,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Но шаги мои были легки.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Я на правую руку надела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Перчатку с левой руки.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Показалось, что много ступеней,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А я знала - их только три!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Между кленов шепот осенний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Попросил: "С мною умри!"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048920"/>
            <a:ext cx="58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62000"/>
            <a:ext cx="4967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 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Здешни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О. Мандельштама (1891-1938) был отмечен ощущением смертной хрупкости перед безликой вечностью. Среди акмеистов Мандельштама выделяло необыкновенно остро развитое </a:t>
            </a:r>
            <a:r>
              <a:rPr b="0" i="1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чувство ист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Вещь вписана в его поэзии в культурный контекст, в мир, согретый «тайным телеологическим теплом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человек окружался не безличными предме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а «утварью», все упомянутые предметы обретали библейский под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726120"/>
            <a:ext cx="785016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Бессонница. Гомер. Тугие паруса.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Я список кораблей прочел до середины: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Сей длинный выводок, сей поезд журавлиный,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Что над Элладою когда-то поднялся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Как журавлиный клин в чужие рубежи,-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На головах царей божественная пена,-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Куда плывете вы? Когда бы не Елена,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Что Троя вам одна, ахейские мужи?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И море, и Гомер - всё движется любовью.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Кого же слушать мне? И вот Гомер молчит,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И море черное, витийствуя, шумит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И с тяжким грохотом подходит к изгол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30880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24960"/>
            <a:ext cx="8280360" cy="204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Адамизм-</a:t>
            </a: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 это ещё одно название акмеизма, подразумевающее «мужественно твердый и ясный взгляд на жизнь»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. Городецкий, М. Зенкевич, В. Нарбу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30880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95400" y="41641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924280"/>
            <a:ext cx="568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осторен мир и многозвуч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 многоцветен радуг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 вот Адаму мир поруч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зобетателю им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Назвать, узнать, сорвать покр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 праздных тайн, и ветхой мгл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от первый подвиг. Подвиг новый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Живой земле воспеть хв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ahoma"/>
              </a:rPr>
              <a:t>С. Город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132880"/>
            <a:ext cx="828036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5. Что такое адамизм? Его представ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0880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95400" y="41641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620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ahoma"/>
              </a:rPr>
              <a:t>ТЕСТ ПО ТЕМЕ АКМ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126828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Что такое акмеизм? На смену какому направлению  он пришёл и почему? Временные ра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56536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2. Кружок акмеистов называл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41720"/>
            <a:ext cx="970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3. Наиболее яркие представители д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литературного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1497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4. Особенности творчества Н. Гумилёва, А.Ахматовой, О. Мандельшт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108840"/>
            <a:ext cx="116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6. Основные принципы и особенности акмеиз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как литературного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620640"/>
            <a:ext cx="806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К 1910-м годам начался кризис символизма как литературного направления. Должно было появиться некое новое направление, иначе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ставящее вопрос о соотношении поэзии и действительности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. Именно таким и стал акмеизм. Как литературное направление акмеизм просуществовал недолго — около двух лет.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620640"/>
            <a:ext cx="8066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Акмеизм</a:t>
            </a:r>
            <a:r>
              <a:rPr b="0" i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(от слова acm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(“акме”) высшая степень чего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либо, цвет, цветущая пор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620640"/>
            <a:ext cx="8066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i="1" lang="ru-RU" sz="3200" spc="-1" strike="noStrike">
                <a:solidFill>
                  <a:srgbClr val="009900"/>
                </a:solidFill>
                <a:latin typeface="Tahoma"/>
              </a:rPr>
              <a:t>Цех поэто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В 1911 году в среде поэтов, стремившихся создать новое направление в литературе, возникает кружок “Цех поэтов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во главе которого становятся </a:t>
            </a:r>
            <a:r>
              <a:rPr b="0" i="1" lang="ru-RU" sz="3200" spc="-1" strike="noStrike" u="sng">
                <a:solidFill>
                  <a:srgbClr val="008000"/>
                </a:solidFill>
                <a:uFillTx/>
                <a:latin typeface="Tahoma"/>
              </a:rPr>
              <a:t>Николай Гумилёв и Сергей Городецкий.</a:t>
            </a: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 Членами “Цеха” были в основном начинающие поэты: А. Ахматова, Н. Бурлю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З. Гиппиус, М. Зенкеви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Георгий Иван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О. Мандельштам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836640"/>
            <a:ext cx="8496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ahoma"/>
              </a:rPr>
              <a:t>ИСТОРИЯ СОЗ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О создании же литературного направления под названием «акме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было официально заявлено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11 февраля 1912 года</a:t>
            </a: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на заседании «Академии стиха», а в № 1 журнала «Аполлон» за 1913 год появились статьи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Гумилева «Наследие символизма и акмеизм»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Городецкого «Некоторые течения в современной русской поэзии»,</a:t>
            </a: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которые считались манифестами нов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692280"/>
            <a:ext cx="84960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сновные принципы акме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освобождение поэзии от символистских призывов                               к идеальному,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возвращение ей ясности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отказ от мистической туманности,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принятие земного мира в его многообразии, зримой конкретности, звучности, красочности; 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стремление придать слову определенное, точное значение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предметность и 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четкость образов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, отточенность деталей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обращение к человеку, к «подлинности» его чувств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перекличка с минувшими литературными эпохами, широчайшие эстетические ассоциации, «тоска по мировой культу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620640"/>
            <a:ext cx="820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Жанрово-композиционные и стилистические особ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Основное внимание акмеистов было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сосредоточено на поэзии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. Конечно, была у них и проза, но именно стихи сложили это направление. Как правило, это были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небольшие по объему произведения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, иногда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в жанре сонета, элегии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. Самым главным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критерием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 стало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внимание к слову, к красоте звучащего стиха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971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Н.Гумилёв( 1886-19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857680" cy="4676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2421000"/>
            <a:ext cx="48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В поэзии Н. Гумилева акмеизм реализуется в тяге к открытию новых миров, экзотическим образам и сюж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-168480"/>
            <a:ext cx="7272360" cy="72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ЖИ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Сегодня, я вижу, особенно грустен твой взгляд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руки особенно тонки, колени обняв.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Послушай: далеко, далеко, на озере Чад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зысканный бродит жираф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Ему грациозная стройность и нега дана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шкуру его украшает волшебный узор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С которым равняться осмелится только луна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Дробясь и качаясь на влаге широких озер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Вдали он подобен цветным парусам корабля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бег его плавен, как радостный птичий полет.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Я знаю, что много чудесного видит земля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Когда на закате он прячется в мраморный грот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Я знаю веселые сказки таинственных стран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Про черную деву, про страсть молодого вождя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Но ты слишком долго вдыхала тяжелый туман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Ты верить не хочешь во что-нибудь, кроме дожд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как я тебе расскажу про тропический сад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Про стройные пальмы, про запах немыслимых трав…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Ты плачешь? Послушай… далеко, на озере Чад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зысканный бродит жира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5:41:38Z</dcterms:created>
  <dc:creator>секретарь</dc:creator>
  <dc:description/>
  <dc:language>en-US</dc:language>
  <cp:lastModifiedBy>User</cp:lastModifiedBy>
  <dcterms:modified xsi:type="dcterms:W3CDTF">2012-10-15T05:08:3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