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gif" ContentType="image/gif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7E5-4534-42A5-855C-B604A26A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E88-0005-4A28-9DEB-902D6443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3D1-1DFD-4A00-83CF-6EC89197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91E-9F87-4AC3-BF5F-57DCC0B6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741-EE7A-4AB3-B0B6-9D886039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FFF-B16E-4266-9413-7E5957E3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97C-A35D-43F5-BB5C-9596E701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58F-5520-42E9-BC1F-4F43F1BD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5B4-6537-4B34-AA06-D2396D33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393-C9B9-4448-AF5A-1297ADE8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596-1C57-421E-9A68-BAC850C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038-D679-4899-B53E-D175975B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6D08-1C3C-4A7F-93D6-51D1A81C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79;&#1086;&#1073;&#1088;&#1072;&#1078;&#1077;&#1085;&#1080;&#1077;:Venn_A_intersect_B.svg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484280"/>
            <a:ext cx="612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чение и объединение множ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словые промежу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неравен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1557360"/>
            <a:ext cx="158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2852640"/>
            <a:ext cx="2664000" cy="14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2997360"/>
            <a:ext cx="5400720" cy="1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84360" y="1341360"/>
            <a:ext cx="5400720" cy="719280"/>
            <a:chOff x="2484360" y="1341360"/>
            <a:chExt cx="5400720" cy="719280"/>
          </a:xfrm>
        </p:grpSpPr>
        <p:sp>
          <p:nvSpPr>
            <p:cNvPr id="74" name=""/>
            <p:cNvSpPr/>
            <p:nvPr/>
          </p:nvSpPr>
          <p:spPr>
            <a:xfrm>
              <a:off x="2484360" y="198900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32360" y="191628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16360" y="13413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16360" y="2276640"/>
            <a:ext cx="432000" cy="792000"/>
            <a:chOff x="4716360" y="2276640"/>
            <a:chExt cx="432000" cy="792000"/>
          </a:xfrm>
        </p:grpSpPr>
        <p:sp>
          <p:nvSpPr>
            <p:cNvPr id="78" name=""/>
            <p:cNvSpPr/>
            <p:nvPr/>
          </p:nvSpPr>
          <p:spPr>
            <a:xfrm>
              <a:off x="4932360" y="292428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16360" y="2276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03640" y="1844640"/>
            <a:ext cx="237492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1557360"/>
            <a:ext cx="2305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≤ 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≥  2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987640" y="2421000"/>
            <a:ext cx="5400720" cy="718920"/>
            <a:chOff x="2987640" y="2421000"/>
            <a:chExt cx="5400720" cy="718920"/>
          </a:xfrm>
        </p:grpSpPr>
        <p:sp>
          <p:nvSpPr>
            <p:cNvPr id="83" name=""/>
            <p:cNvSpPr/>
            <p:nvPr/>
          </p:nvSpPr>
          <p:spPr>
            <a:xfrm>
              <a:off x="2987640" y="306864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99556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19640" y="2421000"/>
              <a:ext cx="12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84360" y="1341360"/>
            <a:ext cx="5400720" cy="719280"/>
            <a:chOff x="2484360" y="1341360"/>
            <a:chExt cx="5400720" cy="719280"/>
          </a:xfrm>
        </p:grpSpPr>
        <p:sp>
          <p:nvSpPr>
            <p:cNvPr id="87" name=""/>
            <p:cNvSpPr/>
            <p:nvPr/>
          </p:nvSpPr>
          <p:spPr>
            <a:xfrm>
              <a:off x="2484360" y="198900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32360" y="191628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6360" y="13413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132000" y="3357720"/>
            <a:ext cx="5400720" cy="680760"/>
            <a:chOff x="3132000" y="3357720"/>
            <a:chExt cx="5400720" cy="680760"/>
          </a:xfrm>
        </p:grpSpPr>
        <p:sp>
          <p:nvSpPr>
            <p:cNvPr id="91" name=""/>
            <p:cNvSpPr/>
            <p:nvPr/>
          </p:nvSpPr>
          <p:spPr>
            <a:xfrm>
              <a:off x="3132000" y="400536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2360" y="3357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0,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35640" y="3933720"/>
              <a:ext cx="11124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132000" y="4292640"/>
            <a:ext cx="5400720" cy="754200"/>
            <a:chOff x="3132000" y="4292640"/>
            <a:chExt cx="5400720" cy="754200"/>
          </a:xfrm>
        </p:grpSpPr>
        <p:sp>
          <p:nvSpPr>
            <p:cNvPr id="95" name=""/>
            <p:cNvSpPr/>
            <p:nvPr/>
          </p:nvSpPr>
          <p:spPr>
            <a:xfrm>
              <a:off x="3132000" y="501336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08720" y="4941720"/>
              <a:ext cx="110880" cy="105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19640" y="429264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,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003640" y="1844640"/>
            <a:ext cx="237492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2924280"/>
            <a:ext cx="237456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860640"/>
            <a:ext cx="2374560" cy="142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4869000"/>
            <a:ext cx="2374920" cy="142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21337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∞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1417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∞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407664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∞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0,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6000" y="51577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3;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∞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35280" y="1197000"/>
            <a:ext cx="5400720" cy="681120"/>
            <a:chOff x="1835280" y="1197000"/>
            <a:chExt cx="5400720" cy="681120"/>
          </a:xfrm>
        </p:grpSpPr>
        <p:sp>
          <p:nvSpPr>
            <p:cNvPr id="107" name=""/>
            <p:cNvSpPr/>
            <p:nvPr/>
          </p:nvSpPr>
          <p:spPr>
            <a:xfrm>
              <a:off x="1835280" y="184644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5280" y="1773360"/>
              <a:ext cx="11088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32360" y="119700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2000" y="1773360"/>
              <a:ext cx="11124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640" y="119700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35280" y="2349360"/>
            <a:ext cx="5400720" cy="792360"/>
            <a:chOff x="1835280" y="2349360"/>
            <a:chExt cx="5400720" cy="792360"/>
          </a:xfrm>
        </p:grpSpPr>
        <p:sp>
          <p:nvSpPr>
            <p:cNvPr id="113" name=""/>
            <p:cNvSpPr/>
            <p:nvPr/>
          </p:nvSpPr>
          <p:spPr>
            <a:xfrm>
              <a:off x="1835280" y="307008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9280" y="2997000"/>
              <a:ext cx="14436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43280" y="234936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38920" y="2997000"/>
              <a:ext cx="11124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96000" y="242100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908000" y="3429000"/>
            <a:ext cx="5400720" cy="792000"/>
            <a:chOff x="1908000" y="3429000"/>
            <a:chExt cx="5400720" cy="792000"/>
          </a:xfrm>
        </p:grpSpPr>
        <p:sp>
          <p:nvSpPr>
            <p:cNvPr id="119" name=""/>
            <p:cNvSpPr/>
            <p:nvPr/>
          </p:nvSpPr>
          <p:spPr>
            <a:xfrm>
              <a:off x="1908000" y="4148280"/>
              <a:ext cx="540072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59280" y="407664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96000" y="407664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71640" y="35002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342900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8000" y="4653000"/>
            <a:ext cx="5400720" cy="791640"/>
            <a:chOff x="1908000" y="4653000"/>
            <a:chExt cx="5400720" cy="791640"/>
          </a:xfrm>
        </p:grpSpPr>
        <p:sp>
          <p:nvSpPr>
            <p:cNvPr id="125" name=""/>
            <p:cNvSpPr/>
            <p:nvPr/>
          </p:nvSpPr>
          <p:spPr>
            <a:xfrm>
              <a:off x="1908000" y="5371920"/>
              <a:ext cx="540072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76720" y="5300280"/>
              <a:ext cx="110880" cy="10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1800" y="5300280"/>
              <a:ext cx="14472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33800" y="465300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7440" y="47242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134136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56536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86064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94172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88360" y="134136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263700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88360" y="386064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88360" y="494172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1700280"/>
            <a:ext cx="266400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2924280"/>
            <a:ext cx="2736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005360"/>
            <a:ext cx="251928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229360"/>
            <a:ext cx="2592360" cy="144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4842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≤ х ≤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134136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1; 5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6370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2&lt; x ≤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96360" y="27813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-2; 4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9337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&lt; x &lt;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67640" y="4005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8; 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9417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≤ x&lt;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50846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; 6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475164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153324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64000" y="476280"/>
            <a:ext cx="99036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692360" y="24922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195640" y="50846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796000" y="476280"/>
            <a:ext cx="19810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093080" y="2133720"/>
            <a:ext cx="1876320" cy="142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948360" y="3933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932360" y="4292640"/>
            <a:ext cx="173340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27640" y="28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1702080" cy="453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24526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404640"/>
            <a:ext cx="6840360" cy="43354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http://festival.1september.ru/articles/550092/f_clip_image024.gif"/>
          <p:cNvPicPr/>
          <p:nvPr/>
        </p:nvPicPr>
        <p:blipFill>
          <a:blip r:embed="rId4"/>
          <a:stretch/>
        </p:blipFill>
        <p:spPr>
          <a:xfrm>
            <a:off x="0" y="0"/>
            <a:ext cx="523800" cy="190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5013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6021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рамма Эйл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ile:Leonhard Euler 2.jpg"/>
          <p:cNvPicPr/>
          <p:nvPr/>
        </p:nvPicPr>
        <p:blipFill>
          <a:blip r:embed="rId2"/>
          <a:stretch/>
        </p:blipFill>
        <p:spPr>
          <a:xfrm>
            <a:off x="684360" y="549360"/>
            <a:ext cx="4572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35640" y="692280"/>
            <a:ext cx="338436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 Эйлер (1707–1783) швейцарский, немецкий и российский математик и меха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полжизни провёл в России, где внёс существенный вклад в становление российской на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знал русский язык и часть своих сочинений (в особенности учебники) публиковал на русском язы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к Петербургской академии на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хоронен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90792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лассе 30 человек, каждый из которых знает один из иностранных языков: английский или французский. Известно, что английский знают 17 человек, а французс-кий - 19 человек. Сколько человек знает два языка одновремен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422100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множество  детей, знающих английский язы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множество детей, знающих француз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9770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522936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219560" cy="260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43280" y="3068640"/>
            <a:ext cx="4249800" cy="2851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458136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В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589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В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413000"/>
            <a:ext cx="748836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дача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жество четных положительных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жество нечетных положительных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58136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В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5589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В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4:43:46Z</dcterms:created>
  <dc:creator>Елена</dc:creator>
  <dc:description/>
  <dc:language>en-US</dc:language>
  <cp:lastModifiedBy>Елена</cp:lastModifiedBy>
  <dcterms:modified xsi:type="dcterms:W3CDTF">2013-03-08T19:49:19Z</dcterms:modified>
  <cp:revision>13</cp:revision>
  <dc:subject/>
  <dc:title>Слайд 1</dc:title>
</cp:coreProperties>
</file>