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gif" ContentType="image/gif"/>
  <Override PartName="/ppt/media/image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041-0F5F-4DA5-A5AA-06825262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8CF-32A7-41F1-96E4-30318068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B27-9D57-4B56-92A6-B49D0527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828-3764-47A2-9D1A-72FE9A5D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B56-8067-47D2-8BF2-33C83B08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573-19A3-4DCA-BBD9-14C08EAA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C77-B3D4-436F-A018-69733B07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AA1-96B9-4AE9-BAB1-4B6ACADA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29B-673C-46DD-ABF3-DDE1359F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0EE-795F-4B8D-A331-9DBAE66A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848-8CBB-4C40-BA12-8571143A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02C-380D-4A6D-A994-A9132C21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7BC6-1539-4C2D-B5DF-62AFE1800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8;&#1079;&#1086;&#1073;&#1088;&#1072;&#1078;&#1077;&#1085;&#1080;&#1077;:Venn_A_intersect_B.svg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1484280"/>
            <a:ext cx="612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ечение и объединение множ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исловые промежу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неравен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5280" y="1557360"/>
            <a:ext cx="158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2852640"/>
            <a:ext cx="2664000" cy="14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2997360"/>
            <a:ext cx="5400720" cy="10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84360" y="1341360"/>
            <a:ext cx="5400720" cy="719280"/>
            <a:chOff x="2484360" y="1341360"/>
            <a:chExt cx="5400720" cy="719280"/>
          </a:xfrm>
        </p:grpSpPr>
        <p:sp>
          <p:nvSpPr>
            <p:cNvPr id="74" name=""/>
            <p:cNvSpPr/>
            <p:nvPr/>
          </p:nvSpPr>
          <p:spPr>
            <a:xfrm>
              <a:off x="2484360" y="1989000"/>
              <a:ext cx="54007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32360" y="1916280"/>
              <a:ext cx="14436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16360" y="13413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716360" y="2276640"/>
            <a:ext cx="432000" cy="792000"/>
            <a:chOff x="4716360" y="2276640"/>
            <a:chExt cx="432000" cy="792000"/>
          </a:xfrm>
        </p:grpSpPr>
        <p:sp>
          <p:nvSpPr>
            <p:cNvPr id="78" name=""/>
            <p:cNvSpPr/>
            <p:nvPr/>
          </p:nvSpPr>
          <p:spPr>
            <a:xfrm>
              <a:off x="4932360" y="2924280"/>
              <a:ext cx="14436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16360" y="227664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003640" y="1844640"/>
            <a:ext cx="237492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1557360"/>
            <a:ext cx="2305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≤  - 0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≥  2,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987640" y="2421000"/>
            <a:ext cx="5400720" cy="718920"/>
            <a:chOff x="2987640" y="2421000"/>
            <a:chExt cx="5400720" cy="718920"/>
          </a:xfrm>
        </p:grpSpPr>
        <p:sp>
          <p:nvSpPr>
            <p:cNvPr id="83" name=""/>
            <p:cNvSpPr/>
            <p:nvPr/>
          </p:nvSpPr>
          <p:spPr>
            <a:xfrm>
              <a:off x="2987640" y="3068640"/>
              <a:ext cx="54007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995560"/>
              <a:ext cx="14436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19640" y="2421000"/>
              <a:ext cx="12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484360" y="1341360"/>
            <a:ext cx="5400720" cy="719280"/>
            <a:chOff x="2484360" y="1341360"/>
            <a:chExt cx="5400720" cy="719280"/>
          </a:xfrm>
        </p:grpSpPr>
        <p:sp>
          <p:nvSpPr>
            <p:cNvPr id="87" name=""/>
            <p:cNvSpPr/>
            <p:nvPr/>
          </p:nvSpPr>
          <p:spPr>
            <a:xfrm>
              <a:off x="2484360" y="1989000"/>
              <a:ext cx="54007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32360" y="1916280"/>
              <a:ext cx="14436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6360" y="13413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132000" y="3357720"/>
            <a:ext cx="5400720" cy="680760"/>
            <a:chOff x="3132000" y="3357720"/>
            <a:chExt cx="5400720" cy="680760"/>
          </a:xfrm>
        </p:grpSpPr>
        <p:sp>
          <p:nvSpPr>
            <p:cNvPr id="91" name=""/>
            <p:cNvSpPr/>
            <p:nvPr/>
          </p:nvSpPr>
          <p:spPr>
            <a:xfrm>
              <a:off x="3132000" y="4005360"/>
              <a:ext cx="54007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2360" y="33577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0,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35640" y="3933720"/>
              <a:ext cx="11124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132000" y="4292640"/>
            <a:ext cx="5400720" cy="754200"/>
            <a:chOff x="3132000" y="4292640"/>
            <a:chExt cx="5400720" cy="754200"/>
          </a:xfrm>
        </p:grpSpPr>
        <p:sp>
          <p:nvSpPr>
            <p:cNvPr id="95" name=""/>
            <p:cNvSpPr/>
            <p:nvPr/>
          </p:nvSpPr>
          <p:spPr>
            <a:xfrm>
              <a:off x="3132000" y="5013360"/>
              <a:ext cx="54007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08720" y="4941720"/>
              <a:ext cx="110880" cy="105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19640" y="429264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,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003640" y="1844640"/>
            <a:ext cx="2374920" cy="1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2924280"/>
            <a:ext cx="237456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3860640"/>
            <a:ext cx="2374560" cy="142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4869000"/>
            <a:ext cx="2374920" cy="142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21337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;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∞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14172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∞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7080" y="407664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∞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0,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6000" y="51577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3;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∞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35280" y="1197000"/>
            <a:ext cx="5400720" cy="681120"/>
            <a:chOff x="1835280" y="1197000"/>
            <a:chExt cx="5400720" cy="681120"/>
          </a:xfrm>
        </p:grpSpPr>
        <p:sp>
          <p:nvSpPr>
            <p:cNvPr id="107" name=""/>
            <p:cNvSpPr/>
            <p:nvPr/>
          </p:nvSpPr>
          <p:spPr>
            <a:xfrm>
              <a:off x="1835280" y="1846440"/>
              <a:ext cx="54007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5280" y="1773360"/>
              <a:ext cx="11088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32360" y="119700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2000" y="1773360"/>
              <a:ext cx="11124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67640" y="119700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835280" y="2349360"/>
            <a:ext cx="5400720" cy="792360"/>
            <a:chOff x="1835280" y="2349360"/>
            <a:chExt cx="5400720" cy="792360"/>
          </a:xfrm>
        </p:grpSpPr>
        <p:sp>
          <p:nvSpPr>
            <p:cNvPr id="113" name=""/>
            <p:cNvSpPr/>
            <p:nvPr/>
          </p:nvSpPr>
          <p:spPr>
            <a:xfrm>
              <a:off x="1835280" y="3070080"/>
              <a:ext cx="54007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59280" y="2997000"/>
              <a:ext cx="144360" cy="14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43280" y="234936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38920" y="2997000"/>
              <a:ext cx="11124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96000" y="242100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908000" y="3429000"/>
            <a:ext cx="5400720" cy="792000"/>
            <a:chOff x="1908000" y="3429000"/>
            <a:chExt cx="5400720" cy="792000"/>
          </a:xfrm>
        </p:grpSpPr>
        <p:sp>
          <p:nvSpPr>
            <p:cNvPr id="119" name=""/>
            <p:cNvSpPr/>
            <p:nvPr/>
          </p:nvSpPr>
          <p:spPr>
            <a:xfrm>
              <a:off x="1908000" y="4148280"/>
              <a:ext cx="540072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59280" y="4076640"/>
              <a:ext cx="14436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96000" y="4076640"/>
              <a:ext cx="14436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71640" y="35002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342900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908000" y="4653000"/>
            <a:ext cx="5400720" cy="791640"/>
            <a:chOff x="1908000" y="4653000"/>
            <a:chExt cx="5400720" cy="791640"/>
          </a:xfrm>
        </p:grpSpPr>
        <p:sp>
          <p:nvSpPr>
            <p:cNvPr id="125" name=""/>
            <p:cNvSpPr/>
            <p:nvPr/>
          </p:nvSpPr>
          <p:spPr>
            <a:xfrm>
              <a:off x="1908000" y="5371920"/>
              <a:ext cx="540072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76720" y="5300280"/>
              <a:ext cx="110880" cy="104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1800" y="5300280"/>
              <a:ext cx="14472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33800" y="465300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7440" y="4724280"/>
              <a:ext cx="7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1341360"/>
            <a:ext cx="16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565360"/>
            <a:ext cx="16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860640"/>
            <a:ext cx="1655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941720"/>
            <a:ext cx="1655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88360" y="1341360"/>
            <a:ext cx="16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2637000"/>
            <a:ext cx="16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88360" y="3860640"/>
            <a:ext cx="1655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88360" y="4941720"/>
            <a:ext cx="1655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1700280"/>
            <a:ext cx="2664000" cy="1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2924280"/>
            <a:ext cx="2736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005360"/>
            <a:ext cx="251928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5229360"/>
            <a:ext cx="2592360" cy="144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4842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≤ х ≤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24720" y="134136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1; 5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6370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2&lt; x ≤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96360" y="278136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-2; 4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93372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&lt; x &lt;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67640" y="400536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8; 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94172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≤ x&lt;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50846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; 6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475164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153324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564000" y="476280"/>
            <a:ext cx="99036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692360" y="249228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195640" y="508464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796000" y="476280"/>
            <a:ext cx="198108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093080" y="2133720"/>
            <a:ext cx="1876320" cy="142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948360" y="3933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932360" y="4292640"/>
            <a:ext cx="1733400" cy="142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27640" y="285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68360" y="1125360"/>
            <a:ext cx="1702080" cy="453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92720" y="1413000"/>
            <a:ext cx="24526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404640"/>
            <a:ext cx="6840360" cy="43354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1" descr="http://festival.1september.ru/articles/550092/f_clip_image024.gif"/>
          <p:cNvPicPr/>
          <p:nvPr/>
        </p:nvPicPr>
        <p:blipFill>
          <a:blip r:embed="rId4"/>
          <a:stretch/>
        </p:blipFill>
        <p:spPr>
          <a:xfrm>
            <a:off x="0" y="0"/>
            <a:ext cx="523800" cy="190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56000" y="501336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6021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аграмма Эйл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File:Leonhard Euler 2.jpg"/>
          <p:cNvPicPr/>
          <p:nvPr/>
        </p:nvPicPr>
        <p:blipFill>
          <a:blip r:embed="rId2"/>
          <a:stretch/>
        </p:blipFill>
        <p:spPr>
          <a:xfrm>
            <a:off x="684360" y="549360"/>
            <a:ext cx="457200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35640" y="692280"/>
            <a:ext cx="338436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 Эйлер (1707–1783) швейцарский, немецкий и российский математик и меха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полжизни провёл в России, где внёс существенный вклад в становление российской на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 знал русский язык и часть своих сочинений (в особенности учебники) публиковал на русском язы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адемик Петербургской академии на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хоронен в 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907920"/>
            <a:ext cx="85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классе 30 человек, каждый из которых знает один из иностранных языков: английский или французский. Известно, что английский знают 17 человек, а французс-кий - 19 человек. Сколько человек знает два языка одновремен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4221000"/>
            <a:ext cx="64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множество  детей, знающих английский язы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множество детей, знающих француз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5977080" cy="381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5229360"/>
            <a:ext cx="77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4219560" cy="2600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43280" y="3068640"/>
            <a:ext cx="4249800" cy="2851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458136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В =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589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В =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1413000"/>
            <a:ext cx="7488360" cy="36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дача 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жество четных положительных цел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жество нечетных положительных цел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458136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В =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5589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В =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4:43:46Z</dcterms:created>
  <dc:creator>Елена</dc:creator>
  <dc:description/>
  <dc:language>en-US</dc:language>
  <cp:lastModifiedBy>Елена</cp:lastModifiedBy>
  <dcterms:modified xsi:type="dcterms:W3CDTF">2013-03-08T19:49:19Z</dcterms:modified>
  <cp:revision>13</cp:revision>
  <dc:subject/>
  <dc:title>Слайд 1</dc:title>
</cp:coreProperties>
</file>