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7.gif" ContentType="image/gif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gif" ContentType="image/gif"/>
  <Override PartName="/ppt/media/image7.jpeg" ContentType="image/jpeg"/>
  <Override PartName="/ppt/media/image11.png" ContentType="image/png"/>
  <Override PartName="/ppt/media/image10.wmf" ContentType="image/x-wmf"/>
  <Override PartName="/ppt/media/image4.jpeg" ContentType="image/jpeg"/>
  <Override PartName="/ppt/media/image9.wmf" ContentType="image/x-wm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7E24-B680-454C-87D3-0EC4E026C5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EBB7-7041-476E-989D-A17A3A9C38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10EF-7730-4DF6-B3D0-427CA193A7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F693-50F4-4508-BBF9-998959BA10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3CB7-3BC3-4C62-8740-92BF1A121D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255A-E4F8-449C-B1EF-9CEDCB1AAB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A55E-0F03-4275-9973-6896FAF1B7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1FF1-E8AF-4AAA-8290-67C40A4E9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FC9A-0942-4935-A9F6-CB7DF978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92B4-A8C0-4E0B-BFE6-663317A0C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56C4-1C54-4947-B625-7EFEC9457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9357-6C34-425E-910E-5A879190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0547-9248-4639-83B4-CB083FFB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696D-4BD9-4CFE-9CCD-03DEF326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18C9-33D1-4AAE-9CC0-949D4D3E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D669-920B-48DE-9EE8-E91EA6C9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AB28-6D83-481B-B81C-3D0F3DDE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4368-A672-4B4E-92E2-6D50CA14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1BFA-ECE3-4C38-A8E4-BAA9F9BE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8968-F0E8-4CDF-97DF-3C490EB6C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7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Untitled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 rot="21303000">
            <a:off x="322200" y="747360"/>
            <a:ext cx="7872480" cy="494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едупреждение сердечно-</a:t>
            </a:r>
            <a:endParaRPr b="0" lang="en-US" sz="1800" spc="1" strike="noStrike">
              <a:ln w="9360">
                <a:solidFill>
                  <a:srgbClr val="9933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9933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осудистых заболевании</a:t>
            </a:r>
            <a:endParaRPr b="0" lang="en-US" sz="1800" spc="1" strike="noStrike">
              <a:ln w="9360">
                <a:solidFill>
                  <a:srgbClr val="9933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WB02202_"/>
          <p:cNvPicPr/>
          <p:nvPr/>
        </p:nvPicPr>
        <p:blipFill>
          <a:blip r:embed="rId2"/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54080" y="503280"/>
            <a:ext cx="515304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КРОВОТЕЧ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ОВОТЕ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ТЕРИАЛЬНОЕ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УТРЕННЕЕ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НОЗНОЕ      КАПИЛЛЯР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"/>
          <p:cNvSpPr/>
          <p:nvPr/>
        </p:nvSpPr>
        <p:spPr>
          <a:xfrm flipH="1">
            <a:off x="2555640" y="1700280"/>
            <a:ext cx="1981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4613400" y="1700280"/>
            <a:ext cx="21193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 flipH="1">
            <a:off x="3850920" y="170028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 flipH="1">
            <a:off x="4572000" y="1766880"/>
            <a:ext cx="117360" cy="180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PE02351_"/>
          <p:cNvPicPr/>
          <p:nvPr/>
        </p:nvPicPr>
        <p:blipFill>
          <a:blip r:embed="rId3"/>
          <a:stretch/>
        </p:blipFill>
        <p:spPr>
          <a:xfrm>
            <a:off x="5181480" y="3886200"/>
            <a:ext cx="3505320" cy="2478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BD06543_"/>
          <p:cNvPicPr/>
          <p:nvPr/>
        </p:nvPicPr>
        <p:blipFill>
          <a:blip r:embed="rId4"/>
          <a:stretch/>
        </p:blipFill>
        <p:spPr>
          <a:xfrm>
            <a:off x="914400" y="4114800"/>
            <a:ext cx="32004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21" descr=""/>
          <p:cNvPicPr/>
          <p:nvPr/>
        </p:nvPicPr>
        <p:blipFill>
          <a:blip r:embed="rId2"/>
          <a:stretch/>
        </p:blipFill>
        <p:spPr>
          <a:xfrm>
            <a:off x="6156360" y="4221000"/>
            <a:ext cx="2735280" cy="2252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20" descr=""/>
          <p:cNvPicPr/>
          <p:nvPr/>
        </p:nvPicPr>
        <p:blipFill>
          <a:blip r:embed="rId3"/>
          <a:stretch/>
        </p:blipFill>
        <p:spPr>
          <a:xfrm>
            <a:off x="6156360" y="1557360"/>
            <a:ext cx="2735280" cy="22525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02920" y="-171360"/>
            <a:ext cx="613116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Виды кровотеч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50920" y="717480"/>
          <a:ext cx="8713800" cy="6110280"/>
        </p:xfrm>
        <a:graphic>
          <a:graphicData uri="http://schemas.openxmlformats.org/drawingml/2006/table">
            <a:tbl>
              <a:tblPr/>
              <a:tblGrid>
                <a:gridCol w="2092320"/>
                <a:gridCol w="3716280"/>
                <a:gridCol w="2905200"/>
              </a:tblGrid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кровотечений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и кровотече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ание первой помощ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Капилярное кровотечени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реждается мелкие кровеносные сосуды. Все раневая поверхность кровоточит, как губка. Обычно такое кровотечение не сопровождается значительной потерей крови и легко останавливается.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у обрабатывают йодной настойкой и накладывают марлевую повязку.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Венозное кровотечени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 струи темный из-за высокого содержания в венозной крови гемоглобина, связанного с углекислым газом. Сгустки крови, возникающие при повреждении, могут смываться током крови, поэтому возможна большая кровопотеря.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рану необходимо положить давящую повязку или жгут (под жгут необходимо положить мягкую прокладку, чтобы не повредить кожу)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тановка венозного кровоте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0" descr=""/>
          <p:cNvPicPr/>
          <p:nvPr/>
        </p:nvPicPr>
        <p:blipFill>
          <a:blip r:embed="rId2"/>
          <a:stretch/>
        </p:blipFill>
        <p:spPr>
          <a:xfrm>
            <a:off x="179280" y="1916280"/>
            <a:ext cx="8832960" cy="4527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8" descr=""/>
          <p:cNvPicPr/>
          <p:nvPr/>
        </p:nvPicPr>
        <p:blipFill>
          <a:blip r:embed="rId2"/>
          <a:stretch/>
        </p:blipFill>
        <p:spPr>
          <a:xfrm>
            <a:off x="6156360" y="1052640"/>
            <a:ext cx="2735280" cy="2252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9" descr=""/>
          <p:cNvPicPr/>
          <p:nvPr/>
        </p:nvPicPr>
        <p:blipFill>
          <a:blip r:embed="rId3"/>
          <a:stretch/>
        </p:blipFill>
        <p:spPr>
          <a:xfrm>
            <a:off x="6156360" y="4149720"/>
            <a:ext cx="2735280" cy="2252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250920" y="189000"/>
          <a:ext cx="8748720" cy="6583320"/>
        </p:xfrm>
        <a:graphic>
          <a:graphicData uri="http://schemas.openxmlformats.org/drawingml/2006/table">
            <a:tbl>
              <a:tblPr/>
              <a:tblGrid>
                <a:gridCol w="2260440"/>
                <a:gridCol w="3571920"/>
                <a:gridCol w="2916360"/>
              </a:tblGrid>
              <a:tr h="375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Артериальное кровотечени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ознается по пульсирующей струе ярко-красной крови, которая вытекает с большой скоростью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бходимо пережать сосуд выше места повреждения. Нажимают на точку пульса. Накладывают жгут на конечность. Максимальное время наложения жгута 2 часа для детей. Если жгут держать дольше, может наступить омертвление тканей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Внутреннее кровоте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овотечение в полость организма (брюшную, черепную, грудную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: липкий холодный пот, бледность, дыхание поверхностное, пульс частый и слабый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сидящее положение, полный покой, лед или холодная вода прикладывается к предполагаемому месту кровотечений. Срочно доставить к врачу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тановка артериального    кровоте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1619280" y="1671480"/>
            <a:ext cx="5904000" cy="518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8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WB02061_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WB02049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WordArt 4"/>
          <p:cNvSpPr txBox="1"/>
          <p:nvPr/>
        </p:nvSpPr>
        <p:spPr>
          <a:xfrm rot="5400000">
            <a:off x="-1752480" y="2666880"/>
            <a:ext cx="579132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ВЫВО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08" name="Picture 5" descr="Gordo &amp; Magro "/>
          <p:cNvPicPr/>
          <p:nvPr/>
        </p:nvPicPr>
        <p:blipFill>
          <a:blip r:embed="rId6"/>
          <a:stretch/>
        </p:blipFill>
        <p:spPr>
          <a:xfrm>
            <a:off x="3886200" y="228600"/>
            <a:ext cx="3276720" cy="28987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3124080" y="3124080"/>
            <a:ext cx="4562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Здоровье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радость жизн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и счасть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в ваших рук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500"/>
                            </p:stCondLst>
                            <p:childTnLst>
                              <p:par>
                                <p:cTn id="1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34760" y="433080"/>
            <a:ext cx="515484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БОЛЕ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ИПОДИНА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ЕНОКАР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СУЛЬ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ИПЕРТ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ИПОТ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ЕМОФИ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КРО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ФАРКТ МИОКАР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j0182789"/>
          <p:cNvPicPr/>
          <p:nvPr/>
        </p:nvPicPr>
        <p:blipFill>
          <a:blip r:embed="rId2"/>
          <a:stretch/>
        </p:blipFill>
        <p:spPr>
          <a:xfrm>
            <a:off x="4648320" y="2362320"/>
            <a:ext cx="380988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5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акторы, негативно влияющие на сердечно-сосудистую сист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5516640"/>
        </p:xfrm>
        <a:graphic>
          <a:graphicData uri="http://schemas.openxmlformats.org/drawingml/2006/table">
            <a:tbl>
              <a:tblPr/>
              <a:tblGrid>
                <a:gridCol w="2057400"/>
                <a:gridCol w="2633760"/>
                <a:gridCol w="503280"/>
                <a:gridCol w="303516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подинамия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недостаток двигательной активности) ведет к атрофии сердечной мыш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коголь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равляет сердечную мышцу, развивается сердечная недостаточ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ессовые ситуаци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истощают сердечную мышц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достаток кислород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 атмосфере вызывает гипоксию, меняется ритм сердечных сокращ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котин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зывает устойчивый спазм сосудов, инфаркт миокар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5" name="Group 115"/>
          <p:cNvGrpSpPr/>
          <p:nvPr/>
        </p:nvGrpSpPr>
        <p:grpSpPr>
          <a:xfrm>
            <a:off x="684360" y="2205000"/>
            <a:ext cx="5182920" cy="3095640"/>
            <a:chOff x="684360" y="2205000"/>
            <a:chExt cx="5182920" cy="3095640"/>
          </a:xfrm>
        </p:grpSpPr>
        <p:sp>
          <p:nvSpPr>
            <p:cNvPr id="56" name="Line 106"/>
            <p:cNvSpPr/>
            <p:nvPr/>
          </p:nvSpPr>
          <p:spPr>
            <a:xfrm flipH="1">
              <a:off x="3571920" y="2205000"/>
              <a:ext cx="2295360" cy="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07"/>
            <p:cNvSpPr/>
            <p:nvPr/>
          </p:nvSpPr>
          <p:spPr>
            <a:xfrm flipH="1" flipV="1">
              <a:off x="3643200" y="3071520"/>
              <a:ext cx="2224080" cy="78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08"/>
            <p:cNvSpPr/>
            <p:nvPr/>
          </p:nvSpPr>
          <p:spPr>
            <a:xfrm flipH="1" flipV="1">
              <a:off x="3571920" y="3929040"/>
              <a:ext cx="20080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09"/>
            <p:cNvSpPr/>
            <p:nvPr/>
          </p:nvSpPr>
          <p:spPr>
            <a:xfrm flipH="1" flipV="1">
              <a:off x="2357280" y="4000680"/>
              <a:ext cx="486000" cy="94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10"/>
            <p:cNvSpPr/>
            <p:nvPr/>
          </p:nvSpPr>
          <p:spPr>
            <a:xfrm flipV="1">
              <a:off x="684360" y="4000320"/>
              <a:ext cx="458640" cy="10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Picture 9" descr="Untitled-1"/>
          <p:cNvPicPr/>
          <p:nvPr/>
        </p:nvPicPr>
        <p:blipFill>
          <a:blip r:embed="rId1"/>
          <a:stretch/>
        </p:blipFill>
        <p:spPr>
          <a:xfrm>
            <a:off x="0" y="1143000"/>
            <a:ext cx="348768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1476360" y="13680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акторы риска заболеваний кровообра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1052640"/>
          <a:ext cx="8642160" cy="5402160"/>
        </p:xfrm>
        <a:graphic>
          <a:graphicData uri="http://schemas.openxmlformats.org/drawingml/2006/table">
            <a:tbl>
              <a:tblPr/>
              <a:tblGrid>
                <a:gridCol w="1073160"/>
                <a:gridCol w="4713120"/>
                <a:gridCol w="285588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оры ри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ияние на органы кровообра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отин вызывает спазм сосудов, и ткани организма получают мало питательных веществ и кислорода. Сердце работает с большим напряжение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дартериит, атеросклероз, ишемическая болезнь сердца, инфаркт миокарда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требление алкого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оголь разрушает клетки сердечной мышцы, они теряют эластичность, сердце работает на пределе возможнос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шемическая болезнь серд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аркт миокар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е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ют частота пульса, артериальное давление, скорость кровотока, повышается температура тел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то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аркт миокарда стенокард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уль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одинам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ок движения оказывается причиной нарушений в деятельности сердца, ухудшает циркуляцию крови и лимфы. Сердце не готово к нагрузка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еросклер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нокард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е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2"/>
          <p:cNvPicPr/>
          <p:nvPr/>
        </p:nvPicPr>
        <p:blipFill>
          <a:blip r:embed="rId2"/>
          <a:srcRect l="6444" t="5431" r="65571" b="9661"/>
          <a:stretch/>
        </p:blipFill>
        <p:spPr>
          <a:xfrm>
            <a:off x="539640" y="1916280"/>
            <a:ext cx="2722680" cy="3241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2"/>
          <p:cNvPicPr/>
          <p:nvPr/>
        </p:nvPicPr>
        <p:blipFill>
          <a:blip r:embed="rId3"/>
          <a:srcRect l="41117" t="1938" r="31132" b="10354"/>
          <a:stretch/>
        </p:blipFill>
        <p:spPr>
          <a:xfrm>
            <a:off x="3343320" y="1916280"/>
            <a:ext cx="2614680" cy="3241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2"/>
          <p:cNvPicPr/>
          <p:nvPr/>
        </p:nvPicPr>
        <p:blipFill>
          <a:blip r:embed="rId4"/>
          <a:srcRect l="73325" t="-863" r="0" b="13168"/>
          <a:stretch/>
        </p:blipFill>
        <p:spPr>
          <a:xfrm>
            <a:off x="6012000" y="1916280"/>
            <a:ext cx="2568600" cy="32414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39528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ШЕ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276720" y="530064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ИАН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594036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КР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3"/>
          <p:cNvPicPr/>
          <p:nvPr/>
        </p:nvPicPr>
        <p:blipFill>
          <a:blip r:embed="rId2"/>
          <a:stretch/>
        </p:blipFill>
        <p:spPr>
          <a:xfrm>
            <a:off x="611280" y="2230560"/>
            <a:ext cx="8208720" cy="24825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2484360" y="4869000"/>
            <a:ext cx="44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НОЗНАЯ ГИПЕРЕ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971640" y="5013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5"/>
          <p:cNvPicPr/>
          <p:nvPr/>
        </p:nvPicPr>
        <p:blipFill>
          <a:blip r:embed="rId2"/>
          <a:stretch/>
        </p:blipFill>
        <p:spPr>
          <a:xfrm>
            <a:off x="1692360" y="725400"/>
            <a:ext cx="5327640" cy="46767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2571840" y="5867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3348000" y="5516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ФАР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словия нормальной работы серд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50920" y="1600200"/>
          <a:ext cx="2665440" cy="4525920"/>
        </p:xfrm>
        <a:graphic>
          <a:graphicData uri="http://schemas.openxmlformats.org/drawingml/2006/table">
            <a:tbl>
              <a:tblPr/>
              <a:tblGrid>
                <a:gridCol w="26654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ческое упраж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ильный тру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ивный образ жиз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евременный отд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5867280" y="1557360"/>
          <a:ext cx="2887920" cy="4535640"/>
        </p:xfrm>
        <a:graphic>
          <a:graphicData uri="http://schemas.openxmlformats.org/drawingml/2006/table">
            <a:tbl>
              <a:tblPr/>
              <a:tblGrid>
                <a:gridCol w="2887920"/>
              </a:tblGrid>
              <a:tr h="453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лучшается снабжение сердца кислородом и питательными веществами, развивается сердечная мышца и увеличивается объем кровот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0" name="Group 67"/>
          <p:cNvGrpSpPr/>
          <p:nvPr/>
        </p:nvGrpSpPr>
        <p:grpSpPr>
          <a:xfrm>
            <a:off x="2916360" y="2133720"/>
            <a:ext cx="2950920" cy="3382920"/>
            <a:chOff x="2916360" y="2133720"/>
            <a:chExt cx="2950920" cy="3382920"/>
          </a:xfrm>
        </p:grpSpPr>
        <p:sp>
          <p:nvSpPr>
            <p:cNvPr id="81" name="Line 61"/>
            <p:cNvSpPr/>
            <p:nvPr/>
          </p:nvSpPr>
          <p:spPr>
            <a:xfrm>
              <a:off x="2916360" y="2133720"/>
              <a:ext cx="2950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62"/>
            <p:cNvSpPr/>
            <p:nvPr/>
          </p:nvSpPr>
          <p:spPr>
            <a:xfrm>
              <a:off x="2916360" y="3357720"/>
              <a:ext cx="2950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63"/>
            <p:cNvSpPr/>
            <p:nvPr/>
          </p:nvSpPr>
          <p:spPr>
            <a:xfrm>
              <a:off x="2916360" y="4508640"/>
              <a:ext cx="2950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64"/>
            <p:cNvSpPr/>
            <p:nvPr/>
          </p:nvSpPr>
          <p:spPr>
            <a:xfrm>
              <a:off x="2916360" y="5516640"/>
              <a:ext cx="2950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7T07:51:04Z</dcterms:created>
  <dc:creator>Home</dc:creator>
  <dc:description/>
  <dc:language>en-US</dc:language>
  <cp:lastModifiedBy>учитель рус яз2</cp:lastModifiedBy>
  <dcterms:modified xsi:type="dcterms:W3CDTF">2013-02-27T11:35:43Z</dcterms:modified>
  <cp:revision>24</cp:revision>
  <dc:subject/>
  <dc:title>Слайд 1</dc:title>
</cp:coreProperties>
</file>