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7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FE5D-5872-4512-811B-B58C4AA9A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9C20-EF85-4FDE-A8DD-7EA28BA57F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14BD-8E1E-4059-8C2C-2324EADB8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F724-12E3-4F19-8B1E-71CF8A461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429B-BF80-493B-877F-AC21868C4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1AC0-EC2C-411E-97B5-313ADD380A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1249-328A-4EA9-BC94-C74F36DDC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862-01F6-49E7-9778-7753FBAB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F3A-469C-481E-BA42-6A5C953B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E2C-7CF2-4B78-A2B4-79896D7E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FAC-CF44-40E7-9C10-26174FBF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B10-A875-4C14-8A49-E575E282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369-A3FC-4AC0-9A7B-12ABC4C1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EE3-5884-4FA5-AE98-CD125B39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864-2C49-44D2-98AD-34D9021B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238-9FAF-4611-9BD0-C7E59DD7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5A7-B81A-45D8-B853-BBC2461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D9F-031B-4FC5-AA59-9B0D1F0C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5A1-68B1-4621-8992-77CD187F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9849-6A05-41D9-BFB7-92F7673FF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21303000">
            <a:off x="322200" y="747360"/>
            <a:ext cx="7872480" cy="49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упреждение сердечно-</a:t>
            </a:r>
            <a:endParaRPr b="0" lang="en-US" sz="1800" spc="1" strike="noStrike">
              <a:ln w="9360">
                <a:solidFill>
                  <a:srgbClr val="9933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33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удистых заболевании</a:t>
            </a:r>
            <a:endParaRPr b="0" lang="en-US" sz="1800" spc="1" strike="noStrike">
              <a:ln w="9360">
                <a:solidFill>
                  <a:srgbClr val="9933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WB02202_"/>
          <p:cNvPicPr/>
          <p:nvPr/>
        </p:nvPicPr>
        <p:blipFill>
          <a:blip r:embed="rId2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54080" y="503280"/>
            <a:ext cx="515304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КРОВОТЕ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ОТ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ТЕРИАЛЬНОЕ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ЕЕ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НОЗНОЕ      КАПИЛЛЯ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2555640" y="170028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613400" y="1700280"/>
            <a:ext cx="21193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3850920" y="170028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 flipH="1">
            <a:off x="4572000" y="1766880"/>
            <a:ext cx="117360" cy="180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PE02351_"/>
          <p:cNvPicPr/>
          <p:nvPr/>
        </p:nvPicPr>
        <p:blipFill>
          <a:blip r:embed="rId3"/>
          <a:stretch/>
        </p:blipFill>
        <p:spPr>
          <a:xfrm>
            <a:off x="5181480" y="3886200"/>
            <a:ext cx="3505320" cy="2478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D06543_"/>
          <p:cNvPicPr/>
          <p:nvPr/>
        </p:nvPicPr>
        <p:blipFill>
          <a:blip r:embed="rId4"/>
          <a:stretch/>
        </p:blipFill>
        <p:spPr>
          <a:xfrm>
            <a:off x="914400" y="4114800"/>
            <a:ext cx="3200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21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735280" cy="225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0" descr=""/>
          <p:cNvPicPr/>
          <p:nvPr/>
        </p:nvPicPr>
        <p:blipFill>
          <a:blip r:embed="rId3"/>
          <a:stretch/>
        </p:blipFill>
        <p:spPr>
          <a:xfrm>
            <a:off x="6156360" y="1557360"/>
            <a:ext cx="2735280" cy="2252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-171360"/>
            <a:ext cx="6131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иды кровоте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717480"/>
          <a:ext cx="8713800" cy="6110280"/>
        </p:xfrm>
        <a:graphic>
          <a:graphicData uri="http://schemas.openxmlformats.org/drawingml/2006/table">
            <a:tbl>
              <a:tblPr/>
              <a:tblGrid>
                <a:gridCol w="2092320"/>
                <a:gridCol w="3716280"/>
                <a:gridCol w="290520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кровотечени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кровотеч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ервой помощ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апилярное кровотече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реждается мелкие кровеносные сосуды. Все раневая поверхность кровоточит, как губка. Обычно такое кровотечение не сопровождается значительной потерей крови и легко останавливается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у обрабатывают йодной настойкой и накладывают марлевую повязку.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Венозное кровотече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струи темный из-за высокого содержания в венозной крови гемоглобина, связанного с углекислым газом. Сгустки крови, возникающие при повреждении, могут смываться током крови, поэтому возможна большая кровопотеря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ну необходимо положить давящую повязку или жгут (под жгут необходимо положить мягкую прокладку, чтобы не повредить кожу)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тановка венозного кровот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0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8832960" cy="452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8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735280" cy="2252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9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735280" cy="22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50920" y="189000"/>
          <a:ext cx="8748720" cy="6583320"/>
        </p:xfrm>
        <a:graphic>
          <a:graphicData uri="http://schemas.openxmlformats.org/drawingml/2006/table">
            <a:tbl>
              <a:tblPr/>
              <a:tblGrid>
                <a:gridCol w="2260440"/>
                <a:gridCol w="3571920"/>
                <a:gridCol w="2916360"/>
              </a:tblGrid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Артериальное кровотечени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знается по пульсирующей струе ярко-красной крови, которая вытекает с большой скорость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пережать сосуд выше места повреждения. Нажимают на точку пульса. Накладывают жгут на конечность. Максимальное время наложения жгута 2 часа для детей. Если жгут держать дольше, может наступить омертвление ткане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Внутреннее крово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отечение в полость организма (брюшную, черепную, грудную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: липкий холодный пот, бледность, дыхание поверхностное, пульс частый и слабы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сидящее положение, полный покой, лед или холодная вода прикладывается к предполагаемому месту кровотечений. Срочно доставить к врач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тановка артериального    кровот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619280" y="1671480"/>
            <a:ext cx="5904000" cy="51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8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WB02061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WB02049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4"/>
          <p:cNvSpPr txBox="1"/>
          <p:nvPr/>
        </p:nvSpPr>
        <p:spPr>
          <a:xfrm rot="5400000">
            <a:off x="-1752480" y="2666880"/>
            <a:ext cx="579132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08" name="Picture 5" descr="Gordo &amp; Magro "/>
          <p:cNvPicPr/>
          <p:nvPr/>
        </p:nvPicPr>
        <p:blipFill>
          <a:blip r:embed="rId6"/>
          <a:stretch/>
        </p:blipFill>
        <p:spPr>
          <a:xfrm>
            <a:off x="3886200" y="228600"/>
            <a:ext cx="3276720" cy="2898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3124080" y="3124080"/>
            <a:ext cx="4562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Здоровь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радость жиз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и счасть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в ваших рук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34760" y="433080"/>
            <a:ext cx="515484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БОЛЕ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ПОДИНА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ЕНОКАР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УЛЬ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ПЕРТ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ПОТ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МОФ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Р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АРКТ МИОК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182789"/>
          <p:cNvPicPr/>
          <p:nvPr/>
        </p:nvPicPr>
        <p:blipFill>
          <a:blip r:embed="rId2"/>
          <a:stretch/>
        </p:blipFill>
        <p:spPr>
          <a:xfrm>
            <a:off x="4648320" y="23623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акторы, негативно влияющие на сердечно-сосудист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5516640"/>
        </p:xfrm>
        <a:graphic>
          <a:graphicData uri="http://schemas.openxmlformats.org/drawingml/2006/table">
            <a:tbl>
              <a:tblPr/>
              <a:tblGrid>
                <a:gridCol w="2057400"/>
                <a:gridCol w="2633760"/>
                <a:gridCol w="503280"/>
                <a:gridCol w="30351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одинами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достаток двигательной активности) ведет к атрофии сердечной мыш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когол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вляет сердечную мышцу, развивается сердечная недоста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ссовые ситуаци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стощают сердечную мышц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ок кислоро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 атмосфере вызывает гипоксию, меняется ритм сердечных сокращ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котин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ывает устойчивый спазм сосудов, инфаркт миокар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115"/>
          <p:cNvGrpSpPr/>
          <p:nvPr/>
        </p:nvGrpSpPr>
        <p:grpSpPr>
          <a:xfrm>
            <a:off x="684360" y="2205000"/>
            <a:ext cx="5182920" cy="3095640"/>
            <a:chOff x="684360" y="2205000"/>
            <a:chExt cx="5182920" cy="3095640"/>
          </a:xfrm>
        </p:grpSpPr>
        <p:sp>
          <p:nvSpPr>
            <p:cNvPr id="56" name="Line 106"/>
            <p:cNvSpPr/>
            <p:nvPr/>
          </p:nvSpPr>
          <p:spPr>
            <a:xfrm flipH="1">
              <a:off x="3571920" y="2205000"/>
              <a:ext cx="229536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7"/>
            <p:cNvSpPr/>
            <p:nvPr/>
          </p:nvSpPr>
          <p:spPr>
            <a:xfrm flipH="1" flipV="1">
              <a:off x="3643200" y="3071520"/>
              <a:ext cx="222408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8"/>
            <p:cNvSpPr/>
            <p:nvPr/>
          </p:nvSpPr>
          <p:spPr>
            <a:xfrm flipH="1" flipV="1">
              <a:off x="3571920" y="3929040"/>
              <a:ext cx="20080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9"/>
            <p:cNvSpPr/>
            <p:nvPr/>
          </p:nvSpPr>
          <p:spPr>
            <a:xfrm flipH="1" flipV="1">
              <a:off x="2357280" y="4000680"/>
              <a:ext cx="486000" cy="9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0"/>
            <p:cNvSpPr/>
            <p:nvPr/>
          </p:nvSpPr>
          <p:spPr>
            <a:xfrm flipV="1">
              <a:off x="684360" y="4000320"/>
              <a:ext cx="458640" cy="10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9" descr="Untitled-1"/>
          <p:cNvPicPr/>
          <p:nvPr/>
        </p:nvPicPr>
        <p:blipFill>
          <a:blip r:embed="rId1"/>
          <a:stretch/>
        </p:blipFill>
        <p:spPr>
          <a:xfrm>
            <a:off x="0" y="1143000"/>
            <a:ext cx="3487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1476360" y="1368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ы риска заболеваний крово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1052640"/>
          <a:ext cx="8642160" cy="5402160"/>
        </p:xfrm>
        <a:graphic>
          <a:graphicData uri="http://schemas.openxmlformats.org/drawingml/2006/table">
            <a:tbl>
              <a:tblPr/>
              <a:tblGrid>
                <a:gridCol w="1073160"/>
                <a:gridCol w="4713120"/>
                <a:gridCol w="285588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ы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ияние на органы крово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тин вызывает спазм сосудов, и ткани организма получают мало питательных веществ и кислорода. Сердце работает с большим напряжени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артериит, атеросклероз, ишемическая болезнь сердца, инфаркт миокарда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ение алког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 разрушает клетки сердечной мышцы, они теряют эластичность, сердце работает на пределе возмож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шемическая болезнь серд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иокар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ют частота пульса, артериальное давление, скорость кровотока, повышается температура те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иокарда стенокар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дина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движения оказывается причиной нарушений в деятельности сердца, ухудшает циркуляцию крови и лимфы. Сердце не готово к нагрузк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еросклер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кар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"/>
          <p:cNvPicPr/>
          <p:nvPr/>
        </p:nvPicPr>
        <p:blipFill>
          <a:blip r:embed="rId2"/>
          <a:srcRect l="6444" t="5431" r="65571" b="9661"/>
          <a:stretch/>
        </p:blipFill>
        <p:spPr>
          <a:xfrm>
            <a:off x="539640" y="1916280"/>
            <a:ext cx="2722680" cy="324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2"/>
          <p:cNvPicPr/>
          <p:nvPr/>
        </p:nvPicPr>
        <p:blipFill>
          <a:blip r:embed="rId3"/>
          <a:srcRect l="41117" t="1938" r="31132" b="10354"/>
          <a:stretch/>
        </p:blipFill>
        <p:spPr>
          <a:xfrm>
            <a:off x="3343320" y="1916280"/>
            <a:ext cx="2614680" cy="324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2"/>
          <p:cNvPicPr/>
          <p:nvPr/>
        </p:nvPicPr>
        <p:blipFill>
          <a:blip r:embed="rId4"/>
          <a:srcRect l="73325" t="-863" r="0" b="13168"/>
          <a:stretch/>
        </p:blipFill>
        <p:spPr>
          <a:xfrm>
            <a:off x="6012000" y="1916280"/>
            <a:ext cx="2568600" cy="3241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9528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Ш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276720" y="5300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А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4036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"/>
          <p:cNvPicPr/>
          <p:nvPr/>
        </p:nvPicPr>
        <p:blipFill>
          <a:blip r:embed="rId2"/>
          <a:stretch/>
        </p:blipFill>
        <p:spPr>
          <a:xfrm>
            <a:off x="611280" y="2230560"/>
            <a:ext cx="8208720" cy="2482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484360" y="48690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НОЗНАЯ ГИПЕ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71640" y="5013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5"/>
          <p:cNvPicPr/>
          <p:nvPr/>
        </p:nvPicPr>
        <p:blipFill>
          <a:blip r:embed="rId2"/>
          <a:stretch/>
        </p:blipFill>
        <p:spPr>
          <a:xfrm>
            <a:off x="1692360" y="725400"/>
            <a:ext cx="5327640" cy="467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571840" y="586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348000" y="5516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АР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ловия нормальной работы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2665440" cy="452592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 упраж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ильный тр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 образ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ый отд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867280" y="1557360"/>
          <a:ext cx="2887920" cy="4535640"/>
        </p:xfrm>
        <a:graphic>
          <a:graphicData uri="http://schemas.openxmlformats.org/drawingml/2006/table">
            <a:tbl>
              <a:tblPr/>
              <a:tblGrid>
                <a:gridCol w="28879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ается снабжение сердца кислородом и питательными веществами, развивается сердечная мышца и увеличивается объем кровот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0" name="Group 67"/>
          <p:cNvGrpSpPr/>
          <p:nvPr/>
        </p:nvGrpSpPr>
        <p:grpSpPr>
          <a:xfrm>
            <a:off x="2916360" y="2133720"/>
            <a:ext cx="2950920" cy="3382920"/>
            <a:chOff x="2916360" y="2133720"/>
            <a:chExt cx="2950920" cy="3382920"/>
          </a:xfrm>
        </p:grpSpPr>
        <p:sp>
          <p:nvSpPr>
            <p:cNvPr id="81" name="Line 61"/>
            <p:cNvSpPr/>
            <p:nvPr/>
          </p:nvSpPr>
          <p:spPr>
            <a:xfrm>
              <a:off x="2916360" y="2133720"/>
              <a:ext cx="29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2"/>
            <p:cNvSpPr/>
            <p:nvPr/>
          </p:nvSpPr>
          <p:spPr>
            <a:xfrm>
              <a:off x="2916360" y="3357720"/>
              <a:ext cx="29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3"/>
            <p:cNvSpPr/>
            <p:nvPr/>
          </p:nvSpPr>
          <p:spPr>
            <a:xfrm>
              <a:off x="2916360" y="4508640"/>
              <a:ext cx="29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64"/>
            <p:cNvSpPr/>
            <p:nvPr/>
          </p:nvSpPr>
          <p:spPr>
            <a:xfrm>
              <a:off x="2916360" y="5516640"/>
              <a:ext cx="29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7:51:04Z</dcterms:created>
  <dc:creator>Home</dc:creator>
  <dc:description/>
  <dc:language>en-US</dc:language>
  <cp:lastModifiedBy>учитель рус яз2</cp:lastModifiedBy>
  <dcterms:modified xsi:type="dcterms:W3CDTF">2013-02-27T11:35:43Z</dcterms:modified>
  <cp:revision>24</cp:revision>
  <dc:subject/>
  <dc:title>Слайд 1</dc:title>
</cp:coreProperties>
</file>