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D912-BC94-4646-A256-CD61D062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B7F3-A6C3-4FEE-AB3A-3506F028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9C02-646E-456F-9CC2-0C61E138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F29F-D21F-4047-863D-E9147016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4564-82B4-4A83-8785-FF6924A5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5890-8271-4277-8E77-96E989B5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29FA-0637-4DB1-9BE1-456FD9EC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FB3B-3F40-402F-A08A-EA17047E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918D-66E8-49F5-AE41-B23EA4CD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5CB8-FDB7-4AEF-A646-2C119857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AF81-CDD8-401C-A917-5506C1C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9A3E-EE82-4D02-BE58-EF969FA6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EEA3-D9AD-4C3A-A8DA-F957B1D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6D3E-0BE0-41BD-92FD-552E296C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ED01-D48E-4E70-9A4C-F41E3239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00FB-9122-4986-942B-3D7D5306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0AD2-C042-4CB3-B7CA-1FDE94B9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5129-FC15-44AF-96C0-FDD78E79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479C-DDBD-4774-8E1B-73F3AE9D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041F-5D15-4CF8-88EC-597FA90F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EA9D-5BE2-4FED-9FE3-B1ACCF7B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A212-3148-499B-9AE4-FBBA58E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6B70-6387-4A1B-8541-C24D937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2DDE-FB51-42F7-A00A-EB24C29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2B95-F3BA-468F-B968-6C24EA7B1D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65B9-D336-4A59-BAAB-F62FEDBE9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d833"/>
                </a:solidFill>
                <a:latin typeface="Times New Roman"/>
              </a:rPr>
              <a:t>Урок-презентация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3284640"/>
            <a:ext cx="82296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Учител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Шапова Л.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 квалификационной категор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МБОУ СОШ №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г. Берез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14800" y="189000"/>
            <a:ext cx="3819600" cy="453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3365640" cy="4680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68360" y="551664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Garamond"/>
                <a:ea typeface="Arial"/>
              </a:rPr>
              <a:t>Тютчев в детст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57800" cy="5943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800600" y="685800"/>
            <a:ext cx="43434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Тютчев п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олуч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ил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домашнее образование под руководством С.Е. Раича, поэта, переводчика. «Года через три он был уже не учеником, а товарищем моим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2-летний Тютчев за оду – подражание Горацию «На новый 1816 год» Обществом любителей российской словесности удостоен звания «сотрудника»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248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С.Е. Раич, поэт и переводч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00800" y="-501480"/>
            <a:ext cx="360" cy="70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5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7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22936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Ф.И. Тютчев. Портрет работы неизвестного худож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0"/>
            <a:ext cx="4952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Вы помните его в кругу друзей?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      Как мысли сыпались нежданные, живые,            Как забывали мы под звук его речей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                              И вечер длившийся, и годы прожитые!                         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А.Н. Апухтин «Памяти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Тютчев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57200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«Его ум сверкал иронией, душа его ныла»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И.С. Акса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3814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1009872962_tonnel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341880" cy="4332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635280" y="404640"/>
            <a:ext cx="51818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печатление неизмеримой духовной силы получали все, кто общался с ним близко.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«Человек необыкновенно гениальный», -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писал о нем Жуковский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«Самое воздушное воплощение поэта, каким его рисует себе романтизм», -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отзывался о Тютчеве Фет.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«Милый, умный, как день , умный», -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осторгался Тургене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400800" y="-565200"/>
            <a:ext cx="360" cy="71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929040" cy="53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600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95880" y="0"/>
            <a:ext cx="3948120" cy="533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541008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Элеонора Тютчева (Петерсон), первая жена поэ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3341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Эрнестина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Тютчева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(Дернберг),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вторая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жена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поэ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3962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400800" y="92160"/>
            <a:ext cx="3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40440" y="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304956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40000" y="59500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Garamond"/>
                <a:ea typeface="Arial"/>
              </a:rPr>
              <a:t>Дочери поэ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124160" cy="5505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6019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А.М. Крюден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914400"/>
            <a:ext cx="4114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Я встретил вас – и все былое 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 В отжившем сердце ожило;                       Я    вспомнил время золотое –                   И сердцу стало так тепл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2896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1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82896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43400" y="260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Высказывания о поэ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1197000"/>
            <a:ext cx="449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«Каждое из его стихотворений – солнце, то есть самобытный, светящийся мир».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А.А. Ф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3933720"/>
            <a:ext cx="472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«Тютчев написал мало. Тютчев сказал много. Тютчев обращается к каждому в отдельности».   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Л. А. Озе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4360" y="189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ПРОВЕРКА ЗН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765000"/>
            <a:ext cx="80769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Когда и где родился Ф.И. Тютчев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В каком возрасте и почему покинул Тютчев Россию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Когда он вернулся на родин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Когда в России впервые была опубликована подборка стихов поэт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Когда вышел первый сборник поэта? Сколько ему тогда было лет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Почему лирика Тютчева оказалась более созвучна ХХ веку, чем Х1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833"/>
                </a:solidFill>
                <a:latin typeface="Times New Roman"/>
              </a:rPr>
              <a:t>ОСНОВНЫЕ МОТИВЫ ЛИРИКИ Ф.И. ТЮТЧЕ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743200"/>
            <a:ext cx="7620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833"/>
                </a:solidFill>
                <a:latin typeface="Times New Roman"/>
              </a:rPr>
              <a:t>--  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ПЕЙЗАЖНАЯ ЛИР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d8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-  ЛЮБОВНАЯ ЛИР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d8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- ФИЛОСОФСКАЯ ЛИР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d8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- ПОЛИТИЧЕСКАЯ ЛИР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4328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e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28744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067280" y="692280"/>
            <a:ext cx="3581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едор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48000" y="1989000"/>
            <a:ext cx="4876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ванович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19280" y="3357720"/>
            <a:ext cx="6629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ютчев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410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ЖИЗНЬ И ТВОРЧЕСТВ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89000"/>
            <a:ext cx="4952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Тени сизые смесилис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Цвет поблекнул, звук уснул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Жизнь, движенья разрешили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 сумрак зыбкий, в дальний гул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Мотылька полет незрим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Слышен в воздухе ночном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Час тоски невыразимой!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се во мне и я во всем!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773360"/>
            <a:ext cx="450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Сумрак тихий, сумрак сонны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Лейся в глубь моей душ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Тихий, темный, благовонны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се залей и утиш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Чувства мглой самозабвен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Переполни через край!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Дай вкусить уничтожень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С миром дремлющим смешай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(183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260280"/>
            <a:ext cx="604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Как океан объемлет шар земной,       Земная жизнь кругом объята снам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Настанет ночь – и звучными волна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Стихия бьет о берег свой.                          То глас ее: он нудит нас и просит…        Уж в пристани волшебный ожил челн, Прилив растет и быстро нас уносит           В неизмеримость темных волн.   Небесный свод, горящий славой звездно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Таинственно глядит из глубины, -             И мы плывем, пылающею бездной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Со всех сторон окруже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427640" y="4365720"/>
            <a:ext cx="4248000" cy="2379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533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833"/>
                </a:solidFill>
                <a:latin typeface="Times New Roman"/>
              </a:rPr>
              <a:t>ЦЕЛЬ УРОК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523880"/>
            <a:ext cx="8458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- п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ознакомить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ся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с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жизнью и творчеством поэта;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      - понять, в чем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своеобразие лирики Ф.И. Тютчев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400800" y="-600120"/>
            <a:ext cx="360" cy="72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76800" cy="602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635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2276640"/>
            <a:ext cx="396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Тютчев… создал речи,   которым  не суждено умереть. 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И.Турген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6095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803 - 187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4572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833"/>
                </a:solidFill>
                <a:latin typeface="Times New Roman"/>
              </a:rPr>
              <a:t>ПЛАН ЛЕК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523880"/>
            <a:ext cx="73152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1. Основные этапы жизни и творчества Ф.И. Тютче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2. Своеобразие лирики Тютче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3. Темы и идеи лирик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4. Своеобразие лирики приро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57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b245112" descr=""/>
          <p:cNvPicPr/>
          <p:nvPr/>
        </p:nvPicPr>
        <p:blipFill>
          <a:blip r:embed="rId1"/>
          <a:stretch/>
        </p:blipFill>
        <p:spPr>
          <a:xfrm>
            <a:off x="0" y="304920"/>
            <a:ext cx="313380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00400" y="533520"/>
            <a:ext cx="5715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Ныне все знают, что Тютчев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-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один из первоклас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нейших наших поэтов. Но и  при жизни Тютчева, и долгое время после его кончины это знание, или, вернее, понимание, было уделом очень немногих людей – прежде всего тех, кто  сами являли  собой цвет  русской литературы; истинные ценители тютчевского творчества в Х1Х веке – Пушкин, Некрасов, Фет, Достоевский, Толстой».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В. Кожи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260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d833"/>
                </a:solidFill>
                <a:latin typeface="Times New Roman"/>
              </a:rPr>
              <a:t>ХРОНИКА ЖИЗНИ И ТВОРЧЕ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3413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803 год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5 декабр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1197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Родился Федор Иванович Тютчев в имении Тютчевых – селе Овстуг Орловской губернии</a:t>
            </a:r>
            <a:r>
              <a:rPr b="1" i="1" lang="ru-RU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86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813 –18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19890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Получает домашнее образование под руководством С.Е. Раича, поэта, переводчика.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1819-18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78136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Учеба в университете на словесном отделении.Окончил университет с кандидатской (высшей из возможных) степен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005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1822-18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386064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Живет в Мюнхене, служит в дипломатической миссии в Бава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854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51577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 Петербурге выходит первый сборник Тютчева под руководством Тургенева.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7913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873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27 ию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5950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Похоронен в Петербург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18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45086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В журнале Пушкина  «Современник» напечатано 24 стихотворения Тютчева, подписанные Ф.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3600" cy="563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21120" y="0"/>
            <a:ext cx="4059360" cy="563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55627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Елена Львовна Тютчева, мать поэ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54864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Иван Николаевич Тютчев, отец поэ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07:45:37Z</dcterms:created>
  <dc:creator>Дом</dc:creator>
  <dc:description/>
  <dc:language>en-US</dc:language>
  <cp:lastModifiedBy>1</cp:lastModifiedBy>
  <dcterms:modified xsi:type="dcterms:W3CDTF">2013-02-16T11:09:08Z</dcterms:modified>
  <cp:revision>15</cp:revision>
  <dc:subject/>
  <dc:title>Презентация PowerPoint</dc:title>
</cp:coreProperties>
</file>