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1805D-3B7C-4428-A16D-7B371A81F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1CB65-483E-43D3-915A-5520AE8B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0D0E5-B8D7-45A0-B802-EAF4DE145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2D299-997D-4852-A7E8-7956CEE1D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6F98-F86B-4EC9-9370-67F353712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CFCD-3A0C-4E68-8D8D-5A360653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8C3E-F93B-4E36-9E2A-914CB51F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7FE0-0DE9-4E5F-A892-6C909BDD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6DD2-5993-4758-ABCE-4000C6B5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7075-9759-44EF-AE0F-9BC664BD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AED0-82EC-40C0-8634-32E6B584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26F47-ABB6-4E28-95B4-22C596B5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6199-AB22-4248-BD21-CF6E9C38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10BE-5D0C-4A2C-AB97-5A4BFC93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D8E3-4D7E-419A-A5EF-944CBE99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677C-0A3D-4FD1-9003-B9B1C0BD0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33ED-C4CD-4F5B-96A8-35158B83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0037C-1B86-4728-86F8-02C640EF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2D57C-AE3A-4184-BAD2-C40156CC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8EB4A-B8C5-4DC1-995A-8683D597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2E83A-CBB4-4FD3-AF29-C54154AC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DD40E-902B-4275-9EBA-E15779FD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CBB53-992E-4DDA-8965-7DE21CB6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23F00-EC2A-40A6-824D-EF674AC9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B4DF-C404-49C4-AA9F-0932BB97E3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BCA9-39E6-4450-899E-80FBB7F468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d833"/>
                </a:solidFill>
                <a:latin typeface="Times New Roman"/>
              </a:rPr>
              <a:t>Урок-презентация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3284640"/>
            <a:ext cx="8229600" cy="34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d833"/>
                </a:solidFill>
                <a:latin typeface="Times New Roman"/>
              </a:rPr>
              <a:t>Учитель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d833"/>
                </a:solidFill>
                <a:latin typeface="Times New Roman"/>
              </a:rPr>
              <a:t>Шапова Л.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d833"/>
                </a:solidFill>
                <a:latin typeface="Times New Roman"/>
              </a:rPr>
              <a:t>I</a:t>
            </a:r>
            <a:r>
              <a:rPr b="1" i="1" lang="ru-RU" sz="3200" spc="-1" strike="noStrike">
                <a:solidFill>
                  <a:srgbClr val="ffd833"/>
                </a:solidFill>
                <a:latin typeface="Times New Roman"/>
              </a:rPr>
              <a:t> квалификационной категори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d833"/>
                </a:solidFill>
                <a:latin typeface="Times New Roman"/>
              </a:rPr>
              <a:t>МБОУ СОШ №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d833"/>
                </a:solidFill>
                <a:latin typeface="Times New Roman"/>
              </a:rPr>
              <a:t>г. Березни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014800" y="189000"/>
            <a:ext cx="3819600" cy="4535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3365640" cy="4680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268360" y="551664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d833"/>
                </a:solidFill>
                <a:latin typeface="Garamond"/>
                <a:ea typeface="Arial"/>
              </a:rPr>
              <a:t>Тютчев в детств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4357800" cy="5943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800600" y="685800"/>
            <a:ext cx="43434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</a:rPr>
              <a:t>Тютчев п</a:t>
            </a:r>
            <a:r>
              <a:rPr b="1" i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олуч</a:t>
            </a:r>
            <a:r>
              <a:rPr b="1" i="1" lang="en-US" sz="2400" spc="-1" strike="noStrike">
                <a:solidFill>
                  <a:srgbClr val="ffd833"/>
                </a:solidFill>
                <a:latin typeface="Times New Roman"/>
              </a:rPr>
              <a:t>ил</a:t>
            </a:r>
            <a:r>
              <a:rPr b="1" i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 домашнее образование под руководством С.Е. Раича, поэта, переводчика. «Года через три он был уже не учеником, а товарищем моим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12-летний Тютчев за оду – подражание Горацию «На новый 1816 год» Обществом любителей российской словесности удостоен звания «сотрудника»</a:t>
            </a:r>
            <a:r>
              <a:rPr b="1" i="1" lang="en-US" sz="2400" spc="-1" strike="noStrike">
                <a:solidFill>
                  <a:srgbClr val="ffd8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6248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833"/>
                </a:solidFill>
                <a:latin typeface="Times New Roman"/>
              </a:rPr>
              <a:t>С.Е. Раич, поэт и переводчи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400800" y="-501480"/>
            <a:ext cx="360" cy="70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539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97280" cy="5184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5229360"/>
            <a:ext cx="426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833"/>
                </a:solidFill>
                <a:latin typeface="Times New Roman"/>
              </a:rPr>
              <a:t>Ф.И. Тютчев. Портрет работы неизвестного художн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91120" y="0"/>
            <a:ext cx="4952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d833"/>
                </a:solidFill>
                <a:latin typeface="Times New Roman"/>
              </a:rPr>
              <a:t>Вы помните его в кругу друзей? 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</a:rPr>
              <a:t>      Как мысли сыпались нежданные, живые,            Как забывали мы под звук его речей 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</a:rPr>
              <a:t>                              И вечер длившийся, и годы прожитые!                          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</a:rPr>
              <a:t>А.Н. Апухтин «Памяти 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</a:rPr>
              <a:t>Тютчев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48320" y="4572000"/>
            <a:ext cx="449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833"/>
                </a:solidFill>
                <a:latin typeface="Times New Roman"/>
              </a:rPr>
              <a:t>«Его ум сверкал иронией, душа его ныла» </a:t>
            </a:r>
            <a:r>
              <a:rPr b="1" lang="en-US" sz="28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d833"/>
                </a:solidFill>
                <a:latin typeface="Times New Roman"/>
              </a:rPr>
              <a:t>И.С. Аксак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38148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1009872962_tonnel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3341880" cy="43326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635280" y="404640"/>
            <a:ext cx="518184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Впечатление неизмеримой духовной силы получали все, кто общался с ним близко.</a:t>
            </a:r>
            <a:r>
              <a:rPr b="1" i="1" lang="en-US" sz="28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«Человек необыкновенно гениальный», - </a:t>
            </a:r>
            <a:r>
              <a:rPr b="1" lang="en-US" sz="28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писал о нем Жуковский</a:t>
            </a:r>
            <a:r>
              <a:rPr b="1" i="1" lang="en-US" sz="28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«Самое воздушное воплощение поэта, каким его рисует себе романтизм», - </a:t>
            </a:r>
            <a:r>
              <a:rPr b="1" lang="en-US" sz="28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отзывался о Тютчеве Фет.</a:t>
            </a:r>
            <a:r>
              <a:rPr b="1" i="1" lang="en-US" sz="28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«Милый, умный, как день , умный», - </a:t>
            </a:r>
            <a:r>
              <a:rPr b="1" lang="en-US" sz="28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восторгался Тургене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5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0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400800" y="-565200"/>
            <a:ext cx="360" cy="71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3929040" cy="53341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6600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195880" y="0"/>
            <a:ext cx="3948120" cy="53341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5410080"/>
            <a:ext cx="4191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d833"/>
                </a:solidFill>
                <a:latin typeface="Times New Roman"/>
              </a:rPr>
              <a:t>Элеонора Тютчева (Петерсон), первая жена поэ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5334120"/>
            <a:ext cx="41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d833"/>
                </a:solidFill>
                <a:latin typeface="Times New Roman"/>
              </a:rPr>
              <a:t>Эрнестина</a:t>
            </a: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d833"/>
                </a:solidFill>
                <a:latin typeface="Times New Roman"/>
              </a:rPr>
              <a:t>Тютчева</a:t>
            </a: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d833"/>
                </a:solidFill>
                <a:latin typeface="Times New Roman"/>
              </a:rPr>
              <a:t>(Дернберг),</a:t>
            </a: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d833"/>
                </a:solidFill>
                <a:latin typeface="Times New Roman"/>
              </a:rPr>
              <a:t>вторая</a:t>
            </a: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d833"/>
                </a:solidFill>
                <a:latin typeface="Times New Roman"/>
              </a:rPr>
              <a:t>жена</a:t>
            </a: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d833"/>
                </a:solidFill>
                <a:latin typeface="Times New Roman"/>
              </a:rPr>
              <a:t>поэ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00400" cy="39625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400800" y="92160"/>
            <a:ext cx="36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040440" y="0"/>
            <a:ext cx="3103560" cy="39625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0" y="5943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2987640" y="1700280"/>
            <a:ext cx="3049560" cy="39621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340000" y="595008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d833"/>
                </a:solidFill>
                <a:latin typeface="Garamond"/>
                <a:ea typeface="Arial"/>
              </a:rPr>
              <a:t>Дочери поэ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124160" cy="5505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5800" y="60199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d833"/>
                </a:solidFill>
                <a:latin typeface="Times New Roman"/>
              </a:rPr>
              <a:t>А.М. Крюдене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4280" y="914400"/>
            <a:ext cx="4114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d833"/>
                </a:solidFill>
                <a:latin typeface="Times New Roman"/>
              </a:rPr>
              <a:t>Я встретил вас – и все былое </a:t>
            </a:r>
            <a:r>
              <a:rPr b="1" i="1" lang="en-US" sz="32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d833"/>
                </a:solidFill>
                <a:latin typeface="Times New Roman"/>
              </a:rPr>
              <a:t> В отжившем сердце ожило;                       Я    вспомнил время золотое –                   И сердцу стало так тепл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2896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12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828960" cy="57913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343400" y="2602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d833"/>
                </a:solidFill>
                <a:latin typeface="Times New Roman"/>
              </a:rPr>
              <a:t>Высказывания о поэт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56000" y="1197000"/>
            <a:ext cx="4496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833"/>
                </a:solidFill>
                <a:latin typeface="Times New Roman"/>
              </a:rPr>
              <a:t>«Каждое из его стихотворений – солнце, то есть самобытный, светящийся мир».</a:t>
            </a:r>
            <a:r>
              <a:rPr b="1" lang="en-US" sz="28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d8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d833"/>
                </a:solidFill>
                <a:latin typeface="Times New Roman"/>
              </a:rPr>
              <a:t>А.А. Фе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3933720"/>
            <a:ext cx="4724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d833"/>
                </a:solidFill>
                <a:latin typeface="Times New Roman"/>
              </a:rPr>
              <a:t>«Тютчев написал мало. Тютчев сказал много. Тютчев обращается к каждому в отдельности».   </a:t>
            </a:r>
            <a:r>
              <a:rPr b="1" i="1" lang="en-US" sz="28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d833"/>
                </a:solidFill>
                <a:latin typeface="Times New Roman"/>
              </a:rPr>
              <a:t>Л. А. Озер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4360" y="18900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833"/>
                </a:solidFill>
                <a:latin typeface="Times New Roman"/>
              </a:rPr>
              <a:t>ПРОВЕРКА ЗНА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1280" y="765000"/>
            <a:ext cx="807696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d8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d833"/>
                </a:solidFill>
                <a:latin typeface="Times New Roman"/>
              </a:rPr>
              <a:t>Когда и где родился Ф.И. Тютчев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d833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d833"/>
                </a:solidFill>
                <a:latin typeface="Times New Roman"/>
              </a:rPr>
              <a:t>В каком возрасте и почему покинул Тютчев Россию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d833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d833"/>
                </a:solidFill>
                <a:latin typeface="Times New Roman"/>
              </a:rPr>
              <a:t>Когда он вернулся на родину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d833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d833"/>
                </a:solidFill>
                <a:latin typeface="Times New Roman"/>
              </a:rPr>
              <a:t>Когда в России впервые была опубликована подборка стихов поэта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d833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d833"/>
                </a:solidFill>
                <a:latin typeface="Times New Roman"/>
              </a:rPr>
              <a:t>Когда вышел первый сборник поэта? Сколько ему тогда было лет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d833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d833"/>
                </a:solidFill>
                <a:latin typeface="Times New Roman"/>
              </a:rPr>
              <a:t>Почему лирика Тютчева оказалась более созвучна ХХ веку, чем Х1Х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4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9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4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9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4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9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990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833"/>
                </a:solidFill>
                <a:latin typeface="Times New Roman"/>
              </a:rPr>
              <a:t>ОСНОВНЫЕ МОТИВЫ ЛИРИКИ Ф.И. ТЮТЧЕВ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2743200"/>
            <a:ext cx="76201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833"/>
                </a:solidFill>
                <a:latin typeface="Times New Roman"/>
              </a:rPr>
              <a:t>--  </a:t>
            </a:r>
            <a:r>
              <a:rPr b="1" i="1" lang="en-US" sz="3200" spc="-1" strike="noStrike">
                <a:solidFill>
                  <a:srgbClr val="ffd833"/>
                </a:solidFill>
                <a:latin typeface="Times New Roman"/>
              </a:rPr>
              <a:t>ПЕЙЗАЖНАЯ ЛИРИ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d8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d833"/>
                </a:solidFill>
                <a:latin typeface="Times New Roman"/>
              </a:rPr>
              <a:t>-  ЛЮБОВНАЯ ЛИРИ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d8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d833"/>
                </a:solidFill>
                <a:latin typeface="Times New Roman"/>
              </a:rPr>
              <a:t>- ФИЛОСОФСКАЯ ЛИРИ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d8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d833"/>
                </a:solidFill>
                <a:latin typeface="Times New Roman"/>
              </a:rPr>
              <a:t>- ПОЛИТИЧЕСКАЯ ЛИРИ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6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1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6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84328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e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2287440" cy="2514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067280" y="692280"/>
            <a:ext cx="35812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федор</a:t>
            </a:r>
            <a:endParaRPr b="1" i="1" lang="en-US" sz="2400" spc="1" strike="noStrike">
              <a:ln w="9360">
                <a:solidFill>
                  <a:srgbClr val="a50021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348000" y="1989000"/>
            <a:ext cx="4876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иванович</a:t>
            </a:r>
            <a:endParaRPr b="1" i="1" lang="en-US" sz="2400" spc="1" strike="noStrike">
              <a:ln w="9360">
                <a:solidFill>
                  <a:srgbClr val="a50021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19280" y="3357720"/>
            <a:ext cx="66294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тютчев</a:t>
            </a:r>
            <a:endParaRPr b="1" i="1" lang="en-US" sz="2400" spc="1" strike="noStrike">
              <a:ln w="9360">
                <a:solidFill>
                  <a:srgbClr val="a50021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54100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d833"/>
                </a:solidFill>
                <a:latin typeface="Times New Roman"/>
              </a:rPr>
              <a:t>ЖИЗНЬ И ТВОРЧЕСТВ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189000"/>
            <a:ext cx="4952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Тени сизые смесились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Цвет поблекнул, звук уснул 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Жизнь, движенья разрешилис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В сумрак зыбкий, в дальний гул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Мотылька полет незрим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Слышен в воздухе ночном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Час тоски невыразимой!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Все во мне и я во всем!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43280" y="1773360"/>
            <a:ext cx="4500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Сумрак тихий, сумрак сонный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Лейся в глубь моей душ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Тихий, темный, благовонный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Все залей и утиш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Чувства мглой самозабвень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Переполни через край!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Дай вкусить уничтоженья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С миром дремлющим смешай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(183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0920" y="260280"/>
            <a:ext cx="6049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</a:rPr>
              <a:t>Как океан объемлет шар земной,       Земная жизнь кругом объята снами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</a:rPr>
              <a:t>Настанет ночь – и звучными волнам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</a:rPr>
              <a:t>Стихия бьет о берег свой.                          То глас ее: он нудит нас и просит…        Уж в пристани волшебный ожил челн, Прилив растет и быстро нас уносит           В неизмеримость темных волн.   Небесный свод, горящий славой звездной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</a:rPr>
              <a:t>Таинственно глядит из глубины, -             И мы плывем, пылающею бездной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d833"/>
                </a:solidFill>
                <a:latin typeface="Times New Roman"/>
              </a:rPr>
              <a:t>Со всех сторон окруже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427640" y="4365720"/>
            <a:ext cx="4248000" cy="23796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5335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833"/>
                </a:solidFill>
                <a:latin typeface="Times New Roman"/>
              </a:rPr>
              <a:t>ЦЕЛЬ УРОКА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523880"/>
            <a:ext cx="84582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d833"/>
                </a:solidFill>
                <a:latin typeface="Times New Roman"/>
              </a:rPr>
              <a:t>- п</a:t>
            </a:r>
            <a:r>
              <a:rPr b="1" i="1" lang="en-US" sz="40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ознакомить</a:t>
            </a:r>
            <a:r>
              <a:rPr b="1" i="1" lang="en-US" sz="4000" spc="-1" strike="noStrike">
                <a:solidFill>
                  <a:srgbClr val="ffd833"/>
                </a:solidFill>
                <a:latin typeface="Times New Roman"/>
              </a:rPr>
              <a:t>ся </a:t>
            </a:r>
            <a:r>
              <a:rPr b="1" i="1" lang="en-US" sz="40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ffd833"/>
                </a:solidFill>
                <a:latin typeface="Times New Roman"/>
              </a:rPr>
              <a:t>с </a:t>
            </a:r>
            <a:r>
              <a:rPr b="1" i="1" lang="en-US" sz="40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 жизнью и творчеством поэта;</a:t>
            </a:r>
            <a:r>
              <a:rPr b="1" i="1" lang="en-US" sz="40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i="1" lang="en-US" sz="40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i="1" lang="en-US" sz="40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i="1" lang="en-US" sz="40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ffd833"/>
                </a:solidFill>
                <a:latin typeface="Times New Roman"/>
              </a:rPr>
              <a:t>      - понять, в чем </a:t>
            </a:r>
            <a:r>
              <a:rPr b="1" i="1" lang="en-US" sz="40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своеобразие лирики Ф.И. Тютчева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400800" y="-600120"/>
            <a:ext cx="360" cy="72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276800" cy="6029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6635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88000" y="2276640"/>
            <a:ext cx="3962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d833"/>
                </a:solidFill>
                <a:latin typeface="Times New Roman"/>
              </a:rPr>
              <a:t>Тютчев… создал речи,   которым  не суждено умереть. </a:t>
            </a:r>
            <a:r>
              <a:rPr b="1" i="1" lang="en-US" sz="32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d833"/>
                </a:solidFill>
                <a:latin typeface="Times New Roman"/>
              </a:rPr>
              <a:t>И.Тургене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609588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803 - 187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09480" y="45720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833"/>
                </a:solidFill>
                <a:latin typeface="Times New Roman"/>
              </a:rPr>
              <a:t>ПЛАН ЛЕКЦИ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1523880"/>
            <a:ext cx="73152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d833"/>
                </a:solidFill>
                <a:latin typeface="Times New Roman"/>
              </a:rPr>
              <a:t>1. Основные этапы жизни и творчества Ф.И. Тютчев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d833"/>
                </a:solidFill>
                <a:latin typeface="Times New Roman"/>
              </a:rPr>
              <a:t>2. Своеобразие лирики Тютчев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d833"/>
                </a:solidFill>
                <a:latin typeface="Times New Roman"/>
              </a:rPr>
              <a:t>3. Темы и идеи лирик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d833"/>
                </a:solidFill>
                <a:latin typeface="Times New Roman"/>
              </a:rPr>
              <a:t>4. Своеобразие лирики природы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57760" y="24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b245112" descr=""/>
          <p:cNvPicPr/>
          <p:nvPr/>
        </p:nvPicPr>
        <p:blipFill>
          <a:blip r:embed="rId1"/>
          <a:stretch/>
        </p:blipFill>
        <p:spPr>
          <a:xfrm>
            <a:off x="0" y="304920"/>
            <a:ext cx="3133800" cy="4114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200400" y="533520"/>
            <a:ext cx="5715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«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Ныне все знают, что Тютчев 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</a:rPr>
              <a:t>-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один из первоклас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</a:rPr>
              <a:t>с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нейших наших поэтов. Но и  при жизни Тютчева, и долгое время после его кончины это знание, или, вернее, понимание, было уделом очень немногих людей – прежде всего тех, кто  сами являли  собой цвет  русской литературы; истинные ценители тютчевского творчества в Х1Х веке – Пушкин, Некрасов, Фет, Достоевский, Толстой».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ffd833"/>
                </a:solidFill>
                <a:latin typeface="Times New Roman"/>
              </a:rPr>
              <a:t>В. Кожин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11280" y="2602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d833"/>
                </a:solidFill>
                <a:latin typeface="Times New Roman"/>
              </a:rPr>
              <a:t>ХРОНИКА ЖИЗНИ И ТВОРЧЕСТВ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134136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1803 год</a:t>
            </a:r>
            <a:r>
              <a:rPr b="1" lang="en-US" sz="24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d833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5 декабр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24000" y="1197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Родился Федор Иванович Тютчев в имении Тютчевых – селе Овстуг Орловской губернии</a:t>
            </a:r>
            <a:r>
              <a:rPr b="1" i="1" lang="ru-RU" sz="2400" spc="-1" strike="noStrike">
                <a:solidFill>
                  <a:srgbClr val="ffd8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2860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1813 –181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198900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Получает домашнее образование под руководством С.Е. Раича, поэта, переводчика.</a:t>
            </a:r>
            <a:r>
              <a:rPr b="1" i="1" lang="en-US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048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833"/>
                </a:solidFill>
                <a:latin typeface="Times New Roman"/>
              </a:rPr>
              <a:t>1819-182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78136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</a:rPr>
              <a:t>Учеба в университете на словесном отделении.Окончил университет с кандидатской (высшей из возможных) степень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00536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833"/>
                </a:solidFill>
                <a:latin typeface="Times New Roman"/>
              </a:rPr>
              <a:t>1822-184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50920" y="386064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</a:rPr>
              <a:t>Живет в Мюнхене, служит в дипломатической миссии в Бавар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257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1854</a:t>
            </a:r>
            <a:r>
              <a:rPr b="1" lang="en-US" sz="2400" spc="-1" strike="noStrike">
                <a:solidFill>
                  <a:srgbClr val="ffd8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08000" y="515772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В Петербурге выходит первый сборник Тютчева под руководством Тургенева.</a:t>
            </a:r>
            <a:r>
              <a:rPr b="1" i="1" lang="en-US" sz="2400" spc="-1" strike="noStrike">
                <a:solidFill>
                  <a:srgbClr val="ffd8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579132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1873</a:t>
            </a:r>
            <a:r>
              <a:rPr b="1" lang="en-US" sz="2400" spc="-1" strike="noStrike">
                <a:solidFill>
                  <a:srgbClr val="ffd833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d8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d833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d833"/>
                </a:solidFill>
                <a:latin typeface="Times New Roman"/>
                <a:ea typeface="Times New Roman"/>
              </a:rPr>
              <a:t>27 июл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08000" y="59500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</a:rPr>
              <a:t>Похоронен в Петербург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648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833"/>
                </a:solidFill>
                <a:latin typeface="Times New Roman"/>
              </a:rPr>
              <a:t>18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450864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d833"/>
                </a:solidFill>
                <a:latin typeface="Times New Roman"/>
              </a:rPr>
              <a:t>В журнале Пушкина  «Современник» напечатано 24 стихотворения Тютчева, подписанные Ф.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5438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3600" cy="5638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821120" y="0"/>
            <a:ext cx="4059360" cy="56386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4920" y="5562720"/>
            <a:ext cx="42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d833"/>
                </a:solidFill>
                <a:latin typeface="Times New Roman"/>
              </a:rPr>
              <a:t>Елена Львовна Тютчева, мать поэ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76920" y="5486400"/>
            <a:ext cx="42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d833"/>
                </a:solidFill>
                <a:latin typeface="Times New Roman"/>
              </a:rPr>
              <a:t>Иван Николаевич Тютчев, отец поэ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07:45:37Z</dcterms:created>
  <dc:creator>Дом</dc:creator>
  <dc:description/>
  <dc:language>en-US</dc:language>
  <cp:lastModifiedBy>1</cp:lastModifiedBy>
  <dcterms:modified xsi:type="dcterms:W3CDTF">2013-02-16T11:09:08Z</dcterms:modified>
  <cp:revision>15</cp:revision>
  <dc:subject/>
  <dc:title>Презентация PowerPoint</dc:title>
</cp:coreProperties>
</file>