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779-6C00-4000-BC33-1A8034BC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A0F-9C10-4E0D-9595-C157FE4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BBA-CC10-4762-9D94-543CA695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4EB-DD28-4E1F-9537-6C133378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8E8D-D777-4C5C-8286-173D51E4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3C8-74DF-44DE-97E5-4FF6021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08D1-F00B-454A-93ED-53538A95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B609-A2F0-4592-A7C3-58165AC0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4AA0-A624-4C5D-9A24-070936E1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5F99-92C7-474F-890A-428806C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70E-73D5-4499-BC30-46A451D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05F-B605-4DFB-89DC-B0D3532B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3A60-5DB6-4C5D-9F9B-C0EC3B9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0CA1-205E-41AE-85A4-746A5EA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3BF7-EA24-4D4A-8BE0-F6E37F90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A86D-7544-4FE5-B8F3-094531A8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39CF-EE43-434C-82D4-7CA6C18C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5FE-0003-46F5-A9BF-A6849845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D57-8FC4-41A5-82D9-FE0807E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829-5D86-4E78-967A-4C9BD58C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97D-13EB-4156-9D6B-1F80DAF7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333-1C58-4480-9E6B-08868CB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F91-582C-44D7-9B21-F9948CC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A51-4F96-4BAA-98EF-788A023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2A1-9324-4CDB-805A-8CFC75856A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0C8-39F3-4003-9375-97A09667199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Ну-ка, расскажи дружок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Ты готов начать уро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ё ль на месте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ё ль в порядк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Ручка, книжка и тетрад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е ли правильно сидя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Все ль внимательно глядя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Каждый хочет получат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Только лишь оценк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«пять»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5659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808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9) Найдите четвёртую часть числа 60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5659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3808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10) Найдите число, если его пятая часть равна 1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520" y="7621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, 2, 3, 4, 6, 9, 12, 18, 3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) 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7 и 8, 4 и 14, 28 и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9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2, 24, 36, 4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0) </a:t>
            </a: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28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«5» - всё выполнено без ошибок, есть 1 исправл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«4» - допущена 1 или 2 ошибки, есть 1 или 2 исправл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«3» - допущено 3 или 4 ошибки, есть исправл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2» – допущено 5 или больше ошиб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25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Скорей обо всё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рассказа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257560" cy="205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Users\Светлана Викторовна\AppData\Local\Microsoft\Windows\Temporary Internet Files\Content.IE5\E93304AY\MC900343403[1].wmf"/>
          <p:cNvPicPr/>
          <p:nvPr/>
        </p:nvPicPr>
        <p:blipFill>
          <a:blip r:embed="rId2"/>
          <a:stretch/>
        </p:blipFill>
        <p:spPr>
          <a:xfrm>
            <a:off x="6629400" y="4419720"/>
            <a:ext cx="25146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Устный счёт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324480" y="3429000"/>
            <a:ext cx="2667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837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5335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</a:rPr>
              <a:t>1) Напишите числа, на которые делится число 3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-3837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2) Запишите число, которое больше 7         в 6 раз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5356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4572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3) Увеличьте      6 на 3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4) Увеличьте      6 в 3 раза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</a:rPr>
              <a:t>5) Запишите множители, если произведение 5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456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7030a0"/>
                </a:solidFill>
                <a:latin typeface="Comic Sans MS"/>
              </a:rPr>
              <a:t>6) Число 3 меньше задуманного числа в 6 раз.         Чему равно задуманное  число?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45684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omic Sans MS"/>
              </a:rPr>
              <a:t>7) Сколько получится, если 9 умножить на 1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45684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mic Sans MS"/>
              </a:rPr>
              <a:t>8) Запишите все двузначные числа, в которых число десятков в 2 раза меньше числа единиц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ветлана Викторовна</cp:lastModifiedBy>
  <dcterms:modified xsi:type="dcterms:W3CDTF">2013-03-13T13:39:57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