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D42-8F56-4C76-AA70-1A823994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EC4-2749-40B3-BD38-3366C8E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29F-1B04-4727-9F99-2853EC1F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750-7FEF-4A3C-A3FE-EA28DA69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1359-FD45-4368-BF64-2EAF3409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2C2-1046-4EE9-BF5C-B2DBDBE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94E4-552E-4D24-9164-DFFD8589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0669-6DD6-4053-A08D-D1C423B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5408-64CE-4048-A9BC-171A9CB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E176-F9D6-4686-A048-8372EEB5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1E78-F3D0-4643-8430-E40A46E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544-D219-4B77-99AF-CF9BCC30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1EC-AF81-4287-A772-0DD3E19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5ED8-BFBA-4727-9B9A-37B34FF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D21-9E4D-4066-929D-7337A85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A64D-D92D-40F4-AF45-EE5E5882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024-AD57-4C65-BF3A-CA261E7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990-2368-43BF-BBF7-5C3A5265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24E-778F-44AA-BB03-B12C42F4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063-5478-401C-8C24-070CD3E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0FE-7E20-4478-BF36-3A74212B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00E-6377-413C-B3E4-F01033A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0CC-11A3-4696-AD73-58A9853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4B8-5CE0-4B27-B87B-921F40A2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8369-B3B9-4F69-A833-0BA2CBB736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87A7-AAF2-4F70-872C-0143745938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Ну-ка, расскажи дружок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Ты готов начать уро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ё ль на месте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ё ль в порядк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Ручка, книжка и тетрад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е ли правильно сидя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е ль внимательно глядя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Каждый хочет получа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Только лишь оценк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«пять»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5659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808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9) Найдите четвёртую часть числа 60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5659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3808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10) Найдите число, если его пятая часть равна 1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520" y="7621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, 2, 3, 4, 6, 9, 12, 18, 3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) 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7 и 8, 4 и 14, 28 и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2, 24, 36, 4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0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28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«5» - всё выполнено без ошибок, есть 1 исправл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«4» - допущена 1 или 2 ошибки, есть 1 или 2 исправл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«3» - допущено 3 или 4 ошибки, есть исправл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2» – допущено 5 или больше ошиб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25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Скорей обо всё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рассказа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57560" cy="205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Светлана Викторовна\AppData\Local\Microsoft\Windows\Temporary Internet Files\Content.IE5\E93304AY\MC900343403[1].wmf"/>
          <p:cNvPicPr/>
          <p:nvPr/>
        </p:nvPicPr>
        <p:blipFill>
          <a:blip r:embed="rId2"/>
          <a:stretch/>
        </p:blipFill>
        <p:spPr>
          <a:xfrm>
            <a:off x="6629400" y="4419720"/>
            <a:ext cx="25146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Устный счёт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324480" y="3429000"/>
            <a:ext cx="2667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837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5335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</a:rPr>
              <a:t>1) Напишите числа, на которые делится число 3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-3837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2) Запишите число, которое больше 7         в 6 раз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5356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4572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3) Увеличьте      6 на 3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4) Увеличьте      6 в 3 раза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</a:rPr>
              <a:t>5) Запишите множители, если произведение 5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456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7030a0"/>
                </a:solidFill>
                <a:latin typeface="Comic Sans MS"/>
              </a:rPr>
              <a:t>6) Число 3 меньше задуманного числа в 6 раз.         Чему равно задуманное  число?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45684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7) Сколько получится, если 9 умножить на 1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45684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mic Sans MS"/>
              </a:rPr>
              <a:t>8) Запишите все двузначные числа, в которых число десятков в 2 раза меньше числа единиц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ветлана Викторовна</cp:lastModifiedBy>
  <dcterms:modified xsi:type="dcterms:W3CDTF">2013-03-13T13:39:57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