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448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8532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2400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0448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8532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24000" y="297000"/>
            <a:ext cx="76327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d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da2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0.png"/><Relationship Id="rId2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dobetutorialz.com/articles/2909/1/We-wish-you-a-Merry-Christmas-illustration" TargetMode="External"/><Relationship Id="rId3" Type="http://schemas.openxmlformats.org/officeDocument/2006/relationships/hyperlink" Target="http://pedsovet.su/" TargetMode="External"/><Relationship Id="rId4" Type="http://schemas.openxmlformats.org/officeDocument/2006/relationships/hyperlink" Target="http://pedsovet.su/load/244-1-0-2616" TargetMode="External"/><Relationship Id="rId5" Type="http://schemas.openxmlformats.org/officeDocument/2006/relationships/hyperlink" Target="http://kotofot.ru/gdefon/kotofots/full/203373-kotofotsfull-" TargetMode="External"/><Relationship Id="rId6" Type="http://schemas.openxmlformats.org/officeDocument/2006/relationships/hyperlink" Target="http://yushi.beon.ru/" TargetMode="External"/><Relationship Id="rId7" Type="http://schemas.openxmlformats.org/officeDocument/2006/relationships/hyperlink" Target="http://www.featurepics.com/online/Old-Oak-Tree-Winter-Pics352264.aspx" TargetMode="External"/><Relationship Id="rId8" Type="http://schemas.openxmlformats.org/officeDocument/2006/relationships/hyperlink" Target="http://foto.setru.ru/?img=7033" TargetMode="External"/><Relationship Id="rId9" Type="http://schemas.openxmlformats.org/officeDocument/2006/relationships/hyperlink" Target="http://clubs.ya.ru/4611686018427402286/replies.xml?item_no=105929" TargetMode="External"/><Relationship Id="rId10" Type="http://schemas.openxmlformats.org/officeDocument/2006/relationships/hyperlink" Target="http://fotki.yandex.ru/users/kgv008952/tags/&#1089;&#1085;&#1077;&#1075;" TargetMode="External"/><Relationship Id="rId11" Type="http://schemas.openxmlformats.org/officeDocument/2006/relationships/hyperlink" Target="http://fotki.yandex.ru/users/sayanusd/view/134136/" TargetMode="External"/><Relationship Id="rId12" Type="http://schemas.openxmlformats.org/officeDocument/2006/relationships/hyperlink" Target="http://samlib.ru/c/chuksin_n_j/25_winter_3.shtml" TargetMode="External"/><Relationship Id="rId13" Type="http://schemas.openxmlformats.org/officeDocument/2006/relationships/hyperlink" Target="http://petrelius1150.narod.ru/cold-night2008/cold-night2008.htm" TargetMode="External"/><Relationship Id="rId14" Type="http://schemas.openxmlformats.org/officeDocument/2006/relationships/hyperlink" Target="http://nature.baikal.ru/phs/ph.shtml?id=1145&amp;ref=tunki/art&amp;rg=tunki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0" y="692280"/>
            <a:ext cx="763272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da2"/>
                </a:solidFill>
                <a:latin typeface="Arial"/>
              </a:rPr>
              <a:t>Окружающий мир</a:t>
            </a:r>
            <a:br>
              <a:rPr sz="4800"/>
            </a:br>
            <a:r>
              <a:rPr b="0" lang="en-US" sz="4800" spc="-1" strike="noStrike">
                <a:solidFill>
                  <a:srgbClr val="005da2"/>
                </a:solidFill>
                <a:latin typeface="Arial"/>
              </a:rPr>
              <a:t>3 класс</a:t>
            </a:r>
            <a:br>
              <a:rPr sz="4800"/>
            </a:br>
            <a:r>
              <a:rPr b="0" lang="en-US" sz="4800" spc="-1" strike="noStrike">
                <a:solidFill>
                  <a:srgbClr val="005da2"/>
                </a:solidFill>
                <a:latin typeface="Arial"/>
              </a:rPr>
              <a:t>УМК «Гармония»</a:t>
            </a:r>
            <a:endParaRPr b="0" lang="en-US" sz="48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0" y="3499920"/>
            <a:ext cx="4716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da2"/>
                </a:solidFill>
                <a:latin typeface="Arial"/>
              </a:rPr>
              <a:t>Пересыпкина Татьяна Николаевна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da2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da2"/>
                </a:solidFill>
                <a:latin typeface="Arial"/>
              </a:rPr>
              <a:t>МБОУ «Дедовичская средняя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da2"/>
                </a:solidFill>
                <a:latin typeface="Arial"/>
              </a:rPr>
              <a:t>общеобразовательная школа № 2» 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08000" y="297000"/>
            <a:ext cx="7489800" cy="5292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532720" y="6345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8784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 rot="1261200">
            <a:off x="5363640" y="3357360"/>
            <a:ext cx="1059120" cy="1253880"/>
          </a:xfrm>
          <a:custGeom>
            <a:avLst/>
            <a:gdLst>
              <a:gd name="textAreaLeft" fmla="*/ 0 w 1059120"/>
              <a:gd name="textAreaRight" fmla="*/ 878400 w 1059120"/>
              <a:gd name="textAreaTop" fmla="*/ 969480 h 1253880"/>
              <a:gd name="textAreaBottom" fmla="*/ 1040040 h 1253880"/>
            </a:gdLst>
            <a:ahLst/>
            <a:rect l="textAreaLeft" t="textAreaTop" r="textAreaRight" b="textAreaBottom"/>
            <a:pathLst>
              <a:path w="21600" h="21600">
                <a:moveTo>
                  <a:pt x="0" y="17306"/>
                </a:moveTo>
                <a:lnTo>
                  <a:pt x="0" y="13012"/>
                </a:lnTo>
                <a:lnTo>
                  <a:pt x="0" y="16700"/>
                </a:lnTo>
                <a:lnTo>
                  <a:pt x="16700" y="16700"/>
                </a:lnTo>
                <a:lnTo>
                  <a:pt x="16700" y="0"/>
                </a:lnTo>
                <a:lnTo>
                  <a:pt x="13012" y="0"/>
                </a:lnTo>
                <a:lnTo>
                  <a:pt x="17306" y="0"/>
                </a:lnTo>
                <a:lnTo>
                  <a:pt x="21600" y="0"/>
                </a:lnTo>
                <a:lnTo>
                  <a:pt x="17912" y="0"/>
                </a:lnTo>
                <a:lnTo>
                  <a:pt x="17912" y="17912"/>
                </a:lnTo>
                <a:lnTo>
                  <a:pt x="0" y="17912"/>
                </a:lnTo>
                <a:lnTo>
                  <a:pt x="0" y="21600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 rot="2333400">
            <a:off x="2050200" y="3141720"/>
            <a:ext cx="1173240" cy="1338120"/>
          </a:xfrm>
          <a:custGeom>
            <a:avLst/>
            <a:gdLst>
              <a:gd name="textAreaLeft" fmla="*/ 0 w 1173240"/>
              <a:gd name="textAreaRight" fmla="*/ 973080 w 1173240"/>
              <a:gd name="textAreaTop" fmla="*/ 1034640 h 1338120"/>
              <a:gd name="textAreaBottom" fmla="*/ 1109880 h 1338120"/>
            </a:gdLst>
            <a:ahLst/>
            <a:rect l="textAreaLeft" t="textAreaTop" r="textAreaRight" b="textAreaBottom"/>
            <a:pathLst>
              <a:path w="21600" h="21600">
                <a:moveTo>
                  <a:pt x="0" y="17306"/>
                </a:moveTo>
                <a:lnTo>
                  <a:pt x="0" y="13012"/>
                </a:lnTo>
                <a:lnTo>
                  <a:pt x="0" y="16700"/>
                </a:lnTo>
                <a:lnTo>
                  <a:pt x="16700" y="16700"/>
                </a:lnTo>
                <a:lnTo>
                  <a:pt x="16700" y="0"/>
                </a:lnTo>
                <a:lnTo>
                  <a:pt x="13012" y="0"/>
                </a:lnTo>
                <a:lnTo>
                  <a:pt x="17306" y="0"/>
                </a:lnTo>
                <a:lnTo>
                  <a:pt x="21600" y="0"/>
                </a:lnTo>
                <a:lnTo>
                  <a:pt x="17912" y="0"/>
                </a:lnTo>
                <a:lnTo>
                  <a:pt x="17912" y="17912"/>
                </a:lnTo>
                <a:lnTo>
                  <a:pt x="0" y="17912"/>
                </a:lnTo>
                <a:lnTo>
                  <a:pt x="0" y="21600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87640" y="3284640"/>
            <a:ext cx="2736720" cy="2160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360" y="2060640"/>
            <a:ext cx="1727280" cy="1368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179280" y="5516640"/>
            <a:ext cx="1041480" cy="1197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179280" y="3933720"/>
            <a:ext cx="793800" cy="912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>
            <a:lum bright="72000"/>
          </a:blip>
          <a:stretch/>
        </p:blipFill>
        <p:spPr>
          <a:xfrm>
            <a:off x="179280" y="17002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>
            <a:lum bright="72000"/>
          </a:blip>
          <a:stretch/>
        </p:blipFill>
        <p:spPr>
          <a:xfrm>
            <a:off x="179280" y="189000"/>
            <a:ext cx="755640" cy="86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>
            <a:lum bright="72000"/>
          </a:blip>
          <a:stretch/>
        </p:blipFill>
        <p:spPr>
          <a:xfrm>
            <a:off x="1979640" y="189000"/>
            <a:ext cx="1103400" cy="1268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>
            <a:lum bright="72000"/>
          </a:blip>
          <a:stretch/>
        </p:blipFill>
        <p:spPr>
          <a:xfrm>
            <a:off x="4140360" y="189000"/>
            <a:ext cx="814320" cy="936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>
            <a:lum bright="72000"/>
          </a:blip>
          <a:stretch/>
        </p:blipFill>
        <p:spPr>
          <a:xfrm>
            <a:off x="5940360" y="189000"/>
            <a:ext cx="1103400" cy="126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>
            <a:lum bright="72000"/>
          </a:blip>
          <a:stretch/>
        </p:blipFill>
        <p:spPr>
          <a:xfrm>
            <a:off x="8244000" y="1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>
            <a:lum bright="72000"/>
          </a:blip>
          <a:stretch/>
        </p:blipFill>
        <p:spPr>
          <a:xfrm>
            <a:off x="7885080" y="177336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>
            <a:lum bright="72000"/>
          </a:blip>
          <a:stretch/>
        </p:blipFill>
        <p:spPr>
          <a:xfrm>
            <a:off x="8172360" y="3933720"/>
            <a:ext cx="79380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2">
            <a:lum bright="72000"/>
          </a:blip>
          <a:stretch/>
        </p:blipFill>
        <p:spPr>
          <a:xfrm>
            <a:off x="7885080" y="544500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3">
            <a:lum bright="72000"/>
          </a:blip>
          <a:stretch/>
        </p:blipFill>
        <p:spPr>
          <a:xfrm>
            <a:off x="6227640" y="5734080"/>
            <a:ext cx="790560" cy="907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4">
            <a:lum bright="72000"/>
          </a:blip>
          <a:stretch/>
        </p:blipFill>
        <p:spPr>
          <a:xfrm>
            <a:off x="4211640" y="544500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5">
            <a:lum bright="72000"/>
          </a:blip>
          <a:stretch/>
        </p:blipFill>
        <p:spPr>
          <a:xfrm>
            <a:off x="2195640" y="5734080"/>
            <a:ext cx="853920" cy="981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6"/>
          <a:srcRect l="43946" t="0" r="0" b="0"/>
          <a:stretch/>
        </p:blipFill>
        <p:spPr>
          <a:xfrm rot="13259400">
            <a:off x="1348920" y="3450960"/>
            <a:ext cx="993960" cy="1508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7"/>
          <a:srcRect l="0" t="0" r="48602" b="0"/>
          <a:stretch/>
        </p:blipFill>
        <p:spPr>
          <a:xfrm rot="1797600">
            <a:off x="6149520" y="2567160"/>
            <a:ext cx="1044720" cy="1511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rot="830400">
            <a:off x="2913120" y="5183280"/>
            <a:ext cx="1150920" cy="5032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0934600">
            <a:off x="4795920" y="5176440"/>
            <a:ext cx="1146240" cy="5047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242100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349360"/>
            <a:ext cx="287280" cy="28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5840000">
            <a:off x="4431960" y="2776680"/>
            <a:ext cx="20952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992" y="1504"/>
                  <a:pt x="8383" y="5080"/>
                  <a:pt x="8383" y="10800"/>
                </a:cubicBezTo>
                <a:cubicBezTo>
                  <a:pt x="8383" y="16520"/>
                  <a:pt x="14992" y="200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8">
            <a:lum bright="6000"/>
          </a:blip>
          <a:srcRect l="0" t="27176" r="54173" b="36532"/>
          <a:stretch/>
        </p:blipFill>
        <p:spPr>
          <a:xfrm rot="20854200">
            <a:off x="2840040" y="812880"/>
            <a:ext cx="2519280" cy="1741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9">
            <a:lum bright="72000"/>
          </a:blip>
          <a:stretch/>
        </p:blipFill>
        <p:spPr>
          <a:xfrm>
            <a:off x="1187280" y="765000"/>
            <a:ext cx="729000" cy="836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0">
            <a:lum bright="72000"/>
          </a:blip>
          <a:stretch/>
        </p:blipFill>
        <p:spPr>
          <a:xfrm>
            <a:off x="6300720" y="1197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1">
            <a:lum bright="72000"/>
          </a:blip>
          <a:stretch/>
        </p:blipFill>
        <p:spPr>
          <a:xfrm>
            <a:off x="1835280" y="19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2">
            <a:lum bright="72000"/>
          </a:blip>
          <a:stretch/>
        </p:blipFill>
        <p:spPr>
          <a:xfrm>
            <a:off x="4356000" y="26028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3">
            <a:lum bright="72000"/>
          </a:blip>
          <a:stretch/>
        </p:blipFill>
        <p:spPr>
          <a:xfrm>
            <a:off x="468360" y="386064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4">
            <a:lum bright="72000"/>
          </a:blip>
          <a:stretch/>
        </p:blipFill>
        <p:spPr>
          <a:xfrm>
            <a:off x="7812000" y="19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5">
            <a:lum bright="72000"/>
          </a:blip>
          <a:stretch/>
        </p:blipFill>
        <p:spPr>
          <a:xfrm>
            <a:off x="6948360" y="3789360"/>
            <a:ext cx="728640" cy="836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rot="4162800">
            <a:off x="4739040" y="2097720"/>
            <a:ext cx="288720" cy="108108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ff6600"/>
              </a:gs>
              <a:gs pos="100000">
                <a:srgbClr val="ff9933"/>
              </a:gs>
            </a:gsLst>
            <a:lin ang="12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6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500"/>
                            </p:stCondLst>
                            <p:childTnLst>
                              <p:par>
                                <p:cTn id="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500"/>
                            </p:stCondLst>
                            <p:childTnLst>
                              <p:par>
                                <p:cTn id="1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5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6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66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2 C 0.10816 -0.01042 0.19687 0.10231 0.19687 0.2412 C 0.19687 0.38009 0.10816 0.49352 -0.00035 0.49352 C -0.10868 0.49352 -0.19688 0.38009 -0.19688 0.2412 C -0.19688 0.10231 -0.10868 -0.01042 -0.00035 -0.01042 Z">
                                      <p:cBhvr>
                                        <p:cTn id="167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4000"/>
                            </p:stCondLst>
                            <p:childTnLst>
                              <p:par>
                                <p:cTn id="17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6000"/>
                            </p:stCondLst>
                            <p:childTnLst>
                              <p:par>
                                <p:cTn id="17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8000"/>
                            </p:stCondLst>
                            <p:childTnLst>
                              <p:par>
                                <p:cTn id="1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0"/>
                            </p:stCondLst>
                            <p:childTnLst>
                              <p:par>
                                <p:cTn id="1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1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1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2000"/>
                            </p:stCondLst>
                            <p:childTnLst>
                              <p:par>
                                <p:cTn id="21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3000"/>
                            </p:stCondLst>
                            <p:childTnLst>
                              <p:par>
                                <p:cTn id="2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4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5000"/>
                            </p:stCondLst>
                            <p:childTnLst>
                              <p:par>
                                <p:cTn id="229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8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3000"/>
                            </p:stCondLst>
                            <p:childTnLst>
                              <p:par>
                                <p:cTn id="284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86 -0.09236 C 0.03455 -0.12477 0.10677 -0.08125 0.13125 0.00486 C 0.15556 0.09074 0.12292 0.18703 0.05833 0.21967 C -0.00608 0.25208 -0.0783 0.20856 -0.10278 0.12245 C -0.12708 0.03657 -0.09444 -0.05973 -0.02986 -0.09236 Z">
                                      <p:cBhvr>
                                        <p:cTn id="28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7000"/>
                            </p:stCondLst>
                            <p:childTnLst>
                              <p:par>
                                <p:cTn id="287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C 0.05347 -0.05833 0.13229 -0.04769 0.17569 0.02338 C 0.21927 0.09468 0.21146 0.19977 0.15798 0.25787 C 0.10503 0.31597 0.02604 0.30532 -0.01771 0.23426 C -0.06129 0.16319 -0.05313 0.0581 2.5E-006 7.40741E-007 Z">
                                      <p:cBhvr>
                                        <p:cTn id="28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1000"/>
                            </p:stCondLst>
                            <p:childTnLst>
                              <p:par>
                                <p:cTn id="29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1.38889E-006 0.64051 E">
                                      <p:cBhvr>
                                        <p:cTn id="291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2000"/>
                            </p:stCondLst>
                            <p:childTnLst>
                              <p:par>
                                <p:cTn id="2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6 L 0.05469 0.60047 E">
                                      <p:cBhvr>
                                        <p:cTn id="294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3000"/>
                            </p:stCondLst>
                            <p:childTnLst>
                              <p:par>
                                <p:cTn id="29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03976 0.77917 E">
                                      <p:cBhvr>
                                        <p:cTn id="297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4000"/>
                            </p:stCondLst>
                            <p:childTnLst>
                              <p:par>
                                <p:cTn id="29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-0.00034 0.19097 E">
                                      <p:cBhvr>
                                        <p:cTn id="300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5000"/>
                            </p:stCondLst>
                            <p:childTnLst>
                              <p:par>
                                <p:cTn id="30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0.11788 0.55856 E">
                                      <p:cBhvr>
                                        <p:cTn id="303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6000"/>
                            </p:stCondLst>
                            <p:childTnLst>
                              <p:par>
                                <p:cTn id="30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0.31528 0.55856 E">
                                      <p:cBhvr>
                                        <p:cTn id="306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7000"/>
                            </p:stCondLst>
                            <p:childTnLst>
                              <p:par>
                                <p:cTn id="30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2.59259E-006 L 0.0783 0.22269 E">
                                      <p:cBhvr>
                                        <p:cTn id="309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5da2"/>
                </a:solidFill>
                <a:latin typeface="Calibri"/>
              </a:rPr>
              <a:t>Виды растений: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24000" y="2241360"/>
            <a:ext cx="7632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берёза               лещина          земляника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липа                    малина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лиственница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сосна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осина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1311120" y="1449360"/>
            <a:ext cx="18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ере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1484280"/>
            <a:ext cx="23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устар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48360" y="1484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травянис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664000" y="981000"/>
            <a:ext cx="1295280" cy="468360"/>
          </a:xfrm>
          <a:prstGeom prst="line">
            <a:avLst/>
          </a:prstGeom>
          <a:ln w="57240">
            <a:solidFill>
              <a:srgbClr val="005da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40360" y="981000"/>
            <a:ext cx="0" cy="576360"/>
          </a:xfrm>
          <a:prstGeom prst="line">
            <a:avLst/>
          </a:prstGeom>
          <a:ln w="57240">
            <a:solidFill>
              <a:srgbClr val="005da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80000" y="1015920"/>
            <a:ext cx="971640" cy="468360"/>
          </a:xfrm>
          <a:prstGeom prst="line">
            <a:avLst/>
          </a:prstGeom>
          <a:ln w="57240">
            <a:solidFill>
              <a:srgbClr val="005da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74534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368360" y="476280"/>
            <a:ext cx="71992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24000" y="1631880"/>
            <a:ext cx="763272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58920" y="333360"/>
            <a:ext cx="3635280" cy="478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751280" y="368280"/>
            <a:ext cx="3745080" cy="4737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27120" y="532116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2000" y="530064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16560" y="5969160"/>
            <a:ext cx="23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7120" y="5452920"/>
            <a:ext cx="234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88000" y="5337000"/>
            <a:ext cx="24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ш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26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961080" cy="4932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535640" y="189000"/>
            <a:ext cx="3960720" cy="4895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871640" y="5481720"/>
            <a:ext cx="10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563256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87480" y="5429160"/>
            <a:ext cx="12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35640" y="5445000"/>
            <a:ext cx="10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736280"/>
            <a:ext cx="763272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032000" cy="4896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572000" y="297000"/>
            <a:ext cx="4176720" cy="514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60400" y="5481720"/>
            <a:ext cx="19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яб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5840" y="5516640"/>
            <a:ext cx="18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л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24000" y="259920"/>
            <a:ext cx="763272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16000" y="297000"/>
            <a:ext cx="4357440" cy="5545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608360" y="297000"/>
            <a:ext cx="4386240" cy="5545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547640" y="587700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оп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5805360"/>
            <a:ext cx="15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л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224000" y="260280"/>
            <a:ext cx="763272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0" y="296640"/>
            <a:ext cx="763272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5da2"/>
                </a:solidFill>
                <a:latin typeface="Classic Russian"/>
              </a:rPr>
              <a:t>Зимние изменения в природе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5da2"/>
                </a:solidFill>
                <a:latin typeface="Calibri"/>
              </a:rPr>
              <a:t>Когда растут деревья?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8920" y="1736640"/>
            <a:ext cx="730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5da2"/>
                </a:solidFill>
                <a:latin typeface="Calibri"/>
              </a:rPr>
              <a:t>с середины мая до середины июля</a:t>
            </a: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1419120" y="330516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5da2"/>
                </a:solidFill>
                <a:latin typeface="Arial"/>
              </a:rPr>
              <a:t>в ию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920" y="333360"/>
            <a:ext cx="763272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5da2"/>
                </a:solidFill>
                <a:latin typeface="Calibri"/>
              </a:rPr>
              <a:t>Состояние      глубокого</a:t>
            </a:r>
            <a:br>
              <a:rPr sz="4000"/>
            </a:br>
            <a:r>
              <a:rPr b="1" i="1" lang="en-US" sz="4000" spc="-1" strike="noStrike">
                <a:solidFill>
                  <a:srgbClr val="005da2"/>
                </a:solidFill>
                <a:latin typeface="Calibri"/>
              </a:rPr>
              <a:t>                                                  покоя                                  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58920" y="2636640"/>
            <a:ext cx="35640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5da2"/>
                </a:solidFill>
                <a:latin typeface="Calibri"/>
              </a:rPr>
              <a:t>Зимняя пора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319640" y="1665360"/>
            <a:ext cx="4465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24000" y="2384280"/>
            <a:ext cx="7632720" cy="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10080" bIns="-10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340000" y="476280"/>
            <a:ext cx="55036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машнее зад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087640" y="2565360"/>
            <a:ext cx="5905440" cy="21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.104-110 учебник, читать,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твечать на вопросы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.49 №106, 107 (тетрадь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0" y="188640"/>
            <a:ext cx="763272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da2"/>
                </a:solidFill>
                <a:latin typeface="Calibri"/>
              </a:rPr>
              <a:t>Интернет ресурсы:</a:t>
            </a: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920" y="691920"/>
            <a:ext cx="8174160" cy="57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adobetutorialz.com/articles/2909/1/We-wish-you-a-Merry-Christmas-illustration</a:t>
            </a:r>
            <a:r>
              <a:rPr b="0" lang="ru-RU" sz="1400" spc="-1" strike="noStrike">
                <a:solidFill>
                  <a:srgbClr val="005da2"/>
                </a:solidFill>
                <a:latin typeface="Calibri"/>
              </a:rPr>
              <a:t>) –идея рисунка</a:t>
            </a:r>
            <a:endParaRPr b="0" lang="en-US" sz="1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edsovet.su</a:t>
            </a:r>
            <a:r>
              <a:rPr b="0" lang="en-US" sz="1400" spc="-1" strike="noStrike">
                <a:solidFill>
                  <a:srgbClr val="005da2"/>
                </a:solidFill>
                <a:latin typeface="Calibri"/>
              </a:rPr>
              <a:t> –</a:t>
            </a:r>
            <a:r>
              <a:rPr b="0" lang="ru-RU" sz="1400" spc="-1" strike="noStrike">
                <a:solidFill>
                  <a:srgbClr val="005da2"/>
                </a:solidFill>
                <a:latin typeface="Calibri"/>
              </a:rPr>
              <a:t> источник шаблона, сайт Курбановой И.Б.</a:t>
            </a:r>
            <a:endParaRPr b="0" lang="en-US" sz="1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pedsovet.su/load/244-1-0-2616</a:t>
            </a:r>
            <a:r>
              <a:rPr b="0" lang="en-US" sz="1400" spc="-1" strike="noStrike">
                <a:solidFill>
                  <a:srgbClr val="005da2"/>
                </a:solidFill>
                <a:latin typeface="Calibri"/>
              </a:rPr>
              <a:t> -</a:t>
            </a:r>
            <a:r>
              <a:rPr b="0" lang="ru-RU" sz="1400" spc="-1" strike="noStrike">
                <a:solidFill>
                  <a:srgbClr val="005da2"/>
                </a:solidFill>
                <a:latin typeface="Calibri"/>
              </a:rPr>
              <a:t> физминутка</a:t>
            </a:r>
            <a:endParaRPr b="0" lang="en-US" sz="1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kotofot.ru/gdefon/kotofots/full/203373-kotofotsfull-</a:t>
            </a:r>
            <a:r>
              <a:rPr b="0" lang="ru-RU" sz="1400" spc="-1" strike="noStrike">
                <a:solidFill>
                  <a:srgbClr val="005da2"/>
                </a:solidFill>
                <a:latin typeface="Calibri"/>
              </a:rPr>
              <a:t> зима</a:t>
            </a:r>
            <a:endParaRPr b="0" lang="en-US" sz="1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yushi.beon.ru/</a:t>
            </a:r>
            <a:r>
              <a:rPr b="0" lang="ru-RU" sz="1400" spc="-1" strike="noStrike">
                <a:solidFill>
                  <a:srgbClr val="005da2"/>
                </a:solidFill>
                <a:latin typeface="Calibri"/>
              </a:rPr>
              <a:t> -берёза</a:t>
            </a:r>
            <a:endParaRPr b="0" lang="en-US" sz="1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featurepics.com/online/Old-Oak-Tree-Winter-Pics352264.aspx</a:t>
            </a:r>
            <a:r>
              <a:rPr b="0" lang="ru-RU" sz="1400" spc="-1" strike="noStrike">
                <a:solidFill>
                  <a:srgbClr val="005da2"/>
                </a:solidFill>
                <a:latin typeface="Calibri"/>
              </a:rPr>
              <a:t> - дуб</a:t>
            </a:r>
            <a:endParaRPr b="0" lang="en-US" sz="1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foto.setru.ru/?img=7033</a:t>
            </a:r>
            <a:r>
              <a:rPr b="0" lang="ru-RU" sz="1400" spc="-1" strike="noStrike">
                <a:solidFill>
                  <a:srgbClr val="005da2"/>
                </a:solidFill>
                <a:latin typeface="Calibri"/>
              </a:rPr>
              <a:t> – ива</a:t>
            </a:r>
            <a:endParaRPr b="0" lang="en-US" sz="1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clubs.ya.ru/4611686018427402286/replies.xml?item_no=105929</a:t>
            </a:r>
            <a:r>
              <a:rPr b="0" lang="ru-RU" sz="1400" spc="-1" strike="noStrike">
                <a:solidFill>
                  <a:srgbClr val="005da2"/>
                </a:solidFill>
                <a:latin typeface="Calibri"/>
              </a:rPr>
              <a:t> – липа</a:t>
            </a:r>
            <a:endParaRPr b="0" lang="en-US" sz="1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fotki.yandex.ru/users/kgv008952/tags/%D1%81%D0%BD%D0%B5%D0%B3</a:t>
            </a:r>
            <a:r>
              <a:rPr b="0" lang="ru-RU" sz="1400" spc="-1" strike="noStrike">
                <a:solidFill>
                  <a:srgbClr val="005da2"/>
                </a:solidFill>
                <a:latin typeface="Calibri"/>
              </a:rPr>
              <a:t> – рябина</a:t>
            </a:r>
            <a:endParaRPr b="0" lang="en-US" sz="1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da2"/>
                </a:solidFill>
                <a:latin typeface="Calibri"/>
              </a:rPr>
              <a:t>http://www.2020site.org/trees/horse.html - каштан</a:t>
            </a:r>
            <a:endParaRPr b="0" lang="en-US" sz="1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fotki.yandex.ru/users/sayanusd/view/134136/</a:t>
            </a:r>
            <a:r>
              <a:rPr b="0" lang="ru-RU" sz="1400" spc="-1" strike="noStrike">
                <a:solidFill>
                  <a:srgbClr val="005da2"/>
                </a:solidFill>
                <a:latin typeface="Calibri"/>
              </a:rPr>
              <a:t> -тополь</a:t>
            </a:r>
            <a:endParaRPr b="0" lang="en-US" sz="1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samlib.ru/c/chuksin_n_j/25_winter_3.shtml</a:t>
            </a:r>
            <a:r>
              <a:rPr b="0" lang="ru-RU" sz="1400" spc="-1" strike="noStrike">
                <a:solidFill>
                  <a:srgbClr val="005da2"/>
                </a:solidFill>
                <a:latin typeface="Calibri"/>
              </a:rPr>
              <a:t> - клён</a:t>
            </a:r>
            <a:endParaRPr b="0" lang="en-US" sz="1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petrelius1150.narod.ru/cold-night2008/cold-night2008.htm</a:t>
            </a:r>
            <a:r>
              <a:rPr b="0" lang="ru-RU" sz="1400" spc="-1" strike="noStrike">
                <a:solidFill>
                  <a:srgbClr val="005da2"/>
                </a:solidFill>
                <a:latin typeface="Calibri"/>
              </a:rPr>
              <a:t> - клюква</a:t>
            </a:r>
            <a:endParaRPr b="0" lang="en-US" sz="1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nature.baikal.ru/phs/ph.shtml?id=1145&amp;ref=tunki/art&amp;rg=tunki</a:t>
            </a:r>
            <a:r>
              <a:rPr b="0" lang="ru-RU" sz="1400" spc="-1" strike="noStrike">
                <a:solidFill>
                  <a:srgbClr val="005da2"/>
                </a:solidFill>
                <a:latin typeface="Calibri"/>
              </a:rPr>
              <a:t> – брусника</a:t>
            </a:r>
            <a:endParaRPr b="0" lang="en-US" sz="1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da2"/>
                </a:solidFill>
                <a:latin typeface="Calibri"/>
              </a:rPr>
              <a:t>http://sergio.at.ua/forum/26-2215-1 - кустарник</a:t>
            </a:r>
            <a:endParaRPr b="0" lang="en-US" sz="1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da2"/>
                </a:solidFill>
                <a:latin typeface="Calibri"/>
              </a:rPr>
              <a:t>http://fotki.yandex.ru/users/kamikaze1979/view/19566/ -ледостав</a:t>
            </a:r>
            <a:endParaRPr b="0" lang="en-US" sz="1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da2"/>
                </a:solidFill>
                <a:latin typeface="Calibri"/>
              </a:rPr>
              <a:t>http://znamensk.info/vypusk-22-03-dekabrya/budte-ostorozhny-na-vodoemah.html - ледостав</a:t>
            </a:r>
            <a:endParaRPr b="0" lang="en-US" sz="1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da2"/>
                </a:solidFill>
                <a:latin typeface="Calibri"/>
              </a:rPr>
              <a:t>http://slavavode.ucoz.ru/index/izmoroz/0-134 - изморозь</a:t>
            </a:r>
            <a:endParaRPr b="0" lang="en-US" sz="1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da2"/>
                </a:solidFill>
                <a:latin typeface="Calibri"/>
              </a:rPr>
              <a:t>http://allday.ru/index.php?newsid=5879 – снежинки</a:t>
            </a:r>
            <a:endParaRPr b="0" lang="en-US" sz="1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da2"/>
                </a:solidFill>
                <a:latin typeface="Calibri"/>
              </a:rPr>
              <a:t>http://mp3ostrov.com/?string=%F7%E0%E9%EA%EE%E2%F1%EA%E8%E9%20%E2%F0%E5%EC%E5%ED%E0%20%E3%EE%E4%E0 Чайковский Январь</a:t>
            </a:r>
            <a:endParaRPr b="0" lang="en-US" sz="14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5da2"/>
                </a:solidFill>
                <a:latin typeface="Derby"/>
              </a:rPr>
              <a:t>Продолжительность зимы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По календарю –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По Солнцу – 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По природным признакам – 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16000" y="476280"/>
            <a:ext cx="4032360" cy="496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18200" y="5345280"/>
            <a:ext cx="345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80000" y="44136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f497d"/>
                </a:solidFill>
                <a:latin typeface="Arial"/>
              </a:rPr>
              <a:t>Ледоста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448000" y="297000"/>
            <a:ext cx="6372000" cy="4860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84200" y="4997520"/>
            <a:ext cx="563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4360" y="5121360"/>
            <a:ext cx="549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5121360"/>
            <a:ext cx="59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Снеговой пок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42920" y="368280"/>
            <a:ext cx="745344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32000" y="549360"/>
            <a:ext cx="2700360" cy="248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56360" y="620640"/>
            <a:ext cx="284472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203640" y="3213000"/>
            <a:ext cx="266364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752472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6000" y="225360"/>
            <a:ext cx="5832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5da2"/>
                </a:solidFill>
                <a:latin typeface="Classic Russian"/>
              </a:rPr>
              <a:t>   </a:t>
            </a:r>
            <a:r>
              <a:rPr b="1" i="1" lang="en-US" sz="6000" spc="-1" strike="noStrike">
                <a:solidFill>
                  <a:srgbClr val="005da2"/>
                </a:solidFill>
                <a:latin typeface="Classic Russian"/>
              </a:rPr>
              <a:t>Тема урока:</a:t>
            </a:r>
            <a:endParaRPr b="0" lang="en-US" sz="6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23640" y="1628280"/>
            <a:ext cx="748836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1239840" y="2189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40000" y="2133720"/>
            <a:ext cx="6696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Растен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зимо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Домашний</cp:lastModifiedBy>
  <dcterms:modified xsi:type="dcterms:W3CDTF">2013-03-13T11:45:24Z</dcterms:modified>
  <cp:revision>21</cp:revision>
  <dc:subject/>
  <dc:title>Слайд 1</dc:title>
</cp:coreProperties>
</file>