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0F70-56B3-4771-B69C-FCFB28369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A1D4-F53D-4242-A2DA-04A640E7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8C02-9740-4B80-B89F-7A6F66E4F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8979-5D55-408A-B551-410E6539B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3937-BD9F-4389-9C4A-042C28550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73A7-98FC-4E65-A265-01DB54F6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7960-AB75-46C8-AA99-AE1A7104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BDC3-C82D-477D-83F1-67C62350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3C74-325F-4A9C-A5D3-C1D1EAB7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B2D3-A769-428D-AEC2-F7844D08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FCE4-A69E-4FF5-BE18-F2B951F6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FFA3-D6D0-4E9C-B3E0-F8748EE9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FC90-9E33-4C57-83B2-EE368B58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AE92-F327-4C66-ABCE-3B59E60F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5E31-3071-48E0-B7F6-EBF5899A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409D-29BE-4AD1-A016-B0390F645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5E1C-828F-4646-A55A-845C5E3E0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4B5DA-9E40-4054-935F-C9F51F87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F392B-80F3-43E6-9436-FB777000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00324-0956-4790-8917-75297A33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61566-6402-4570-A1D0-AFF669F3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264C1-1365-4514-B624-4BEC6B46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F765-34F9-42F4-A65D-2C892C87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230F8-C6B6-4FF0-B9FF-C266F42F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14ED0-CB4D-48FF-98C8-E00F9E99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88A70-4D1E-4286-961A-5DC361A4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8505B-33BD-4B20-B7BB-B7BF3937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7354D-07FA-467E-B3DB-89B026B4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56384-5791-4A5C-AE9B-5A5DCC5E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8FD85-6CD9-41B3-A2CC-DED9467B3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D1106-B7D3-4AB3-878C-AA0F055D1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764C1-AA79-4962-9255-F868F5DF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71389-4A8A-419D-91D4-953C8ABB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F995-5E0E-46E9-A0E8-41DA43CE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1B8D4-B842-475C-90D6-5FA0DE61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CEF5C-4350-4733-8C46-077A9C45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AF469-7707-4425-93D8-6D9DB9E4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82F20-7DA2-442B-B3B7-9B92140B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483AC-2C32-4FFB-AC04-CEB5B8AE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36744-5DAB-41A7-AE46-840DDB04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59299-79A0-436E-A99F-2EB18BA9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9CACE-5216-4AB2-AD09-FF958EE29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136E3-0260-435F-A49E-C0232047D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32E5-8272-4A67-9A83-5A817229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DF83-3727-4E30-B209-52CCF96C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AEDA-F799-43D3-B814-718C763E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49B7-49D8-4526-8297-D125FD69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1B20-023A-44F1-8F51-CEA5D62D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55FE-6BA2-4684-8DD0-954B19C6D6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0AD8-F012-4FBF-A01E-250B9855BE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3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9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7F37-0A64-474C-901E-CD644D8A1B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19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2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3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7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7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0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1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2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9558-A6BC-4962-A206-BB8B7F0E488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WordArt 4"/>
          <p:cNvSpPr txBox="1"/>
          <p:nvPr/>
        </p:nvSpPr>
        <p:spPr>
          <a:xfrm>
            <a:off x="755640" y="1773360"/>
            <a:ext cx="7777080" cy="15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52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"Иммунитет. Иммунная  система"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24" name="TextBox 6"/>
          <p:cNvSpPr/>
          <p:nvPr/>
        </p:nvSpPr>
        <p:spPr>
          <a:xfrm>
            <a:off x="2500200" y="4071960"/>
            <a:ext cx="407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ексеенко Сла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ути  передачи  СПИД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66" name="Picture 5" descr="j0286034"/>
          <p:cNvPicPr/>
          <p:nvPr/>
        </p:nvPicPr>
        <p:blipFill>
          <a:blip r:embed="rId1"/>
          <a:stretch/>
        </p:blipFill>
        <p:spPr>
          <a:xfrm>
            <a:off x="4113360" y="3421080"/>
            <a:ext cx="917280" cy="88416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10"/>
          <p:cNvSpPr/>
          <p:nvPr/>
        </p:nvSpPr>
        <p:spPr>
          <a:xfrm>
            <a:off x="735120" y="1857240"/>
            <a:ext cx="7194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 переливании  кров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рез  шприцы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овой  пу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и  через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альный  секс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  мате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ворожденному.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4" descr="j0302953"/>
          <p:cNvPicPr/>
          <p:nvPr/>
        </p:nvPicPr>
        <p:blipFill>
          <a:blip r:embed="rId1"/>
          <a:stretch/>
        </p:blipFill>
        <p:spPr>
          <a:xfrm>
            <a:off x="1547640" y="0"/>
            <a:ext cx="5905800" cy="6626160"/>
          </a:xfrm>
          <a:prstGeom prst="rect">
            <a:avLst/>
          </a:prstGeom>
          <a:ln w="0">
            <a:noFill/>
          </a:ln>
        </p:spPr>
      </p:pic>
      <p:sp>
        <p:nvSpPr>
          <p:cNvPr id="469" name="Text Box 7"/>
          <p:cNvSpPr/>
          <p:nvPr/>
        </p:nvSpPr>
        <p:spPr>
          <a:xfrm>
            <a:off x="2462400" y="539640"/>
            <a:ext cx="497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имптомы  заболева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8"/>
          <p:cNvSpPr/>
          <p:nvPr/>
        </p:nvSpPr>
        <p:spPr>
          <a:xfrm>
            <a:off x="2386440" y="1287360"/>
            <a:ext cx="495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лабост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стощение  организм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лительная  температур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оспалительные  процесс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9"/>
          <p:cNvSpPr/>
          <p:nvPr/>
        </p:nvSpPr>
        <p:spPr>
          <a:xfrm>
            <a:off x="2321280" y="3825720"/>
            <a:ext cx="480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Вирус  поража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иммунную  систем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организма!!!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Прямоугольник 3" descr=""/>
          <p:cNvPicPr/>
          <p:nvPr/>
        </p:nvPicPr>
        <p:blipFill>
          <a:blip r:embed="rId1"/>
          <a:stretch/>
        </p:blipFill>
        <p:spPr>
          <a:xfrm>
            <a:off x="176040" y="1103400"/>
            <a:ext cx="85107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ccecff"/>
                </a:solidFill>
                <a:latin typeface="Arial"/>
              </a:rPr>
              <a:t>Лейкоциты</a:t>
            </a:r>
            <a:br>
              <a:rPr sz="4700"/>
            </a:br>
            <a:r>
              <a:rPr b="0" lang="ru-RU" sz="3100" spc="-1" strike="noStrike">
                <a:solidFill>
                  <a:srgbClr val="ccecff"/>
                </a:solidFill>
                <a:latin typeface="Arial"/>
              </a:rPr>
              <a:t>(клетки – защитники):</a:t>
            </a:r>
            <a:endParaRPr b="0" lang="en-US" sz="3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68360" y="184428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-  крупные  белые  клетки  крови  с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бесцветными  ядрами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-  изменяют  форму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-  обладают  амёбовидным  движением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-  образуются  в  красном  костном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мозге,  селезёнке,  лимф. узлах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-  живут  3 – 5 дней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-  отмирают  в  печени,  селезёнке,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лимф. узлах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-  количество:  6 – 8 тысяч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696080" cy="10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Разновидности лейкоцитов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28" name="Rectangle 3"/>
          <p:cNvGrpSpPr/>
          <p:nvPr/>
        </p:nvGrpSpPr>
        <p:grpSpPr>
          <a:xfrm>
            <a:off x="539640" y="1844640"/>
            <a:ext cx="8064360" cy="4176720"/>
            <a:chOff x="539640" y="1844640"/>
            <a:chExt cx="8064360" cy="4176720"/>
          </a:xfrm>
        </p:grpSpPr>
        <p:sp>
          <p:nvSpPr>
            <p:cNvPr id="429" name="AutoShape 2"/>
            <p:cNvSpPr/>
            <p:nvPr/>
          </p:nvSpPr>
          <p:spPr>
            <a:xfrm>
              <a:off x="539640" y="1844640"/>
              <a:ext cx="8064360" cy="4176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430" name="_s46085"/>
            <p:cNvCxnSpPr>
              <a:stCxn id="431" idx="2"/>
              <a:endCxn id="431" idx="3"/>
            </p:cNvCxnSpPr>
            <p:nvPr/>
          </p:nvCxnSpPr>
          <p:spPr>
            <a:xfrm rot="10800000">
              <a:off x="4546080" y="2976480"/>
              <a:ext cx="428400" cy="93024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432" name="_s46083"/>
            <p:cNvCxnSpPr/>
            <p:nvPr/>
          </p:nvCxnSpPr>
          <p:spPr>
            <a:xfrm flipV="1">
              <a:off x="4031280" y="2976840"/>
              <a:ext cx="516240" cy="930240"/>
            </a:xfrm>
            <a:prstGeom prst="bentConnector2">
              <a:avLst/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433" name="_s46090"/>
            <p:cNvCxnSpPr>
              <a:stCxn id="434" idx="0"/>
              <a:endCxn id="431" idx="3"/>
            </p:cNvCxnSpPr>
            <p:nvPr/>
          </p:nvCxnSpPr>
          <p:spPr>
            <a:xfrm flipV="1" rot="16200000">
              <a:off x="5144400" y="2378880"/>
              <a:ext cx="1719720" cy="2914920"/>
            </a:xfrm>
            <a:prstGeom prst="bentConnector3">
              <a:avLst>
                <a:gd name="adj1" fmla="val 6637"/>
              </a:avLst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435" name="_s46089"/>
            <p:cNvCxnSpPr>
              <a:stCxn id="436" idx="0"/>
              <a:endCxn id="431" idx="3"/>
            </p:cNvCxnSpPr>
            <p:nvPr/>
          </p:nvCxnSpPr>
          <p:spPr>
            <a:xfrm flipV="1" rot="16200000">
              <a:off x="3732480" y="3790080"/>
              <a:ext cx="1719720" cy="92520"/>
            </a:xfrm>
            <a:prstGeom prst="bentConnector3">
              <a:avLst>
                <a:gd name="adj1" fmla="val 6637"/>
              </a:avLst>
            </a:prstGeom>
            <a:ln w="28440">
              <a:solidFill>
                <a:srgbClr val="008ae8"/>
              </a:solidFill>
              <a:miter/>
            </a:ln>
          </p:spPr>
        </p:cxnSp>
        <p:cxnSp>
          <p:nvCxnSpPr>
            <p:cNvPr id="437" name="_s46088"/>
            <p:cNvCxnSpPr/>
            <p:nvPr/>
          </p:nvCxnSpPr>
          <p:spPr>
            <a:xfrm flipH="1" flipV="1" rot="5400000">
              <a:off x="2322000" y="2471040"/>
              <a:ext cx="1719720" cy="2730960"/>
            </a:xfrm>
            <a:prstGeom prst="bentConnector3">
              <a:avLst>
                <a:gd name="adj1" fmla="val 6637"/>
              </a:avLst>
            </a:prstGeom>
            <a:ln w="28440">
              <a:solidFill>
                <a:srgbClr val="008ae8"/>
              </a:solidFill>
              <a:miter/>
            </a:ln>
          </p:spPr>
        </p:cxnSp>
        <p:sp>
          <p:nvSpPr>
            <p:cNvPr id="431" name="AutoShape 4"/>
            <p:cNvSpPr/>
            <p:nvPr/>
          </p:nvSpPr>
          <p:spPr>
            <a:xfrm>
              <a:off x="3362040" y="2540520"/>
              <a:ext cx="2419200" cy="4381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0068ae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Лейкоцит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AutoShape 5"/>
            <p:cNvSpPr/>
            <p:nvPr/>
          </p:nvSpPr>
          <p:spPr>
            <a:xfrm>
              <a:off x="539640" y="4696200"/>
              <a:ext cx="2419200" cy="1277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88e4">
                    <a:alpha val="40000"/>
                  </a:srgbClr>
                </a:gs>
                <a:gs pos="100000">
                  <a:srgbClr val="0068ae"/>
                </a:gs>
              </a:gsLst>
              <a:lin ang="5400000"/>
            </a:gradFill>
            <a:ln w="9360">
              <a:solidFill>
                <a:srgbClr val="00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Нейтрофил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(70%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нейтральная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сред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_s46086"/>
            <p:cNvSpPr/>
            <p:nvPr/>
          </p:nvSpPr>
          <p:spPr>
            <a:xfrm>
              <a:off x="3362040" y="4696200"/>
              <a:ext cx="2419200" cy="1277640"/>
            </a:xfrm>
            <a:prstGeom prst="cube">
              <a:avLst>
                <a:gd name="adj" fmla="val 10763"/>
              </a:avLst>
            </a:prstGeom>
            <a:solidFill>
              <a:srgbClr val="cbc6f0">
                <a:alpha val="40000"/>
              </a:srgbClr>
            </a:solidFill>
            <a:ln w="9360">
              <a:solidFill>
                <a:srgbClr val="00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Базофил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(0,5%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основна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сред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(синие)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_s46087"/>
            <p:cNvSpPr/>
            <p:nvPr/>
          </p:nvSpPr>
          <p:spPr>
            <a:xfrm>
              <a:off x="6184440" y="4696200"/>
              <a:ext cx="2419200" cy="1277640"/>
            </a:xfrm>
            <a:prstGeom prst="cube">
              <a:avLst>
                <a:gd name="adj" fmla="val 10763"/>
              </a:avLst>
            </a:prstGeom>
            <a:solidFill>
              <a:srgbClr val="ff0000">
                <a:alpha val="40000"/>
              </a:srgbClr>
            </a:solidFill>
            <a:ln w="9360">
              <a:solidFill>
                <a:srgbClr val="00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Эозинофил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(1,5%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кислая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сред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(красные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_s46082"/>
            <p:cNvSpPr/>
            <p:nvPr/>
          </p:nvSpPr>
          <p:spPr>
            <a:xfrm>
              <a:off x="1749240" y="3198600"/>
              <a:ext cx="2419200" cy="1277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afe1ff">
                    <a:alpha val="40000"/>
                  </a:srgbClr>
                </a:gs>
                <a:gs pos="100000">
                  <a:srgbClr val="0068ae"/>
                </a:gs>
              </a:gsLst>
              <a:lin ang="5400000"/>
            </a:gradFill>
            <a:ln w="9360">
              <a:solidFill>
                <a:srgbClr val="afe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Лимфоциты (24%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вырабатывают  антител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_s46084"/>
            <p:cNvSpPr/>
            <p:nvPr/>
          </p:nvSpPr>
          <p:spPr>
            <a:xfrm>
              <a:off x="4974840" y="3198600"/>
              <a:ext cx="2419200" cy="1277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afe1ff">
                    <a:alpha val="40000"/>
                  </a:srgbClr>
                </a:gs>
                <a:gs pos="100000">
                  <a:srgbClr val="0068ae"/>
                </a:gs>
              </a:gsLst>
              <a:lin ang="5400000"/>
            </a:gradFill>
            <a:ln w="9360">
              <a:solidFill>
                <a:srgbClr val="afe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Моноциты (4%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макрофаг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ечников  Илья  Ильич – 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ткрыл  явление  фагоцитоз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42" name="Picture 17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3502080" cy="374976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«…У  нас  перед  домом  был  небольшой  сад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я  вырвал  там  несколько  розовых  шипов  и  ввёл  их  под  кожу  красивейшей,  прозрачной,  как  вода,  личинки  морской  звезды.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1882 год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ммунитет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от лат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unitas 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бавление  о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го-либо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то  способность  организма  избавляться  от  чужеродных  тел,  сохраняя  постоянство  внутренней  среды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-703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47" name="Diagram 1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448" name="AutoShape 28"/>
          <p:cNvSpPr/>
          <p:nvPr/>
        </p:nvSpPr>
        <p:spPr>
          <a:xfrm>
            <a:off x="2411280" y="0"/>
            <a:ext cx="3961080" cy="4056120"/>
          </a:xfrm>
          <a:prstGeom prst="irregularSeal1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ммунная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исте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Line 29"/>
          <p:cNvSpPr/>
          <p:nvPr/>
        </p:nvSpPr>
        <p:spPr>
          <a:xfrm flipH="1">
            <a:off x="2050560" y="3429000"/>
            <a:ext cx="100836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Line 30"/>
          <p:cNvSpPr/>
          <p:nvPr/>
        </p:nvSpPr>
        <p:spPr>
          <a:xfrm>
            <a:off x="4356000" y="386064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Line 31"/>
          <p:cNvSpPr/>
          <p:nvPr/>
        </p:nvSpPr>
        <p:spPr>
          <a:xfrm>
            <a:off x="6012000" y="3573360"/>
            <a:ext cx="86508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33"/>
          <p:cNvSpPr/>
          <p:nvPr/>
        </p:nvSpPr>
        <p:spPr>
          <a:xfrm>
            <a:off x="949320" y="4648320"/>
            <a:ext cx="2582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илочковая  желез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тиму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поступают  и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стного  моз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 формирую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-лимфоцит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34"/>
          <p:cNvSpPr/>
          <p:nvPr/>
        </p:nvSpPr>
        <p:spPr>
          <a:xfrm>
            <a:off x="3492360" y="5105520"/>
            <a:ext cx="19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стный  моз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5"/>
          <p:cNvSpPr/>
          <p:nvPr/>
        </p:nvSpPr>
        <p:spPr>
          <a:xfrm>
            <a:off x="6282000" y="4313160"/>
            <a:ext cx="2098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имфат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з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созре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-лимфоцитов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рабатывающ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тител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ммуните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539640" y="1484280"/>
          <a:ext cx="8496360" cy="5451480"/>
        </p:xfrm>
        <a:graphic>
          <a:graphicData uri="http://schemas.openxmlformats.org/drawingml/2006/table">
            <a:tbl>
              <a:tblPr/>
              <a:tblGrid>
                <a:gridCol w="1224000"/>
                <a:gridCol w="1728720"/>
                <a:gridCol w="1440000"/>
                <a:gridCol w="2016000"/>
                <a:gridCol w="2087640"/>
              </a:tblGrid>
              <a:tr h="601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стествен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кусствен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о-во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с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дст-вен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об-ретён-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ктив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ассив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юди  н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леют  чумой  собак, куриной  холер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восприимчи-вость  к  забо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вания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юдей –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99ff99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ассив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ff99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ктив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ле </a:t>
                      </a:r>
                      <a:r>
                        <a:rPr b="0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вакци-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нации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убитые  или ослаблен-ные  микро-организмы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вивка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вед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кцин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ле  введе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я  </a:t>
                      </a:r>
                      <a:r>
                        <a:rPr b="0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лечебн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сыворотк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готовых  анти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л)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нфекционные  болезн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1042920" y="1628640"/>
            <a:ext cx="264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озбудите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Line 7"/>
          <p:cNvSpPr/>
          <p:nvPr/>
        </p:nvSpPr>
        <p:spPr>
          <a:xfrm>
            <a:off x="3924360" y="184464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4279320" y="1844640"/>
            <a:ext cx="23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иру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икроб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 грибки  и  т.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4262040" y="2916360"/>
            <a:ext cx="415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разны!  Быстро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спространяются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12"/>
          <p:cNvSpPr/>
          <p:nvPr/>
        </p:nvSpPr>
        <p:spPr>
          <a:xfrm>
            <a:off x="1021320" y="4067280"/>
            <a:ext cx="7672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Частые  инфекционные  заболева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РЗ,  грипп,  корь,  коклюш,  ветряная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спа,  свинка,  столбняк,  СПИД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ифили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СПИД - 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синдром  приобретённого  иммунодефицита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Историческая  справк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- вирус  найден  в  Африке  (50 - 60 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  организме  зелёных  мартыш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(это  результат  мутации  безвредных    вирусов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- впервые  обнаружен  в  1981 го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  Калифорнии   среди  гомосексуалов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азывался  «голубой  рак».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16:29:29Z</dcterms:created>
  <dc:creator>Home</dc:creator>
  <dc:description/>
  <dc:language>en-US</dc:language>
  <cp:lastModifiedBy>User</cp:lastModifiedBy>
  <dcterms:modified xsi:type="dcterms:W3CDTF">2011-12-15T15:19:24Z</dcterms:modified>
  <cp:revision>41</cp:revision>
  <dc:subject/>
  <dc:title>Презентация  по  теме:</dc:title>
</cp:coreProperties>
</file>