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B39-9116-4BA2-92F0-815EBBC3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D13-5B21-4F2B-96DE-BE8A081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D99-EA2E-47EE-B515-27693A9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37B-E361-4002-A018-257084B0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03F-5F51-4545-81A2-26214EC6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BB1B-D46E-4107-8E96-7254967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7869-4179-459B-AD0C-E7BFEA50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4051-EA65-4913-87B0-F21D306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C60C-5231-4247-9279-9324EBF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B28-EB73-4C37-B252-298A4D8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FAE-5AA7-41B6-A2AB-9239F6B4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543-DA39-4B4E-9E4A-5E00D2A9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7BC9-C92E-4C00-B219-9F3762E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E34C-1CAF-4023-801B-97B48A6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9F0A-40FD-4A58-A152-F009CF82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A21-9924-465F-B28A-15BD060F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272E-15D7-47AB-B0CB-0FE51EEC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9EB2-6E44-427B-97E8-C1E5EBE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75CE-8DE9-489F-A687-796BE54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2BBA-558F-4610-9297-748C097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E6D8-D816-4227-8A70-188828F1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A202-360D-43DC-81B3-E34540C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1E0-6759-4CBC-8F36-47961AA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85EE-BE9C-45DD-BC6F-0D9AC2D5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CB2E-079D-435E-B077-D655B34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37AD-281A-46F1-9EF7-CD68121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5FA2-B87C-4159-AD89-DF19A4F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B271-8CEA-475A-87F8-E71F243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AA01-0E98-4F3F-BF58-3A7260D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83DA-39D1-4108-9920-955A5CFC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3CC7-D13B-4DD1-A52A-A08A0F54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C633-E97D-4FDC-A0B5-7C2C7FC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66E6-A663-49F1-A056-239E40BA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53F-2269-490D-8262-284EFB4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F545-859F-4B2D-8F09-13EE3FD8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3442-0CC2-4DE3-BE6B-955CB9E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6665-830B-4941-A679-DD6225B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8B79-1A01-45C7-A721-D74C636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8F03-EAC9-46B0-A0D5-0D3A0FE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680A-387C-41F5-ACE3-4644456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CBC6-12C4-4EDA-ABB7-437EF4D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EEC7-181F-46D0-B896-FDF5317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6BE3-A362-4CA1-B00D-976B2457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641-0A52-42F4-9326-BB8C28C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610-D925-47E3-9652-928F92A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FC6-79DD-4066-BDF7-9C9FD7D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ACD-F8A8-477B-9CDE-3E9FF86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BD0-86BD-4381-B4A7-949E4A3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8E8-074C-48FC-B93F-CEE3A2BA4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3A59-E581-44DB-ABC3-C534CEBEB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9F2-8BDF-4C2B-99E7-72ED864E40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212D-BBF7-40F3-947F-D55523CAF0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755640" y="1773360"/>
            <a:ext cx="777708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Иммунитет. Иммунная  систем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4" name="TextBox 6"/>
          <p:cNvSpPr/>
          <p:nvPr/>
        </p:nvSpPr>
        <p:spPr>
          <a:xfrm>
            <a:off x="2500200" y="407196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еенко Сл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ти  передачи  СПИД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6" name="Picture 5" descr="j0286034"/>
          <p:cNvPicPr/>
          <p:nvPr/>
        </p:nvPicPr>
        <p:blipFill>
          <a:blip r:embed="rId1"/>
          <a:stretch/>
        </p:blipFill>
        <p:spPr>
          <a:xfrm>
            <a:off x="4113360" y="3421080"/>
            <a:ext cx="917280" cy="8841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35120" y="1857240"/>
            <a:ext cx="719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 переливании  кров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 шприц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ой  п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  чере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альный  секс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 ма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орожденному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j0302953"/>
          <p:cNvPicPr/>
          <p:nvPr/>
        </p:nvPicPr>
        <p:blipFill>
          <a:blip r:embed="rId1"/>
          <a:stretch/>
        </p:blipFill>
        <p:spPr>
          <a:xfrm>
            <a:off x="1547640" y="0"/>
            <a:ext cx="5905800" cy="6626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7"/>
          <p:cNvSpPr/>
          <p:nvPr/>
        </p:nvSpPr>
        <p:spPr>
          <a:xfrm>
            <a:off x="2462400" y="53964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птомы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86440" y="1287360"/>
            <a:ext cx="49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аб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тощение  организм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ительная  температу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палительные 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321280" y="3825720"/>
            <a:ext cx="480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ирус  пораж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иммунную  систе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рганизма!!!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103400"/>
            <a:ext cx="8510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cecff"/>
                </a:solidFill>
                <a:latin typeface="Arial"/>
              </a:rPr>
              <a:t>Лейкоциты</a:t>
            </a:r>
            <a:br>
              <a:rPr sz="4700"/>
            </a:b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(клетки – защитники)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84428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рупные  белые  клетки  крови  с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есцветными  ядрам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изменяют  форму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ладают  амёбовидным  движением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разуются  в  красном  костно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зге,  селезёнке,  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живут  3 – 5 дне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тмирают  в  печени,  селезёнке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оличество:  6 – 8 тысяч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9608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азновидности лейкоцит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28" name="Rectangle 3"/>
          <p:cNvGrpSpPr/>
          <p:nvPr/>
        </p:nvGrpSpPr>
        <p:grpSpPr>
          <a:xfrm>
            <a:off x="539640" y="1844640"/>
            <a:ext cx="8064360" cy="4176720"/>
            <a:chOff x="539640" y="1844640"/>
            <a:chExt cx="8064360" cy="4176720"/>
          </a:xfrm>
        </p:grpSpPr>
        <p:sp>
          <p:nvSpPr>
            <p:cNvPr id="429" name="AutoShape 2"/>
            <p:cNvSpPr/>
            <p:nvPr/>
          </p:nvSpPr>
          <p:spPr>
            <a:xfrm>
              <a:off x="539640" y="1844640"/>
              <a:ext cx="8064360" cy="4176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0" name="_s46085"/>
            <p:cNvCxnSpPr>
              <a:stCxn id="431" idx="2"/>
              <a:endCxn id="431" idx="3"/>
            </p:cNvCxnSpPr>
            <p:nvPr/>
          </p:nvCxnSpPr>
          <p:spPr>
            <a:xfrm rot="10800000">
              <a:off x="4546080" y="2976480"/>
              <a:ext cx="42840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2" name="_s46083"/>
            <p:cNvCxnSpPr/>
            <p:nvPr/>
          </p:nvCxnSpPr>
          <p:spPr>
            <a:xfrm flipV="1">
              <a:off x="4031280" y="2976840"/>
              <a:ext cx="51624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3" name="_s46090"/>
            <p:cNvCxnSpPr>
              <a:stCxn id="434" idx="0"/>
              <a:endCxn id="431" idx="3"/>
            </p:cNvCxnSpPr>
            <p:nvPr/>
          </p:nvCxnSpPr>
          <p:spPr>
            <a:xfrm flipV="1" rot="16200000">
              <a:off x="5144400" y="2378880"/>
              <a:ext cx="1719720" cy="29149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5" name="_s46089"/>
            <p:cNvCxnSpPr>
              <a:stCxn id="436" idx="0"/>
              <a:endCxn id="431" idx="3"/>
            </p:cNvCxnSpPr>
            <p:nvPr/>
          </p:nvCxnSpPr>
          <p:spPr>
            <a:xfrm flipV="1" rot="16200000">
              <a:off x="3732480" y="3790080"/>
              <a:ext cx="1719720" cy="925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7" name="_s46088"/>
            <p:cNvCxnSpPr/>
            <p:nvPr/>
          </p:nvCxnSpPr>
          <p:spPr>
            <a:xfrm flipH="1" flipV="1" rot="5400000">
              <a:off x="2322000" y="2471040"/>
              <a:ext cx="1719720" cy="273096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431" name="AutoShape 4"/>
            <p:cNvSpPr/>
            <p:nvPr/>
          </p:nvSpPr>
          <p:spPr>
            <a:xfrm>
              <a:off x="3362040" y="2540520"/>
              <a:ext cx="2419200" cy="438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5"/>
            <p:cNvSpPr/>
            <p:nvPr/>
          </p:nvSpPr>
          <p:spPr>
            <a:xfrm>
              <a:off x="539640" y="46962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88e4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70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альн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_s46086"/>
            <p:cNvSpPr/>
            <p:nvPr/>
          </p:nvSpPr>
          <p:spPr>
            <a:xfrm>
              <a:off x="33620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cbc6f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Баз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0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основ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синие)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_s46087"/>
            <p:cNvSpPr/>
            <p:nvPr/>
          </p:nvSpPr>
          <p:spPr>
            <a:xfrm>
              <a:off x="61844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Эозин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1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исл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красные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_s46082"/>
            <p:cNvSpPr/>
            <p:nvPr/>
          </p:nvSpPr>
          <p:spPr>
            <a:xfrm>
              <a:off x="17492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имфоциты (2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вырабатывают  антите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_s46084"/>
            <p:cNvSpPr/>
            <p:nvPr/>
          </p:nvSpPr>
          <p:spPr>
            <a:xfrm>
              <a:off x="49748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оноциты (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акрофа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чников  Илья  Ильич –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крыл  явление  фагоцитоз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502080" cy="3749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…У  нас  перед  домом  был  небольшой  сад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 вырвал  там  несколько  розовых  шипов  и  ввёл  их  под  кожу  красивейшей,  прозрачной,  как  вода,  личинки  морской  звезды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1882 г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ммунитет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лат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as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авление 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го-либ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 способность  организма  избавляться  от  чужеродных  тел,  сохраняя  постоянство  внутренней  сред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8" name="AutoShape 28"/>
          <p:cNvSpPr/>
          <p:nvPr/>
        </p:nvSpPr>
        <p:spPr>
          <a:xfrm>
            <a:off x="2411280" y="0"/>
            <a:ext cx="3961080" cy="40561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ммун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2050560" y="3429000"/>
            <a:ext cx="100836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4356000" y="386064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31"/>
          <p:cNvSpPr/>
          <p:nvPr/>
        </p:nvSpPr>
        <p:spPr>
          <a:xfrm>
            <a:off x="6012000" y="3573360"/>
            <a:ext cx="8650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949320" y="4648320"/>
            <a:ext cx="258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лочковая  жел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иму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ступают  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тного  моз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 формиру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-лимфоци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3492360" y="510552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тный 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6282000" y="4313160"/>
            <a:ext cx="209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мфа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озре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-лимфоци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абатыв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те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539640" y="1484280"/>
          <a:ext cx="8496360" cy="5451480"/>
        </p:xfrm>
        <a:graphic>
          <a:graphicData uri="http://schemas.openxmlformats.org/drawingml/2006/table">
            <a:tbl>
              <a:tblPr/>
              <a:tblGrid>
                <a:gridCol w="1224000"/>
                <a:gridCol w="1728720"/>
                <a:gridCol w="1440000"/>
                <a:gridCol w="2016000"/>
                <a:gridCol w="2087640"/>
              </a:tblGrid>
              <a:tr h="60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о-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дст-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-ретён-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  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ют  чумой  собак, куриной  хол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осприимчи-вость  к  заб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а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ей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акци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аци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убитые  или ослаблен-ные  микро-организм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вка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кци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 введ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 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ече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ыворот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готовых  анти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)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екционные  боле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042920" y="162864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збу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3924360" y="1844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279320" y="1844640"/>
            <a:ext cx="23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грибки  и 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62040" y="2916360"/>
            <a:ext cx="415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разны!  Быстр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остраняютс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21320" y="4067280"/>
            <a:ext cx="76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Частые  инфекционные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РЗ,  грипп,  корь,  коклюш,  ветряна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па,  свинка,  столбняк,  СПИ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фили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ИД -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индром  приобретённого  иммунодефицит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торическая  справ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ирус  найден  в  Африке  (50 - 60 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организме  зелёных  марты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это  результат  мутации  безвредных    вирусо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первые  обнаружен  в  1981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Калифорнии   среди  гомосексуал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ывался  «голубой  рак»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6:29:29Z</dcterms:created>
  <dc:creator>Home</dc:creator>
  <dc:description/>
  <dc:language>en-US</dc:language>
  <cp:lastModifiedBy>User</cp:lastModifiedBy>
  <dcterms:modified xsi:type="dcterms:W3CDTF">2011-12-15T15:19:24Z</dcterms:modified>
  <cp:revision>41</cp:revision>
  <dc:subject/>
  <dc:title>Презентация  по  теме:</dc:title>
</cp:coreProperties>
</file>