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4AA-8FB5-445A-9562-0143CE7D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E60-02F4-467B-A965-B98D0F7A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085-458D-4CF8-A87E-36142385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5E7-5ACD-4F11-AB1D-B28C4DC9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6EF3-5593-4D8F-8B55-C0C2693D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0791-8467-47FB-89CD-42005B39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5C98-1F75-4D04-88E7-8EFCF4A8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9CDE-DD54-4F62-9C9A-189DD254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4F2F-6BAD-4C8F-969B-3CFDED51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F524-539A-458F-A98C-15EF965D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EB2D-0F36-40C5-A3EF-C9FBA95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900-9BC9-4BDF-BE8B-D49F7361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DD74-C62E-456B-86AF-DBE26D25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05B0-601B-4CD8-A57F-D2758EE6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3179-4714-471C-957C-A6625CDD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40B9-67AD-48A0-9F2C-5B767727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BC75-B7DF-4DB4-8DD4-B5C3C7B7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EC2F-964B-4053-903E-8B447C43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5596-FE1A-421C-B17A-79863278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680F-6393-4AED-A4FF-83919DE1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284F8-817E-4C63-A9C8-6321546B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0699-C2C5-4164-AD65-B1536232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981-CD08-4292-8AF2-5A56E03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F9B0E-86C6-4700-9BC9-146927B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E2CB-2CC4-40A4-9436-1B57E217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611B-1275-44C5-80D6-C156527B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6C5B-9536-49BD-A1E5-F225CBAF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A948-F52F-4FD5-9E8D-B07933A5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566A-479F-470B-B0EC-CC349EC1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B8770-4319-48C5-BCB7-B97C1885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471AB-4D8B-4A62-8486-BAFC7A95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F615A-4439-45DD-8C75-70C52DBC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1094-9BCE-4FAE-B58F-E7811016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C2E-2968-41DB-A36A-22E1951E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3B14-31F0-4326-90B1-42FC12A6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6761-9269-4CC4-9612-78B0E692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C857A-CB69-4D6F-B0DA-ED90D4F4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6945-CAAB-4C2A-A2FC-0FBEA13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00B0-D8E9-443B-9A14-4797B109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F0BD6-8C66-4075-94C4-4811A1D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9A11-9742-42C3-841E-1B400EC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816AF-6187-4B9C-AA7A-B320494A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4020-CB3F-4784-98E8-116DB4D4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89B-6579-46F1-9CE5-94A63AC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4DD-553D-451A-977E-7DD06AD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E5C-D4DC-4420-9EA5-5DD5ABCD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296-840F-4C89-9ABD-E064103E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A59-F165-4212-9B98-67B59A5D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3162-F6F5-46B0-8B1F-E3F65B5E15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E06-91B7-44C7-9A92-B25D6ACFC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66BD-E88D-449E-BF54-E2DD36A7C8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C9B-0289-4F03-A291-337422D279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755640" y="1773360"/>
            <a:ext cx="777708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"Иммунитет. Иммунная  система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4" name="TextBox 6"/>
          <p:cNvSpPr/>
          <p:nvPr/>
        </p:nvSpPr>
        <p:spPr>
          <a:xfrm>
            <a:off x="2500200" y="4071960"/>
            <a:ext cx="407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еенко Сл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ути  передачи  СПИД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6" name="Picture 5" descr="j0286034"/>
          <p:cNvPicPr/>
          <p:nvPr/>
        </p:nvPicPr>
        <p:blipFill>
          <a:blip r:embed="rId1"/>
          <a:stretch/>
        </p:blipFill>
        <p:spPr>
          <a:xfrm>
            <a:off x="4113360" y="3421080"/>
            <a:ext cx="917280" cy="8841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35120" y="1857240"/>
            <a:ext cx="7194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 переливании  кров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 шприц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ой  п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  чере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альный  секс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 мат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ворожденному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j0302953"/>
          <p:cNvPicPr/>
          <p:nvPr/>
        </p:nvPicPr>
        <p:blipFill>
          <a:blip r:embed="rId1"/>
          <a:stretch/>
        </p:blipFill>
        <p:spPr>
          <a:xfrm>
            <a:off x="1547640" y="0"/>
            <a:ext cx="5905800" cy="66261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7"/>
          <p:cNvSpPr/>
          <p:nvPr/>
        </p:nvSpPr>
        <p:spPr>
          <a:xfrm>
            <a:off x="2462400" y="53964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мптомы  заболе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386440" y="1287360"/>
            <a:ext cx="49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аб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тощение  организм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ительная  температур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палительные 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2321280" y="3825720"/>
            <a:ext cx="480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ирус  пораж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иммунную  систем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организма!!!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1103400"/>
            <a:ext cx="8510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ccecff"/>
                </a:solidFill>
                <a:latin typeface="Arial"/>
              </a:rPr>
              <a:t>Лейкоциты</a:t>
            </a:r>
            <a:br>
              <a:rPr sz="4700"/>
            </a:br>
            <a:r>
              <a:rPr b="0" lang="ru-RU" sz="3100" spc="-1" strike="noStrike">
                <a:solidFill>
                  <a:srgbClr val="ccecff"/>
                </a:solidFill>
                <a:latin typeface="Arial"/>
              </a:rPr>
              <a:t>(клетки – защитники):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84428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крупные  белые  клетки  крови  с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бесцветными  ядрам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изменяют  форму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обладают  амёбовидным  движением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образуются  в  красном  костном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зге,  селезёнке,  лимф. узлах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живут  3 – 5 дней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отмирают  в  печени,  селезёнке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лимф. узлах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количество:  6 – 8 тысяч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9608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Разновидности лейкоцитов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28" name="Rectangle 3"/>
          <p:cNvGrpSpPr/>
          <p:nvPr/>
        </p:nvGrpSpPr>
        <p:grpSpPr>
          <a:xfrm>
            <a:off x="539640" y="1844640"/>
            <a:ext cx="8064360" cy="4176720"/>
            <a:chOff x="539640" y="1844640"/>
            <a:chExt cx="8064360" cy="4176720"/>
          </a:xfrm>
        </p:grpSpPr>
        <p:sp>
          <p:nvSpPr>
            <p:cNvPr id="429" name="AutoShape 2"/>
            <p:cNvSpPr/>
            <p:nvPr/>
          </p:nvSpPr>
          <p:spPr>
            <a:xfrm>
              <a:off x="539640" y="1844640"/>
              <a:ext cx="8064360" cy="4176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30" name="_s46085"/>
            <p:cNvCxnSpPr>
              <a:stCxn id="431" idx="2"/>
              <a:endCxn id="431" idx="3"/>
            </p:cNvCxnSpPr>
            <p:nvPr/>
          </p:nvCxnSpPr>
          <p:spPr>
            <a:xfrm rot="10800000">
              <a:off x="4546080" y="2976480"/>
              <a:ext cx="428400" cy="93024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2" name="_s46083"/>
            <p:cNvCxnSpPr/>
            <p:nvPr/>
          </p:nvCxnSpPr>
          <p:spPr>
            <a:xfrm flipV="1">
              <a:off x="4031280" y="2976840"/>
              <a:ext cx="516240" cy="93024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3" name="_s46090"/>
            <p:cNvCxnSpPr>
              <a:stCxn id="434" idx="0"/>
              <a:endCxn id="431" idx="3"/>
            </p:cNvCxnSpPr>
            <p:nvPr/>
          </p:nvCxnSpPr>
          <p:spPr>
            <a:xfrm flipV="1" rot="16200000">
              <a:off x="5144400" y="2378880"/>
              <a:ext cx="1719720" cy="2914920"/>
            </a:xfrm>
            <a:prstGeom prst="bentConnector3">
              <a:avLst>
                <a:gd name="adj1" fmla="val 663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5" name="_s46089"/>
            <p:cNvCxnSpPr>
              <a:stCxn id="436" idx="0"/>
              <a:endCxn id="431" idx="3"/>
            </p:cNvCxnSpPr>
            <p:nvPr/>
          </p:nvCxnSpPr>
          <p:spPr>
            <a:xfrm flipV="1" rot="16200000">
              <a:off x="3732480" y="3790080"/>
              <a:ext cx="1719720" cy="92520"/>
            </a:xfrm>
            <a:prstGeom prst="bentConnector3">
              <a:avLst>
                <a:gd name="adj1" fmla="val 663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7" name="_s46088"/>
            <p:cNvCxnSpPr/>
            <p:nvPr/>
          </p:nvCxnSpPr>
          <p:spPr>
            <a:xfrm flipH="1" flipV="1" rot="5400000">
              <a:off x="2322000" y="2471040"/>
              <a:ext cx="1719720" cy="2730960"/>
            </a:xfrm>
            <a:prstGeom prst="bentConnector3">
              <a:avLst>
                <a:gd name="adj1" fmla="val 663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431" name="AutoShape 4"/>
            <p:cNvSpPr/>
            <p:nvPr/>
          </p:nvSpPr>
          <p:spPr>
            <a:xfrm>
              <a:off x="3362040" y="2540520"/>
              <a:ext cx="2419200" cy="438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AutoShape 5"/>
            <p:cNvSpPr/>
            <p:nvPr/>
          </p:nvSpPr>
          <p:spPr>
            <a:xfrm>
              <a:off x="539640" y="4696200"/>
              <a:ext cx="2419200" cy="1277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88e4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Нейтроф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70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нейтральная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ре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_s46086"/>
            <p:cNvSpPr/>
            <p:nvPr/>
          </p:nvSpPr>
          <p:spPr>
            <a:xfrm>
              <a:off x="3362040" y="4696200"/>
              <a:ext cx="2419200" cy="1277640"/>
            </a:xfrm>
            <a:prstGeom prst="cube">
              <a:avLst>
                <a:gd name="adj" fmla="val 10763"/>
              </a:avLst>
            </a:prstGeom>
            <a:solidFill>
              <a:srgbClr val="cbc6f0">
                <a:alpha val="40000"/>
              </a:srgbClr>
            </a:solidFill>
            <a:ln w="93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Базоф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0,5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основ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ре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синие)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_s46087"/>
            <p:cNvSpPr/>
            <p:nvPr/>
          </p:nvSpPr>
          <p:spPr>
            <a:xfrm>
              <a:off x="6184440" y="4696200"/>
              <a:ext cx="2419200" cy="1277640"/>
            </a:xfrm>
            <a:prstGeom prst="cube">
              <a:avLst>
                <a:gd name="adj" fmla="val 10763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Эозиноф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1,5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кислая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ре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красные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_s46082"/>
            <p:cNvSpPr/>
            <p:nvPr/>
          </p:nvSpPr>
          <p:spPr>
            <a:xfrm>
              <a:off x="1749240" y="3198600"/>
              <a:ext cx="2419200" cy="1277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fe1ff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afe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Лимфоциты (24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вырабатывают  антите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_s46084"/>
            <p:cNvSpPr/>
            <p:nvPr/>
          </p:nvSpPr>
          <p:spPr>
            <a:xfrm>
              <a:off x="4974840" y="3198600"/>
              <a:ext cx="2419200" cy="1277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fe1ff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afe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Моноциты (4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макрофаг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чников  Илья  Ильич –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крыл  явление  фагоцитоз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2" name="Picture 17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3502080" cy="37497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…У  нас  перед  домом  был  небольшой  сад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  вырвал  там  несколько  розовых  шипов  и  ввёл  их  под  кожу  красивейшей,  прозрачной,  как  вода,  личинки  морской  звезды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1882 го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ммунитет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т лат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as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авление  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го-либ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 способность  организма  избавляться  от  чужеродных  тел,  сохраняя  постоянство  внутренней  среды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7" name="Diagram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8" name="AutoShape 28"/>
          <p:cNvSpPr/>
          <p:nvPr/>
        </p:nvSpPr>
        <p:spPr>
          <a:xfrm>
            <a:off x="2411280" y="0"/>
            <a:ext cx="3961080" cy="405612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ммунн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2050560" y="3429000"/>
            <a:ext cx="100836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30"/>
          <p:cNvSpPr/>
          <p:nvPr/>
        </p:nvSpPr>
        <p:spPr>
          <a:xfrm>
            <a:off x="4356000" y="386064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31"/>
          <p:cNvSpPr/>
          <p:nvPr/>
        </p:nvSpPr>
        <p:spPr>
          <a:xfrm>
            <a:off x="6012000" y="3573360"/>
            <a:ext cx="8650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949320" y="4648320"/>
            <a:ext cx="258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лочковая  жел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тиму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ступают  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тного  моз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 формиру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-лимфоцит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3492360" y="5105520"/>
            <a:ext cx="19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тный  моз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6282000" y="4313160"/>
            <a:ext cx="209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мфа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озре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-лимфоцит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рабатыва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ите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ммунит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539640" y="1484280"/>
          <a:ext cx="8496360" cy="5451480"/>
        </p:xfrm>
        <a:graphic>
          <a:graphicData uri="http://schemas.openxmlformats.org/drawingml/2006/table">
            <a:tbl>
              <a:tblPr/>
              <a:tblGrid>
                <a:gridCol w="1224000"/>
                <a:gridCol w="1728720"/>
                <a:gridCol w="1440000"/>
                <a:gridCol w="2016000"/>
                <a:gridCol w="2087640"/>
              </a:tblGrid>
              <a:tr h="60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те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кус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о-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дст-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б-ретён-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ссив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и  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ют  чумой  собак, куриной  холер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осприимчи-вость  к  забо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а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ей 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ссив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вакци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аци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убитые  или ослаблен-ные  микро-организм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вка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е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кци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 введ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я 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лечеб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ыворот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готовых  анти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)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екционные  боле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042920" y="162864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збуд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3924360" y="1844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279320" y="1844640"/>
            <a:ext cx="23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р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кро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грибки  и 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62040" y="2916360"/>
            <a:ext cx="415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разны!  Быстр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ространяютс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1021320" y="4067280"/>
            <a:ext cx="767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Частые  инфекционные  заболе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РЗ,  грипп,  корь,  коклюш,  ветряна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спа,  свинка,  столбняк,  СПИ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ифили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СПИД -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индром  приобретённого  иммунодефицит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сторическая  справ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вирус  найден  в  Африке  (50 - 60 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 организме  зелёных  мартыш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это  результат  мутации  безвредных    вирусов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впервые  обнаружен  в  1981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 Калифорнии   среди  гомосексуал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зывался  «голубой  рак»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6:29:29Z</dcterms:created>
  <dc:creator>Home</dc:creator>
  <dc:description/>
  <dc:language>en-US</dc:language>
  <cp:lastModifiedBy>User</cp:lastModifiedBy>
  <dcterms:modified xsi:type="dcterms:W3CDTF">2011-12-15T15:19:24Z</dcterms:modified>
  <cp:revision>41</cp:revision>
  <dc:subject/>
  <dc:title>Презентация  по  теме:</dc:title>
</cp:coreProperties>
</file>