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E387-CB48-4573-99D5-75FF45354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8DA4-5D4D-4990-8775-A3B80F558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B159-6133-4052-8E39-C8FA19001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7886-A9E9-4002-9E96-A6A5D1923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78012-F71B-47E2-9481-6D78C8BB0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E0DE6-7D30-44AE-A703-88F14E4E4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7CC07-ED92-4FFE-ABE5-DEA0AAB54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560B7-DADC-4687-A35B-9ACEFD5E7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D6C12-3861-4947-BBEB-55809A58F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0F05C-085F-44A4-9362-38F363F2E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30BAA-A73A-4570-8BDC-8F0D0884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06A5-21B0-402C-9D2D-0B37942A3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62E11-B99A-4049-8DAE-0C79A6A4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AEF6F-5F5E-466D-BBCB-19A607E3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97E9D-D81D-4452-8C82-2910A314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30B30-A201-4333-8903-064293D67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05293-ECD7-4689-A7D9-78E1BC025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6A5C7-4A8B-4CD7-BB0D-AE881B7E6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EBB6A-2672-4DB3-BF24-6C3A0750D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50944-FC03-4448-B669-DD44BB9AC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87FC8-6FD7-47F8-997B-C6ADF63FD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7836A-B9E9-422B-8392-2391DCA80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A5E7-27E6-4F3C-B735-E86C19A27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DFB18-4896-42DA-AAA3-E5BA19D96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E9B25-CE9C-4BF1-B07B-2204B44F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59F09-7919-4B2F-9932-11D15F1F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E40ED-8FE2-44BD-A6D7-7BFEF98E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07FC9-A64F-4D55-9FAE-CD989BA03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6E2AD-CA4F-4BC6-9447-B4F9A0277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A4E0E-5F46-4775-A18B-48624FFE4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EF29A-D701-47BA-AFC6-0C80D0ADD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8DC94-D1DE-4465-B4E2-8B5E0A0EE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E2875-CB34-433F-B8B2-AA4D34663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F0B2-5A2C-4559-9676-4350CEF3B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04862-1A67-4E99-9872-62EC5E62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74B75-0EA8-49DF-86CC-44B1382D7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14F19-971A-4DE4-A367-6D659C779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34A1A-FA64-4025-BC74-6EFFB04F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30C0D-CD98-42AF-AFE3-B5A15724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BA1CF-038A-458A-BB33-9482AF46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04FAE-8927-44A5-87DA-C0BB3422C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B0856-E1A7-4EF6-B136-903F038A0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D5C30-428C-4CDD-9625-004035097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984E-244B-4C46-9D05-6BCFC6898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C56E-D431-4EE8-993B-AE3FFA1B6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9884-0709-4D26-A1E2-68C41D79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F8FD-2B22-495A-88FB-E8B26150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EF93-D9F2-474B-B8FA-0F3614FE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42FFF-53C0-400D-B7D0-F36FB26D4960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D0F27-98D8-498B-8BC4-E9550FC4D6E5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A1C85-72A1-485E-96C1-E8942BC1CA7E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031B1-C930-4EDF-BC60-8996E61A09B8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57120" y="1213920"/>
            <a:ext cx="8229600" cy="438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000" spc="-1" strike="noStrike">
                <a:solidFill>
                  <a:srgbClr val="0000cc"/>
                </a:solidFill>
                <a:latin typeface="Constantia"/>
              </a:rPr>
              <a:t>Множества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000" spc="-1" strike="noStrike">
                <a:solidFill>
                  <a:srgbClr val="0000cc"/>
                </a:solidFill>
                <a:latin typeface="Constantia"/>
              </a:rPr>
              <a:t>                     </a:t>
            </a:r>
            <a:r>
              <a:rPr b="0" i="1" lang="ru-RU" sz="5000" spc="-1" strike="noStrike">
                <a:solidFill>
                  <a:srgbClr val="0000cc"/>
                </a:solidFill>
                <a:latin typeface="Constantia"/>
              </a:rPr>
              <a:t>Круги Эйлера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8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cc"/>
                </a:solidFill>
                <a:latin typeface="Constantia"/>
              </a:rPr>
              <a:t>                                </a:t>
            </a:r>
            <a:r>
              <a:rPr b="0" i="1" lang="ru-RU" sz="3000" spc="-1" strike="noStrike">
                <a:solidFill>
                  <a:srgbClr val="0000cc"/>
                </a:solidFill>
                <a:latin typeface="Constantia"/>
              </a:rPr>
              <a:t>Выполнил :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cc"/>
                </a:solidFill>
                <a:latin typeface="Constantia"/>
              </a:rPr>
              <a:t>                                </a:t>
            </a:r>
            <a:r>
              <a:rPr b="0" i="1" lang="ru-RU" sz="3000" spc="-1" strike="noStrike">
                <a:solidFill>
                  <a:srgbClr val="0000cc"/>
                </a:solidFill>
                <a:latin typeface="Constantia"/>
              </a:rPr>
              <a:t>Алексеенко Слава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642960" y="17143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набор, совокупность, собрание каких-либо объектов      (элементов), обладающих общим для всех их характеристическим свойство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ccff"/>
                </a:solidFill>
                <a:latin typeface="Times New Roman"/>
                <a:ea typeface="Times New Roman"/>
              </a:rPr>
              <a:t>Для наглядного представления множеств используют диаграммы Эйлера-Венна. В этом случае множества обозначают областями на плоскости и внутри этих областей условно располагают элементы множества</a:t>
            </a:r>
            <a:r>
              <a:rPr b="0" lang="ru-RU" sz="2400" spc="-1" strike="noStrike">
                <a:solidFill>
                  <a:srgbClr val="00cc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7" name="Picture 1" descr="C:\Users\Даша\Desktop\220px-Venn_A_subset_B.svg.png"/>
          <p:cNvPicPr/>
          <p:nvPr/>
        </p:nvPicPr>
        <p:blipFill>
          <a:blip r:embed="rId1"/>
          <a:stretch/>
        </p:blipFill>
        <p:spPr>
          <a:xfrm>
            <a:off x="6286680" y="2357280"/>
            <a:ext cx="2239920" cy="2240280"/>
          </a:xfrm>
          <a:prstGeom prst="rect">
            <a:avLst/>
          </a:prstGeom>
          <a:ln w="0">
            <a:noFill/>
          </a:ln>
        </p:spPr>
      </p:pic>
      <p:pic>
        <p:nvPicPr>
          <p:cNvPr id="198" name="Прямоугольник 3" descr=""/>
          <p:cNvPicPr/>
          <p:nvPr/>
        </p:nvPicPr>
        <p:blipFill>
          <a:blip r:embed="rId2"/>
          <a:stretch/>
        </p:blipFill>
        <p:spPr>
          <a:xfrm>
            <a:off x="-189000" y="609480"/>
            <a:ext cx="4943520" cy="11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"/>
          <p:cNvSpPr/>
          <p:nvPr/>
        </p:nvSpPr>
        <p:spPr>
          <a:xfrm>
            <a:off x="0" y="1579320"/>
            <a:ext cx="439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99cc"/>
                </a:solidFill>
                <a:latin typeface="Times New Roman"/>
                <a:ea typeface="Times New Roman"/>
              </a:rPr>
              <a:t>Покажем, например, С помощью диаграммы Эйлера-Венна, что множество А является подмножеством множества В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http://www.bestreferat.ru/images/paper/52/80/4578052.jpeg"/>
          <p:cNvPicPr/>
          <p:nvPr/>
        </p:nvPicPr>
        <p:blipFill>
          <a:blip r:embed="rId1"/>
          <a:stretch/>
        </p:blipFill>
        <p:spPr>
          <a:xfrm>
            <a:off x="165240" y="3809880"/>
            <a:ext cx="4125600" cy="29876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http://www.bestreferat.ru/images/paper/53/80/4578053.jpeg"/>
          <p:cNvPicPr/>
          <p:nvPr/>
        </p:nvPicPr>
        <p:blipFill>
          <a:blip r:embed="rId2"/>
          <a:stretch/>
        </p:blipFill>
        <p:spPr>
          <a:xfrm>
            <a:off x="4913280" y="3486240"/>
            <a:ext cx="4316400" cy="3865320"/>
          </a:xfrm>
          <a:prstGeom prst="rect">
            <a:avLst/>
          </a:prstGeom>
          <a:ln w="0">
            <a:noFill/>
          </a:ln>
        </p:spPr>
      </p:pic>
      <p:sp>
        <p:nvSpPr>
          <p:cNvPr id="202" name="TextBox 9"/>
          <p:cNvSpPr/>
          <p:nvPr/>
        </p:nvSpPr>
        <p:spPr>
          <a:xfrm>
            <a:off x="4286160" y="1571760"/>
            <a:ext cx="4643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С помощью такой диаграммы становиться наглядным, например, такое утверждение: если А принадлежит  В, а В принадлежит  С, то А принадлежит 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57200" y="160020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есечением А ∩ В множеств А и В называется множество, состоящее из всех элементов, принадлежащих одновременно каждому из множеств А и В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Picture 3" descr="C:\Users\Даша\Desktop\220px-Venn0001.svg.png"/>
          <p:cNvPicPr/>
          <p:nvPr/>
        </p:nvPicPr>
        <p:blipFill>
          <a:blip r:embed="rId1"/>
          <a:stretch/>
        </p:blipFill>
        <p:spPr>
          <a:xfrm>
            <a:off x="2378160" y="3236760"/>
            <a:ext cx="4260600" cy="3213360"/>
          </a:xfrm>
          <a:prstGeom prst="rect">
            <a:avLst/>
          </a:prstGeom>
          <a:ln w="0">
            <a:noFill/>
          </a:ln>
        </p:spPr>
      </p:pic>
      <p:grpSp>
        <p:nvGrpSpPr>
          <p:cNvPr id="205" name="Группа 5"/>
          <p:cNvGrpSpPr/>
          <p:nvPr/>
        </p:nvGrpSpPr>
        <p:grpSpPr>
          <a:xfrm>
            <a:off x="3276720" y="4076640"/>
            <a:ext cx="2590560" cy="440280"/>
            <a:chOff x="3276720" y="4076640"/>
            <a:chExt cx="2590560" cy="440280"/>
          </a:xfrm>
        </p:grpSpPr>
        <p:sp>
          <p:nvSpPr>
            <p:cNvPr id="206" name="TextBox 6"/>
            <p:cNvSpPr/>
            <p:nvPr/>
          </p:nvSpPr>
          <p:spPr>
            <a:xfrm>
              <a:off x="3276720" y="414864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Box 7"/>
            <p:cNvSpPr/>
            <p:nvPr/>
          </p:nvSpPr>
          <p:spPr>
            <a:xfrm>
              <a:off x="5435640" y="407664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8" name="Прямоугольник 7" descr=""/>
          <p:cNvPicPr/>
          <p:nvPr/>
        </p:nvPicPr>
        <p:blipFill>
          <a:blip r:embed="rId2"/>
          <a:stretch/>
        </p:blipFill>
        <p:spPr>
          <a:xfrm>
            <a:off x="133200" y="328680"/>
            <a:ext cx="8766360" cy="109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бъединением АВ множеств А и В называется множество, состоящее из всех элементов, принадлежащих хотя бы одному из множеств А или В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3" descr="C:\Users\Даша\Desktop\220px-Venn0111.svg.png"/>
          <p:cNvPicPr/>
          <p:nvPr/>
        </p:nvPicPr>
        <p:blipFill>
          <a:blip r:embed="rId1"/>
          <a:stretch/>
        </p:blipFill>
        <p:spPr>
          <a:xfrm>
            <a:off x="2706840" y="3371760"/>
            <a:ext cx="3949560" cy="5753160"/>
          </a:xfrm>
          <a:prstGeom prst="rect">
            <a:avLst/>
          </a:prstGeom>
          <a:ln w="0">
            <a:noFill/>
          </a:ln>
        </p:spPr>
      </p:pic>
      <p:grpSp>
        <p:nvGrpSpPr>
          <p:cNvPr id="211" name="Группа 8"/>
          <p:cNvGrpSpPr/>
          <p:nvPr/>
        </p:nvGrpSpPr>
        <p:grpSpPr>
          <a:xfrm>
            <a:off x="3348000" y="4076640"/>
            <a:ext cx="2592360" cy="440280"/>
            <a:chOff x="3348000" y="4076640"/>
            <a:chExt cx="2592360" cy="440280"/>
          </a:xfrm>
        </p:grpSpPr>
        <p:sp>
          <p:nvSpPr>
            <p:cNvPr id="212" name="TextBox 6"/>
            <p:cNvSpPr/>
            <p:nvPr/>
          </p:nvSpPr>
          <p:spPr>
            <a:xfrm>
              <a:off x="3348000" y="414864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Box 7"/>
            <p:cNvSpPr/>
            <p:nvPr/>
          </p:nvSpPr>
          <p:spPr>
            <a:xfrm>
              <a:off x="5508360" y="407664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4" name="Прямоугольник 7" descr=""/>
          <p:cNvPicPr/>
          <p:nvPr/>
        </p:nvPicPr>
        <p:blipFill>
          <a:blip r:embed="rId2"/>
          <a:stretch/>
        </p:blipFill>
        <p:spPr>
          <a:xfrm>
            <a:off x="-109440" y="353880"/>
            <a:ext cx="9223200" cy="121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24000" y="1600200"/>
            <a:ext cx="864072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Пусть множество А и В таковы, что А принадлежит В. Тогда дополнением множества А до множества В называется разность В\А. В этом случае применяется обозначение С</a:t>
            </a:r>
            <a:r>
              <a:rPr b="0" i="1" lang="ru-RU" sz="2400" spc="-1" strike="noStrike" baseline="-25000">
                <a:solidFill>
                  <a:srgbClr val="0066ff"/>
                </a:solidFill>
                <a:latin typeface="Times New Roman"/>
                <a:ea typeface="Times New Roman"/>
              </a:rPr>
              <a:t>B</a:t>
            </a:r>
            <a:r>
              <a:rPr b="0" i="1" lang="ru-RU" sz="2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А=В\А. Если в качестве множества В берётся универсальное множество U, то применяется обозначение СА=С</a:t>
            </a:r>
            <a:r>
              <a:rPr b="0" i="1" lang="ru-RU" sz="2400" spc="-1" strike="noStrike" baseline="-25000">
                <a:solidFill>
                  <a:srgbClr val="0066ff"/>
                </a:solidFill>
                <a:latin typeface="Times New Roman"/>
                <a:ea typeface="Times New Roman"/>
              </a:rPr>
              <a:t>U</a:t>
            </a:r>
            <a:r>
              <a:rPr b="0" i="1" lang="ru-RU" sz="2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А=U\А и такое множество просто называют дополнением множества 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Picture 3" descr="http://www.bestreferat.ru/images/paper/67/80/4578067.jpeg"/>
          <p:cNvPicPr/>
          <p:nvPr/>
        </p:nvPicPr>
        <p:blipFill>
          <a:blip r:embed="rId1"/>
          <a:stretch/>
        </p:blipFill>
        <p:spPr>
          <a:xfrm>
            <a:off x="4516560" y="4091040"/>
            <a:ext cx="4219560" cy="23763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" descr="http://www.bestreferat.ru/images/paper/66/80/4578066.jpeg"/>
          <p:cNvPicPr/>
          <p:nvPr/>
        </p:nvPicPr>
        <p:blipFill>
          <a:blip r:embed="rId2"/>
          <a:stretch/>
        </p:blipFill>
        <p:spPr>
          <a:xfrm>
            <a:off x="701640" y="4091040"/>
            <a:ext cx="3565440" cy="2395440"/>
          </a:xfrm>
          <a:prstGeom prst="rect">
            <a:avLst/>
          </a:prstGeom>
          <a:ln w="0">
            <a:noFill/>
          </a:ln>
        </p:spPr>
      </p:pic>
      <p:pic>
        <p:nvPicPr>
          <p:cNvPr id="218" name="Прямоугольник 5" descr=""/>
          <p:cNvPicPr/>
          <p:nvPr/>
        </p:nvPicPr>
        <p:blipFill>
          <a:blip r:embed="rId3"/>
          <a:stretch/>
        </p:blipFill>
        <p:spPr>
          <a:xfrm>
            <a:off x="-176040" y="285840"/>
            <a:ext cx="9216720" cy="114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ностью А\В множеств А и В называется множество, состоящее из всех элементов множества А, которые не принадлежат множеству В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3" descr="C:\Users\Даша\Desktop\220px-Venn0100.svg.png"/>
          <p:cNvPicPr/>
          <p:nvPr/>
        </p:nvPicPr>
        <p:blipFill>
          <a:blip r:embed="rId1"/>
          <a:stretch/>
        </p:blipFill>
        <p:spPr>
          <a:xfrm>
            <a:off x="1547640" y="3054240"/>
            <a:ext cx="5035680" cy="3175200"/>
          </a:xfrm>
          <a:prstGeom prst="rect">
            <a:avLst/>
          </a:prstGeom>
          <a:ln w="0">
            <a:noFill/>
          </a:ln>
        </p:spPr>
      </p:pic>
      <p:grpSp>
        <p:nvGrpSpPr>
          <p:cNvPr id="221" name="Группа 5"/>
          <p:cNvGrpSpPr/>
          <p:nvPr/>
        </p:nvGrpSpPr>
        <p:grpSpPr>
          <a:xfrm>
            <a:off x="3276720" y="3933720"/>
            <a:ext cx="2590560" cy="368280"/>
            <a:chOff x="3276720" y="3933720"/>
            <a:chExt cx="2590560" cy="368280"/>
          </a:xfrm>
        </p:grpSpPr>
        <p:sp>
          <p:nvSpPr>
            <p:cNvPr id="222" name="TextBox 6"/>
            <p:cNvSpPr/>
            <p:nvPr/>
          </p:nvSpPr>
          <p:spPr>
            <a:xfrm>
              <a:off x="3276720" y="393372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Box 7"/>
            <p:cNvSpPr/>
            <p:nvPr/>
          </p:nvSpPr>
          <p:spPr>
            <a:xfrm>
              <a:off x="5435640" y="393372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4" name="Прямоугольник 7" descr=""/>
          <p:cNvPicPr/>
          <p:nvPr/>
        </p:nvPicPr>
        <p:blipFill>
          <a:blip r:embed="rId2"/>
          <a:stretch/>
        </p:blipFill>
        <p:spPr>
          <a:xfrm>
            <a:off x="579600" y="212760"/>
            <a:ext cx="757692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Прямоугольник 3" descr=""/>
          <p:cNvPicPr/>
          <p:nvPr/>
        </p:nvPicPr>
        <p:blipFill>
          <a:blip r:embed="rId1"/>
          <a:stretch/>
        </p:blipFill>
        <p:spPr>
          <a:xfrm>
            <a:off x="2975040" y="2786040"/>
            <a:ext cx="3170160" cy="1109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0:59:45Z</dcterms:created>
  <dc:creator>Даша</dc:creator>
  <dc:description/>
  <dc:language>en-US</dc:language>
  <cp:lastModifiedBy>User</cp:lastModifiedBy>
  <dcterms:modified xsi:type="dcterms:W3CDTF">2012-09-20T14:46:23Z</dcterms:modified>
  <cp:revision>9</cp:revision>
  <dc:subject/>
  <dc:title>Множества. Круги эйлера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Документ</vt:lpwstr>
  </property>
  <property fmtid="{D5CDD505-2E9C-101B-9397-08002B2CF9AE}" pid="3" name="Тип работы">
    <vt:lpwstr/>
  </property>
</Properties>
</file>