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AAD-9257-4224-B814-15484172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6E0-3DB8-45BE-A9C4-F66AE0A1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08D5-D9B2-43DF-BC78-BD881F0B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AE8-92DE-4481-8F0F-EEE9E5B2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CDE6-1BAF-4205-9426-E4646DF4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8705-B224-4FF5-AEDF-A019C0C1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3012-E67B-414F-8368-CD6177FA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93C8-4556-4BF3-B318-CE8E183C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68A7-9DC2-4E58-826E-2A965C08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C91C-7453-4477-B328-43282BDE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13A9-C6D9-426F-B5A6-F0344C3B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5B8-B4BE-4447-9656-C3CE19E7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6FFD-00CA-40B0-8D23-19DA62AB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905C-D0C0-44FD-AA15-C9F7EC1B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FD37-1AFF-4674-BA58-EBD8DFEF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3EE8-76F4-46C5-B478-49BB5790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18AF-8CD2-4E81-8858-B4F071B7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AB454-2A34-462F-AE6B-9FE83576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9BCAD-492B-47FB-BD37-2AF49605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EF864-FAC4-4C0E-BB0C-855C2A01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BEBA1-77FF-485C-B055-C2AEEEC1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E9787-1D81-4189-AE6A-96190BAF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D73-711C-4CC1-98CA-FEB0B56A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DF9E1-7EDA-4516-B84C-CD49C65B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25428-6D83-45E1-A966-73C800C1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CBAF3-EA97-42DE-96BA-17876B11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C7B30-748D-42E4-989C-E1D68ADB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4740C-041F-4932-A682-30D82BE0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F789F-306F-43E1-B66F-666940A9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D035B-86B7-49AA-B381-64311F31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013DB-2559-4470-97C9-F623B01D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336BE-CDA6-43BD-B716-0ABFEE2B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B1FD9-A8AD-48BC-AD47-3C5A60EE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FB9B-B489-46D6-B9A3-A267D1D0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4FCF4-093B-4DA6-81FC-35AA73E1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F2E9B-1D61-4EEB-8E17-C4CB51DC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DD9CF-2426-4AB5-8FCD-9990298D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15D84-AF30-441E-B1A1-0596FF51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5CF48-352D-4A84-BC3E-8260526E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14547-ACE2-4A56-A5B4-E3001345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16E79-D71E-4742-AEA9-DB330144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949C7-9DC8-46EC-A3F3-18AE2B44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8272A-C1CD-4A8F-9EA7-63D06964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412A-D0CA-44A0-88CC-0264C3A8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FA2-5D51-457F-BF56-C17BC77A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036B-845F-4809-A574-8620F512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FD3-B02D-4043-A11D-A13115D6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F4F-8045-4254-B660-FB7FB558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92CE-8423-40C9-B77B-F025B427F20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CB24-6965-4422-A36B-D740E934099E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7F77-1B53-4719-B545-257A5BC11F5F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476C-90AE-4D1F-848E-C7D06DB5865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7120" y="1213920"/>
            <a:ext cx="8229600" cy="43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000cc"/>
                </a:solidFill>
                <a:latin typeface="Constantia"/>
              </a:rPr>
              <a:t>Множества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000cc"/>
                </a:solidFill>
                <a:latin typeface="Constantia"/>
              </a:rPr>
              <a:t>                     </a:t>
            </a:r>
            <a:r>
              <a:rPr b="0" i="1" lang="ru-RU" sz="5000" spc="-1" strike="noStrike">
                <a:solidFill>
                  <a:srgbClr val="0000cc"/>
                </a:solidFill>
                <a:latin typeface="Constantia"/>
              </a:rPr>
              <a:t>Круги Эйлера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cc"/>
                </a:solidFill>
                <a:latin typeface="Constantia"/>
              </a:rPr>
              <a:t>                                </a:t>
            </a:r>
            <a:r>
              <a:rPr b="0" i="1" lang="ru-RU" sz="3000" spc="-1" strike="noStrike">
                <a:solidFill>
                  <a:srgbClr val="0000cc"/>
                </a:solidFill>
                <a:latin typeface="Constantia"/>
              </a:rPr>
              <a:t>Выполнил 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cc"/>
                </a:solidFill>
                <a:latin typeface="Constantia"/>
              </a:rPr>
              <a:t>                                </a:t>
            </a:r>
            <a:r>
              <a:rPr b="0" i="1" lang="ru-RU" sz="3000" spc="-1" strike="noStrike">
                <a:solidFill>
                  <a:srgbClr val="0000cc"/>
                </a:solidFill>
                <a:latin typeface="Constantia"/>
              </a:rPr>
              <a:t>Алексеенко Слав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42960" y="17143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набор, совокупность, собрание каких-либо объектов      (элементов), обладающих общим для всех их характеристическим свойств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Для наглядного представления множеств используют диаграммы Эйлера-Венна. В этом случае множества обозначают областями на плоскости и внутри этих областей условно располагают элементы множества</a:t>
            </a:r>
            <a:r>
              <a:rPr b="0" lang="ru-RU" sz="24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1" descr="C:\Users\Даша\Desktop\220px-Venn_A_subset_B.svg.png"/>
          <p:cNvPicPr/>
          <p:nvPr/>
        </p:nvPicPr>
        <p:blipFill>
          <a:blip r:embed="rId1"/>
          <a:stretch/>
        </p:blipFill>
        <p:spPr>
          <a:xfrm>
            <a:off x="6286680" y="2357280"/>
            <a:ext cx="2239920" cy="224028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3" descr=""/>
          <p:cNvPicPr/>
          <p:nvPr/>
        </p:nvPicPr>
        <p:blipFill>
          <a:blip r:embed="rId2"/>
          <a:stretch/>
        </p:blipFill>
        <p:spPr>
          <a:xfrm>
            <a:off x="-189000" y="609480"/>
            <a:ext cx="4943520" cy="11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0" y="1579320"/>
            <a:ext cx="43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cc"/>
                </a:solidFill>
                <a:latin typeface="Times New Roman"/>
                <a:ea typeface="Times New Roman"/>
              </a:rPr>
              <a:t>Покажем, например, С помощью диаграммы Эйлера-Венна, что множество А является подмножеством множества В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www.bestreferat.ru/images/paper/52/80/4578052.jpeg"/>
          <p:cNvPicPr/>
          <p:nvPr/>
        </p:nvPicPr>
        <p:blipFill>
          <a:blip r:embed="rId1"/>
          <a:stretch/>
        </p:blipFill>
        <p:spPr>
          <a:xfrm>
            <a:off x="165240" y="3809880"/>
            <a:ext cx="4125600" cy="2987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http://www.bestreferat.ru/images/paper/53/80/4578053.jpeg"/>
          <p:cNvPicPr/>
          <p:nvPr/>
        </p:nvPicPr>
        <p:blipFill>
          <a:blip r:embed="rId2"/>
          <a:stretch/>
        </p:blipFill>
        <p:spPr>
          <a:xfrm>
            <a:off x="4913280" y="3486240"/>
            <a:ext cx="4316400" cy="38653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9"/>
          <p:cNvSpPr/>
          <p:nvPr/>
        </p:nvSpPr>
        <p:spPr>
          <a:xfrm>
            <a:off x="4286160" y="1571760"/>
            <a:ext cx="464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С помощью такой диаграммы становиться наглядным, например, такое утверждение: если А принадлежит  В, а В принадлежит  С, то А принадлежит 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сечением А ∩ В множеств А и В называется множество, состоящее из всех элементов, принадлежащих одновременно каждому из множеств А и 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3" descr="C:\Users\Даша\Desktop\220px-Venn0001.svg.png"/>
          <p:cNvPicPr/>
          <p:nvPr/>
        </p:nvPicPr>
        <p:blipFill>
          <a:blip r:embed="rId1"/>
          <a:stretch/>
        </p:blipFill>
        <p:spPr>
          <a:xfrm>
            <a:off x="2378160" y="3236760"/>
            <a:ext cx="4260600" cy="3213360"/>
          </a:xfrm>
          <a:prstGeom prst="rect">
            <a:avLst/>
          </a:prstGeom>
          <a:ln w="0">
            <a:noFill/>
          </a:ln>
        </p:spPr>
      </p:pic>
      <p:grpSp>
        <p:nvGrpSpPr>
          <p:cNvPr id="205" name="Группа 5"/>
          <p:cNvGrpSpPr/>
          <p:nvPr/>
        </p:nvGrpSpPr>
        <p:grpSpPr>
          <a:xfrm>
            <a:off x="3276720" y="4076640"/>
            <a:ext cx="2590560" cy="440280"/>
            <a:chOff x="3276720" y="4076640"/>
            <a:chExt cx="2590560" cy="440280"/>
          </a:xfrm>
        </p:grpSpPr>
        <p:sp>
          <p:nvSpPr>
            <p:cNvPr id="206" name="TextBox 6"/>
            <p:cNvSpPr/>
            <p:nvPr/>
          </p:nvSpPr>
          <p:spPr>
            <a:xfrm>
              <a:off x="3276720" y="4148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7"/>
            <p:cNvSpPr/>
            <p:nvPr/>
          </p:nvSpPr>
          <p:spPr>
            <a:xfrm>
              <a:off x="5435640" y="4076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Прямоугольник 7" descr=""/>
          <p:cNvPicPr/>
          <p:nvPr/>
        </p:nvPicPr>
        <p:blipFill>
          <a:blip r:embed="rId2"/>
          <a:stretch/>
        </p:blipFill>
        <p:spPr>
          <a:xfrm>
            <a:off x="133200" y="328680"/>
            <a:ext cx="8766360" cy="109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ъединением АВ множеств А и В называется множество, состоящее из всех элементов, принадлежащих хотя бы одному из множеств А или 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3" descr="C:\Users\Даша\Desktop\220px-Venn0111.svg.png"/>
          <p:cNvPicPr/>
          <p:nvPr/>
        </p:nvPicPr>
        <p:blipFill>
          <a:blip r:embed="rId1"/>
          <a:stretch/>
        </p:blipFill>
        <p:spPr>
          <a:xfrm>
            <a:off x="2706840" y="3371760"/>
            <a:ext cx="3949560" cy="5753160"/>
          </a:xfrm>
          <a:prstGeom prst="rect">
            <a:avLst/>
          </a:prstGeom>
          <a:ln w="0">
            <a:noFill/>
          </a:ln>
        </p:spPr>
      </p:pic>
      <p:grpSp>
        <p:nvGrpSpPr>
          <p:cNvPr id="211" name="Группа 8"/>
          <p:cNvGrpSpPr/>
          <p:nvPr/>
        </p:nvGrpSpPr>
        <p:grpSpPr>
          <a:xfrm>
            <a:off x="3348000" y="4076640"/>
            <a:ext cx="2592360" cy="440280"/>
            <a:chOff x="3348000" y="4076640"/>
            <a:chExt cx="2592360" cy="440280"/>
          </a:xfrm>
        </p:grpSpPr>
        <p:sp>
          <p:nvSpPr>
            <p:cNvPr id="212" name="TextBox 6"/>
            <p:cNvSpPr/>
            <p:nvPr/>
          </p:nvSpPr>
          <p:spPr>
            <a:xfrm>
              <a:off x="3348000" y="4148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7"/>
            <p:cNvSpPr/>
            <p:nvPr/>
          </p:nvSpPr>
          <p:spPr>
            <a:xfrm>
              <a:off x="5508360" y="4076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Прямоугольник 7" descr=""/>
          <p:cNvPicPr/>
          <p:nvPr/>
        </p:nvPicPr>
        <p:blipFill>
          <a:blip r:embed="rId2"/>
          <a:stretch/>
        </p:blipFill>
        <p:spPr>
          <a:xfrm>
            <a:off x="-109440" y="353880"/>
            <a:ext cx="9223200" cy="12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24000" y="1600200"/>
            <a:ext cx="864072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Пусть множество А и В таковы, что А принадлежит В. Тогда дополнением множества А до множества В называется разность В\А. В этом случае применяется обозначение С</a:t>
            </a:r>
            <a:r>
              <a:rPr b="0" i="1" lang="ru-RU" sz="24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B</a:t>
            </a:r>
            <a:r>
              <a:rPr b="0" i="1" lang="ru-RU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А=В\А. Если в качестве множества В берётся универсальное множество U, то применяется обозначение СА=С</a:t>
            </a:r>
            <a:r>
              <a:rPr b="0" i="1" lang="ru-RU" sz="24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U</a:t>
            </a:r>
            <a:r>
              <a:rPr b="0" i="1" lang="ru-RU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А=U\А и такое множество просто называют дополнением множества 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3" descr="http://www.bestreferat.ru/images/paper/67/80/4578067.jpeg"/>
          <p:cNvPicPr/>
          <p:nvPr/>
        </p:nvPicPr>
        <p:blipFill>
          <a:blip r:embed="rId1"/>
          <a:stretch/>
        </p:blipFill>
        <p:spPr>
          <a:xfrm>
            <a:off x="4516560" y="4091040"/>
            <a:ext cx="4219560" cy="2376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ttp://www.bestreferat.ru/images/paper/66/80/4578066.jpeg"/>
          <p:cNvPicPr/>
          <p:nvPr/>
        </p:nvPicPr>
        <p:blipFill>
          <a:blip r:embed="rId2"/>
          <a:stretch/>
        </p:blipFill>
        <p:spPr>
          <a:xfrm>
            <a:off x="701640" y="4091040"/>
            <a:ext cx="3565440" cy="239544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5" descr=""/>
          <p:cNvPicPr/>
          <p:nvPr/>
        </p:nvPicPr>
        <p:blipFill>
          <a:blip r:embed="rId3"/>
          <a:stretch/>
        </p:blipFill>
        <p:spPr>
          <a:xfrm>
            <a:off x="-176040" y="285840"/>
            <a:ext cx="9216720" cy="114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ностью А\В множеств А и В называется множество, состоящее из всех элементов множества А, которые не принадлежат множеству 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3" descr="C:\Users\Даша\Desktop\220px-Venn0100.svg.png"/>
          <p:cNvPicPr/>
          <p:nvPr/>
        </p:nvPicPr>
        <p:blipFill>
          <a:blip r:embed="rId1"/>
          <a:stretch/>
        </p:blipFill>
        <p:spPr>
          <a:xfrm>
            <a:off x="1547640" y="3054240"/>
            <a:ext cx="5035680" cy="3175200"/>
          </a:xfrm>
          <a:prstGeom prst="rect">
            <a:avLst/>
          </a:prstGeom>
          <a:ln w="0">
            <a:noFill/>
          </a:ln>
        </p:spPr>
      </p:pic>
      <p:grpSp>
        <p:nvGrpSpPr>
          <p:cNvPr id="221" name="Группа 5"/>
          <p:cNvGrpSpPr/>
          <p:nvPr/>
        </p:nvGrpSpPr>
        <p:grpSpPr>
          <a:xfrm>
            <a:off x="3276720" y="3933720"/>
            <a:ext cx="2590560" cy="368280"/>
            <a:chOff x="3276720" y="3933720"/>
            <a:chExt cx="2590560" cy="368280"/>
          </a:xfrm>
        </p:grpSpPr>
        <p:sp>
          <p:nvSpPr>
            <p:cNvPr id="222" name="TextBox 6"/>
            <p:cNvSpPr/>
            <p:nvPr/>
          </p:nvSpPr>
          <p:spPr>
            <a:xfrm>
              <a:off x="3276720" y="39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7"/>
            <p:cNvSpPr/>
            <p:nvPr/>
          </p:nvSpPr>
          <p:spPr>
            <a:xfrm>
              <a:off x="5435640" y="39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Прямоугольник 7" descr=""/>
          <p:cNvPicPr/>
          <p:nvPr/>
        </p:nvPicPr>
        <p:blipFill>
          <a:blip r:embed="rId2"/>
          <a:stretch/>
        </p:blipFill>
        <p:spPr>
          <a:xfrm>
            <a:off x="579600" y="212760"/>
            <a:ext cx="757692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Прямоугольник 3" descr=""/>
          <p:cNvPicPr/>
          <p:nvPr/>
        </p:nvPicPr>
        <p:blipFill>
          <a:blip r:embed="rId1"/>
          <a:stretch/>
        </p:blipFill>
        <p:spPr>
          <a:xfrm>
            <a:off x="2975040" y="2786040"/>
            <a:ext cx="3170160" cy="110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0:59:45Z</dcterms:created>
  <dc:creator>Даша</dc:creator>
  <dc:description/>
  <dc:language>en-US</dc:language>
  <cp:lastModifiedBy>User</cp:lastModifiedBy>
  <dcterms:modified xsi:type="dcterms:W3CDTF">2012-09-20T14:46:23Z</dcterms:modified>
  <cp:revision>9</cp:revision>
  <dc:subject/>
  <dc:title>Множества. Круги эйлер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  <property fmtid="{D5CDD505-2E9C-101B-9397-08002B2CF9AE}" pid="3" name="Тип работы">
    <vt:lpwstr/>
  </property>
</Properties>
</file>