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76A-5674-44A7-B5E3-7B061153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875-3DD5-4518-B83A-8E60AA7A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5A6-4F06-46EB-BCD7-FA4CE6FC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105-7FAA-47AE-BB86-C8610E44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28E4-0DB3-4B8C-BCE8-47DC4CB8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4392-B33B-4E14-8A9E-3C85D2FE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11C5-0C04-4ADF-82FE-485D60E5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63C1-3249-46B4-AF9B-7D2F9ED4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A911-BCEB-42EF-9595-4F3932B5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3469-50FE-4440-98FA-C1336343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C812-91E3-467A-9D6B-F41DAAB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F4C-ADAD-44D6-8C5B-F450BD01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BD5F-D526-4FC9-ACA0-C0022BD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2F48-23F0-42D2-A460-8C5956BD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9974-E658-45A7-B517-9C9AF9BC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963C-896B-42FB-8BBF-9687FF27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C9D2-BA5A-468B-9E60-31D093D6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5854-AE0E-4F2A-BB97-6CAA281C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E0F5-33DC-4A09-87CA-5C3AB890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D99B-E296-4CA0-994E-9DC4B3CE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EAEA-142C-4988-957B-222B7AC3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CE87-A499-4E81-B2A2-699F69F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972-E4EC-4B68-9CF8-7733B906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8F279-106C-46C3-8F07-23647010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401B-0052-4B13-92AB-C1890BA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9992-0BF1-407E-8A70-BB6FCAC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130A-9EFC-41AF-BD9C-9D411965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53D4-006A-489A-AEEF-2CAD2215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A823-A4BA-4D9E-B218-63F3BB3F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0554-3BCC-423E-AD2F-78308281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DAD7-48DC-499D-892F-3A8EAF45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F6E5-3EBB-4AF8-B9CB-28413FC1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F4BF-1F20-45F3-9D2A-138F7D05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ACC-4FAB-4075-A071-136C266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0EAE-5A25-4672-9CBF-8838B234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6862-C943-4DB0-A8CF-070BD2E1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41FCC-1A8E-4A15-8C1D-1813BD3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80FC-F334-4048-B795-C4A42D3E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BA65-60E3-465E-AE3C-098EC38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745D-B0A7-49AA-8EC2-9B995B1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CE37-36B2-40D4-925C-59D5C44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5C07-3B50-4BEF-BE9E-CE64F390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C2473-7392-4627-9382-697F9FEE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D32-85C1-4BF8-B652-AC741F5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2F0-6F8A-48D9-B00F-2C25BB48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960-9F81-4EC5-B6DF-80FF80AF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FFB-9A99-4514-AC5F-0D19C271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FEA-0220-4B39-89D4-C6F88A38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0D35-89A9-4FB3-A85C-C91098B5FEF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03D2-2D7A-4E0D-8F43-2AE19DE30F4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4913-C3C8-454D-A583-F0778D42E8A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284A-871D-4B50-BD43-FCCCC26A63B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7120" y="1213920"/>
            <a:ext cx="8229600" cy="43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Множеств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                     </a:t>
            </a: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Круги Эйлер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                                </a:t>
            </a: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Выполнил 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                                </a:t>
            </a: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Алексеенко Сла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42960" y="17143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набор, совокупность, собрание каких-либо объектов      (элементов), обладающих общим для всех их характеристическим свойств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Для наглядного представления множеств используют диаграммы Эйлера-Венна. В этом случае множества обозначают областями на плоскости и внутри этих областей условно располагают элементы множества</a:t>
            </a:r>
            <a:r>
              <a:rPr b="0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1" descr="C:\Users\Даша\Desktop\220px-Venn_A_subset_B.svg.png"/>
          <p:cNvPicPr/>
          <p:nvPr/>
        </p:nvPicPr>
        <p:blipFill>
          <a:blip r:embed="rId1"/>
          <a:stretch/>
        </p:blipFill>
        <p:spPr>
          <a:xfrm>
            <a:off x="6286680" y="2357280"/>
            <a:ext cx="2239920" cy="224028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3" descr=""/>
          <p:cNvPicPr/>
          <p:nvPr/>
        </p:nvPicPr>
        <p:blipFill>
          <a:blip r:embed="rId2"/>
          <a:stretch/>
        </p:blipFill>
        <p:spPr>
          <a:xfrm>
            <a:off x="-189000" y="609480"/>
            <a:ext cx="494352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157932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Покажем, например, С помощью диаграммы Эйлера-Венна, что множество А является подмножеством множества В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bestreferat.ru/images/paper/52/80/4578052.jpeg"/>
          <p:cNvPicPr/>
          <p:nvPr/>
        </p:nvPicPr>
        <p:blipFill>
          <a:blip r:embed="rId1"/>
          <a:stretch/>
        </p:blipFill>
        <p:spPr>
          <a:xfrm>
            <a:off x="165240" y="3809880"/>
            <a:ext cx="4125600" cy="2987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www.bestreferat.ru/images/paper/53/80/4578053.jpeg"/>
          <p:cNvPicPr/>
          <p:nvPr/>
        </p:nvPicPr>
        <p:blipFill>
          <a:blip r:embed="rId2"/>
          <a:stretch/>
        </p:blipFill>
        <p:spPr>
          <a:xfrm>
            <a:off x="4913280" y="3486240"/>
            <a:ext cx="431640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4286160" y="1571760"/>
            <a:ext cx="46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 помощью такой диаграммы становиться наглядным, например, такое утверждение: если А принадлежит  В, а В принадлежит  С, то А принадлежит 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сечением А ∩ В множеств А и В называется множество, состоящее из всех элементов, принадлежащих одновременно каждому из множеств А и 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C:\Users\Даша\Desktop\220px-Venn0001.svg.png"/>
          <p:cNvPicPr/>
          <p:nvPr/>
        </p:nvPicPr>
        <p:blipFill>
          <a:blip r:embed="rId1"/>
          <a:stretch/>
        </p:blipFill>
        <p:spPr>
          <a:xfrm>
            <a:off x="2378160" y="3236760"/>
            <a:ext cx="4260600" cy="3213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5"/>
          <p:cNvGrpSpPr/>
          <p:nvPr/>
        </p:nvGrpSpPr>
        <p:grpSpPr>
          <a:xfrm>
            <a:off x="3276720" y="4076640"/>
            <a:ext cx="2590560" cy="440280"/>
            <a:chOff x="3276720" y="4076640"/>
            <a:chExt cx="2590560" cy="440280"/>
          </a:xfrm>
        </p:grpSpPr>
        <p:sp>
          <p:nvSpPr>
            <p:cNvPr id="206" name="TextBox 6"/>
            <p:cNvSpPr/>
            <p:nvPr/>
          </p:nvSpPr>
          <p:spPr>
            <a:xfrm>
              <a:off x="3276720" y="414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7"/>
            <p:cNvSpPr/>
            <p:nvPr/>
          </p:nvSpPr>
          <p:spPr>
            <a:xfrm>
              <a:off x="5435640" y="407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Прямоугольник 7" descr=""/>
          <p:cNvPicPr/>
          <p:nvPr/>
        </p:nvPicPr>
        <p:blipFill>
          <a:blip r:embed="rId2"/>
          <a:stretch/>
        </p:blipFill>
        <p:spPr>
          <a:xfrm>
            <a:off x="133200" y="328680"/>
            <a:ext cx="876636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ъединением АВ множеств А и В называется множество, состоящее из всех элементов, принадлежащих хотя бы одному из множеств А или 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C:\Users\Даша\Desktop\220px-Venn0111.svg.png"/>
          <p:cNvPicPr/>
          <p:nvPr/>
        </p:nvPicPr>
        <p:blipFill>
          <a:blip r:embed="rId1"/>
          <a:stretch/>
        </p:blipFill>
        <p:spPr>
          <a:xfrm>
            <a:off x="2706840" y="3371760"/>
            <a:ext cx="3949560" cy="575316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8"/>
          <p:cNvGrpSpPr/>
          <p:nvPr/>
        </p:nvGrpSpPr>
        <p:grpSpPr>
          <a:xfrm>
            <a:off x="3348000" y="4076640"/>
            <a:ext cx="2592360" cy="440280"/>
            <a:chOff x="3348000" y="4076640"/>
            <a:chExt cx="2592360" cy="440280"/>
          </a:xfrm>
        </p:grpSpPr>
        <p:sp>
          <p:nvSpPr>
            <p:cNvPr id="212" name="TextBox 6"/>
            <p:cNvSpPr/>
            <p:nvPr/>
          </p:nvSpPr>
          <p:spPr>
            <a:xfrm>
              <a:off x="3348000" y="414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7"/>
            <p:cNvSpPr/>
            <p:nvPr/>
          </p:nvSpPr>
          <p:spPr>
            <a:xfrm>
              <a:off x="550836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Прямоугольник 7" descr=""/>
          <p:cNvPicPr/>
          <p:nvPr/>
        </p:nvPicPr>
        <p:blipFill>
          <a:blip r:embed="rId2"/>
          <a:stretch/>
        </p:blipFill>
        <p:spPr>
          <a:xfrm>
            <a:off x="-109440" y="353880"/>
            <a:ext cx="922320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4000" y="1600200"/>
            <a:ext cx="864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усть множество А и В таковы, что А принадлежит В. Тогда дополнением множества А до множества В называется разность В\А. В этом случае применяется обозначение С</a:t>
            </a:r>
            <a:r>
              <a:rPr b="0" i="1" lang="ru-RU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=В\А. Если в качестве множества В берётся универсальное множество U, то применяется обозначение СА=С</a:t>
            </a:r>
            <a:r>
              <a:rPr b="0" i="1" lang="ru-RU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U</a:t>
            </a: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=U\А и такое множество просто называют дополнением множества 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http://www.bestreferat.ru/images/paper/67/80/4578067.jpeg"/>
          <p:cNvPicPr/>
          <p:nvPr/>
        </p:nvPicPr>
        <p:blipFill>
          <a:blip r:embed="rId1"/>
          <a:stretch/>
        </p:blipFill>
        <p:spPr>
          <a:xfrm>
            <a:off x="4516560" y="4091040"/>
            <a:ext cx="421956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www.bestreferat.ru/images/paper/66/80/4578066.jpeg"/>
          <p:cNvPicPr/>
          <p:nvPr/>
        </p:nvPicPr>
        <p:blipFill>
          <a:blip r:embed="rId2"/>
          <a:stretch/>
        </p:blipFill>
        <p:spPr>
          <a:xfrm>
            <a:off x="701640" y="4091040"/>
            <a:ext cx="3565440" cy="239544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5" descr=""/>
          <p:cNvPicPr/>
          <p:nvPr/>
        </p:nvPicPr>
        <p:blipFill>
          <a:blip r:embed="rId3"/>
          <a:stretch/>
        </p:blipFill>
        <p:spPr>
          <a:xfrm>
            <a:off x="-176040" y="285840"/>
            <a:ext cx="92167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остью А\В множеств А и В называется множество, состоящее из всех элементов множества А, которые не принадлежат множеству 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C:\Users\Даша\Desktop\220px-Venn0100.svg.png"/>
          <p:cNvPicPr/>
          <p:nvPr/>
        </p:nvPicPr>
        <p:blipFill>
          <a:blip r:embed="rId1"/>
          <a:stretch/>
        </p:blipFill>
        <p:spPr>
          <a:xfrm>
            <a:off x="1547640" y="3054240"/>
            <a:ext cx="5035680" cy="3175200"/>
          </a:xfrm>
          <a:prstGeom prst="rect">
            <a:avLst/>
          </a:prstGeom>
          <a:ln w="0">
            <a:noFill/>
          </a:ln>
        </p:spPr>
      </p:pic>
      <p:grpSp>
        <p:nvGrpSpPr>
          <p:cNvPr id="221" name="Группа 5"/>
          <p:cNvGrpSpPr/>
          <p:nvPr/>
        </p:nvGrpSpPr>
        <p:grpSpPr>
          <a:xfrm>
            <a:off x="3276720" y="3933720"/>
            <a:ext cx="2590560" cy="368280"/>
            <a:chOff x="3276720" y="3933720"/>
            <a:chExt cx="2590560" cy="368280"/>
          </a:xfrm>
        </p:grpSpPr>
        <p:sp>
          <p:nvSpPr>
            <p:cNvPr id="222" name="TextBox 6"/>
            <p:cNvSpPr/>
            <p:nvPr/>
          </p:nvSpPr>
          <p:spPr>
            <a:xfrm>
              <a:off x="327672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7"/>
            <p:cNvSpPr/>
            <p:nvPr/>
          </p:nvSpPr>
          <p:spPr>
            <a:xfrm>
              <a:off x="543564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Прямоугольник 7" descr=""/>
          <p:cNvPicPr/>
          <p:nvPr/>
        </p:nvPicPr>
        <p:blipFill>
          <a:blip r:embed="rId2"/>
          <a:stretch/>
        </p:blipFill>
        <p:spPr>
          <a:xfrm>
            <a:off x="579600" y="212760"/>
            <a:ext cx="757692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3" descr=""/>
          <p:cNvPicPr/>
          <p:nvPr/>
        </p:nvPicPr>
        <p:blipFill>
          <a:blip r:embed="rId1"/>
          <a:stretch/>
        </p:blipFill>
        <p:spPr>
          <a:xfrm>
            <a:off x="2975040" y="2786040"/>
            <a:ext cx="3170160" cy="110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59:45Z</dcterms:created>
  <dc:creator>Даша</dc:creator>
  <dc:description/>
  <dc:language>en-US</dc:language>
  <cp:lastModifiedBy>User</cp:lastModifiedBy>
  <dcterms:modified xsi:type="dcterms:W3CDTF">2012-09-20T14:46:23Z</dcterms:modified>
  <cp:revision>9</cp:revision>
  <dc:subject/>
  <dc:title>Множества. Круги эйлер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Тип работы">
    <vt:lpwstr/>
  </property>
</Properties>
</file>