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6.png" ContentType="image/pn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99A9-1ECD-420B-B69E-373B217D2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B22A-D8B8-4E25-BE58-894AB3934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E99-99BC-41AB-88C3-508A5F89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338-19B6-4AEA-827C-11570CCB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615-4C1F-4D36-BD5D-319DF1CA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884-70FF-4349-9FBC-8BF76467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3CF-6B90-4E75-A105-881A1BE0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A0D-E6EE-4E8E-9EBC-336D0C6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6F1-5190-4086-9385-8A4B636E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B51-0950-4E77-8408-FEFDD91B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7DE-3EC1-4A95-9121-0A08F1C2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6AF-0393-4436-94C5-E2443F4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9AC-BC33-4113-898B-3E04A2BB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88B-775D-43E2-98E2-ACA19F69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BF9F-483D-41C2-A18C-D2AE96977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86280" y="1989000"/>
            <a:ext cx="4254480" cy="1922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81400" y="4643280"/>
            <a:ext cx="65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и : Алексеенко и Шин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50360" y="-69840"/>
            <a:ext cx="84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пища направляется в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от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выполняет фун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отания и участвует в дых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глотка"/>
          <p:cNvPicPr/>
          <p:nvPr/>
        </p:nvPicPr>
        <p:blipFill>
          <a:blip r:embed="rId1"/>
          <a:stretch/>
        </p:blipFill>
        <p:spPr>
          <a:xfrm>
            <a:off x="1042920" y="1413000"/>
            <a:ext cx="3527640" cy="4390920"/>
          </a:xfrm>
          <a:prstGeom prst="rect">
            <a:avLst/>
          </a:prstGeom>
          <a:ln w="0">
            <a:noFill/>
          </a:ln>
        </p:spPr>
      </p:pic>
      <p:sp>
        <p:nvSpPr>
          <p:cNvPr id="93" name="Line 10"/>
          <p:cNvSpPr/>
          <p:nvPr/>
        </p:nvSpPr>
        <p:spPr>
          <a:xfrm>
            <a:off x="3851280" y="3500280"/>
            <a:ext cx="18003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776920" y="4754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388360" y="6308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7493"/>
                </a:moveTo>
                <a:lnTo>
                  <a:pt x="15347" y="7493"/>
                </a:lnTo>
                <a:lnTo>
                  <a:pt x="15347" y="12828"/>
                </a:lnTo>
                <a:cubicBezTo>
                  <a:pt x="15347" y="13751"/>
                  <a:pt x="16148" y="14482"/>
                  <a:pt x="17184" y="14482"/>
                </a:cubicBezTo>
                <a:lnTo>
                  <a:pt x="18846" y="14482"/>
                </a:lnTo>
                <a:cubicBezTo>
                  <a:pt x="19882" y="14482"/>
                  <a:pt x="20683" y="13751"/>
                  <a:pt x="20683" y="12828"/>
                </a:cubicBezTo>
                <a:lnTo>
                  <a:pt x="20683" y="7493"/>
                </a:lnTo>
                <a:lnTo>
                  <a:pt x="18846" y="7493"/>
                </a:lnTo>
                <a:lnTo>
                  <a:pt x="22354" y="3985"/>
                </a:lnTo>
                <a:lnTo>
                  <a:pt x="26027" y="7493"/>
                </a:lnTo>
                <a:lnTo>
                  <a:pt x="24190" y="7493"/>
                </a:lnTo>
                <a:lnTo>
                  <a:pt x="24190" y="12828"/>
                </a:lnTo>
                <a:cubicBezTo>
                  <a:pt x="24190" y="15596"/>
                  <a:pt x="21614" y="18155"/>
                  <a:pt x="18846" y="18155"/>
                </a:cubicBezTo>
                <a:lnTo>
                  <a:pt x="17184" y="18155"/>
                </a:lnTo>
                <a:cubicBezTo>
                  <a:pt x="14416" y="18155"/>
                  <a:pt x="11840" y="15596"/>
                  <a:pt x="11840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Железы ротовой полости"/>
          <p:cNvPicPr/>
          <p:nvPr/>
        </p:nvPicPr>
        <p:blipFill>
          <a:blip r:embed="rId1"/>
          <a:stretch/>
        </p:blipFill>
        <p:spPr>
          <a:xfrm>
            <a:off x="1763640" y="882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752920" y="1440"/>
            <a:ext cx="36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824400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Передний отдел пищеварительного тракта"/>
          <p:cNvPicPr/>
          <p:nvPr/>
        </p:nvPicPr>
        <p:blipFill>
          <a:blip r:embed="rId1"/>
          <a:stretch/>
        </p:blipFill>
        <p:spPr>
          <a:xfrm>
            <a:off x="2116080" y="1389240"/>
            <a:ext cx="4486320" cy="5135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50920" y="74520"/>
            <a:ext cx="8704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щевод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олагается между глоткой и желудком. У человека пищевод — мышечная трубка длиной около 25 см. Сокращаясь рефлекторно, стенки пищевода проталкивают пищевой ком в желу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824400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95200" y="25560"/>
            <a:ext cx="8699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уд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расширенный отдел пищеварительного канала живот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, следующий за пищеводом. Емкость  около  2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яет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пления, механической и химической обработки, эвакуации пищ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шечник. Железы желудка выделяют желудочный 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10320" y="3429000"/>
            <a:ext cx="33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ышечный сл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мышечный сл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мышеч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Сфинктер желудка"/>
          <p:cNvPicPr/>
          <p:nvPr/>
        </p:nvPicPr>
        <p:blipFill>
          <a:blip r:embed="rId1"/>
          <a:srcRect l="0" t="0" r="0" b="11175"/>
          <a:stretch/>
        </p:blipFill>
        <p:spPr>
          <a:xfrm>
            <a:off x="468360" y="1557360"/>
            <a:ext cx="4932360" cy="481320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 flipV="1">
            <a:off x="4643280" y="32126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 flipV="1">
            <a:off x="4787640" y="3933360"/>
            <a:ext cx="1368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56000" y="4365720"/>
            <a:ext cx="165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831708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7493"/>
                </a:moveTo>
                <a:lnTo>
                  <a:pt x="18142" y="7493"/>
                </a:lnTo>
                <a:lnTo>
                  <a:pt x="18142" y="12828"/>
                </a:lnTo>
                <a:cubicBezTo>
                  <a:pt x="18142" y="13751"/>
                  <a:pt x="18942" y="14482"/>
                  <a:pt x="19978" y="14482"/>
                </a:cubicBezTo>
                <a:lnTo>
                  <a:pt x="21641" y="14482"/>
                </a:lnTo>
                <a:cubicBezTo>
                  <a:pt x="22676" y="14482"/>
                  <a:pt x="23477" y="13751"/>
                  <a:pt x="23477" y="12828"/>
                </a:cubicBezTo>
                <a:lnTo>
                  <a:pt x="23477" y="7493"/>
                </a:lnTo>
                <a:lnTo>
                  <a:pt x="21641" y="7493"/>
                </a:lnTo>
                <a:lnTo>
                  <a:pt x="25148" y="3985"/>
                </a:lnTo>
                <a:lnTo>
                  <a:pt x="28821" y="7493"/>
                </a:lnTo>
                <a:lnTo>
                  <a:pt x="26985" y="7493"/>
                </a:lnTo>
                <a:lnTo>
                  <a:pt x="26985" y="12828"/>
                </a:lnTo>
                <a:cubicBezTo>
                  <a:pt x="26985" y="15596"/>
                  <a:pt x="24408" y="18155"/>
                  <a:pt x="21641" y="18155"/>
                </a:cubicBezTo>
                <a:lnTo>
                  <a:pt x="19978" y="18155"/>
                </a:lnTo>
                <a:cubicBezTo>
                  <a:pt x="17210" y="18155"/>
                  <a:pt x="14634" y="15596"/>
                  <a:pt x="1463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Строение желудка"/>
          <p:cNvPicPr/>
          <p:nvPr/>
        </p:nvPicPr>
        <p:blipFill>
          <a:blip r:embed="rId1"/>
          <a:stretch/>
        </p:blipFill>
        <p:spPr>
          <a:xfrm>
            <a:off x="684360" y="1413000"/>
            <a:ext cx="4873320" cy="4873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80000" y="96840"/>
            <a:ext cx="903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удочный с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ферменты, соляная кислота, слиз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атывается многочисленными железами слизистой обол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кв.мм содержит около 100 желе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желудка стенки"/>
          <p:cNvPicPr/>
          <p:nvPr/>
        </p:nvPicPr>
        <p:blipFill>
          <a:blip r:embed="rId2"/>
          <a:stretch/>
        </p:blipFill>
        <p:spPr>
          <a:xfrm>
            <a:off x="3924360" y="3789360"/>
            <a:ext cx="4370400" cy="26226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53272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7493"/>
                </a:moveTo>
                <a:lnTo>
                  <a:pt x="12735" y="7493"/>
                </a:lnTo>
                <a:lnTo>
                  <a:pt x="12735" y="12828"/>
                </a:lnTo>
                <a:cubicBezTo>
                  <a:pt x="12735" y="13751"/>
                  <a:pt x="13536" y="14482"/>
                  <a:pt x="14571" y="14482"/>
                </a:cubicBezTo>
                <a:lnTo>
                  <a:pt x="16234" y="14482"/>
                </a:lnTo>
                <a:cubicBezTo>
                  <a:pt x="17270" y="14482"/>
                  <a:pt x="18070" y="13751"/>
                  <a:pt x="18070" y="12828"/>
                </a:cubicBezTo>
                <a:lnTo>
                  <a:pt x="18070" y="7493"/>
                </a:lnTo>
                <a:lnTo>
                  <a:pt x="16234" y="7493"/>
                </a:lnTo>
                <a:lnTo>
                  <a:pt x="19741" y="3985"/>
                </a:lnTo>
                <a:lnTo>
                  <a:pt x="23414" y="7493"/>
                </a:lnTo>
                <a:lnTo>
                  <a:pt x="21578" y="7493"/>
                </a:lnTo>
                <a:lnTo>
                  <a:pt x="21578" y="12828"/>
                </a:lnTo>
                <a:cubicBezTo>
                  <a:pt x="21578" y="15596"/>
                  <a:pt x="19002" y="18155"/>
                  <a:pt x="16234" y="18155"/>
                </a:cubicBezTo>
                <a:lnTo>
                  <a:pt x="14571" y="18155"/>
                </a:lnTo>
                <a:cubicBezTo>
                  <a:pt x="11804" y="18155"/>
                  <a:pt x="9227" y="15596"/>
                  <a:pt x="9227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9640" y="-4680"/>
            <a:ext cx="873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нкая ки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лина около 4,5 м. Оконч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варивание пищи и всасывание питательных веществ в кр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счёт ворсинок, расположенных на её внутренне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роение тонкой кишки"/>
          <p:cNvPicPr/>
          <p:nvPr/>
        </p:nvPicPr>
        <p:blipFill>
          <a:blip r:embed="rId1"/>
          <a:stretch/>
        </p:blipFill>
        <p:spPr>
          <a:xfrm>
            <a:off x="1116000" y="1413000"/>
            <a:ext cx="6762600" cy="50720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8388360" y="6308640"/>
            <a:ext cx="576360" cy="28908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39" h="21600">
                <a:moveTo>
                  <a:pt x="14513" y="7493"/>
                </a:moveTo>
                <a:lnTo>
                  <a:pt x="18021" y="7493"/>
                </a:lnTo>
                <a:lnTo>
                  <a:pt x="18021" y="12828"/>
                </a:lnTo>
                <a:cubicBezTo>
                  <a:pt x="18021" y="13751"/>
                  <a:pt x="18821" y="14482"/>
                  <a:pt x="19857" y="14482"/>
                </a:cubicBezTo>
                <a:lnTo>
                  <a:pt x="21519" y="14482"/>
                </a:lnTo>
                <a:cubicBezTo>
                  <a:pt x="22555" y="14482"/>
                  <a:pt x="23356" y="13751"/>
                  <a:pt x="23356" y="12828"/>
                </a:cubicBezTo>
                <a:lnTo>
                  <a:pt x="23356" y="7493"/>
                </a:lnTo>
                <a:lnTo>
                  <a:pt x="21519" y="7493"/>
                </a:lnTo>
                <a:lnTo>
                  <a:pt x="25027" y="3985"/>
                </a:lnTo>
                <a:lnTo>
                  <a:pt x="28700" y="7493"/>
                </a:lnTo>
                <a:lnTo>
                  <a:pt x="26863" y="7493"/>
                </a:lnTo>
                <a:lnTo>
                  <a:pt x="26863" y="12828"/>
                </a:lnTo>
                <a:cubicBezTo>
                  <a:pt x="26863" y="15596"/>
                  <a:pt x="24287" y="18155"/>
                  <a:pt x="21519" y="18155"/>
                </a:cubicBezTo>
                <a:lnTo>
                  <a:pt x="19857" y="18155"/>
                </a:lnTo>
                <a:cubicBezTo>
                  <a:pt x="17089" y="18155"/>
                  <a:pt x="14513" y="15596"/>
                  <a:pt x="1451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93840" y="-50760"/>
            <a:ext cx="83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ен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амая крупная железа пищеварительной систе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массу 1,5 кг. Протоки печени впадают в 12 – перст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шку. Принимает участие в расщеплении ж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печени топографии"/>
          <p:cNvPicPr/>
          <p:nvPr/>
        </p:nvPicPr>
        <p:blipFill>
          <a:blip r:embed="rId1"/>
          <a:stretch/>
        </p:blipFill>
        <p:spPr>
          <a:xfrm>
            <a:off x="539640" y="1341360"/>
            <a:ext cx="3819600" cy="5164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печень и тд"/>
          <p:cNvPicPr/>
          <p:nvPr/>
        </p:nvPicPr>
        <p:blipFill>
          <a:blip r:embed="rId2"/>
          <a:stretch/>
        </p:blipFill>
        <p:spPr>
          <a:xfrm>
            <a:off x="4716360" y="1906560"/>
            <a:ext cx="3829320" cy="3898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9"/>
          <p:cNvSpPr/>
          <p:nvPr/>
        </p:nvSpPr>
        <p:spPr>
          <a:xfrm>
            <a:off x="8172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79280" y="-108000"/>
            <a:ext cx="889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желудочная желез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ая по величине железа пищеварительного тракта, ее масса 60-100 г, длина 15-2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батывает поджелудочный сок, участвующи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щеплении бе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пищеварительная железа 2"/>
          <p:cNvPicPr/>
          <p:nvPr/>
        </p:nvPicPr>
        <p:blipFill>
          <a:blip r:embed="rId1"/>
          <a:stretch/>
        </p:blipFill>
        <p:spPr>
          <a:xfrm>
            <a:off x="1763640" y="1628640"/>
            <a:ext cx="5765760" cy="49975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99520" y="-20520"/>
            <a:ext cx="8827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стая киш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ечный отдел пищеварительной систе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ая роль которого — подготовка непереваренных остатков пищи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лению из организма. В толстой кишке происходит всасывание осн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ы воды  и выделение некоторых метаболических шлаков и избытка с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длину 1,5 – 2 м и диаметр 5 с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кишечник толстый"/>
          <p:cNvPicPr/>
          <p:nvPr/>
        </p:nvPicPr>
        <p:blipFill>
          <a:blip r:embed="rId1"/>
          <a:stretch/>
        </p:blipFill>
        <p:spPr>
          <a:xfrm>
            <a:off x="2050920" y="1773360"/>
            <a:ext cx="4754520" cy="48304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7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7493"/>
                </a:moveTo>
                <a:lnTo>
                  <a:pt x="23575" y="7493"/>
                </a:lnTo>
                <a:lnTo>
                  <a:pt x="23575" y="12828"/>
                </a:lnTo>
                <a:cubicBezTo>
                  <a:pt x="23575" y="13751"/>
                  <a:pt x="24376" y="14482"/>
                  <a:pt x="25412" y="14482"/>
                </a:cubicBezTo>
                <a:lnTo>
                  <a:pt x="27074" y="14482"/>
                </a:lnTo>
                <a:cubicBezTo>
                  <a:pt x="28110" y="14482"/>
                  <a:pt x="28911" y="13751"/>
                  <a:pt x="28911" y="12828"/>
                </a:cubicBezTo>
                <a:lnTo>
                  <a:pt x="28911" y="7493"/>
                </a:lnTo>
                <a:lnTo>
                  <a:pt x="27074" y="7493"/>
                </a:lnTo>
                <a:lnTo>
                  <a:pt x="30582" y="3985"/>
                </a:lnTo>
                <a:lnTo>
                  <a:pt x="34255" y="7493"/>
                </a:lnTo>
                <a:lnTo>
                  <a:pt x="32418" y="7493"/>
                </a:lnTo>
                <a:lnTo>
                  <a:pt x="32418" y="12828"/>
                </a:lnTo>
                <a:cubicBezTo>
                  <a:pt x="32418" y="15596"/>
                  <a:pt x="29842" y="18155"/>
                  <a:pt x="27074" y="18155"/>
                </a:cubicBezTo>
                <a:lnTo>
                  <a:pt x="25412" y="18155"/>
                </a:lnTo>
                <a:cubicBezTo>
                  <a:pt x="22644" y="18155"/>
                  <a:pt x="20068" y="15596"/>
                  <a:pt x="20068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515440" cy="1974960"/>
          </a:xfrm>
          <a:prstGeom prst="rect">
            <a:avLst/>
          </a:prstGeom>
          <a:ln w="0">
            <a:noFill/>
          </a:ln>
        </p:spPr>
      </p:pic>
      <p:sp>
        <p:nvSpPr>
          <p:cNvPr id="127" name="Улыбающееся лицо 2"/>
          <p:cNvSpPr/>
          <p:nvPr/>
        </p:nvSpPr>
        <p:spPr>
          <a:xfrm>
            <a:off x="642960" y="3571920"/>
            <a:ext cx="1428840" cy="1285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32277" t="-456" r="27723" b="331"/>
          <a:stretch/>
        </p:blipFill>
        <p:spPr>
          <a:xfrm>
            <a:off x="2843280" y="260280"/>
            <a:ext cx="3417840" cy="633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65"/>
          <p:cNvPicPr/>
          <p:nvPr/>
        </p:nvPicPr>
        <p:blipFill>
          <a:blip r:embed="rId2"/>
          <a:stretch/>
        </p:blipFill>
        <p:spPr>
          <a:xfrm>
            <a:off x="3059280" y="930240"/>
            <a:ext cx="5904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6.99422E-006 C 0.06025 -0.00762 0.12066 -0.01502 0.14289 0.02128 C 0.16511 0.05758 0.12431 0.16209 0.13334 0.21781 C 0.14237 0.27353 0.20434 0.32902 0.19688 0.35515 C 0.18941 0.38128 0.09792 0.34197 0.08889 0.37411 C 0.07987 0.40625 0.15105 0.51839 0.14289 0.54752 C 0.13473 0.57665 0.05035 0.56047 0.03976 0.5496 C 0.02917 0.53873 0.04879 0.4948 0.07952 0.48209 C 0.11025 0.46937 0.19757 0.44925 0.22396 0.47353 C 0.25035 0.49781 0.25278 0.597 0.2382 0.62798 C 0.22362 0.65897 0.15191 0.63816 0.13664 0.65966 C 0.12136 0.68116 0.14532 0.74012 0.14618 0.75677 E">
                                      <p:cBhvr>
                                        <p:cTn id="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Система органов пищеварения"/>
          <p:cNvPicPr/>
          <p:nvPr/>
        </p:nvPicPr>
        <p:blipFill>
          <a:blip r:embed="rId1"/>
          <a:stretch/>
        </p:blipFill>
        <p:spPr>
          <a:xfrm>
            <a:off x="1979640" y="692280"/>
            <a:ext cx="506736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491400" y="146160"/>
            <a:ext cx="79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щеварительный тракт человека достигает в длину 8-1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755640" y="76500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1" action="ppaction://hlinksldjump"/>
              </a:rPr>
              <a:t>Ротовая по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693080" y="44280"/>
            <a:ext cx="56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ый ка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755640" y="177336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2" action="ppaction://hlinksldjump"/>
              </a:rPr>
              <a:t>Гл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755640" y="278136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3" action="ppaction://hlinksldjump"/>
              </a:rPr>
              <a:t>Пище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755640" y="386244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4" action="ppaction://hlinksldjump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755640" y="48704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5" action="ppaction://hlinksldjump"/>
              </a:rPr>
              <a:t>Тонкий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755640" y="58784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6" action="ppaction://hlinksldjump"/>
              </a:rPr>
              <a:t>Толстый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19640" y="189000"/>
            <a:ext cx="602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щеварительные жел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755640" y="170028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1" action="ppaction://hlinksldjump"/>
              </a:rPr>
              <a:t>Слю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55640" y="3862440"/>
            <a:ext cx="763272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2" action="ppaction://hlinksldjump"/>
              </a:rPr>
              <a:t>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755640" y="494172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3" action="ppaction://hlinksldjump"/>
              </a:rPr>
              <a:t>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755640" y="2852640"/>
            <a:ext cx="7632720" cy="719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hlinkClick r:id="rId4" action="ppaction://hlinksldjump"/>
              </a:rPr>
              <a:t>Жел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57440" y="6140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=8+4+8+12=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1187280" y="1312920"/>
            <a:ext cx="6688440" cy="4780080"/>
            <a:chOff x="1187280" y="1312920"/>
            <a:chExt cx="6688440" cy="4780080"/>
          </a:xfrm>
        </p:grpSpPr>
        <p:pic>
          <p:nvPicPr>
            <p:cNvPr id="68" name="Picture 4" descr="Зубы человека"/>
            <p:cNvPicPr/>
            <p:nvPr/>
          </p:nvPicPr>
          <p:blipFill>
            <a:blip r:embed="rId1"/>
            <a:stretch/>
          </p:blipFill>
          <p:spPr>
            <a:xfrm>
              <a:off x="1187280" y="1312920"/>
              <a:ext cx="6688440" cy="47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5"/>
            <p:cNvSpPr/>
            <p:nvPr/>
          </p:nvSpPr>
          <p:spPr>
            <a:xfrm>
              <a:off x="2144880" y="177336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6620760" y="201420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6483600" y="392040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6499800" y="50126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9"/>
          <p:cNvSpPr/>
          <p:nvPr/>
        </p:nvSpPr>
        <p:spPr>
          <a:xfrm>
            <a:off x="551880" y="130320"/>
            <a:ext cx="8218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товая пол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 ней происходит жевание и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щи слюной. Человек к 20 годам имеет в норме все 32постоянных зу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включая зубы мудрости). 25% людей вообще не имеют зубов муд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28661" y="10800"/>
                </a:lnTo>
                <a:lnTo>
                  <a:pt x="14648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зубная формула"/>
          <p:cNvPicPr/>
          <p:nvPr/>
        </p:nvPicPr>
        <p:blipFill>
          <a:blip r:embed="rId1"/>
          <a:stretch/>
        </p:blipFill>
        <p:spPr>
          <a:xfrm>
            <a:off x="127080" y="333360"/>
            <a:ext cx="8889840" cy="4064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259280" y="4653000"/>
            <a:ext cx="378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резцы – режут пищ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клыки – разрывают пищ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малые коренн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большие ко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4211640" y="558972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3440" y="5398920"/>
            <a:ext cx="32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малывают пищ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гут иметь 2 – 3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003640" y="479736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438520" y="479736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ют 1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Зуба строение"/>
          <p:cNvPicPr/>
          <p:nvPr/>
        </p:nvPicPr>
        <p:blipFill>
          <a:blip r:embed="rId1"/>
          <a:srcRect l="0" t="22612" r="0" b="0"/>
          <a:stretch/>
        </p:blipFill>
        <p:spPr>
          <a:xfrm>
            <a:off x="1547640" y="1052640"/>
            <a:ext cx="6213600" cy="5371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138480" y="17604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>
            <a:hlinkClick r:id="" action="ppaction://hlinkshowjump?jump=nextslide"/>
          </p:cNvPr>
          <p:cNvSpPr/>
          <p:nvPr/>
        </p:nvSpPr>
        <p:spPr>
          <a:xfrm>
            <a:off x="8317080" y="6381720"/>
            <a:ext cx="502920" cy="287280"/>
          </a:xfrm>
          <a:custGeom>
            <a:avLst/>
            <a:gdLst>
              <a:gd name="textAreaLeft" fmla="*/ 18360 w 502920"/>
              <a:gd name="textAreaRight" fmla="*/ 484560 w 50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793" h="21600">
                <a:moveTo>
                  <a:pt x="0" y="0"/>
                </a:moveTo>
                <a:lnTo>
                  <a:pt x="37793" y="0"/>
                </a:lnTo>
                <a:lnTo>
                  <a:pt x="37793" y="21600"/>
                </a:lnTo>
                <a:lnTo>
                  <a:pt x="0" y="21600"/>
                </a:lnTo>
                <a:close/>
              </a:path>
              <a:path fill="lightenLess" w="37793" h="21600">
                <a:moveTo>
                  <a:pt x="0" y="0"/>
                </a:moveTo>
                <a:lnTo>
                  <a:pt x="37793" y="0"/>
                </a:lnTo>
                <a:lnTo>
                  <a:pt x="36393" y="1400"/>
                </a:lnTo>
                <a:lnTo>
                  <a:pt x="1400" y="1400"/>
                </a:lnTo>
                <a:close/>
              </a:path>
              <a:path fill="darken" w="37793" h="21600">
                <a:moveTo>
                  <a:pt x="37793" y="0"/>
                </a:moveTo>
                <a:lnTo>
                  <a:pt x="37793" y="21600"/>
                </a:lnTo>
                <a:lnTo>
                  <a:pt x="36393" y="20200"/>
                </a:lnTo>
                <a:lnTo>
                  <a:pt x="36393" y="1400"/>
                </a:lnTo>
                <a:close/>
              </a:path>
              <a:path fill="darkenLess" w="37793" h="21600">
                <a:moveTo>
                  <a:pt x="37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3" y="20200"/>
                </a:lnTo>
                <a:close/>
              </a:path>
              <a:path fill="lighten" w="37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3" h="21600">
                <a:moveTo>
                  <a:pt x="11890" y="3794"/>
                </a:moveTo>
                <a:lnTo>
                  <a:pt x="25903" y="10800"/>
                </a:lnTo>
                <a:lnTo>
                  <a:pt x="11890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Рецепторные зоны языка"/>
          <p:cNvPicPr/>
          <p:nvPr/>
        </p:nvPicPr>
        <p:blipFill>
          <a:blip r:embed="rId1"/>
          <a:stretch/>
        </p:blipFill>
        <p:spPr>
          <a:xfrm>
            <a:off x="250920" y="981000"/>
            <a:ext cx="506736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983600" y="12384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цепторные зоны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438160" y="288936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зык принимает учас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ищеварите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>
            <a:hlinkClick r:id="rId2" action="ppaction://hlinksldjump"/>
          </p:cNvPr>
          <p:cNvSpPr/>
          <p:nvPr/>
        </p:nvSpPr>
        <p:spPr>
          <a:xfrm>
            <a:off x="8172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7493"/>
                </a:moveTo>
                <a:lnTo>
                  <a:pt x="20680" y="7493"/>
                </a:lnTo>
                <a:lnTo>
                  <a:pt x="20680" y="12828"/>
                </a:lnTo>
                <a:cubicBezTo>
                  <a:pt x="20680" y="13751"/>
                  <a:pt x="21481" y="14482"/>
                  <a:pt x="22517" y="14482"/>
                </a:cubicBezTo>
                <a:lnTo>
                  <a:pt x="24179" y="14482"/>
                </a:lnTo>
                <a:cubicBezTo>
                  <a:pt x="25215" y="14482"/>
                  <a:pt x="26016" y="13751"/>
                  <a:pt x="26016" y="12828"/>
                </a:cubicBezTo>
                <a:lnTo>
                  <a:pt x="26016" y="7493"/>
                </a:lnTo>
                <a:lnTo>
                  <a:pt x="24179" y="7493"/>
                </a:lnTo>
                <a:lnTo>
                  <a:pt x="27687" y="3985"/>
                </a:lnTo>
                <a:lnTo>
                  <a:pt x="31360" y="7493"/>
                </a:lnTo>
                <a:lnTo>
                  <a:pt x="29523" y="7493"/>
                </a:lnTo>
                <a:lnTo>
                  <a:pt x="29523" y="12828"/>
                </a:lnTo>
                <a:cubicBezTo>
                  <a:pt x="29523" y="15596"/>
                  <a:pt x="26947" y="18155"/>
                  <a:pt x="24179" y="18155"/>
                </a:cubicBezTo>
                <a:lnTo>
                  <a:pt x="22517" y="18155"/>
                </a:lnTo>
                <a:cubicBezTo>
                  <a:pt x="19749" y="18155"/>
                  <a:pt x="17173" y="15596"/>
                  <a:pt x="17173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User</cp:lastModifiedBy>
  <dcterms:modified xsi:type="dcterms:W3CDTF">2012-02-17T11:19:15Z</dcterms:modified>
  <cp:revision>12</cp:revision>
  <dc:subject/>
  <dc:title>Слайд 1</dc:title>
</cp:coreProperties>
</file>