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DD4-C126-4E25-B8FE-6CF46D08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0EC-64FC-4332-A3D6-178F375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366-A74E-448B-8906-3B207F36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737-C13F-4803-8867-6D652E4E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C80E-8217-43AF-AC49-5A784BC3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5536-5B33-4D4A-B90D-26804BF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5721-F5E6-4290-9220-B154A72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3580-C44E-4094-BD08-0A59B5A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B502-DB59-4263-824A-F2622646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2B9-7A26-4CB1-9A71-FECF0B8E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ABA5-F03A-4F7B-ACA8-A29CD7E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041-644D-498F-A2A4-86976821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072E-AEA1-4212-93E8-DC789AA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2766-60C7-47B5-B9FC-D8EF27F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F931-8EE0-4624-A3C6-FE211C8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F158-A9A0-4D55-A009-BF98019E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612-B5DB-4A5D-99D3-C667B528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1D0-835D-44BE-BF9D-F9CAEFA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DED-7803-4C0B-A745-4CFB0FA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D7A-BA2E-42FB-831B-8CB7442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F0F-717C-428A-A764-D16647CB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59D-13FB-44E9-A94E-8C727BC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7BB-83E8-4BEA-B779-6DE48F90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8F8-3F3E-4E2F-A10A-3527272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1BA-9D99-4DAE-B9D9-566D2D8E5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372E-ABCE-4775-9FCC-C2F8BE3DBA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258920" y="692280"/>
            <a:ext cx="66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математик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теме: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1" name="Text Box 6"/>
          <p:cNvGrpSpPr/>
          <p:nvPr/>
        </p:nvGrpSpPr>
        <p:grpSpPr>
          <a:xfrm>
            <a:off x="2556000" y="4797360"/>
            <a:ext cx="4968360" cy="1803600"/>
            <a:chOff x="2556000" y="4797360"/>
            <a:chExt cx="4968360" cy="1803600"/>
          </a:xfrm>
        </p:grpSpPr>
        <p:pic>
          <p:nvPicPr>
            <p:cNvPr id="212" name="Text Box 6" descr=""/>
            <p:cNvPicPr/>
            <p:nvPr/>
          </p:nvPicPr>
          <p:blipFill>
            <a:blip r:embed="rId5"/>
            <a:stretch/>
          </p:blipFill>
          <p:spPr>
            <a:xfrm>
              <a:off x="2559600" y="4797360"/>
              <a:ext cx="49608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556000" y="4800600"/>
              <a:ext cx="4968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ed0b"/>
                  </a:solidFill>
                  <a:latin typeface="Times New Roman"/>
                </a:rPr>
                <a:t>2 клас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Программа «Школа России»                           Учитель:</a:t>
              </a:r>
              <a:r>
                <a:rPr b="0" lang="en-US" sz="2800" spc="-1" strike="noStrike">
                  <a:solidFill>
                    <a:srgbClr val="f0eb0b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3ed0b"/>
                  </a:solidFill>
                  <a:latin typeface="Times New Roman"/>
                </a:rPr>
                <a:t>Рыбалко М.И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Picture 8" descr="BD15034_"/>
          <p:cNvPicPr/>
          <p:nvPr/>
        </p:nvPicPr>
        <p:blipFill>
          <a:blip r:embed="rId6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BD15034_"/>
          <p:cNvPicPr/>
          <p:nvPr/>
        </p:nvPicPr>
        <p:blipFill>
          <a:blip r:embed="rId7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BD15034_"/>
          <p:cNvPicPr/>
          <p:nvPr/>
        </p:nvPicPr>
        <p:blipFill>
          <a:blip r:embed="rId8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BD15034_"/>
          <p:cNvPicPr/>
          <p:nvPr/>
        </p:nvPicPr>
        <p:blipFill>
          <a:blip r:embed="rId9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92360" y="2492280"/>
            <a:ext cx="56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«Квадрат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57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2700360" y="27792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126828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 давно знакомый 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ждый угол в нём зна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се четыре сторо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аковой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ам его представить 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 зовут его?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(КВАДР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6443640" y="4437000"/>
            <a:ext cx="1944720" cy="18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65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539640" y="620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Тема урока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«Квадрат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  <a:ea typeface="Arial"/>
              </a:rPr>
              <a:t>Цели и 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852640"/>
            <a:ext cx="82090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  <a:ea typeface="Arial"/>
              </a:rPr>
              <a:t>1. Познакомиться со свойствами квадр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  <a:ea typeface="Arial"/>
              </a:rPr>
              <a:t>2. Научиться чертить квадрат и  решать задачи на нахождение периметра квадр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  <a:ea typeface="Arial"/>
              </a:rPr>
              <a:t>3. Закрепить вычислительные навы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539640" y="333360"/>
            <a:ext cx="8229600" cy="172728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Квадрат и его свойства</a:t>
            </a:r>
            <a:br>
              <a:rPr sz="3600"/>
            </a:br>
            <a:r>
              <a:rPr b="1" i="1" lang="en-US" sz="44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7"/>
          <p:cNvGrpSpPr/>
          <p:nvPr/>
        </p:nvGrpSpPr>
        <p:grpSpPr>
          <a:xfrm>
            <a:off x="2124000" y="2637000"/>
            <a:ext cx="4823640" cy="3096720"/>
            <a:chOff x="2124000" y="2637000"/>
            <a:chExt cx="4823640" cy="3096720"/>
          </a:xfrm>
        </p:grpSpPr>
        <p:sp>
          <p:nvSpPr>
            <p:cNvPr id="377" name="Oval 18"/>
            <p:cNvSpPr/>
            <p:nvPr/>
          </p:nvSpPr>
          <p:spPr>
            <a:xfrm>
              <a:off x="4806360" y="5107320"/>
              <a:ext cx="145332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3321360" y="2637000"/>
              <a:ext cx="2437560" cy="231084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Group 12"/>
            <p:cNvGrpSpPr/>
            <p:nvPr/>
          </p:nvGrpSpPr>
          <p:grpSpPr>
            <a:xfrm>
              <a:off x="3697920" y="2829960"/>
              <a:ext cx="531000" cy="1084320"/>
              <a:chOff x="3697920" y="2829960"/>
              <a:chExt cx="531000" cy="1084320"/>
            </a:xfrm>
          </p:grpSpPr>
          <p:sp>
            <p:nvSpPr>
              <p:cNvPr id="380" name="Oval 10"/>
              <p:cNvSpPr/>
              <p:nvPr/>
            </p:nvSpPr>
            <p:spPr>
              <a:xfrm>
                <a:off x="3697920" y="2829960"/>
                <a:ext cx="531000" cy="10843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1"/>
              <p:cNvSpPr/>
              <p:nvPr/>
            </p:nvSpPr>
            <p:spPr>
              <a:xfrm>
                <a:off x="3783240" y="3295080"/>
                <a:ext cx="378720" cy="5778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3"/>
            <p:cNvGrpSpPr/>
            <p:nvPr/>
          </p:nvGrpSpPr>
          <p:grpSpPr>
            <a:xfrm>
              <a:off x="4777200" y="2829960"/>
              <a:ext cx="534240" cy="1084320"/>
              <a:chOff x="4777200" y="2829960"/>
              <a:chExt cx="534240" cy="1084320"/>
            </a:xfrm>
          </p:grpSpPr>
          <p:sp>
            <p:nvSpPr>
              <p:cNvPr id="383" name="Oval 14"/>
              <p:cNvSpPr/>
              <p:nvPr/>
            </p:nvSpPr>
            <p:spPr>
              <a:xfrm>
                <a:off x="4777200" y="2829960"/>
                <a:ext cx="534240" cy="10843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15"/>
              <p:cNvSpPr/>
              <p:nvPr/>
            </p:nvSpPr>
            <p:spPr>
              <a:xfrm>
                <a:off x="4862880" y="3295080"/>
                <a:ext cx="381240" cy="5778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5" name="Arc 16"/>
            <p:cNvSpPr/>
            <p:nvPr/>
          </p:nvSpPr>
          <p:spPr>
            <a:xfrm flipV="1" rot="19896600">
              <a:off x="4169520" y="3594600"/>
              <a:ext cx="710280" cy="67140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20"/>
            <p:cNvSpPr/>
            <p:nvPr/>
          </p:nvSpPr>
          <p:spPr>
            <a:xfrm>
              <a:off x="2989440" y="5107320"/>
              <a:ext cx="145368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4209840" y="4916520"/>
              <a:ext cx="0" cy="235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4980240" y="4916160"/>
              <a:ext cx="0" cy="280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23"/>
            <p:cNvSpPr/>
            <p:nvPr/>
          </p:nvSpPr>
          <p:spPr>
            <a:xfrm>
              <a:off x="6048360" y="3643200"/>
              <a:ext cx="89928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24"/>
            <p:cNvSpPr/>
            <p:nvPr/>
          </p:nvSpPr>
          <p:spPr>
            <a:xfrm>
              <a:off x="2124000" y="3643200"/>
              <a:ext cx="898920" cy="6264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>
              <a:off x="5748120" y="3946320"/>
              <a:ext cx="342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6"/>
            <p:cNvSpPr/>
            <p:nvPr/>
          </p:nvSpPr>
          <p:spPr>
            <a:xfrm>
              <a:off x="3011760" y="3946320"/>
              <a:ext cx="342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Freeform 17"/>
          <p:cNvSpPr/>
          <p:nvPr/>
        </p:nvSpPr>
        <p:spPr>
          <a:xfrm>
            <a:off x="4140360" y="4292640"/>
            <a:ext cx="741240" cy="38268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3081240" y="4929120"/>
            <a:ext cx="1036800" cy="4431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2022480" y="3182760"/>
            <a:ext cx="1738440" cy="1633680"/>
          </a:xfrm>
          <a:prstGeom prst="rect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11"/>
          <p:cNvGrpSpPr/>
          <p:nvPr/>
        </p:nvGrpSpPr>
        <p:grpSpPr>
          <a:xfrm>
            <a:off x="2290680" y="3319560"/>
            <a:ext cx="379440" cy="766800"/>
            <a:chOff x="2290680" y="3319560"/>
            <a:chExt cx="379440" cy="766800"/>
          </a:xfrm>
        </p:grpSpPr>
        <p:sp>
          <p:nvSpPr>
            <p:cNvPr id="402" name="Oval 12"/>
            <p:cNvSpPr/>
            <p:nvPr/>
          </p:nvSpPr>
          <p:spPr>
            <a:xfrm>
              <a:off x="2290680" y="3319560"/>
              <a:ext cx="37944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2351520" y="3648240"/>
              <a:ext cx="27036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Group 14"/>
          <p:cNvGrpSpPr/>
          <p:nvPr/>
        </p:nvGrpSpPr>
        <p:grpSpPr>
          <a:xfrm>
            <a:off x="3060720" y="3319560"/>
            <a:ext cx="380880" cy="766800"/>
            <a:chOff x="3060720" y="3319560"/>
            <a:chExt cx="380880" cy="766800"/>
          </a:xfrm>
        </p:grpSpPr>
        <p:sp>
          <p:nvSpPr>
            <p:cNvPr id="405" name="Oval 15"/>
            <p:cNvSpPr/>
            <p:nvPr/>
          </p:nvSpPr>
          <p:spPr>
            <a:xfrm>
              <a:off x="3060720" y="3319560"/>
              <a:ext cx="38088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6"/>
            <p:cNvSpPr/>
            <p:nvPr/>
          </p:nvSpPr>
          <p:spPr>
            <a:xfrm>
              <a:off x="3121920" y="3648240"/>
              <a:ext cx="27144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Arc 17"/>
          <p:cNvSpPr/>
          <p:nvPr/>
        </p:nvSpPr>
        <p:spPr>
          <a:xfrm flipV="1" rot="19896600">
            <a:off x="2626920" y="3859920"/>
            <a:ext cx="506520" cy="47484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18"/>
          <p:cNvSpPr/>
          <p:nvPr/>
        </p:nvSpPr>
        <p:spPr>
          <a:xfrm>
            <a:off x="1785960" y="4929120"/>
            <a:ext cx="1036440" cy="4431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 flipV="1">
            <a:off x="2655720" y="479376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 flipV="1">
            <a:off x="3205080" y="4794120"/>
            <a:ext cx="0" cy="198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1"/>
          <p:cNvSpPr/>
          <p:nvPr/>
        </p:nvSpPr>
        <p:spPr>
          <a:xfrm rot="19422600">
            <a:off x="3943440" y="3741480"/>
            <a:ext cx="641160" cy="44280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4878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23"/>
          <p:cNvSpPr/>
          <p:nvPr/>
        </p:nvSpPr>
        <p:spPr>
          <a:xfrm>
            <a:off x="3753000" y="4108320"/>
            <a:ext cx="24588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24"/>
          <p:cNvSpPr/>
          <p:nvPr/>
        </p:nvSpPr>
        <p:spPr>
          <a:xfrm>
            <a:off x="1801800" y="410832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Freeform 25"/>
          <p:cNvSpPr/>
          <p:nvPr/>
        </p:nvSpPr>
        <p:spPr>
          <a:xfrm>
            <a:off x="2454120" y="4376880"/>
            <a:ext cx="806760" cy="317520"/>
          </a:xfrm>
          <a:custGeom>
            <a:avLst/>
            <a:gdLst/>
            <a:ahLst/>
            <a:rect l="l" t="t" r="r" b="b"/>
            <a:pathLst>
              <a:path w="508" h="200">
                <a:moveTo>
                  <a:pt x="6" y="174"/>
                </a:moveTo>
                <a:cubicBezTo>
                  <a:pt x="0" y="147"/>
                  <a:pt x="153" y="0"/>
                  <a:pt x="236" y="1"/>
                </a:cubicBezTo>
                <a:cubicBezTo>
                  <a:pt x="319" y="9"/>
                  <a:pt x="508" y="166"/>
                  <a:pt x="505" y="183"/>
                </a:cubicBezTo>
                <a:cubicBezTo>
                  <a:pt x="502" y="200"/>
                  <a:pt x="300" y="107"/>
                  <a:pt x="217" y="106"/>
                </a:cubicBezTo>
                <a:cubicBezTo>
                  <a:pt x="134" y="105"/>
                  <a:pt x="50" y="160"/>
                  <a:pt x="6" y="174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2"/>
          <p:cNvSpPr/>
          <p:nvPr/>
        </p:nvSpPr>
        <p:spPr>
          <a:xfrm rot="2211600">
            <a:off x="1188720" y="3895560"/>
            <a:ext cx="641160" cy="4431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ff33cc">
                  <a:alpha val="70196"/>
                </a:srgbClr>
              </a:gs>
              <a:gs pos="100000">
                <a:srgbClr val="0000ff">
                  <a:alpha val="70196"/>
                </a:srgbClr>
              </a:gs>
            </a:gsLst>
            <a:lin ang="486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27"/>
          <p:cNvGrpSpPr/>
          <p:nvPr/>
        </p:nvGrpSpPr>
        <p:grpSpPr>
          <a:xfrm>
            <a:off x="0" y="2997360"/>
            <a:ext cx="4140000" cy="2592000"/>
            <a:chOff x="0" y="2997360"/>
            <a:chExt cx="4140000" cy="2592000"/>
          </a:xfrm>
        </p:grpSpPr>
        <p:sp>
          <p:nvSpPr>
            <p:cNvPr id="422" name="Oval 18"/>
            <p:cNvSpPr/>
            <p:nvPr/>
          </p:nvSpPr>
          <p:spPr>
            <a:xfrm>
              <a:off x="2302200" y="5065200"/>
              <a:ext cx="124704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1027440" y="2997360"/>
              <a:ext cx="2091960" cy="193428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Group 12"/>
            <p:cNvGrpSpPr/>
            <p:nvPr/>
          </p:nvGrpSpPr>
          <p:grpSpPr>
            <a:xfrm>
              <a:off x="1350720" y="3158640"/>
              <a:ext cx="456120" cy="907920"/>
              <a:chOff x="1350720" y="3158640"/>
              <a:chExt cx="456120" cy="907920"/>
            </a:xfrm>
          </p:grpSpPr>
          <p:sp>
            <p:nvSpPr>
              <p:cNvPr id="425" name="Oval 10"/>
              <p:cNvSpPr/>
              <p:nvPr/>
            </p:nvSpPr>
            <p:spPr>
              <a:xfrm>
                <a:off x="1350720" y="3158640"/>
                <a:ext cx="456120" cy="9079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1423800" y="3547800"/>
                <a:ext cx="325080" cy="4834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3"/>
            <p:cNvGrpSpPr/>
            <p:nvPr/>
          </p:nvGrpSpPr>
          <p:grpSpPr>
            <a:xfrm>
              <a:off x="2277000" y="3158640"/>
              <a:ext cx="458640" cy="907920"/>
              <a:chOff x="2277000" y="3158640"/>
              <a:chExt cx="458640" cy="907920"/>
            </a:xfrm>
          </p:grpSpPr>
          <p:sp>
            <p:nvSpPr>
              <p:cNvPr id="428" name="Oval 14"/>
              <p:cNvSpPr/>
              <p:nvPr/>
            </p:nvSpPr>
            <p:spPr>
              <a:xfrm>
                <a:off x="2277000" y="3158640"/>
                <a:ext cx="458640" cy="90792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15"/>
              <p:cNvSpPr/>
              <p:nvPr/>
            </p:nvSpPr>
            <p:spPr>
              <a:xfrm>
                <a:off x="2350800" y="3547800"/>
                <a:ext cx="326880" cy="4834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Arc 16"/>
            <p:cNvSpPr/>
            <p:nvPr/>
          </p:nvSpPr>
          <p:spPr>
            <a:xfrm flipV="1" rot="19896600">
              <a:off x="1755000" y="3799800"/>
              <a:ext cx="609480" cy="56196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743040" y="5065200"/>
              <a:ext cx="124776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 flipV="1">
              <a:off x="1789920" y="4905360"/>
              <a:ext cx="0" cy="197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2"/>
            <p:cNvSpPr/>
            <p:nvPr/>
          </p:nvSpPr>
          <p:spPr>
            <a:xfrm flipV="1">
              <a:off x="2451240" y="4905360"/>
              <a:ext cx="0" cy="234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3368160" y="3839400"/>
              <a:ext cx="77184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0" y="3839400"/>
              <a:ext cx="771480" cy="524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3110400" y="409320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6"/>
            <p:cNvSpPr/>
            <p:nvPr/>
          </p:nvSpPr>
          <p:spPr>
            <a:xfrm>
              <a:off x="761760" y="409320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Oval 27"/>
          <p:cNvSpPr/>
          <p:nvPr/>
        </p:nvSpPr>
        <p:spPr>
          <a:xfrm>
            <a:off x="7353360" y="4537080"/>
            <a:ext cx="103644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"/>
          <p:cNvSpPr/>
          <p:nvPr/>
        </p:nvSpPr>
        <p:spPr>
          <a:xfrm>
            <a:off x="6300720" y="1773360"/>
            <a:ext cx="1738440" cy="2638440"/>
          </a:xfrm>
          <a:prstGeom prst="rect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562800" y="2089080"/>
            <a:ext cx="379440" cy="766800"/>
            <a:chOff x="6562800" y="2089080"/>
            <a:chExt cx="379440" cy="766800"/>
          </a:xfrm>
        </p:grpSpPr>
        <p:sp>
          <p:nvSpPr>
            <p:cNvPr id="441" name="Oval 30"/>
            <p:cNvSpPr/>
            <p:nvPr/>
          </p:nvSpPr>
          <p:spPr>
            <a:xfrm>
              <a:off x="6562800" y="2089080"/>
              <a:ext cx="37944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6623640" y="2417760"/>
              <a:ext cx="27036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Group 32"/>
          <p:cNvGrpSpPr/>
          <p:nvPr/>
        </p:nvGrpSpPr>
        <p:grpSpPr>
          <a:xfrm>
            <a:off x="7394400" y="2103480"/>
            <a:ext cx="381240" cy="766800"/>
            <a:chOff x="7394400" y="2103480"/>
            <a:chExt cx="381240" cy="766800"/>
          </a:xfrm>
        </p:grpSpPr>
        <p:sp>
          <p:nvSpPr>
            <p:cNvPr id="444" name="Oval 33"/>
            <p:cNvSpPr/>
            <p:nvPr/>
          </p:nvSpPr>
          <p:spPr>
            <a:xfrm>
              <a:off x="7394400" y="2103480"/>
              <a:ext cx="381240" cy="76680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7455600" y="2432160"/>
              <a:ext cx="271800" cy="408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68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Arc 35"/>
          <p:cNvSpPr/>
          <p:nvPr/>
        </p:nvSpPr>
        <p:spPr>
          <a:xfrm flipV="1" rot="19896600">
            <a:off x="6899040" y="2859120"/>
            <a:ext cx="506160" cy="47448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36"/>
          <p:cNvSpPr/>
          <p:nvPr/>
        </p:nvSpPr>
        <p:spPr>
          <a:xfrm>
            <a:off x="6058080" y="4537080"/>
            <a:ext cx="103644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27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7"/>
          <p:cNvSpPr/>
          <p:nvPr/>
        </p:nvSpPr>
        <p:spPr>
          <a:xfrm flipV="1">
            <a:off x="6927840" y="440172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38"/>
          <p:cNvSpPr/>
          <p:nvPr/>
        </p:nvSpPr>
        <p:spPr>
          <a:xfrm flipV="1">
            <a:off x="7477200" y="4401720"/>
            <a:ext cx="0" cy="19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39"/>
          <p:cNvSpPr/>
          <p:nvPr/>
        </p:nvSpPr>
        <p:spPr>
          <a:xfrm rot="19422600">
            <a:off x="8215200" y="3349800"/>
            <a:ext cx="64152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4878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8024760" y="3716280"/>
            <a:ext cx="24624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42"/>
          <p:cNvSpPr/>
          <p:nvPr/>
        </p:nvSpPr>
        <p:spPr>
          <a:xfrm>
            <a:off x="6073920" y="371628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43"/>
          <p:cNvSpPr/>
          <p:nvPr/>
        </p:nvSpPr>
        <p:spPr>
          <a:xfrm>
            <a:off x="6834240" y="3456000"/>
            <a:ext cx="741240" cy="38268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40"/>
          <p:cNvSpPr/>
          <p:nvPr/>
        </p:nvSpPr>
        <p:spPr>
          <a:xfrm rot="2211600">
            <a:off x="5439960" y="3365280"/>
            <a:ext cx="641520" cy="442800"/>
          </a:xfrm>
          <a:prstGeom prst="ellipse">
            <a:avLst/>
          </a:prstGeom>
          <a:gradFill rotWithShape="0">
            <a:gsLst>
              <a:gs pos="0">
                <a:srgbClr val="afe1ff">
                  <a:alpha val="70196"/>
                </a:srgbClr>
              </a:gs>
              <a:gs pos="50000">
                <a:srgbClr val="ff3300">
                  <a:alpha val="70196"/>
                </a:srgbClr>
              </a:gs>
              <a:gs pos="100000">
                <a:srgbClr val="afe1ff">
                  <a:alpha val="70196"/>
                </a:srgbClr>
              </a:gs>
            </a:gsLst>
            <a:lin ang="486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45"/>
          <p:cNvSpPr/>
          <p:nvPr/>
        </p:nvSpPr>
        <p:spPr>
          <a:xfrm>
            <a:off x="3564000" y="4149720"/>
            <a:ext cx="2819160" cy="517680"/>
          </a:xfrm>
          <a:prstGeom prst="wedgeEllipseCallout">
            <a:avLst>
              <a:gd name="adj1" fmla="val 85305"/>
              <a:gd name="adj2" fmla="val -139569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46"/>
          <p:cNvSpPr/>
          <p:nvPr/>
        </p:nvSpPr>
        <p:spPr>
          <a:xfrm>
            <a:off x="3203640" y="5229360"/>
            <a:ext cx="5257800" cy="792000"/>
          </a:xfrm>
          <a:prstGeom prst="wedgeEllipseCallout">
            <a:avLst>
              <a:gd name="adj1" fmla="val -73157"/>
              <a:gd name="adj2" fmla="val -121944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Arial"/>
              </a:rPr>
              <a:t>А мы не родственники с тоб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reeform 26"/>
          <p:cNvSpPr/>
          <p:nvPr/>
        </p:nvSpPr>
        <p:spPr>
          <a:xfrm>
            <a:off x="1763640" y="4365720"/>
            <a:ext cx="741600" cy="38232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1"/>
          <p:cNvGrpSpPr/>
          <p:nvPr/>
        </p:nvGrpSpPr>
        <p:grpSpPr>
          <a:xfrm>
            <a:off x="2352240" y="4221000"/>
            <a:ext cx="4510440" cy="2462040"/>
            <a:chOff x="2352240" y="4221000"/>
            <a:chExt cx="4510440" cy="2462040"/>
          </a:xfrm>
        </p:grpSpPr>
        <p:sp>
          <p:nvSpPr>
            <p:cNvPr id="464" name="Oval 7"/>
            <p:cNvSpPr/>
            <p:nvPr/>
          </p:nvSpPr>
          <p:spPr>
            <a:xfrm>
              <a:off x="3644280" y="6347880"/>
              <a:ext cx="66816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8"/>
            <p:cNvSpPr/>
            <p:nvPr/>
          </p:nvSpPr>
          <p:spPr>
            <a:xfrm>
              <a:off x="2961720" y="5026680"/>
              <a:ext cx="1120320" cy="123552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Group 9"/>
            <p:cNvGrpSpPr/>
            <p:nvPr/>
          </p:nvGrpSpPr>
          <p:grpSpPr>
            <a:xfrm>
              <a:off x="3134880" y="5130000"/>
              <a:ext cx="244440" cy="579960"/>
              <a:chOff x="3134880" y="5130000"/>
              <a:chExt cx="244440" cy="579960"/>
            </a:xfrm>
          </p:grpSpPr>
          <p:sp>
            <p:nvSpPr>
              <p:cNvPr id="467" name="Oval 10"/>
              <p:cNvSpPr/>
              <p:nvPr/>
            </p:nvSpPr>
            <p:spPr>
              <a:xfrm>
                <a:off x="3134880" y="5130000"/>
                <a:ext cx="24444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11"/>
              <p:cNvSpPr/>
              <p:nvPr/>
            </p:nvSpPr>
            <p:spPr>
              <a:xfrm>
                <a:off x="3174120" y="537876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3631320" y="5130000"/>
              <a:ext cx="245520" cy="579960"/>
              <a:chOff x="3631320" y="5130000"/>
              <a:chExt cx="245520" cy="579960"/>
            </a:xfrm>
          </p:grpSpPr>
          <p:sp>
            <p:nvSpPr>
              <p:cNvPr id="470" name="Oval 13"/>
              <p:cNvSpPr/>
              <p:nvPr/>
            </p:nvSpPr>
            <p:spPr>
              <a:xfrm>
                <a:off x="3631320" y="5130000"/>
                <a:ext cx="24552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14"/>
              <p:cNvSpPr/>
              <p:nvPr/>
            </p:nvSpPr>
            <p:spPr>
              <a:xfrm>
                <a:off x="3670560" y="537876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Arc 15"/>
            <p:cNvSpPr/>
            <p:nvPr/>
          </p:nvSpPr>
          <p:spPr>
            <a:xfrm flipV="1" rot="19896600">
              <a:off x="3351240" y="5539680"/>
              <a:ext cx="32652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6"/>
            <p:cNvSpPr/>
            <p:nvPr/>
          </p:nvSpPr>
          <p:spPr>
            <a:xfrm>
              <a:off x="2809440" y="6347880"/>
              <a:ext cx="66816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7"/>
            <p:cNvSpPr/>
            <p:nvPr/>
          </p:nvSpPr>
          <p:spPr>
            <a:xfrm flipV="1">
              <a:off x="3369960" y="624600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8"/>
            <p:cNvSpPr/>
            <p:nvPr/>
          </p:nvSpPr>
          <p:spPr>
            <a:xfrm flipV="1">
              <a:off x="3724200" y="6245640"/>
              <a:ext cx="0" cy="150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9"/>
            <p:cNvSpPr/>
            <p:nvPr/>
          </p:nvSpPr>
          <p:spPr>
            <a:xfrm rot="19422600">
              <a:off x="4200120" y="544932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"/>
            <p:cNvSpPr/>
            <p:nvPr/>
          </p:nvSpPr>
          <p:spPr>
            <a:xfrm rot="2211600">
              <a:off x="2411280" y="546156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21"/>
            <p:cNvSpPr/>
            <p:nvPr/>
          </p:nvSpPr>
          <p:spPr>
            <a:xfrm>
              <a:off x="4077360" y="572688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2"/>
            <p:cNvSpPr/>
            <p:nvPr/>
          </p:nvSpPr>
          <p:spPr>
            <a:xfrm>
              <a:off x="2819520" y="572688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3260520" y="5841000"/>
              <a:ext cx="478080" cy="28944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4"/>
            <p:cNvSpPr/>
            <p:nvPr/>
          </p:nvSpPr>
          <p:spPr>
            <a:xfrm>
              <a:off x="5824440" y="6302520"/>
              <a:ext cx="668160" cy="33480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25"/>
            <p:cNvSpPr/>
            <p:nvPr/>
          </p:nvSpPr>
          <p:spPr>
            <a:xfrm>
              <a:off x="5141880" y="4221000"/>
              <a:ext cx="1120320" cy="1996200"/>
            </a:xfrm>
            <a:prstGeom prst="rect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Group 26"/>
            <p:cNvGrpSpPr/>
            <p:nvPr/>
          </p:nvGrpSpPr>
          <p:grpSpPr>
            <a:xfrm>
              <a:off x="5314680" y="4450320"/>
              <a:ext cx="244440" cy="579960"/>
              <a:chOff x="5314680" y="4450320"/>
              <a:chExt cx="244440" cy="579960"/>
            </a:xfrm>
          </p:grpSpPr>
          <p:sp>
            <p:nvSpPr>
              <p:cNvPr id="484" name="Oval 27"/>
              <p:cNvSpPr/>
              <p:nvPr/>
            </p:nvSpPr>
            <p:spPr>
              <a:xfrm>
                <a:off x="5314680" y="4450320"/>
                <a:ext cx="24444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Oval 28"/>
              <p:cNvSpPr/>
              <p:nvPr/>
            </p:nvSpPr>
            <p:spPr>
              <a:xfrm>
                <a:off x="5353920" y="469908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9"/>
            <p:cNvGrpSpPr/>
            <p:nvPr/>
          </p:nvGrpSpPr>
          <p:grpSpPr>
            <a:xfrm>
              <a:off x="5851080" y="4461120"/>
              <a:ext cx="245520" cy="579960"/>
              <a:chOff x="5851080" y="4461120"/>
              <a:chExt cx="245520" cy="579960"/>
            </a:xfrm>
          </p:grpSpPr>
          <p:sp>
            <p:nvSpPr>
              <p:cNvPr id="487" name="Oval 30"/>
              <p:cNvSpPr/>
              <p:nvPr/>
            </p:nvSpPr>
            <p:spPr>
              <a:xfrm>
                <a:off x="5851080" y="4461120"/>
                <a:ext cx="245520" cy="579960"/>
              </a:xfrm>
              <a:prstGeom prst="ellipse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31"/>
              <p:cNvSpPr/>
              <p:nvPr/>
            </p:nvSpPr>
            <p:spPr>
              <a:xfrm>
                <a:off x="5890320" y="470988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68a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Arc 32"/>
            <p:cNvSpPr/>
            <p:nvPr/>
          </p:nvSpPr>
          <p:spPr>
            <a:xfrm flipV="1" rot="19896600">
              <a:off x="5531400" y="5032800"/>
              <a:ext cx="32616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33"/>
            <p:cNvSpPr/>
            <p:nvPr/>
          </p:nvSpPr>
          <p:spPr>
            <a:xfrm>
              <a:off x="4989240" y="6302520"/>
              <a:ext cx="668160" cy="33480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4"/>
            <p:cNvSpPr/>
            <p:nvPr/>
          </p:nvSpPr>
          <p:spPr>
            <a:xfrm flipV="1">
              <a:off x="5550120" y="620028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5"/>
            <p:cNvSpPr/>
            <p:nvPr/>
          </p:nvSpPr>
          <p:spPr>
            <a:xfrm flipV="1">
              <a:off x="5904360" y="6200280"/>
              <a:ext cx="0" cy="149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36"/>
            <p:cNvSpPr/>
            <p:nvPr/>
          </p:nvSpPr>
          <p:spPr>
            <a:xfrm rot="19422600">
              <a:off x="6390360" y="5368680"/>
              <a:ext cx="413280" cy="33516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37"/>
            <p:cNvSpPr/>
            <p:nvPr/>
          </p:nvSpPr>
          <p:spPr>
            <a:xfrm rot="2211600">
              <a:off x="4601520" y="5427720"/>
              <a:ext cx="413280" cy="335160"/>
            </a:xfrm>
            <a:prstGeom prst="ellipse">
              <a:avLst/>
            </a:prstGeom>
            <a:gradFill rotWithShape="0">
              <a:gsLst>
                <a:gs pos="0">
                  <a:srgbClr val="afe1ff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afe1ff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6257520" y="568152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9"/>
            <p:cNvSpPr/>
            <p:nvPr/>
          </p:nvSpPr>
          <p:spPr>
            <a:xfrm>
              <a:off x="4999680" y="568152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40"/>
            <p:cNvSpPr/>
            <p:nvPr/>
          </p:nvSpPr>
          <p:spPr>
            <a:xfrm>
              <a:off x="5490000" y="5484600"/>
              <a:ext cx="477720" cy="28908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971640" y="1557360"/>
            <a:ext cx="7488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тали они искать, и нашли  у себя четыре признака сходства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9640" y="22845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4 уг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    Все углы пря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    4 сто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Противоположные стороны фигур рав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468360" y="6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Кто ремонтирует автомобил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74960" y="2221200"/>
            <a:ext cx="4517640" cy="2339280"/>
            <a:chOff x="174960" y="2221200"/>
            <a:chExt cx="4517640" cy="2339280"/>
          </a:xfrm>
        </p:grpSpPr>
        <p:sp>
          <p:nvSpPr>
            <p:cNvPr id="506" name=""/>
            <p:cNvSpPr/>
            <p:nvPr/>
          </p:nvSpPr>
          <p:spPr>
            <a:xfrm>
              <a:off x="3852000" y="3885120"/>
              <a:ext cx="671400" cy="6685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3400" y="3885120"/>
              <a:ext cx="672120" cy="67248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35640" y="2540520"/>
              <a:ext cx="2856960" cy="131796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703000">
              <a:off x="487440" y="2534760"/>
              <a:ext cx="1513440" cy="151164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7280" y="3885120"/>
              <a:ext cx="675000" cy="67536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40520" y="2849400"/>
            <a:ext cx="3191040" cy="1634040"/>
            <a:chOff x="5240520" y="2849400"/>
            <a:chExt cx="3191040" cy="1634040"/>
          </a:xfrm>
        </p:grpSpPr>
        <p:sp>
          <p:nvSpPr>
            <p:cNvPr id="512" name=""/>
            <p:cNvSpPr/>
            <p:nvPr/>
          </p:nvSpPr>
          <p:spPr>
            <a:xfrm>
              <a:off x="7733520" y="396072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38880" y="2913840"/>
              <a:ext cx="2092680" cy="1048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703000">
              <a:off x="5456880" y="3065760"/>
              <a:ext cx="1045440" cy="104616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40840" y="3960720"/>
              <a:ext cx="52632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3120" y="396072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141440" y="563580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втослеса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804000" y="1484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549360"/>
            <a:ext cx="81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Периметр квад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5867280" y="2276640"/>
            <a:ext cx="2303640" cy="23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4797360"/>
            <a:ext cx="799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Р = а + а + а + 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18520" y="284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49800" y="4502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294160" y="284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68360" y="1700280"/>
            <a:ext cx="828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360" y="299880"/>
            <a:ext cx="818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Периметр квад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2674200">
            <a:off x="3203280" y="1267920"/>
            <a:ext cx="3535200" cy="3489480"/>
          </a:xfrm>
          <a:prstGeom prst="diamond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28000" y="119700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412000" y="270828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01080" y="450864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444000" y="270828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511812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а = 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Р = 4 + 4 + 4 + 4 = 16(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90000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  <a:ea typeface="Arial"/>
              </a:rPr>
              <a:t>Физкультминут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0000" y="1700280"/>
            <a:ext cx="74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ы работали отлич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тдохнуть не прочь сейчас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зарядка к нам привыч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 урок приходит в клас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драт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–  приседа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прямоугольни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накло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многоугольни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хлопаем в ладо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9"/>
          <p:cNvSpPr/>
          <p:nvPr/>
        </p:nvSpPr>
        <p:spPr>
          <a:xfrm>
            <a:off x="7236000" y="3860640"/>
            <a:ext cx="1368360" cy="136692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7308720" y="692280"/>
            <a:ext cx="122400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6912000" y="2025360"/>
            <a:ext cx="1152360" cy="19429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220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755640" y="314172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от звонок нам дал сигнал,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Поработать час наст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ремя зря мы не теряе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И работать начина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фото"/>
          <p:cNvPicPr/>
          <p:nvPr/>
        </p:nvPicPr>
        <p:blipFill>
          <a:blip r:embed="rId5"/>
          <a:stretch/>
        </p:blipFill>
        <p:spPr>
          <a:xfrm>
            <a:off x="468360" y="404640"/>
            <a:ext cx="1819080" cy="184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ucheniki_w450_h468"/>
          <p:cNvPicPr/>
          <p:nvPr/>
        </p:nvPicPr>
        <p:blipFill>
          <a:blip r:embed="rId6"/>
          <a:stretch/>
        </p:blipFill>
        <p:spPr>
          <a:xfrm>
            <a:off x="5940360" y="333360"/>
            <a:ext cx="274320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24000" y="420840"/>
            <a:ext cx="835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Работа по учебнику</a:t>
            </a: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  <a:ea typeface="Arial"/>
              </a:rPr>
              <a:t>(с. 3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Запомни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1700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вадрат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прямоугольник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у которого все сторо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равны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 rot="2551200">
            <a:off x="5867280" y="2421000"/>
            <a:ext cx="1994040" cy="1944720"/>
          </a:xfrm>
          <a:prstGeom prst="rect">
            <a:avLst/>
          </a:prstGeom>
          <a:solidFill>
            <a:srgbClr val="d1aa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WordArt 5"/>
          <p:cNvSpPr txBox="1"/>
          <p:nvPr/>
        </p:nvSpPr>
        <p:spPr>
          <a:xfrm>
            <a:off x="900000" y="979560"/>
            <a:ext cx="395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Многоугольни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8" name="AutoShape 6"/>
          <p:cNvSpPr/>
          <p:nvPr/>
        </p:nvSpPr>
        <p:spPr>
          <a:xfrm rot="10800000">
            <a:off x="2626920" y="15555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 rot="10800000">
            <a:off x="2626920" y="306828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 rot="10800000">
            <a:off x="2626920" y="45795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WordArt 9"/>
          <p:cNvSpPr txBox="1"/>
          <p:nvPr/>
        </p:nvSpPr>
        <p:spPr>
          <a:xfrm>
            <a:off x="971640" y="2347920"/>
            <a:ext cx="40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Четырехугольни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2" name="WordArt 10"/>
          <p:cNvSpPr txBox="1"/>
          <p:nvPr/>
        </p:nvSpPr>
        <p:spPr>
          <a:xfrm>
            <a:off x="1042920" y="386064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Прямоугольни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3" name="WordArt 11"/>
          <p:cNvSpPr txBox="1"/>
          <p:nvPr/>
        </p:nvSpPr>
        <p:spPr>
          <a:xfrm>
            <a:off x="1908000" y="5516640"/>
            <a:ext cx="187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19571123" blurRad="0" rotWithShape="0">
                    <a:srgbClr val="8989ff">
                      <a:alpha val="80000"/>
                    </a:srgbClr>
                  </a:outerShdw>
                </a:effectLst>
                <a:latin typeface="Times New Roman"/>
              </a:rPr>
              <a:t>Квадрат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19571123" blurRad="0" rotWithShape="0">
                  <a:srgbClr val="898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" name="Picture 13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4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5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ый треугольник 1"/>
          <p:cNvSpPr/>
          <p:nvPr/>
        </p:nvSpPr>
        <p:spPr>
          <a:xfrm flipV="1">
            <a:off x="1547640" y="1340280"/>
            <a:ext cx="6624720" cy="3714840"/>
          </a:xfrm>
          <a:prstGeom prst="rtTriangle">
            <a:avLst/>
          </a:prstGeom>
          <a:solidFill>
            <a:srgbClr val="0099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3"/>
          <p:cNvSpPr/>
          <p:nvPr/>
        </p:nvSpPr>
        <p:spPr>
          <a:xfrm>
            <a:off x="4572000" y="3860640"/>
            <a:ext cx="407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Рассмотрите эту фигу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она называ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684360" y="557208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думайте, как из этой фигуры при помощи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дного разрез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сложить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вадрат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Прямоугольник 2" descr=""/>
          <p:cNvPicPr/>
          <p:nvPr/>
        </p:nvPicPr>
        <p:blipFill>
          <a:blip r:embed="rId5"/>
          <a:stretch/>
        </p:blipFill>
        <p:spPr>
          <a:xfrm>
            <a:off x="1042920" y="0"/>
            <a:ext cx="7381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ый треугольник 3"/>
          <p:cNvSpPr/>
          <p:nvPr/>
        </p:nvSpPr>
        <p:spPr>
          <a:xfrm flipV="1">
            <a:off x="1835280" y="1773000"/>
            <a:ext cx="6232320" cy="3240000"/>
          </a:xfrm>
          <a:prstGeom prst="rtTriangle">
            <a:avLst/>
          </a:prstGeom>
          <a:solidFill>
            <a:srgbClr val="0099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076720" y="1773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ый треугольник 10"/>
          <p:cNvSpPr/>
          <p:nvPr/>
        </p:nvSpPr>
        <p:spPr>
          <a:xfrm flipV="1" rot="10800000">
            <a:off x="1763280" y="3357720"/>
            <a:ext cx="3303720" cy="1728720"/>
          </a:xfrm>
          <a:prstGeom prst="rtTriangle">
            <a:avLst/>
          </a:prstGeom>
          <a:solidFill>
            <a:srgbClr val="69fd9a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47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ешение задачи на смекал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539640" y="447840"/>
            <a:ext cx="8064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Работа по учебнику (с. 3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№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Составление и решение задач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№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Решение примеров на порядок действ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№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7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Решение уравн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9"/>
          <p:cNvGrpSpPr/>
          <p:nvPr/>
        </p:nvGrpSpPr>
        <p:grpSpPr>
          <a:xfrm>
            <a:off x="755640" y="1916280"/>
            <a:ext cx="2016000" cy="4173480"/>
            <a:chOff x="755640" y="1916280"/>
            <a:chExt cx="2016000" cy="4173480"/>
          </a:xfrm>
        </p:grpSpPr>
        <p:sp>
          <p:nvSpPr>
            <p:cNvPr id="590" name="AutoShape 4"/>
            <p:cNvSpPr/>
            <p:nvPr/>
          </p:nvSpPr>
          <p:spPr>
            <a:xfrm>
              <a:off x="1099440" y="1967760"/>
              <a:ext cx="1279440" cy="1170000"/>
            </a:xfrm>
            <a:prstGeom prst="smileyFace">
              <a:avLst>
                <a:gd name="adj" fmla="val -4652"/>
              </a:avLst>
            </a:prstGeom>
            <a:solidFill>
              <a:srgbClr val="dc482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AutoShape 6"/>
            <p:cNvSpPr/>
            <p:nvPr/>
          </p:nvSpPr>
          <p:spPr>
            <a:xfrm>
              <a:off x="1099440" y="3340800"/>
              <a:ext cx="1279440" cy="1170000"/>
            </a:xfrm>
            <a:prstGeom prst="smileyFace">
              <a:avLst>
                <a:gd name="adj" fmla="val 148"/>
              </a:avLst>
            </a:prstGeom>
            <a:solidFill>
              <a:srgbClr val="f0eb0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AutoShape 7"/>
            <p:cNvSpPr/>
            <p:nvPr/>
          </p:nvSpPr>
          <p:spPr>
            <a:xfrm>
              <a:off x="1149120" y="4766040"/>
              <a:ext cx="1279800" cy="1170000"/>
            </a:xfrm>
            <a:prstGeom prst="smileyFace">
              <a:avLst>
                <a:gd name="adj" fmla="val 9282"/>
              </a:avLst>
            </a:prstGeom>
            <a:solidFill>
              <a:srgbClr val="00a8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8"/>
            <p:cNvSpPr/>
            <p:nvPr/>
          </p:nvSpPr>
          <p:spPr>
            <a:xfrm>
              <a:off x="755640" y="1916280"/>
              <a:ext cx="2016000" cy="417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4" name="Picture 12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4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5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3927240" y="63648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  <a:ea typeface="Arial"/>
              </a:rPr>
              <a:t>Рефлекс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92360" y="256464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Оцените сво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Arial"/>
              </a:rPr>
              <a:t>работу на урок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0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2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3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128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.Любой квадрат – это прямо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.Любой прямоугольник – это квадра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Любой четырёхугольник –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ного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1280" y="4935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  <a:ea typeface="Arial"/>
              </a:rPr>
              <a:t>Подведение  итогов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19000" y="4910760"/>
            <a:ext cx="44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Учебник: № 4 (с. 3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608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WordArt 9"/>
          <p:cNvSpPr txBox="1"/>
          <p:nvPr/>
        </p:nvSpPr>
        <p:spPr>
          <a:xfrm>
            <a:off x="4572000" y="1143000"/>
            <a:ext cx="29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WordArt 10"/>
          <p:cNvSpPr txBox="1"/>
          <p:nvPr/>
        </p:nvSpPr>
        <p:spPr>
          <a:xfrm>
            <a:off x="1523880" y="3657600"/>
            <a:ext cx="5991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работу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5"/>
          <p:cNvSpPr/>
          <p:nvPr/>
        </p:nvSpPr>
        <p:spPr>
          <a:xfrm>
            <a:off x="250920" y="260280"/>
            <a:ext cx="1944720" cy="1657440"/>
          </a:xfrm>
          <a:prstGeom prst="sun">
            <a:avLst>
              <a:gd name="adj" fmla="val 25000"/>
            </a:avLst>
          </a:prstGeom>
          <a:solidFill>
            <a:srgbClr val="f0eb0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700360" y="1989000"/>
            <a:ext cx="2016000" cy="4173840"/>
            <a:chOff x="2700360" y="1989000"/>
            <a:chExt cx="2016000" cy="4173840"/>
          </a:xfrm>
        </p:grpSpPr>
        <p:sp>
          <p:nvSpPr>
            <p:cNvPr id="229" name="AutoShape 4"/>
            <p:cNvSpPr/>
            <p:nvPr/>
          </p:nvSpPr>
          <p:spPr>
            <a:xfrm>
              <a:off x="3044160" y="2040480"/>
              <a:ext cx="1279440" cy="1170000"/>
            </a:xfrm>
            <a:prstGeom prst="smileyFace">
              <a:avLst>
                <a:gd name="adj" fmla="val -4652"/>
              </a:avLst>
            </a:prstGeom>
            <a:solidFill>
              <a:srgbClr val="dc482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6"/>
            <p:cNvSpPr/>
            <p:nvPr/>
          </p:nvSpPr>
          <p:spPr>
            <a:xfrm>
              <a:off x="3044160" y="3413880"/>
              <a:ext cx="1279440" cy="1170360"/>
            </a:xfrm>
            <a:prstGeom prst="smileyFace">
              <a:avLst>
                <a:gd name="adj" fmla="val 148"/>
              </a:avLst>
            </a:prstGeom>
            <a:solidFill>
              <a:srgbClr val="f0eb0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3093840" y="4838760"/>
              <a:ext cx="1279800" cy="1170000"/>
            </a:xfrm>
            <a:prstGeom prst="smileyFace">
              <a:avLst>
                <a:gd name="adj" fmla="val 9282"/>
              </a:avLst>
            </a:prstGeom>
            <a:solidFill>
              <a:srgbClr val="00a8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2700360" y="1989000"/>
              <a:ext cx="2016000" cy="4173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WordArt 10"/>
          <p:cNvSpPr txBox="1"/>
          <p:nvPr/>
        </p:nvSpPr>
        <p:spPr>
          <a:xfrm>
            <a:off x="2627280" y="620640"/>
            <a:ext cx="5962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4ee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еюсь, у вас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4ee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4ee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ее настроение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4ee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Picture 12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98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971640" y="476280"/>
            <a:ext cx="7345440" cy="70344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200"/>
                </a:solidFill>
                <a:latin typeface="Times New Roman"/>
              </a:rPr>
              <a:t>Устный  с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971640" y="5589720"/>
            <a:ext cx="7200720" cy="45972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7"/>
          <p:cNvSpPr/>
          <p:nvPr/>
        </p:nvSpPr>
        <p:spPr>
          <a:xfrm>
            <a:off x="786456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2"/>
          <p:cNvSpPr/>
          <p:nvPr/>
        </p:nvSpPr>
        <p:spPr>
          <a:xfrm>
            <a:off x="1042920" y="6165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755640" y="162864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20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908000" y="256536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132000" y="170028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14036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5435640" y="170028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51672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667640" y="1413000"/>
            <a:ext cx="1008000" cy="93636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20500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916360" y="227628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234936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219640" y="2204640"/>
            <a:ext cx="792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2276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596360" y="2349360"/>
            <a:ext cx="79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755640" y="422100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17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908000" y="5300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132000" y="4292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427640" y="537372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508720" y="4292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804000" y="5300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7667640" y="4076640"/>
            <a:ext cx="1008000" cy="93672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479736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16360" y="4941720"/>
            <a:ext cx="7189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4941720"/>
            <a:ext cx="431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79700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00720" y="486900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885080" y="508428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7"/>
          <p:cNvSpPr/>
          <p:nvPr/>
        </p:nvSpPr>
        <p:spPr>
          <a:xfrm>
            <a:off x="971640" y="476280"/>
            <a:ext cx="7345440" cy="70344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200"/>
                </a:solidFill>
                <a:latin typeface="Times New Roman"/>
              </a:rPr>
              <a:t>Устный  с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971640" y="5589720"/>
            <a:ext cx="7200720" cy="459720"/>
          </a:xfrm>
          <a:prstGeom prst="rect">
            <a:avLst/>
          </a:prstGeom>
          <a:solidFill>
            <a:srgbClr val="007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7"/>
          <p:cNvSpPr/>
          <p:nvPr/>
        </p:nvSpPr>
        <p:spPr>
          <a:xfrm>
            <a:off x="786456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1042920" y="6165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755640" y="162864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20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908000" y="256536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132000" y="170028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414036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435640" y="170028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6516720" y="249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667640" y="1413000"/>
            <a:ext cx="1008000" cy="93636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220500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916360" y="2276280"/>
            <a:ext cx="647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08360" y="234936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219640" y="2204640"/>
            <a:ext cx="792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56360" y="2276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596360" y="2349360"/>
            <a:ext cx="79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755640" y="422100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17 -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908000" y="5300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32000" y="4292640"/>
            <a:ext cx="100836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427640" y="537372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5508720" y="4292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804000" y="5300640"/>
            <a:ext cx="100800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-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7667640" y="4076640"/>
            <a:ext cx="1008000" cy="93672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479736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916360" y="4941720"/>
            <a:ext cx="7189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80000" y="4941720"/>
            <a:ext cx="431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435640" y="479700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00720" y="486900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885080" y="508428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07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"/>
          <p:cNvSpPr/>
          <p:nvPr/>
        </p:nvSpPr>
        <p:spPr>
          <a:xfrm>
            <a:off x="826920" y="62064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  <a:ea typeface="Arial"/>
              </a:rPr>
              <a:t>Логическая  задач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132408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Ученики «лесной школы» Белка, Ёж, Лиса и Заяц начертили такие фигуры, по одной фигуре кажд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Ёж не стал чертить многоугольник, Заяц не выбрал треугольник, а Лиса начертила такой     прямоугольник, у которого есть и своё название. Какую фигуру начертила Белоч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4360" y="2924280"/>
            <a:ext cx="1223640" cy="1225440"/>
          </a:xfrm>
          <a:prstGeom prst="diamond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24000" y="2997360"/>
            <a:ext cx="1224000" cy="12236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8451200">
            <a:off x="4395240" y="2310120"/>
            <a:ext cx="1439640" cy="1660320"/>
          </a:xfrm>
          <a:prstGeom prst="rtTriangl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20373000">
            <a:off x="6876720" y="2781360"/>
            <a:ext cx="865080" cy="165744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18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539640" y="54936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  <a:ea typeface="Arial"/>
              </a:rPr>
              <a:t>Логическая  задач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2924280"/>
            <a:ext cx="1223640" cy="1225440"/>
          </a:xfrm>
          <a:prstGeom prst="diamond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4360" y="2997360"/>
            <a:ext cx="1224000" cy="122364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451200">
            <a:off x="4753800" y="2310120"/>
            <a:ext cx="1439640" cy="1660680"/>
          </a:xfrm>
          <a:prstGeom prst="rtTriangl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373000">
            <a:off x="7524360" y="2781360"/>
            <a:ext cx="865080" cy="165744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61800" y="208116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18160" y="2060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Ё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8720" y="20098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Ли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0160" y="20098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я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32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611280" y="476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Автомоб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46240" y="2053080"/>
            <a:ext cx="4517640" cy="2339280"/>
            <a:chOff x="246240" y="2053080"/>
            <a:chExt cx="4517640" cy="2339280"/>
          </a:xfrm>
        </p:grpSpPr>
        <p:sp>
          <p:nvSpPr>
            <p:cNvPr id="338" name=""/>
            <p:cNvSpPr/>
            <p:nvPr/>
          </p:nvSpPr>
          <p:spPr>
            <a:xfrm>
              <a:off x="3923640" y="3717000"/>
              <a:ext cx="671400" cy="6685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75040" y="3717000"/>
              <a:ext cx="672480" cy="67248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6920" y="2372400"/>
              <a:ext cx="2856960" cy="131796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703000">
              <a:off x="558720" y="2366640"/>
              <a:ext cx="1513440" cy="151164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98920" y="3717000"/>
              <a:ext cx="675000" cy="67536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383440" y="2776320"/>
            <a:ext cx="3191040" cy="1634040"/>
            <a:chOff x="5383440" y="2776320"/>
            <a:chExt cx="3191040" cy="1634040"/>
          </a:xfrm>
        </p:grpSpPr>
        <p:sp>
          <p:nvSpPr>
            <p:cNvPr id="344" name=""/>
            <p:cNvSpPr/>
            <p:nvPr/>
          </p:nvSpPr>
          <p:spPr>
            <a:xfrm>
              <a:off x="7876440" y="388764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81800" y="2840760"/>
              <a:ext cx="2092680" cy="1048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703000">
              <a:off x="5599800" y="2992680"/>
              <a:ext cx="1045440" cy="1046160"/>
            </a:xfrm>
            <a:prstGeom prst="diamond">
              <a:avLst/>
            </a:prstGeom>
            <a:solidFill>
              <a:srgbClr val="703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83760" y="3887640"/>
              <a:ext cx="52632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56040" y="3887640"/>
              <a:ext cx="523800" cy="522720"/>
            </a:xfrm>
            <a:prstGeom prst="ellipse">
              <a:avLst/>
            </a:prstGeom>
            <a:solidFill>
              <a:srgbClr val="ffb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4"/>
          <p:cNvGrpSpPr/>
          <p:nvPr/>
        </p:nvGrpSpPr>
        <p:grpSpPr>
          <a:xfrm>
            <a:off x="0" y="-747720"/>
            <a:ext cx="9144000" cy="9217080"/>
            <a:chOff x="0" y="-747720"/>
            <a:chExt cx="9144000" cy="9217080"/>
          </a:xfrm>
        </p:grpSpPr>
        <p:pic>
          <p:nvPicPr>
            <p:cNvPr id="350" name="Picture 5" descr="BD15034_"/>
            <p:cNvPicPr/>
            <p:nvPr/>
          </p:nvPicPr>
          <p:blipFill>
            <a:blip r:embed="rId1"/>
            <a:stretch/>
          </p:blipFill>
          <p:spPr>
            <a:xfrm>
              <a:off x="0" y="1159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BD15034_"/>
            <p:cNvPicPr/>
            <p:nvPr/>
          </p:nvPicPr>
          <p:blipFill>
            <a:blip r:embed="rId2"/>
            <a:stretch/>
          </p:blipFill>
          <p:spPr>
            <a:xfrm>
              <a:off x="0" y="659772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7" descr="BD15034_"/>
            <p:cNvPicPr/>
            <p:nvPr/>
          </p:nvPicPr>
          <p:blipFill>
            <a:blip r:embed="rId3"/>
            <a:stretch/>
          </p:blipFill>
          <p:spPr>
            <a:xfrm>
              <a:off x="8820000" y="-674640"/>
              <a:ext cx="15264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8" descr="BD15034_"/>
            <p:cNvPicPr/>
            <p:nvPr/>
          </p:nvPicPr>
          <p:blipFill>
            <a:blip r:embed="rId4"/>
            <a:stretch/>
          </p:blipFill>
          <p:spPr>
            <a:xfrm>
              <a:off x="179280" y="-747720"/>
              <a:ext cx="152640" cy="9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"/>
          <p:cNvSpPr/>
          <p:nvPr/>
        </p:nvSpPr>
        <p:spPr>
          <a:xfrm>
            <a:off x="1979640" y="404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Тема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1341360"/>
            <a:ext cx="727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 давно знакомый 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ждый угол в нем зна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се четыре сторо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аковой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ам его представить 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 зовут его?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40:57Z</dcterms:created>
  <dc:creator>Admin</dc:creator>
  <dc:description/>
  <dc:language>en-US</dc:language>
  <cp:lastModifiedBy>школа3</cp:lastModifiedBy>
  <dcterms:modified xsi:type="dcterms:W3CDTF">2013-02-11T15:16:24Z</dcterms:modified>
  <cp:revision>15</cp:revision>
  <dc:subject/>
  <dc:title>Слайд 1</dc:title>
</cp:coreProperties>
</file>