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30CD-CEAD-4AD7-BD82-5E82E86630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F11F-824E-4B92-815F-9B57B78A50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751C-7C93-4460-8F34-71A204F66D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EB71-524E-4B77-B301-306589C97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5E72-19FE-4A28-B376-579D9510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1295-5C1B-451A-88DB-0DCC71512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4605-4A26-44B6-82A4-F7EFC9404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FBFC-6E07-42BF-A42B-6C3FE1AA3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D3E4-D07B-411C-853A-3E00A8D5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C933-AE5E-46BB-9EAC-48D7353A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55FB-3652-4266-8EDB-41D9A038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3206-6B8A-4EB1-ADC5-A8109C7C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6197-564F-4E6E-B040-5746A9727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2F495-4372-43CC-A074-7D55B2DF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5863-D817-4BA1-A9D0-F24F4953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A520A-0261-4A35-926C-01BEAF50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BF8B-6C6F-47D5-9E85-C1140EFA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BBBB-1B2B-4F20-9D6E-729FD4DE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6A2A-49D3-4D94-8483-EF7B03AB7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C538-A3E3-40C9-A5D8-53A530CEC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F290-D259-457D-ABBC-8F1A81DA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E6A1-A92C-47FA-AAC3-7C4FE37B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8328-6288-4A5A-85CD-A48C7811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A23C-A2E8-4D1A-BB37-71DCB81C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AC48-7524-4824-865D-2E5A083C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1AF4-83F9-45B8-B879-1585D087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F442-151F-4465-B512-DD376843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7425-BED0-4B70-A963-584B05545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81EC-4DB5-4FBF-801B-B2C34B159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762120" y="304920"/>
            <a:ext cx="7467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КЛАССИФИКАЦИЯ И НОМЕНКЛ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НЕОРГАНИЧЕСКИХ СОЕДИН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(Малый химический тренажё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2391840" y="4267080"/>
            <a:ext cx="636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ы для контроля знаний учащихся 8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теме «Основные классы неорганических соединен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 химии ГОУ СОШ № 4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вчарова Ольга Эдуард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6"/>
          <p:cNvSpPr/>
          <p:nvPr/>
        </p:nvSpPr>
        <p:spPr>
          <a:xfrm>
            <a:off x="2823840" y="594360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нкт-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157560" y="2619360"/>
            <a:ext cx="28288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3805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ыписать формулы  и назвать вещества</a:t>
            </a:r>
            <a:br>
              <a:rPr sz="3600"/>
            </a:b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I-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в.-кислоты,оксиды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I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-в.-основания,с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3"/>
          <p:cNvGraphicFramePr/>
          <p:nvPr/>
        </p:nvGraphicFramePr>
        <p:xfrm>
          <a:off x="380880" y="1676520"/>
          <a:ext cx="8305920" cy="4559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676520"/>
                    <a:ext cx="8305920" cy="4559040"/>
                  </a:xfrm>
                  <a:prstGeom prst="rect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5" name="Line 6"/>
          <p:cNvSpPr/>
          <p:nvPr/>
        </p:nvSpPr>
        <p:spPr>
          <a:xfrm>
            <a:off x="1676520" y="1752480"/>
            <a:ext cx="0" cy="457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7"/>
          <p:cNvSpPr/>
          <p:nvPr/>
        </p:nvSpPr>
        <p:spPr>
          <a:xfrm>
            <a:off x="3200400" y="1676520"/>
            <a:ext cx="0" cy="464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8"/>
          <p:cNvSpPr/>
          <p:nvPr/>
        </p:nvSpPr>
        <p:spPr>
          <a:xfrm>
            <a:off x="4770360" y="1676520"/>
            <a:ext cx="46080" cy="464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9"/>
          <p:cNvSpPr/>
          <p:nvPr/>
        </p:nvSpPr>
        <p:spPr>
          <a:xfrm>
            <a:off x="6172200" y="1676520"/>
            <a:ext cx="0" cy="464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0"/>
          <p:cNvSpPr/>
          <p:nvPr/>
        </p:nvSpPr>
        <p:spPr>
          <a:xfrm>
            <a:off x="304920" y="236232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1"/>
          <p:cNvSpPr/>
          <p:nvPr/>
        </p:nvSpPr>
        <p:spPr>
          <a:xfrm>
            <a:off x="380880" y="3200400"/>
            <a:ext cx="8305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3"/>
          <p:cNvSpPr/>
          <p:nvPr/>
        </p:nvSpPr>
        <p:spPr>
          <a:xfrm>
            <a:off x="380880" y="4038480"/>
            <a:ext cx="8305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5"/>
          <p:cNvSpPr/>
          <p:nvPr/>
        </p:nvSpPr>
        <p:spPr>
          <a:xfrm>
            <a:off x="380880" y="4800600"/>
            <a:ext cx="8382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6"/>
          <p:cNvSpPr/>
          <p:nvPr/>
        </p:nvSpPr>
        <p:spPr>
          <a:xfrm>
            <a:off x="380880" y="5410080"/>
            <a:ext cx="8305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304920" y="914400"/>
            <a:ext cx="82296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оставить формулы соле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 хлорид натрия, карбонат меди/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/, сульфид калия, фосфат бария, нитрат железа /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/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0" y="3733920"/>
            <a:ext cx="9144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оставить формулы соле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 сульфат магния, силикат калия, хлорид железа/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/, фосфат цинка, нитрат бария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3353760" y="279360"/>
            <a:ext cx="163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1 ВАРИ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430080" y="2895480"/>
            <a:ext cx="163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2 ВАРИ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4"/>
          <p:cNvSpPr/>
          <p:nvPr/>
        </p:nvSpPr>
        <p:spPr>
          <a:xfrm>
            <a:off x="228600" y="838080"/>
            <a:ext cx="8458200" cy="29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ть названия солям по формула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SO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CI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3,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ить валентность металлов и кислотных остат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457200" y="3962520"/>
            <a:ext cx="7924680" cy="34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ть названия солям по формулам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CI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gSO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ить валентность металлов и кислотных остат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3356640" y="30780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1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3661560" y="327960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2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4"/>
          <p:cNvSpPr txBox="1"/>
          <p:nvPr/>
        </p:nvSpPr>
        <p:spPr>
          <a:xfrm>
            <a:off x="2133720" y="228600"/>
            <a:ext cx="5181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верим наши знания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38080" y="836640"/>
            <a:ext cx="7772400" cy="55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несите формулы из списка по предложенным ниже колонкам, дайте названия веществ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KOH; N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CuS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Ca(N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Fe(OH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C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Ca(OH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A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ZnO; C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S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HCl; Fe(OH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gO; 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NaOH; NaC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Оксиды </a:t>
            </a:r>
            <a:r>
              <a:rPr b="0" lang="ru-RU" sz="20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Кислоты</a:t>
            </a:r>
            <a:r>
              <a:rPr b="0" lang="ru-RU" sz="20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 Основания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С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сиды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O2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сид кремния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)          MgS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льфат маг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1"/>
          <p:cNvSpPr/>
          <p:nvPr/>
        </p:nvSpPr>
        <p:spPr>
          <a:xfrm>
            <a:off x="217800" y="1447920"/>
            <a:ext cx="8878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262673"/>
                </a:solidFill>
                <a:latin typeface="Cambria"/>
              </a:rPr>
              <a:t>ЖЕЛАЮ ВСЕМ УСПЕХА!!!</a:t>
            </a:r>
            <a:br>
              <a:rPr sz="4800"/>
            </a:br>
            <a:br>
              <a:rPr sz="4800"/>
            </a:br>
            <a:r>
              <a:rPr b="1" i="1" lang="en-US" sz="4800" spc="-1" strike="noStrike">
                <a:solidFill>
                  <a:srgbClr val="262673"/>
                </a:solidFill>
                <a:latin typeface="Cambria"/>
              </a:rPr>
              <a:t>ПРОДОЛЖЕНИЕ СЛЕДУЕТ…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ОТВЕТИТЬ НА ПРЕДЛОЖЕННЫЕ ВОПРОСЫ 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В ПОРЯДКЕ ИХ ПОСТАН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ариант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снования – эт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ислотные оксиды – это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 водой реагирую только оксиды металлов 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еакция гидратации – это взаимодействие с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оставить и назвать формулы оксидов, соответствующих данным основаниям: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g(OH)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---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…,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OH---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e(OH)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-----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…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6. Дописать уравнения реакц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g(OH)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+ HNO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= ….. + 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K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+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OH =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7692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Вариант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ксиды – эт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сновные оксиды – эт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Реакция нейтрализации – это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Разлагаются при нагревании  основания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оставить и назвать формулы оснований, соответствующих данным оксидам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CuO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---- …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L</a:t>
            </a:r>
            <a:r>
              <a:rPr b="1" lang="en-US" sz="18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66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-----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…,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K</a:t>
            </a:r>
            <a:r>
              <a:rPr b="1" lang="en-US" sz="18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O ----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…. .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6.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Дописать уравнения реакц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CuO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+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HCL = … +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Fe(OH)</a:t>
            </a:r>
            <a:r>
              <a:rPr b="1" lang="en-US" sz="1800" spc="-1" strike="noStrike" baseline="-25000">
                <a:solidFill>
                  <a:srgbClr val="006600"/>
                </a:solidFill>
                <a:latin typeface="Arial"/>
              </a:rPr>
              <a:t>3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+ HNO</a:t>
            </a:r>
            <a:r>
              <a:rPr b="1" lang="en-US" sz="1800" spc="-1" strike="noStrike" baseline="-25000">
                <a:solidFill>
                  <a:srgbClr val="006600"/>
                </a:solidFill>
                <a:latin typeface="Arial"/>
              </a:rPr>
              <a:t>3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= … +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77724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Теоретическая часть те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57120" y="1143000"/>
            <a:ext cx="4138560" cy="495288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Arial"/>
              </a:rPr>
              <a:t>Вариант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ая формула кисл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ание- э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слотный остаток серной кислоты и его вален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ула гидроксида ба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ссифицировать кислоту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3280" y="1142640"/>
            <a:ext cx="4067280" cy="50007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8000"/>
                </a:solidFill>
                <a:uFillTx/>
                <a:latin typeface="Arial"/>
              </a:rPr>
              <a:t>Вариатн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ула азотной кислоты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ая формула оснований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слота – э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лентность металла в основаниях определяется по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ссифицировать кислоту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5219640" y="1268280"/>
          <a:ext cx="3348000" cy="2484720"/>
        </p:xfrm>
        <a:graphic>
          <a:graphicData uri="http://schemas.openxmlformats.org/drawingml/2006/table">
            <a:tbl>
              <a:tblPr/>
              <a:tblGrid>
                <a:gridCol w="1116000"/>
                <a:gridCol w="1116000"/>
                <a:gridCol w="1116000"/>
              </a:tblGrid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2843280" y="3968640"/>
          <a:ext cx="3384360" cy="2530440"/>
        </p:xfrm>
        <a:graphic>
          <a:graphicData uri="http://schemas.openxmlformats.org/drawingml/2006/table">
            <a:tbl>
              <a:tblPr/>
              <a:tblGrid>
                <a:gridCol w="1114200"/>
                <a:gridCol w="1141560"/>
                <a:gridCol w="112860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468360" y="1233360"/>
          <a:ext cx="3349440" cy="2500560"/>
        </p:xfrm>
        <a:graphic>
          <a:graphicData uri="http://schemas.openxmlformats.org/drawingml/2006/table">
            <a:tbl>
              <a:tblPr/>
              <a:tblGrid>
                <a:gridCol w="1117440"/>
                <a:gridCol w="1114560"/>
                <a:gridCol w="1117440"/>
              </a:tblGrid>
              <a:tr h="47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O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             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Line 281"/>
          <p:cNvSpPr/>
          <p:nvPr/>
        </p:nvSpPr>
        <p:spPr>
          <a:xfrm>
            <a:off x="431640" y="1197000"/>
            <a:ext cx="3456000" cy="2592360"/>
          </a:xfrm>
          <a:prstGeom prst="line">
            <a:avLst/>
          </a:prstGeom>
          <a:ln w="28440">
            <a:solidFill>
              <a:srgbClr val="00206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82"/>
          <p:cNvSpPr/>
          <p:nvPr/>
        </p:nvSpPr>
        <p:spPr>
          <a:xfrm flipH="1">
            <a:off x="2734920" y="3897360"/>
            <a:ext cx="3529080" cy="2663640"/>
          </a:xfrm>
          <a:prstGeom prst="line">
            <a:avLst/>
          </a:prstGeom>
          <a:ln w="28440">
            <a:solidFill>
              <a:srgbClr val="00206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84"/>
          <p:cNvSpPr/>
          <p:nvPr/>
        </p:nvSpPr>
        <p:spPr>
          <a:xfrm>
            <a:off x="6912000" y="836640"/>
            <a:ext cx="0" cy="3313080"/>
          </a:xfrm>
          <a:prstGeom prst="line">
            <a:avLst/>
          </a:prstGeom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85"/>
          <p:cNvSpPr/>
          <p:nvPr/>
        </p:nvSpPr>
        <p:spPr>
          <a:xfrm>
            <a:off x="179280" y="189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87"/>
          <p:cNvSpPr/>
          <p:nvPr/>
        </p:nvSpPr>
        <p:spPr>
          <a:xfrm>
            <a:off x="2306520" y="326880"/>
            <a:ext cx="440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играем в « крестики- нолики 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вычеркните правильный отв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223560" y="4357800"/>
            <a:ext cx="2109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кси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Прямая со стрелкой 11"/>
          <p:cNvCxnSpPr/>
          <p:nvPr/>
        </p:nvCxnSpPr>
        <p:spPr>
          <a:xfrm>
            <a:off x="2071440" y="5357880"/>
            <a:ext cx="500760" cy="216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09" name="Прямая со стрелкой 13"/>
          <p:cNvCxnSpPr/>
          <p:nvPr/>
        </p:nvCxnSpPr>
        <p:spPr>
          <a:xfrm flipV="1">
            <a:off x="1431000" y="4009320"/>
            <a:ext cx="6840" cy="50076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110" name="TextBox 15"/>
          <p:cNvSpPr/>
          <p:nvPr/>
        </p:nvSpPr>
        <p:spPr>
          <a:xfrm>
            <a:off x="6651000" y="4643280"/>
            <a:ext cx="224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исло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кси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Прямая со стрелкой 17"/>
          <p:cNvCxnSpPr>
            <a:stCxn id="110" idx="0"/>
          </p:cNvCxnSpPr>
          <p:nvPr/>
        </p:nvCxnSpPr>
        <p:spPr>
          <a:xfrm flipV="1">
            <a:off x="7772400" y="3857400"/>
            <a:ext cx="15120" cy="78624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888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пишите уравнения реакций и расставьте коэффицин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6920" y="21333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O 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O +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O +   HCl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N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  NaOH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634920" y="2133720"/>
            <a:ext cx="52102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2268360" y="3176640"/>
            <a:ext cx="31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2089440" y="4689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152280" y="810360"/>
            <a:ext cx="899172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 из перечисленных оксидов соответствуют основан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  N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,   CuO,   P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  F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 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ишите формулы этих оснований и дайте им наз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228600" y="4087080"/>
            <a:ext cx="86868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 из перечисленных оксидов соответствуют  кисл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gO,  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  FeO,   P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  S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  A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ишите формулы этих  кислот и дайте им названия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304920" y="2637000"/>
            <a:ext cx="8001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762120" y="3932280"/>
            <a:ext cx="699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685800" y="5303880"/>
            <a:ext cx="746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2819520" y="380880"/>
            <a:ext cx="278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1 ВАРИ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3658680" y="3429000"/>
            <a:ext cx="163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2 ВАРИ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152280" y="0"/>
            <a:ext cx="4356360" cy="6665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Кислотный остаток азотной  кисл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лентность свинца в формул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b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Соли сероводородной кисл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-сульф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-фосф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-сульф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Формула гидроксида бар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(OH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Вещество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P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ыва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- хлорид железа 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- фосфат железа 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- фосфат железа 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I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4643280" y="13644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4606920" y="0"/>
            <a:ext cx="4384800" cy="6902280"/>
          </a:xfrm>
          <a:prstGeom prst="rect">
            <a:avLst/>
          </a:pr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9933"/>
                </a:solidFill>
                <a:uFillTx/>
                <a:latin typeface="Arial"/>
              </a:rPr>
              <a:t>II </a:t>
            </a:r>
            <a:r>
              <a:rPr b="1" lang="ru-RU" sz="1800" spc="-1" strike="noStrike" u="sng">
                <a:solidFill>
                  <a:srgbClr val="339933"/>
                </a:solidFill>
                <a:uFillTx/>
                <a:latin typeface="Arial"/>
              </a:rPr>
              <a:t>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9933"/>
                </a:solidFill>
                <a:latin typeface="Arial"/>
              </a:rPr>
              <a:t>Вещество</a:t>
            </a: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 CaSO</a:t>
            </a:r>
            <a:r>
              <a:rPr b="1" lang="en-US" sz="1800" spc="-1" strike="noStrike" baseline="-25000">
                <a:solidFill>
                  <a:srgbClr val="339933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9933"/>
                </a:solidFill>
                <a:latin typeface="Arial"/>
              </a:rPr>
              <a:t>называ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33"/>
                </a:solidFill>
                <a:latin typeface="Arial"/>
              </a:rPr>
              <a:t>А- сульфит каль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33"/>
                </a:solidFill>
                <a:latin typeface="Arial"/>
              </a:rPr>
              <a:t>Б- сульфат каль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33"/>
                </a:solidFill>
                <a:latin typeface="Arial"/>
              </a:rPr>
              <a:t>В- силикат каль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9933"/>
                </a:solidFill>
                <a:latin typeface="Arial"/>
              </a:rPr>
              <a:t>2. Соли соляной кисл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33"/>
                </a:solidFill>
                <a:latin typeface="Arial"/>
              </a:rPr>
              <a:t>А- нитр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33"/>
                </a:solidFill>
                <a:latin typeface="Arial"/>
              </a:rPr>
              <a:t>Б- сульф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33"/>
                </a:solidFill>
                <a:latin typeface="Arial"/>
              </a:rPr>
              <a:t>В- хлор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9933"/>
                </a:solidFill>
                <a:latin typeface="Arial"/>
              </a:rPr>
              <a:t>3. Валентность углерода в формуле </a:t>
            </a: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CO</a:t>
            </a:r>
            <a:r>
              <a:rPr b="1" lang="ru-RU" sz="1800" spc="-1" strike="noStrike">
                <a:solidFill>
                  <a:srgbClr val="339933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33"/>
                </a:solidFill>
                <a:latin typeface="Arial"/>
              </a:rPr>
              <a:t>А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33"/>
                </a:solidFill>
                <a:latin typeface="Arial"/>
              </a:rPr>
              <a:t>Б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33"/>
                </a:solidFill>
                <a:latin typeface="Arial"/>
              </a:rPr>
              <a:t>В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9933"/>
                </a:solidFill>
                <a:latin typeface="Arial"/>
              </a:rPr>
              <a:t>4. Кислотный остаток фосфорной кисл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33"/>
                </a:solidFill>
                <a:latin typeface="Arial"/>
              </a:rPr>
              <a:t>А- </a:t>
            </a: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339933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PO</a:t>
            </a:r>
            <a:r>
              <a:rPr b="0" lang="en-US" sz="1800" spc="-1" strike="noStrike" baseline="-25000">
                <a:solidFill>
                  <a:srgbClr val="339933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33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339933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SO</a:t>
            </a:r>
            <a:r>
              <a:rPr b="0" lang="en-US" sz="1800" spc="-1" strike="noStrike" baseline="-25000">
                <a:solidFill>
                  <a:srgbClr val="339933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33"/>
                </a:solidFill>
                <a:latin typeface="Arial"/>
              </a:rPr>
              <a:t>В- =</a:t>
            </a: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PO</a:t>
            </a:r>
            <a:r>
              <a:rPr b="0" lang="en-US" sz="1800" spc="-1" strike="noStrike" baseline="-25000">
                <a:solidFill>
                  <a:srgbClr val="339933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5</a:t>
            </a:r>
            <a:r>
              <a:rPr b="1" lang="ru-RU" sz="1800" spc="-1" strike="noStrike">
                <a:solidFill>
                  <a:srgbClr val="339933"/>
                </a:solidFill>
                <a:latin typeface="Arial"/>
              </a:rPr>
              <a:t>. Формула гидроксида меди (</a:t>
            </a: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33"/>
                </a:solidFill>
                <a:latin typeface="Arial"/>
              </a:rPr>
              <a:t>А. </a:t>
            </a: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Cu(OH)</a:t>
            </a:r>
            <a:r>
              <a:rPr b="0" lang="en-US" sz="1800" spc="-1" strike="noStrike" baseline="-25000">
                <a:solidFill>
                  <a:srgbClr val="33993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33"/>
                </a:solidFill>
                <a:latin typeface="Arial"/>
              </a:rPr>
              <a:t>Б- </a:t>
            </a: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Cu(O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33"/>
                </a:solidFill>
                <a:latin typeface="Arial"/>
              </a:rPr>
              <a:t>В- </a:t>
            </a: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Cu</a:t>
            </a:r>
            <a:r>
              <a:rPr b="0" lang="en-US" sz="1800" spc="-1" strike="noStrike" baseline="-25000">
                <a:solidFill>
                  <a:srgbClr val="339933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8"/>
          <p:cNvSpPr/>
          <p:nvPr/>
        </p:nvSpPr>
        <p:spPr>
          <a:xfrm>
            <a:off x="5219640" y="4581360"/>
            <a:ext cx="14436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826920" y="189000"/>
            <a:ext cx="712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250920" y="105264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Выбери ряд формул, в котором все вещества – кисл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95280" y="177336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Cl, CaC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3276720" y="177336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Cl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uO, HN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5940360" y="1773360"/>
            <a:ext cx="29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 HN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250920" y="263700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Число формул кислот в следующем спис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611280" y="33577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KOH, 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NaN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HN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aC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611280" y="4005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.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3132000" y="400536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.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5867280" y="4005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.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250920" y="479736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Среди предложенных молекул веществ найдите кислородсодержащую двухосновную кисл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684360" y="5950080"/>
            <a:ext cx="122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3276720" y="595008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5940360" y="59500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 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Соотнесите название кислоты с химической формул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3"/>
          <p:cNvSpPr/>
          <p:nvPr/>
        </p:nvSpPr>
        <p:spPr>
          <a:xfrm>
            <a:off x="250920" y="2421000"/>
            <a:ext cx="2736720" cy="72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азотная кис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250920" y="3645000"/>
            <a:ext cx="2736720" cy="72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азотистая кис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250920" y="4869000"/>
            <a:ext cx="2736720" cy="72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сернистая кис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324000" y="1268280"/>
            <a:ext cx="2663640" cy="72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хлороводород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кис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7"/>
          <p:cNvSpPr/>
          <p:nvPr/>
        </p:nvSpPr>
        <p:spPr>
          <a:xfrm>
            <a:off x="6156360" y="4941720"/>
            <a:ext cx="2736720" cy="72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фосфорная кис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8"/>
          <p:cNvSpPr/>
          <p:nvPr/>
        </p:nvSpPr>
        <p:spPr>
          <a:xfrm>
            <a:off x="6156360" y="4005360"/>
            <a:ext cx="2736720" cy="72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кремниевая кис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9"/>
          <p:cNvSpPr/>
          <p:nvPr/>
        </p:nvSpPr>
        <p:spPr>
          <a:xfrm>
            <a:off x="6156360" y="2997360"/>
            <a:ext cx="2736720" cy="72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угольная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кис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0"/>
          <p:cNvSpPr/>
          <p:nvPr/>
        </p:nvSpPr>
        <p:spPr>
          <a:xfrm>
            <a:off x="6156360" y="1989000"/>
            <a:ext cx="2736720" cy="72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Сероводород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кисло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1"/>
          <p:cNvSpPr/>
          <p:nvPr/>
        </p:nvSpPr>
        <p:spPr>
          <a:xfrm>
            <a:off x="6156360" y="981000"/>
            <a:ext cx="2736720" cy="72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серная кис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2"/>
          <p:cNvSpPr/>
          <p:nvPr/>
        </p:nvSpPr>
        <p:spPr>
          <a:xfrm>
            <a:off x="3635280" y="765000"/>
            <a:ext cx="1943280" cy="503280"/>
          </a:xfrm>
          <a:prstGeom prst="flowChartTerminator">
            <a:avLst/>
          </a:prstGeom>
          <a:solidFill>
            <a:srgbClr val="ffff66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3"/>
          <p:cNvSpPr/>
          <p:nvPr/>
        </p:nvSpPr>
        <p:spPr>
          <a:xfrm>
            <a:off x="3635280" y="1484280"/>
            <a:ext cx="1943280" cy="432000"/>
          </a:xfrm>
          <a:prstGeom prst="flowChartTerminator">
            <a:avLst/>
          </a:prstGeom>
          <a:solidFill>
            <a:srgbClr val="ffff66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4"/>
          <p:cNvSpPr/>
          <p:nvPr/>
        </p:nvSpPr>
        <p:spPr>
          <a:xfrm>
            <a:off x="3635280" y="2133720"/>
            <a:ext cx="1943280" cy="431640"/>
          </a:xfrm>
          <a:prstGeom prst="flowChartTerminator">
            <a:avLst/>
          </a:prstGeom>
          <a:solidFill>
            <a:srgbClr val="ffff66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5"/>
          <p:cNvSpPr/>
          <p:nvPr/>
        </p:nvSpPr>
        <p:spPr>
          <a:xfrm>
            <a:off x="3635280" y="2852640"/>
            <a:ext cx="1943280" cy="432000"/>
          </a:xfrm>
          <a:prstGeom prst="flowChartTerminator">
            <a:avLst/>
          </a:prstGeom>
          <a:solidFill>
            <a:srgbClr val="ffff66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6"/>
          <p:cNvSpPr/>
          <p:nvPr/>
        </p:nvSpPr>
        <p:spPr>
          <a:xfrm>
            <a:off x="3635280" y="3573360"/>
            <a:ext cx="1943280" cy="432000"/>
          </a:xfrm>
          <a:prstGeom prst="flowChartTerminator">
            <a:avLst/>
          </a:prstGeom>
          <a:solidFill>
            <a:srgbClr val="ffff66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7"/>
          <p:cNvSpPr/>
          <p:nvPr/>
        </p:nvSpPr>
        <p:spPr>
          <a:xfrm>
            <a:off x="3635280" y="4221000"/>
            <a:ext cx="1943280" cy="432000"/>
          </a:xfrm>
          <a:prstGeom prst="flowChartTerminator">
            <a:avLst/>
          </a:prstGeom>
          <a:solidFill>
            <a:srgbClr val="ffff66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8"/>
          <p:cNvSpPr/>
          <p:nvPr/>
        </p:nvSpPr>
        <p:spPr>
          <a:xfrm>
            <a:off x="3635280" y="4869000"/>
            <a:ext cx="1943280" cy="431640"/>
          </a:xfrm>
          <a:prstGeom prst="flowChartTerminator">
            <a:avLst/>
          </a:prstGeom>
          <a:solidFill>
            <a:srgbClr val="ffff66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9"/>
          <p:cNvSpPr/>
          <p:nvPr/>
        </p:nvSpPr>
        <p:spPr>
          <a:xfrm>
            <a:off x="3635280" y="5516640"/>
            <a:ext cx="1943280" cy="431640"/>
          </a:xfrm>
          <a:prstGeom prst="flowChartTerminator">
            <a:avLst/>
          </a:prstGeom>
          <a:solidFill>
            <a:srgbClr val="ffff66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20"/>
          <p:cNvSpPr/>
          <p:nvPr/>
        </p:nvSpPr>
        <p:spPr>
          <a:xfrm>
            <a:off x="3635280" y="6165720"/>
            <a:ext cx="1943280" cy="432000"/>
          </a:xfrm>
          <a:prstGeom prst="flowChartTerminator">
            <a:avLst/>
          </a:prstGeom>
          <a:solidFill>
            <a:srgbClr val="ffff66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1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1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19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19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2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20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33"/>
                                      </p:to>
                                    </p:animClr>
                                    <p:set>
                                      <p:cBhvr>
                                        <p:cTn id="21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33"/>
                                      </p:to>
                                    </p:animClr>
                                    <p:set>
                                      <p:cBhvr>
                                        <p:cTn id="22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7c80"/>
                                      </p:to>
                                    </p:animClr>
                                    <p:set>
                                      <p:cBhvr>
                                        <p:cTn id="23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7c80"/>
                                      </p:to>
                                    </p:animClr>
                                    <p:set>
                                      <p:cBhvr>
                                        <p:cTn id="2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ff"/>
                                      </p:to>
                                    </p:animClr>
                                    <p:set>
                                      <p:cBhvr>
                                        <p:cTn id="2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ff"/>
                                      </p:to>
                                    </p:animClr>
                                    <p:set>
                                      <p:cBhvr>
                                        <p:cTn id="25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74754"/>
                                      </p:to>
                                    </p:animClr>
                                    <p:set>
                                      <p:cBhvr>
                                        <p:cTn id="26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74754"/>
                                      </p:to>
                                    </p:animClr>
                                    <p:set>
                                      <p:cBhvr>
                                        <p:cTn id="2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0-29T17:59:00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