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4AD-C726-4E23-B9B8-76CA3AFD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EAD-6CBD-4011-BBD1-1A403EDB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512-F69F-459C-BAF4-CCE5F4E9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F9D-6C20-4D16-967C-41779FF8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725-9330-4969-9BD1-B4A8CDD4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DA0E-B1A7-4C15-AE43-A8D0E3A3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1C0-77AB-4A48-BCEE-BE2C8B4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8AC9-C5F2-4DE4-A4F0-61FC7579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4810-1051-4BA2-87D8-04B25D86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A985-6725-409C-B102-E9E163B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D8C6-BD05-4017-9B19-18AEC3E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5B3-15CF-4047-9E17-0784826E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5C6-92E5-490D-8977-7651066F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9E3F-5CF7-4460-930F-997266F2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6FA-5BD1-448D-B0F9-C31F66DE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E8EB-61CB-4322-8B44-AB2BB080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5502-289F-4141-AADE-3B9692F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CD9-9FB3-4631-99EC-F2167888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D04-4170-454B-B212-C891A00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3C6-6D44-41E1-A776-35D0545C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995-31DF-44ED-B7C8-E0649E7D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079-70E9-4CD9-A3AF-618CDEF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EE6-03CC-4E62-B720-96CC96D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568-2A6F-4DE4-91F3-655DF16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B928-30D6-4C4F-8AB4-23AF7E145BB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0384-6C93-4608-8698-2847C31C84FD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76500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Игровые технологии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92200" y="1143000"/>
            <a:ext cx="868212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Учителю отводится очень важная роль, когда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приходит время помогать ребенку расти и развиваться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Вокруг простирается огромный мир, и детям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не терпится начать его исследовать. У учителя есть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возможность разделить с детьми чудесное путешествие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в мир открытий, когда они начнут изучать самих себя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и окружающий их мир. И мы с гордостью будем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наблюдать, как наши ученики движутся от одного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достижения к другому.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Я сумела по-новому взглянуть на это путешествие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и использую увлекательный способ стимулировать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развитие детей с помощью </a:t>
            </a: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игровых технологий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Memory Game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ебята нередко жалуются на плохую память. Я предлагаю им такую игру на развитие памят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Определяется круг лексики для игры. Скажем, по теме «Животные». Начиная игру, я называю первое слово. Каждый последующий ученик должен назвать все предыдущие слова в том порядке, в каком они включались в игру, и сказать новое слово. Один ученик должен разложить  карточки с изображением животных в нужном порядке, а другой карточки со словами в том же порядк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обеждает тот, кто не сделал ни одной ошибк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What Kind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ак научить ребят правильно употреблять прилагательные?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На доске написаны существительные. Предлагаю два прилагательных, к которым нужно немедленно подобрать подходящее существительное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Нередко варианты бывают смешным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Цветик-семицветик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чащиеся не могут запомнить названия цвета? Можно предложить такую игру. Дети поют песенку, а один ученик должен разложить лепестки в том порядке, в каком они в песне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Домино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Игра универсальна для закрепления лексики, речевых образцов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Игру можно использовать по разным темам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ФОНЕТИЧЕСКИЕ ИГР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Предлагаемые фонетические игры-упражнения преследуют цел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тренировать учащихся в произнесении английских звуков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научить учащихся громко и отчетливо читать стихотворения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азучить стихотворения с целью их воспроизведения по ролям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Эти игры способствуют постановке правильной артикуляции органов речи учащихся при произнесении отдельных английских звуков. Помогут научиться говорить в нужном темпе. А также создадут на уроке атмосферу непринужденности и разрядк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Thank you, Mum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Крайняя неподвижность лицевых мышц и губ у ребят мешают добиться нужной артикуляции английских звуков. Приходится подбирать стихотворения, которые содержат некоторые упражнения, развивающие подвижность речевого аппарат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ank you, Mum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ank you, Mum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anks for loving me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ugs and kisses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ugs and kiss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o to you from me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The Funny Little Clow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Многие ребята говорят тихо, стесняются. Для того, чтобы заставить их говорить громко, отчетливо, я нашла несколько стихотворений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Представим, что мы работаем в цирке. Нам нужно зазывать публику, и мы описываем клоуна. Предлагаю ребятам сделать бумажные рупоры – это поможет им говорить громч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Playing a Rag Doll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риношу в класс пальчиковых кукол и показываю, как с их помощью можно разыгрывать разные сценк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ОРФОГРАФИЧЕСКИЕ ИГР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ель данных игр – упражнение в написании английских слов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Часть игр рассчитана на тренировку памяти учащихся, другие основаны на некоторых закономерностях в правописании английских слов. Большинство игр можно использовать при проверке домашнего задан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The Alphabet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ласс делится на две команды. Им дается по набору карточек с буквами. Ученики выстраиваются на возможно дальнем расстоянии от доски. Произношу слово, скажем “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enc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”, ученики с соответствующими буквами бегут к доске и составляют это слово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733680" y="603000"/>
            <a:ext cx="82562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ПОЧЕМУ ИГРА ТАК ВАЖНА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ДЛЯ РЕБЕНКА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 является действенным инструментом преподавания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оторый активизирует мыслительную деятельность учащихся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зволяет сделать учебный процесс привлекательным и интересным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 является жизненно важным для воспитания знающих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уверенных в себе и счастливых детей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 всегда предполагает принятие решения – как поступить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что сказать, как выиграть, заставляет учащихся волноваться 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ереживать. Предоставляет пространство для полета фантазии 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творчества. Это мощный стимул к овладению языком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А если ребенок будет при этом говорить на иностранном языке?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Здесь-то и таятся богатые обучающие возможности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Дети, однако, над этим не задумываются. Для них игра, прежде всего –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увлекательное занятие. В игре все равны. Она посильна даже слабым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ученикам. Мы должны просто дать им время, свободу и материалы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для игр, которые нужны им для увлекательного обучения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Хоровод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Если нужно провести разминку, настроить на согласованность провожу такую игру. Ученики, взявшись за руки «пишут» хороводом заданную букву. До начала письма все должны стоять в хаотическом порядке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Это упражнение выполняется легко, если хоровод послушен и сообразителен, если ведущий хорошо пишет, то есть знает, как начинать писать букву и как ее писать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Угадай букву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А эта игра на развитие воображения, точности, абстрактного мышления. На доске находятся изученные буквы. Верхняя или нижняя часть букв закрыта бумагой. Дети должны узнать букву по ее половинке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Таким образом,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игра это: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169280" y="628920"/>
            <a:ext cx="71834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1.Деятельность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2.Мотивированность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3.Индивидуальная деятельность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4.Обучение и воспитание в коллективе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и через коллектив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5.Развитие психических функций и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пособностей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6. «Учение с увлечением»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(С.Л.Соловейчик)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Языковые и речевые игры на уроке немецкого языка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//Иностранные языки в школе. 1996. №3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Используя игры, всегда помню, что: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 играх должно быть задействовано как можно больше учащихс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Игры должны соответствовать возрасту и языковым возможностям детей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Игры служат развитию всех видов речевой деятельности и проводятся на  английском языке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оэтому я применяю игры в меру, целесообразно и планово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ГРАММАТИЧЕСКИЕ ИГР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Данные игры преследуют цел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создать естественную ситуацию для употребления данного речевого образца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азвить речевую творческую активность учащихс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 каждой игре требуется ведущий, а иногда водящие. Особо велика роль ведущего, исполнять которую лучше всего учителю, он должен быть душою игры и заражать всех своим азартом. Ряд игр требует некоторых дополнительных предметов: шарф, портфель, школьные принадлежности… Надо позаботиться, чтобы эти предметы были яркими, красивыми, привлекательным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Is it a 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…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ласс выучил первое английское предложение, первый речевой образец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t is a …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ервый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опрос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Is it a …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А что теперь делать с этим предложением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ак его можно употреблять в речи? Спросив десяток раз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s it a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…?, тяжело сажусь на стул и говорю: “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h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, I`m so tired.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ho can help me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?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ho wants to be a teacher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?”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Ученик выходит к доске, прячет любую школьную принадлежность, а ученики, сидящие за партами угадывают название спрятанного предмета, задавая вопрос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s it a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…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Ученик, угадавший спрятанный предмет, становится водящи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Unfinished Drawings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Пришлось мне научиться рисовать. Оказалось не таким уж трудным делом несколькими линиями изобразить на доске стол, стул, диван, кресло и т.д. Теперь я прихожу на урок и говорю: “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oday I am an artist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 can draw pictures very well.”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Рису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что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нибудь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прашиваю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: “What’s this?”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Далее совсем как бы невзначай стираю часть рисунка. И снова спрашиваю: “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hat was it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”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Правильные ответы поощряютс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Blind Man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`</a:t>
            </a:r>
            <a:r>
              <a:rPr b="1" lang="en-US" sz="4400" spc="-1" strike="noStrike">
                <a:solidFill>
                  <a:srgbClr val="000066"/>
                </a:solidFill>
                <a:latin typeface="Verdana"/>
              </a:rPr>
              <a:t>s Buff</a:t>
            </a: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оявляюсь в классе с плотной повязкой в руке. Неожиданно завязываю себе глаза, вытягиваю перед собой руки и спрашиваю. “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hat am I doing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?”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ебята кричат: «Играете в жмурки»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ыстраиваю класс перед доской, одному ученику завязываю глаза. Он проходит вдоль шеренги и пытается угадать, кто стоит перед ним, задавая вопрос: “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re you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…?” Если отгадывает, становится игроком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озможно, кто-то будет водить долго, но лучше всех поймет, что перед именами неопределенный артикль отсутствует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</a:rPr>
              <a:t>ЛЕКСИЧЕСКИЕ ИГР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Данные игры преследуют цел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тренировать учащихся в употреблении лексики в ситуациях, приближенных к естественной обстановк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активизировать речемыслительную деятельность учащихся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азвивать речевую реакцию учащихся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ознакомить учащихся с сочетанием слов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яд игр предназначен для тренировки учащихся в употреблении отдельных частей речи. Другие игры соответствуют определенным темам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8:27Z</dcterms:created>
  <dc:creator>Олег</dc:creator>
  <dc:description/>
  <dc:language>en-US</dc:language>
  <cp:lastModifiedBy>Татьяна</cp:lastModifiedBy>
  <dcterms:modified xsi:type="dcterms:W3CDTF">2013-02-08T05:54:48Z</dcterms:modified>
  <cp:revision>6</cp:revision>
  <dc:subject/>
  <dc:title>Игровые технологии </dc:title>
</cp:coreProperties>
</file>