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FF6-2F8D-42A0-923E-31F3B58A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B48-84AE-4408-8493-69339454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C11-D516-460B-8206-AAA82E32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EF6-DB95-47D1-86C0-EB19069E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248-7167-44F6-96A8-B2C690FF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F15-E207-45FC-AB1B-67EFDAD5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A94-03C7-4038-8D24-7E29846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0A5-A473-4DC2-81A8-9CD7321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EAA-B2E7-4C72-AFE9-34464C63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77F-85B7-4930-BE15-7E1FE02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F5A-B295-44A7-BC24-6F200A56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95C-8765-4B95-A202-AEC09A8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5615-0BFB-4C89-ACE9-C7345A06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9;&#1077;&#1083;&#1077;&#1082;&#1094;&#1080;&#1103;%20&#1088;&#1086;&#1079;.pp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7;&#1083;&#1072;&#1085;.ppt" TargetMode="External"/><Relationship Id="rId2" Type="http://schemas.openxmlformats.org/officeDocument/2006/relationships/hyperlink" Target="file:///&#1089;&#1093;&#1077;&#1084;&#1099;,&#1088;&#1080;&#1089;&#1091;&#1085;&#1082;&#1080;.ppt" TargetMode="External"/><Relationship Id="rId3" Type="http://schemas.openxmlformats.org/officeDocument/2006/relationships/hyperlink" Target="file:///&#1089;&#1093;&#1077;&#1084;&#1099;,&#1088;&#1080;&#1089;&#1091;&#1085;&#1082;&#1080;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8;&#1072;&#1079;&#1085;&#1072;&#1103;%20&#1090;&#1088;&#1072;&#1082;&#1090;&#1086;&#1074;&#1082;&#1072;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5;&#1072;&#1079;&#1074;&#1072;&#1085;&#1080;&#1103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Проектная деятельность учащихся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на уроках 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876920"/>
            <a:ext cx="487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ОУ СОШ с. Лен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читель биологии Чабунина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чебная деятельность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пирается на интеллект,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пирается на индивидуальные особенности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(интересы учащего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 основе метода проектов лежит развит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познавательных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навыков учащих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умений самостоятельно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конструировать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свои зн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ориентироваться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 информационном       пространст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развитие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критического и творческого мышлени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умение увидеть, сформулировать и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решить проблему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67840"/>
            <a:ext cx="86868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Times New Roman"/>
              </a:rPr>
              <a:t>Проектная деятельность помогает решать методические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умения и навыки критического мышления в условиях работы с большими объемам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стоятельной работы с учебным материалом с использованием 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образования, развитие способности к академической моби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работы в кома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развивать умение сформулировать  задачу и кооперативно ее реш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бота над проект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Стимулирует познавательную мотив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Способствует повышению интереса к предм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Уроки проходят более оживл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Появляется стимул получить хорошую оц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Легко вписываются в учебный процесс в условиях классно - урочной сис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Обеспечивает развитие интеллектуальное и нравственное развитие детей, их самостоятельность, доброжелатель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Сплачивает детей, развивает коммуникабельность, желание помочь другим, ответств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бучение должно быть практичным, ориентированным на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ивные формы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чащиеся учатся самостоятельно добывать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пособствует углублению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дна из форм активного обучение – проектная деятельность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оектирование –самостоятельный вид деятель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роектная деятельность включает следующие этап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Разработка проектного замысла (анализ ситуации, анализ проблемы, целеполагание, планирование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Реализация проектного замысла (выполнение запланированных действий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Оценка результатов проек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в учебной деятельности используются информационные проекты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Структур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редмет информационного по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оэтапный 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Аналитический анализ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Оформление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редставле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В образовательном процессе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метод проектов - уче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лавная 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азвитие способности самостоятельно 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аучить самостоятельно 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ля этого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будить в каждом природную  любозна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формировать общие учебные ум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ть условия для саморазвития, постоянно стимулируя познавательную активность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стоя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обходимо организовать работу по самостоятельному добыва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11480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ри работе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Формируется умение работать в коллект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Формируется взаимная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Активизация мотивов приобрет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рименение знаний на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6002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Возможность эффективно спланировать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952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Индивидуальная              Совме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24080" y="1828800"/>
            <a:ext cx="533520" cy="45720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533520" cy="4572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0773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ыбор тем проектов осуществляет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роект – специально организованный учителем комплекс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Учитель  - организатор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Ученик  - активный участ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1240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Обязательные элемент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Способ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зультат (представление материала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Рефлексия способствует</a:t>
            </a:r>
            <a:r>
              <a:rPr b="1" lang="en-US" sz="4400" spc="-1" strike="noStrike" u="sng">
                <a:solidFill>
                  <a:srgbClr val="ff6699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Целостному осмыслению и обобщению информации – выбор главного, осн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ыработке собственного мнения, идей, интегрирования знаний – интерпретация одной темы по-раз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м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Тема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Селек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Приспособленность организмов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реде обит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Строение клет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Бактерии. Особенности их строения и зна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Расы чело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1-12-31T14:50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