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52B-D9AE-42F7-AB3F-1713C460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921-2937-43F4-A45D-89F43D79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780-8F62-434A-8C9C-81F693CF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1AF-3709-4816-83E8-2C7AEF31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F41-0E39-4D42-9C81-318C753E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303-5902-4D08-9640-67CCCFB4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243-DF8D-455F-9B51-041019CC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C506-C2DA-4306-8507-1DE10A18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8C1-9598-42A2-9D3A-9D695856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2F8-1F19-4D32-BDC1-1075DB2E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E08-83DF-4E6B-9D11-253494C3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053-5BFE-48D5-9F50-08B17B85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5B14-7C6A-47E1-9DFC-C8E1FFA11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89;&#1077;&#1083;&#1077;&#1082;&#1094;&#1080;&#1103;%20&#1088;&#1086;&#1079;.ppt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7;&#1083;&#1072;&#1085;.ppt" TargetMode="External"/><Relationship Id="rId2" Type="http://schemas.openxmlformats.org/officeDocument/2006/relationships/hyperlink" Target="file:///&#1089;&#1093;&#1077;&#1084;&#1099;,&#1088;&#1080;&#1089;&#1091;&#1085;&#1082;&#1080;.ppt" TargetMode="External"/><Relationship Id="rId3" Type="http://schemas.openxmlformats.org/officeDocument/2006/relationships/hyperlink" Target="file:///&#1089;&#1093;&#1077;&#1084;&#1099;,&#1088;&#1080;&#1089;&#1091;&#1085;&#1082;&#1080;.ppt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88;&#1072;&#1079;&#1085;&#1072;&#1103;%20&#1090;&#1088;&#1072;&#1082;&#1090;&#1086;&#1074;&#1082;&#1072;.ppt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85;&#1072;&#1079;&#1074;&#1072;&#1085;&#1080;&#1103;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133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Проектная деятельность учащихся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на уроках би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4876920"/>
            <a:ext cx="487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ОУ СОШ с. Ленин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учитель биологии Чабунина А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чебная деятельность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опирается на интеллект, 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пирается на индивидуальные особенности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 (интересы учащегос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В основе метода проектов лежит развит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познавательных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навыков учащих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умений самостоятельно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конструировать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свои зн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ориентироваться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в информационном       пространств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развитие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критического и творческого мышления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умение увидеть, сформулировать и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решить проблему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67840"/>
            <a:ext cx="86868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Times New Roman"/>
              </a:rPr>
              <a:t>Проектная деятельность помогает решать методические 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-228600"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ть умения и навыки критического мышления в условиях работы с большими объемам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ть навыки самостоятельной работы с учебным материалом с использованием Н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ть навыки самообразования, развитие способности к академической мобильности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ть навыки работы в коман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развивать умение сформулировать  задачу и кооперативно ее реши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ть навыки само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Работа над проект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Стимулирует познавательную мотив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Способствует повышению интереса к предм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Уроки проходят более оживл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Появляется стимул получить хорошую оце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Преимущества метода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8000"/>
                </a:solidFill>
                <a:latin typeface="Arial"/>
              </a:rPr>
              <a:t>Легко вписываются в учебный процесс в условиях классно - урочной систе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8000"/>
                </a:solidFill>
                <a:latin typeface="Arial"/>
              </a:rPr>
              <a:t>Обеспечивает развитие интеллектуальное и нравственное развитие детей, их самостоятельность, доброжелатель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8000"/>
                </a:solidFill>
                <a:latin typeface="Arial"/>
              </a:rPr>
              <a:t>Сплачивает детей, развивает коммуникабельность, желание помочь другим, ответствен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бучение должно быть практичным, ориентированным на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ктивные формы обу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чащиеся учатся самостоятельно добывать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пособствует углублению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Одна из форм активного обучение – проектная деятельность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роектирование –самостоятельный вид деятельн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Проектная деятельность включает следующие этап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Разработка проектного замысла (анализ ситуации, анализ проблемы, целеполагание, планирование)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Реализация проектного замысла (выполнение запланированных действий)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Оценка результатов проек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в учебной деятельности используются информационные проекты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Структура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Цель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Предмет информационного по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Поэтапный пои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Аналитический анализ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Об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Оформление резуль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Представле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В образовательном процессе </a:t>
            </a:r>
            <a:br>
              <a:rPr sz="3200"/>
            </a:b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метод проектов - учеб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Главная цел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Развитие способности самостоятельно добывать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аучить самостоятельно добывать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ля этого на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збудить в каждом природную  любознательн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формировать общие учебные ум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здать условия для саморазвития, постоянно стимулируя познавательную активность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амостоятельн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обходимо организовать работу по самостоятельному добыванию зна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411480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При работе над проек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Формируется умение работать в коллекти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Формируется взаимная ответ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Активизация мотивов приобретения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Применение знаний на прак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60020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Arial"/>
              </a:rPr>
              <a:t>Возможность эффективно спланировать деяте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952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Проект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Индивидуальная              Совме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24080" y="1828800"/>
            <a:ext cx="533520" cy="45720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905120"/>
            <a:ext cx="533520" cy="4572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09120" y="380520"/>
            <a:ext cx="807732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Выбор тем проектов осуществляет 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Проект – специально организованный учителем комплекс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Учитель  - организатор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Ученик  - активный участ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12408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Обязательные элементы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лан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Способы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езультат (представление материала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Рефлексия способствует</a:t>
            </a:r>
            <a:r>
              <a:rPr b="1" lang="en-US" sz="4400" spc="-1" strike="noStrike" u="sng">
                <a:solidFill>
                  <a:srgbClr val="ff6699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Целостному осмыслению и обобщению информации – выбор главного, основ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ыработке собственного мнения, идей, интегрирования знаний – интерпретация одной темы по-раз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емы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Тема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«Селек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«Приспособленность организмов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среде обита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«Строение клет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«Бактерии. Особенности их строения и знач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«Расы челове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1-12-31T14:50:2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