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.png" ContentType="image/png"/>
  <Override PartName="/ppt/media/image25.wmf" ContentType="image/x-wmf"/>
  <Override PartName="/ppt/media/image23.jpeg" ContentType="image/jpeg"/>
  <Override PartName="/ppt/media/image20.gif" ContentType="image/gif"/>
  <Override PartName="/ppt/media/image22.png" ContentType="image/png"/>
  <Override PartName="/ppt/media/image24.png" ContentType="image/png"/>
  <Override PartName="/ppt/media/image19.gif" ContentType="image/gif"/>
  <Override PartName="/ppt/media/image1.gif" ContentType="image/gif"/>
  <Override PartName="/ppt/media/image21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9A9-0827-4FD5-8916-FAEFB916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5FC-355A-4E7F-ACB1-133987F2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785-3F01-4E51-B990-3A649DCA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3BF-E9D3-44EF-9125-4995C987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469B-04C7-40B8-8655-2806203E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AFE6-F64A-4259-9141-DF640841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FA2-8917-4B86-930B-3B9F0AE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70D6-F447-45CD-A7AF-08F02DDF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8DE-1691-4E64-80F6-E848FF78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A8B9-8502-41B0-9649-0B3FCAB3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AA4C-D346-4263-AF1C-4811730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776-0EB5-4A4F-A4C8-76D939B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C978-1802-4152-ACD8-3A1AB39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29EB-AA1B-4FDF-A6E0-AF4B16F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475-18E8-4264-9190-645B20E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6D6-D4A7-4188-A52A-B69F0962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A273-471D-48A1-B924-5131D4DA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70D-9FC0-4F69-8A28-98F58B6D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A45-D81E-41E2-B28F-46824DF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A0B-0EFC-452E-8FF8-17E3F3B4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E9C-1F33-404B-9BCC-7F16A59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9B4-834B-4546-890F-E2569E9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CEC-B129-47F3-B8A5-0DCAE60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5D3-9D4C-4909-8211-3027E834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7998-DF14-4B0B-8FA6-4E3F0FE0C709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6DA1-A164-4FC4-B13B-F2F3B8718742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060.radikal.ru/0909/53/8e1974e2fe8f.gif" TargetMode="External"/><Relationship Id="rId3" Type="http://schemas.openxmlformats.org/officeDocument/2006/relationships/image" Target="../media/image22.png"/><Relationship Id="rId4" Type="http://schemas.openxmlformats.org/officeDocument/2006/relationships/hyperlink" Target="http://www.zaks.ru/f/images/article/analytics/2008/goroda-net-4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1/ten-ten-chan.22/0_1ac83_4f809c83_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66.ru/image/b84eba5ee53c9fc69b8e7461fbeb1f23/47dd6289/0/62/53/625310_norma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Деятельность людей и ее многообразие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580000" y="4436640"/>
            <a:ext cx="2913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10 класс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Обществознание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профиль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11280" y="34862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500040"/>
            <a:ext cx="8424720" cy="397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68360" y="4437000"/>
            <a:ext cx="1181160" cy="2289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162432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37240" cy="254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Картинка 46 из 270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357720"/>
            <a:ext cx="3551040" cy="2552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Картинка 14 из 21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429000"/>
            <a:ext cx="35510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010360" cy="4105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872320" y="4129200"/>
            <a:ext cx="3271680" cy="272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26114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8508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5373720"/>
            <a:ext cx="1541520" cy="126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Сущность и </a:t>
            </a:r>
            <a:r>
              <a:rPr b="1" lang="ru-RU" sz="3600" spc="-1" strike="noStrike">
                <a:solidFill>
                  <a:srgbClr val="990000"/>
                </a:solidFill>
                <a:latin typeface="Century Gothic"/>
              </a:rPr>
              <a:t>структура деятельности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8" name="Rectangle 3" descr="Картинка 96 из 599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924280"/>
            <a:ext cx="1908000" cy="3633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184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убъект деятель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10920" y="1413000"/>
            <a:ext cx="1800360" cy="576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1413000"/>
            <a:ext cx="2087640" cy="576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 деятель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2154240" cy="22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71640" y="2781360"/>
            <a:ext cx="25210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человек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группа лиц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организац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-государствен-ный орг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708280"/>
            <a:ext cx="0" cy="1657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99736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342900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3933720"/>
            <a:ext cx="14472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436572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2565360"/>
            <a:ext cx="93492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2565360"/>
            <a:ext cx="73080" cy="36720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013360"/>
            <a:ext cx="3600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едмет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иродные материал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феры и области жизни люд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43280" y="5229360"/>
            <a:ext cx="20890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01080" y="5661000"/>
            <a:ext cx="358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164000" y="6237360"/>
            <a:ext cx="13683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entury Gothic"/>
              </a:rPr>
              <a:t>Структура деятельности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1341360"/>
            <a:ext cx="1368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276640"/>
            <a:ext cx="21592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213000"/>
            <a:ext cx="27367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076640"/>
            <a:ext cx="309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рудия труда и предметы тру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3384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371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10480" y="1222560"/>
            <a:ext cx="2946960" cy="1790280"/>
            <a:chOff x="5010480" y="1222560"/>
            <a:chExt cx="2946960" cy="1790280"/>
          </a:xfrm>
        </p:grpSpPr>
        <p:graphicFrame>
          <p:nvGraphicFramePr>
            <p:cNvPr id="167" name=""/>
            <p:cNvGraphicFramePr/>
            <p:nvPr/>
          </p:nvGraphicFramePr>
          <p:xfrm>
            <a:off x="6242760" y="1268280"/>
            <a:ext cx="1714680" cy="17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2760" y="1268280"/>
                      <a:ext cx="1714680" cy="1744560"/>
                    </a:xfrm>
                    <a:prstGeom prst="rect">
                      <a:avLst/>
                    </a:prstGeom>
                    <a:ln w="9360">
                      <a:solidFill>
                        <a:srgbClr val="ff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 rot="1401000">
              <a:off x="5076720" y="1405440"/>
              <a:ext cx="1036800" cy="548280"/>
            </a:xfrm>
            <a:prstGeom prst="rightArrow">
              <a:avLst>
                <a:gd name="adj1" fmla="val 50000"/>
                <a:gd name="adj2" fmla="val 47275"/>
              </a:avLst>
            </a:prstGeom>
            <a:solidFill>
              <a:srgbClr val="ffffcc"/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88000" y="3357720"/>
            <a:ext cx="3716280" cy="278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632720" cy="5394600"/>
          </a:xfrm>
          <a:prstGeom prst="rect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1289160" cy="163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33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32000" y="5246640"/>
            <a:ext cx="180000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entury Gothic"/>
              </a:rPr>
              <a:t>«Плох тот солдат, который не мечтает стать генералом»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ирамид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отребносте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о А. Маслоу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76" name="" descr="Картинка 8 из 19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1628640"/>
            <a:ext cx="5184720" cy="49881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 spd="med"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43196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43352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916360" y="478008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787320"/>
            <a:ext cx="8280360" cy="465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80360" y="5373720"/>
            <a:ext cx="1147680" cy="1252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01:58Z</dcterms:created>
  <dc:creator>Customer</dc:creator>
  <dc:description/>
  <cp:keywords/>
  <dc:language>en-US</dc:language>
  <cp:lastModifiedBy>Customer</cp:lastModifiedBy>
  <dcterms:modified xsi:type="dcterms:W3CDTF">2008-08-20T07:03:2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