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5.wmf" ContentType="image/x-wmf"/>
  <Override PartName="/ppt/media/image10.png" ContentType="image/png"/>
  <Override PartName="/ppt/media/image4.jpeg" ContentType="image/jpeg"/>
  <Override PartName="/ppt/media/image2.png" ContentType="image/png"/>
  <Override PartName="/ppt/media/image25.wmf" ContentType="image/x-wmf"/>
  <Override PartName="/ppt/media/image23.jpeg" ContentType="image/jpeg"/>
  <Override PartName="/ppt/media/image20.gif" ContentType="image/gif"/>
  <Override PartName="/ppt/media/image22.png" ContentType="image/png"/>
  <Override PartName="/ppt/media/image24.png" ContentType="image/png"/>
  <Override PartName="/ppt/media/image19.gif" ContentType="image/gif"/>
  <Override PartName="/ppt/media/image1.gif" ContentType="image/gif"/>
  <Override PartName="/ppt/media/image21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26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BC8-7886-4FF0-A566-F26257A4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E89-6D75-4853-9F14-B9C1CDBC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042-C722-4AF9-B386-6DCFDD10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89D-8C7A-45B0-A015-11397293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E469-3929-442C-866E-59EA4686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0F87-16E4-444E-AE17-9DEB398F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F211-CADD-46C6-9D64-BC190590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8257-8EE0-4B39-8DC8-33BCF03D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4576-533C-492D-98D5-19C07729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E38D-A1E7-4447-A904-0E62293A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6E0C-392F-4B0C-877B-F789FDAC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44D-89CC-43C6-93F0-98755398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4CF1-5BB0-4A95-B86E-91848F04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46EF-5727-4557-AC5F-EA1E7915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2E5E-9C88-488D-9F6E-11B431AB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7A61-7C63-4E96-9437-33740A64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1375-3CBE-41EB-A0B2-AD6B7152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F2B-68FC-442E-8E73-BB05046B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495-B764-4F35-B62A-781DD452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54B-FEFD-4C87-9B49-D21F2121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D80-FB0E-4A27-9EA7-455E8111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5E2-0C48-4F1A-A0D2-B3130351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DEE-DE92-4A22-B984-3555236C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B8B-B580-484D-93FD-EBF9A80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E331-7131-41DD-B4EC-388EA4A4329F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FD95-46E2-4DF7-8EDF-3AE09F4E10A8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060.radikal.ru/0909/53/8e1974e2fe8f.gif" TargetMode="External"/><Relationship Id="rId3" Type="http://schemas.openxmlformats.org/officeDocument/2006/relationships/image" Target="../media/image22.png"/><Relationship Id="rId4" Type="http://schemas.openxmlformats.org/officeDocument/2006/relationships/hyperlink" Target="http://www.zaks.ru/f/images/article/analytics/2008/goroda-net-4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201/ten-ten-chan.22/0_1ac83_4f809c83_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.66.ru/image/b84eba5ee53c9fc69b8e7461fbeb1f23/47dd6289/0/62/53/625310_normal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Century Gothic"/>
              </a:rPr>
              <a:t>Деятельность людей и ее многообразие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580000" y="4436640"/>
            <a:ext cx="2913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10 класс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Обществознание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профиль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11280" y="348624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500040"/>
            <a:ext cx="8424720" cy="397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268360" y="4437000"/>
            <a:ext cx="1181160" cy="2289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162432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337240" cy="254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Картинка 46 из 270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357720"/>
            <a:ext cx="3551040" cy="2552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Картинка 14 из 21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3429000"/>
            <a:ext cx="35510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010360" cy="4105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872320" y="4129200"/>
            <a:ext cx="3271680" cy="272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26920" y="4437000"/>
            <a:ext cx="261144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885080" cy="5327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95640" y="5373720"/>
            <a:ext cx="1541520" cy="126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Century Gothic"/>
              </a:rPr>
              <a:t>Сущность и </a:t>
            </a:r>
            <a:r>
              <a:rPr b="1" lang="ru-RU" sz="3600" spc="-1" strike="noStrike">
                <a:solidFill>
                  <a:srgbClr val="990000"/>
                </a:solidFill>
                <a:latin typeface="Century Gothic"/>
              </a:rPr>
              <a:t>структура деятельности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38" name="Rectangle 3" descr="Картинка 96 из 599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924280"/>
            <a:ext cx="1908000" cy="3633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1844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убъект деятельн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410920" y="1413000"/>
            <a:ext cx="1800360" cy="576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"/>
          <p:cNvSpPr/>
          <p:nvPr/>
        </p:nvSpPr>
        <p:spPr>
          <a:xfrm>
            <a:off x="4356000" y="1413000"/>
            <a:ext cx="2087640" cy="576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ъект деятельност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580000" y="2997360"/>
            <a:ext cx="2154240" cy="22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771640" y="2781360"/>
            <a:ext cx="25210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человек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группа лиц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организац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государствен-ный орга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2708280"/>
            <a:ext cx="0" cy="16574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2997360"/>
            <a:ext cx="216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2700360" y="3429000"/>
            <a:ext cx="216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3933720"/>
            <a:ext cx="14472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4365720"/>
            <a:ext cx="216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"/>
          <p:cNvSpPr/>
          <p:nvPr/>
        </p:nvSpPr>
        <p:spPr>
          <a:xfrm>
            <a:off x="7524720" y="2565360"/>
            <a:ext cx="93492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2565360"/>
            <a:ext cx="73080" cy="367200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5013360"/>
            <a:ext cx="3600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едмет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иродные материал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феры и области жизни люде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443280" y="5229360"/>
            <a:ext cx="20890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101080" y="5661000"/>
            <a:ext cx="358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164000" y="6237360"/>
            <a:ext cx="13683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entury Gothic"/>
              </a:rPr>
              <a:t>Структура деятельности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1341360"/>
            <a:ext cx="13683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2276640"/>
            <a:ext cx="215928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3213000"/>
            <a:ext cx="27367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редств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4076640"/>
            <a:ext cx="30970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рудия труда и предметы труд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300640"/>
            <a:ext cx="33843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ейств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"/>
          <p:cNvSpPr/>
          <p:nvPr/>
        </p:nvSpPr>
        <p:spPr>
          <a:xfrm>
            <a:off x="1835280" y="3716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010480" y="1222560"/>
            <a:ext cx="2946960" cy="1790280"/>
            <a:chOff x="5010480" y="1222560"/>
            <a:chExt cx="2946960" cy="1790280"/>
          </a:xfrm>
        </p:grpSpPr>
        <p:graphicFrame>
          <p:nvGraphicFramePr>
            <p:cNvPr id="167" name=""/>
            <p:cNvGraphicFramePr/>
            <p:nvPr/>
          </p:nvGraphicFramePr>
          <p:xfrm>
            <a:off x="6242760" y="1268280"/>
            <a:ext cx="1714680" cy="17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2760" y="1268280"/>
                      <a:ext cx="1714680" cy="1744560"/>
                    </a:xfrm>
                    <a:prstGeom prst="rect">
                      <a:avLst/>
                    </a:prstGeom>
                    <a:ln w="9360">
                      <a:solidFill>
                        <a:srgbClr val="ff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 rot="1401000">
              <a:off x="5076720" y="1405440"/>
              <a:ext cx="1036800" cy="548280"/>
            </a:xfrm>
            <a:prstGeom prst="rightArrow">
              <a:avLst>
                <a:gd name="adj1" fmla="val 50000"/>
                <a:gd name="adj2" fmla="val 47275"/>
              </a:avLst>
            </a:prstGeom>
            <a:solidFill>
              <a:srgbClr val="ffffcc"/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788000" y="3357720"/>
            <a:ext cx="3716280" cy="2787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632720" cy="5394600"/>
          </a:xfrm>
          <a:prstGeom prst="rect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4797360"/>
            <a:ext cx="1289160" cy="163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33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332000" y="5246640"/>
            <a:ext cx="1800000" cy="1419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entury Gothic"/>
              </a:rPr>
              <a:t>«Плох тот солдат, который не мечтает стать генералом»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Пирамида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потребностей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по А. Маслоу.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76" name="" descr="Картинка 8 из 19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1628640"/>
            <a:ext cx="5184720" cy="49881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p:transition spd="med">
    <p:pull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43196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433520" cy="18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916360" y="4780080"/>
            <a:ext cx="2519280" cy="189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5280" y="787320"/>
            <a:ext cx="8280360" cy="4657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380360" y="5373720"/>
            <a:ext cx="1147680" cy="1252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9:01:58Z</dcterms:created>
  <dc:creator>Customer</dc:creator>
  <dc:description/>
  <cp:keywords/>
  <dc:language>en-US</dc:language>
  <cp:lastModifiedBy>Customer</cp:lastModifiedBy>
  <dcterms:modified xsi:type="dcterms:W3CDTF">2008-08-20T07:03:2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