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517C-D393-4A4F-B555-C782FE4AB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8144-FF5A-476C-AFB0-A48D8E17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65C1-9CE2-4AE2-8841-9CC0FB40F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EA03-C0A3-4D79-854F-FDD65177C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E0FD-4472-43E0-9ED5-6CA76A52B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2488-DE83-4A41-A459-ACD66CA5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763F-0479-4C88-BA77-C9834EB7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DD98-4ADA-4299-8AD3-2B858648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8B88-589D-47AB-B3A5-01338B83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F903-8FE6-4500-9951-135D6976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F148-5471-45DF-9AF3-83705E86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D2E4-D812-4774-98FC-2B81BB70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9885-BD92-4475-81D2-C55BC0CB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9310-CA00-4ED1-B3B2-5C7F95D5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E44E-5E46-45D9-B36E-1D8FCA8E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E956-2ABF-434D-BAE5-C5463FBD0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14B8-97C0-434E-9673-1E0C7A02A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03B5-CB02-4A72-B5A3-0A3F841A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D0E2-5BF4-47A8-9631-B2F14AFC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6C7C-F56E-413F-A8DF-9709377D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15AE-CD1E-4787-A65B-8C1B7369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B1FE-4FC1-4FAC-9290-6F248F2F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E6E6-0B80-4570-96BE-BD7FA2F3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78E6-5A80-4F9E-8916-48847EE6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2B30-3BEA-4ECA-B423-C8B4D54E0CD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C2C3-F323-4681-8A98-3B476C3CC59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27640" y="260280"/>
            <a:ext cx="4100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                             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От куда северное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сияние пошло…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887640" cy="6408720"/>
          </a:xfrm>
          <a:prstGeom prst="rect">
            <a:avLst/>
          </a:prstGeom>
          <a:ln w="76320">
            <a:solidFill>
              <a:srgbClr val="3333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00720" y="2492280"/>
            <a:ext cx="4317840" cy="271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788000" y="5220360"/>
            <a:ext cx="332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легенды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А. М. Коньково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Национальные инструмент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3888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cc"/>
                </a:solidFill>
                <a:uFillTx/>
                <a:latin typeface="Arial Unicode MS"/>
              </a:rPr>
              <a:t>Хорей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 Unicode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–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длинная палка с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наконечником н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конц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2819520" cy="3933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427640" y="2997360"/>
            <a:ext cx="4533840" cy="30574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356000" y="1339560"/>
            <a:ext cx="49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cc"/>
                </a:solidFill>
                <a:uFillTx/>
                <a:latin typeface="Verdana"/>
              </a:rPr>
              <a:t>Аркан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—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длинная косичка, сплетенная из узких кожаных ремешков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Орнамент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79280" y="1412640"/>
            <a:ext cx="85694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Verdana"/>
              </a:rPr>
              <a:t>Прямая линия.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«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прямой след»,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«прямой путь»,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«прямая тропа».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Это простейший геометрический орнамент, очень распространенный элемент украшения одежды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08000" y="3068640"/>
            <a:ext cx="53294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Орнамент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 Unicode MS"/>
              </a:rPr>
              <a:t>Ромб.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 Unicode MS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518200"/>
            <a:ext cx="9290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изображает жизненно важные органы 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Verdana"/>
              </a:rPr>
              <a:t>«голову»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и  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Verdana"/>
              </a:rPr>
              <a:t>«сердце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Ромб является основой многих узоров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«глухарь», «солнышко», «охотник», «заячьи уши» и т.д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Символы ЮГРЫ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900000" y="1557000"/>
            <a:ext cx="734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en-US" sz="4000" spc="-1" strike="noStrike">
                <a:solidFill>
                  <a:srgbClr val="0000ff"/>
                </a:solidFill>
                <a:latin typeface="Verdana"/>
              </a:rPr>
              <a:t>Синий– реки и озера края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Белый – цвет снег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Зеленый – цвет тайги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Национальный орнамент   ханты и манси – «рога оленя»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Виды орнаменто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809880" cy="1008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788000" y="2781360"/>
            <a:ext cx="3936960" cy="1008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900000" y="4365720"/>
            <a:ext cx="3745080" cy="1081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83320" y="2780280"/>
            <a:ext cx="43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Шовыр пал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 «заячьи ушки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87320" y="4004280"/>
            <a:ext cx="2873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э шоп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охотник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6000" y="5550120"/>
            <a:ext cx="324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иты лук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«глухарь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Национальная одежда.</a:t>
            </a:r>
            <a:br>
              <a:rPr sz="40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Мужская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33cc33"/>
                </a:solidFill>
                <a:uFillTx/>
                <a:latin typeface="Arial"/>
              </a:rPr>
              <a:t>МАЛИЦА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и 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Женская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33cc33"/>
                </a:solidFill>
                <a:uFillTx/>
                <a:latin typeface="Arial"/>
              </a:rPr>
              <a:t>САХИ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Сделанная из оленей шкуры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132000" y="2565360"/>
            <a:ext cx="2800440" cy="4032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156360" y="2060640"/>
            <a:ext cx="2744640" cy="4797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79280" y="2041560"/>
            <a:ext cx="264960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Национальная одежда.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Ханты и Манси</a:t>
            </a:r>
            <a:br>
              <a:rPr sz="40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50920" y="1025640"/>
            <a:ext cx="86421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Использование орнаментов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2556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Unicode MS"/>
              </a:rPr>
              <a:t>        </a:t>
            </a:r>
            <a:r>
              <a:rPr b="1" lang="en-US" sz="2400" spc="-1" strike="noStrike">
                <a:solidFill>
                  <a:srgbClr val="ffffcc"/>
                </a:solidFill>
                <a:latin typeface="Arial Unicode MS"/>
              </a:rPr>
              <a:t>На одежд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4284720" y="765000"/>
            <a:ext cx="456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Вышивание бисером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(украшение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148360" y="1628640"/>
            <a:ext cx="3060720" cy="2148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3744720" cy="2994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2916360" y="4700520"/>
            <a:ext cx="3205080" cy="21574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921680" y="414864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Декорирование  предметов быт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6920" y="1483920"/>
            <a:ext cx="79408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Национальная обувь.</a:t>
            </a:r>
            <a:br>
              <a:rPr sz="5400"/>
            </a:b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2790720" cy="3313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rot="21456000">
            <a:off x="415440" y="1987200"/>
            <a:ext cx="733680" cy="2232000"/>
          </a:xfrm>
          <a:custGeom>
            <a:avLst/>
            <a:gdLst>
              <a:gd name="textAreaLeft" fmla="*/ 98280 w 733680"/>
              <a:gd name="textAreaRight" fmla="*/ 635400 w 733680"/>
              <a:gd name="textAreaTop" fmla="*/ 390600 h 2232000"/>
              <a:gd name="textAreaBottom" fmla="*/ 161820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885080" y="2060640"/>
            <a:ext cx="876240" cy="2016000"/>
          </a:xfrm>
          <a:custGeom>
            <a:avLst/>
            <a:gdLst>
              <a:gd name="textAreaLeft" fmla="*/ 117360 w 876240"/>
              <a:gd name="textAreaRight" fmla="*/ 758880 w 876240"/>
              <a:gd name="textAreaTop" fmla="*/ 352800 h 2016000"/>
              <a:gd name="textAreaBottom" fmla="*/ 146160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5734080"/>
            <a:ext cx="2252880" cy="1434600"/>
          </a:xfrm>
          <a:prstGeom prst="rect">
            <a:avLst/>
          </a:prstGeom>
          <a:gradFill rotWithShape="0">
            <a:gsLst>
              <a:gs pos="0">
                <a:srgbClr val="eec85e"/>
              </a:gs>
              <a:gs pos="100000">
                <a:srgbClr val="6d5c2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Verdana"/>
              </a:rPr>
              <a:t>Нырики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92720" y="5733000"/>
            <a:ext cx="2058840" cy="764280"/>
          </a:xfrm>
          <a:prstGeom prst="rect">
            <a:avLst/>
          </a:prstGeom>
          <a:gradFill rotWithShape="0">
            <a:gsLst>
              <a:gs pos="0">
                <a:srgbClr val="eec85e"/>
              </a:gs>
              <a:gs pos="100000">
                <a:srgbClr val="57492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Кисы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00720" y="1916280"/>
            <a:ext cx="333828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1:08:27Z</dcterms:created>
  <dc:creator>Администратор</dc:creator>
  <dc:description/>
  <dc:language>en-US</dc:language>
  <cp:lastModifiedBy>Администратор</cp:lastModifiedBy>
  <dcterms:modified xsi:type="dcterms:W3CDTF">2013-02-20T09:04:22Z</dcterms:modified>
  <cp:revision>8</cp:revision>
  <dc:subject/>
  <dc:title>                             От куда северное  сияние пошло</dc:title>
</cp:coreProperties>
</file>