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B68-F4ED-4F06-8BD9-6E67D2D1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0AC-B976-4ED5-8FAD-7BBA3B63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F9E-748A-4FA0-A36D-2516D4C4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41A-9CBB-4B1B-AABE-A26DFCDC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19D-54D5-4441-A142-ECE200DB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C2E7-A240-48CA-BC3B-0E93A07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3325-5D6F-477A-B1CC-044E4094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5B50-A3B1-46F1-A19C-2014DD4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BA04-37D5-456E-A84E-BE5DB4EA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6A0-5C65-40DB-A41B-4EC187F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B6D9-1996-414B-A58E-3AE4B50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B5F-A5E3-4C9C-B153-290E535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91C6-91CF-453B-B557-969425D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ED4B-D17E-488D-93E6-098C467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ECB8-1DDB-4D1B-B063-439CC8E6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EAD4-21A6-4170-8098-D006B17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A82C-FB53-47D3-81AE-813B5C82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D42-2A70-4381-B271-82B347A6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C83-9A10-4E12-BFBE-96BBB4A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500-D9D2-4FD4-ADDA-50303FE3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4A9-7CF9-4B8D-97DA-D3DC5DBD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F74-6C05-4FB6-9295-C11F91E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414-A7E9-4BA7-9BBA-407E2584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AC0-4542-497C-8D74-27A6114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4B38-89AD-4790-9398-309009EAC8E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0D53-FA49-44B4-A504-F7080CAB43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7640" y="260280"/>
            <a:ext cx="4100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т куда северное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сияние пошло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887640" cy="640872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317840" cy="271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88000" y="5220360"/>
            <a:ext cx="33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легенды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А. М. Коньково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ациональные инструмен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388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 Unicode MS"/>
              </a:rPr>
              <a:t>Хорей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длинная палка 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наконечником 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конц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819520" cy="393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27640" y="2997360"/>
            <a:ext cx="4533840" cy="3057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56000" y="133956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Verdana"/>
              </a:rPr>
              <a:t>Арка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—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длинная косичка, сплетенная из узких кожаных ремешков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Орнамент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79280" y="1412640"/>
            <a:ext cx="8569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Verdana"/>
              </a:rPr>
              <a:t>Прямая линия.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«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прямой след»,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«прямой путь»,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«прямая тропа»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Это простейший геометрический орнамент, очень распространенный элемент украшения одежд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329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Орнамент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 Unicode MS"/>
              </a:rPr>
              <a:t>Ромб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Unicode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18200"/>
            <a:ext cx="929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изображает жизненно важные органы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«голову»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и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«сердце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Ромб является основой многих узоров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«глухарь», «солнышко», «охотник», «заячьи уши» и т.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Символы ЮГР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00000" y="155700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Синий– реки и озера кра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Белый – цвет снег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Зеленый – цвет тайг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Национальный орнамент   ханты и манси – «рога оленя»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иды орнамен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100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393696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3745080" cy="10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3320" y="278028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Шовыр па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«заячьи ушк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87320" y="4004280"/>
            <a:ext cx="287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 шо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охотни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555012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иты лук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«глухарь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циональная одежда.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ужска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МАЛИЦА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Женская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САХИ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деланная из оленей шкуры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800440" cy="403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2744640" cy="479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9280" y="2041560"/>
            <a:ext cx="2649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Национальная одежда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Ханты и Манси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025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спользование орнаментов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255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        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На одеж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76500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Вышивание бисер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(украш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060720" cy="21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744720" cy="2994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16360" y="4700520"/>
            <a:ext cx="3205080" cy="2157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21680" y="4148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Декорирование  предметов бы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9408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Национальная обувь.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79072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21456000">
            <a:off x="415440" y="1987200"/>
            <a:ext cx="733680" cy="2232000"/>
          </a:xfrm>
          <a:custGeom>
            <a:avLst/>
            <a:gdLst>
              <a:gd name="textAreaLeft" fmla="*/ 98280 w 733680"/>
              <a:gd name="textAreaRight" fmla="*/ 635400 w 73368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85080" y="2060640"/>
            <a:ext cx="876240" cy="2016000"/>
          </a:xfrm>
          <a:custGeom>
            <a:avLst/>
            <a:gdLst>
              <a:gd name="textAreaLeft" fmla="*/ 117360 w 876240"/>
              <a:gd name="textAreaRight" fmla="*/ 758880 w 8762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5734080"/>
            <a:ext cx="2252880" cy="143460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6d5c2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Нырики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733000"/>
            <a:ext cx="2058840" cy="76428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5749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Кисы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3382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1:08:27Z</dcterms:created>
  <dc:creator>Администратор</dc:creator>
  <dc:description/>
  <dc:language>en-US</dc:language>
  <cp:lastModifiedBy>Администратор</cp:lastModifiedBy>
  <dcterms:modified xsi:type="dcterms:W3CDTF">2013-02-20T09:04:22Z</dcterms:modified>
  <cp:revision>8</cp:revision>
  <dc:subject/>
  <dc:title>                             От куда северное  сияние пошло</dc:title>
</cp:coreProperties>
</file>