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pu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D3A-0729-4E5A-B915-32BB25CD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D6D-275E-4C8F-B1A6-FD062D71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6E1-7B57-49EC-9818-05F7BE3E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FB4-91AA-4058-9A1E-D239DD73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0BD-8D28-44FF-B1A2-90908957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79D-2CF4-465F-985B-67F68700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FC9-34E5-4AC9-AAEC-2CCD6466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70B-1226-4F40-8563-74752651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1D2-549A-454C-94C6-4880D513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B0C-3DCE-496D-9D15-8B06C54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3DF-99F6-4193-AD7F-00DCD09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C0A-6183-4C9B-BCF5-A690045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FD22-DBB1-4E7C-ABDF-29A36D6027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755640" y="1557360"/>
            <a:ext cx="7704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ДЕЖИ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9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755640" y="333360"/>
            <a:ext cx="2220840" cy="210204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971640" y="436572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езентация 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КОУ «Медвёдская средняя общеобразовательная школа №17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изовой Надежды Василь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АДЕЖИ  ИМЕН  СУЩЕСТВИ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65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Именительный  падеж</a:t>
            </a: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Род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Да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Вин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Твор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Предлож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250920" y="404640"/>
            <a:ext cx="190188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ttp://im2-tub.yandex.net/i?id=33987281-38-72"/>
          <p:cNvPicPr/>
          <p:nvPr/>
        </p:nvPicPr>
        <p:blipFill>
          <a:blip r:embed="rId2"/>
          <a:stretch/>
        </p:blipFill>
        <p:spPr>
          <a:xfrm>
            <a:off x="6804000" y="4292640"/>
            <a:ext cx="19018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МЕН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менительный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деж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нет на мне чужих одеж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я легко все узнаю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в подлежащие зову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логов с детства не любл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собою рядом не терпл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и вопросы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ТО?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и с чем не спутает никт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6732720" y="4005360"/>
            <a:ext cx="1716120" cy="162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РОД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 я – падеж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одительный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арактер  мой – общ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ГО?  ЧЕГО?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И  вот  он  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логи  часто  мне  друзь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 «С», и  «ДО», и  «У», и  «ИЗ»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ДО»  неба  вверх  и  «С»  неба  вниз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7020000" y="2637000"/>
            <a:ext cx="1547640" cy="14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ДА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Если  б  я  назва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адежам  давал,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Я  б  тогда  дарительным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Дательный</a:t>
            </a: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назвал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  еще  как  размечтаюсь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Дед  Морозом  наряжаю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И  подарки  всем  несу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Братику, сестричке, псу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  еще 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КОМУ? ЧЕМУ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6732720" y="3357720"/>
            <a:ext cx="142848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ИН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инительный </a:t>
            </a: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деж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 я  во  всем  виню  невеж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то  отличников  люблю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ля  них  «пятерки»  я  ловл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ГО</a:t>
            </a: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звать, во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игра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отов  ребятам  подсказ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  прочь  с  предлогами  дружи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 и  без  них  могу  прож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6659640" y="155736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ВОРИТЕЛЬНЫЙ 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ворительный </a:t>
            </a: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деж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сполнен  всяческих  надеж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ворите! –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ворите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  К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 подскажу  вам – нет  проблем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логам  «ПЕРЕД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ОД»  и  «НА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 любой  момент  я  очень  ра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6948360" y="234936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РЕДЛОЖНЫЙ ПАД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3680" y="134136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  я  падеж 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Предложный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Со  мною – случай  сложный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Мне  без  предлогов  свет  не  мил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О  КОМ, О  ЧЕМ 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я  говорил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Ах  да, нужны  предлоги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Без  них  мне  нет  дорог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усть  будет  «В», и  «О», и «ПРИ» –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Ты  их  случайно  не  сотри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Тогда  смогу  я  рассказать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О  ЧЕМ 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мечтать  и 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В  ЧЕМ 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гулят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7093080" y="4221000"/>
            <a:ext cx="142848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7:10:13Z</dcterms:created>
  <dc:creator>XTreme</dc:creator>
  <dc:description/>
  <dc:language>en-US</dc:language>
  <cp:lastModifiedBy>Admin</cp:lastModifiedBy>
  <dcterms:modified xsi:type="dcterms:W3CDTF">2013-03-18T18:08:58Z</dcterms:modified>
  <cp:revision>20</cp:revision>
  <dc:subject/>
  <dc:title>ПАДЕЖИ  ИМЕН  СУЩЕСТВИТЕЛЬНЫХ</dc:title>
</cp:coreProperties>
</file>