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pu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90E-B097-459D-B04C-172DDE7F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C59-D263-4BF3-B010-0C02C5D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E5C-9A28-4EE2-B8FE-F6FA6B9D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0F6-4267-4B78-AFAC-1F6FD1BD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D84-C747-4248-9BC7-C711361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8BA-FE53-4BBB-9CC7-928693F5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DC6-3D01-466C-B7BC-9F699582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DE9-7899-4CBF-93EE-5CF0FC9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492-FFEB-4DC8-8B25-0B73403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31F-C55F-40FE-AA73-5AC1F0B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7FA-1997-4D65-BB6C-658E084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DED-2458-4FD4-92C8-0C2F50C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BCE8-F4DA-4ED5-8CAC-B886187526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1557360"/>
            <a:ext cx="7704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ДЕЖИ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9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55640" y="333360"/>
            <a:ext cx="2220840" cy="2102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971640" y="436572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КОУ «Медвёдская средняя общеобразовательная школа №1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зовой Надежды Васи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АДЕЖИ  ИМЕН 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65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Именительный  падеж</a:t>
            </a: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Род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Да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Ви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Твор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Предлож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250920" y="404640"/>
            <a:ext cx="190188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ttp://im2-tub.yandex.net/i?id=33987281-38-72"/>
          <p:cNvPicPr/>
          <p:nvPr/>
        </p:nvPicPr>
        <p:blipFill>
          <a:blip r:embed="rId2"/>
          <a:stretch/>
        </p:blipFill>
        <p:spPr>
          <a:xfrm>
            <a:off x="6804000" y="4292640"/>
            <a:ext cx="19018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МЕ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менительный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нет на мне чужих од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легко все узна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 подлежащие зову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ов с детства не любл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собою рядом не терп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и вопросы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ТО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и с чем не спутает никт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732720" y="4005360"/>
            <a:ext cx="1716120" cy="162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ОД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 я – падеж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дительны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арактер  мой – общ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?  ЧЕГО?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И  вот  он  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и  часто  мне  друзь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«С», и  «ДО», и  «У», и  «ИЗ»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ДО»  неба  вверх  и  «С»  неба  вниз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020000" y="2637000"/>
            <a:ext cx="1547640" cy="14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ДА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Если  б  я  назва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адежам  давал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Я  б  тогда  дарительны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Дательный</a:t>
            </a: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назвал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еще  как  размечтаюсь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Дед  Морозом  наряжаю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И  подарки  всем  нес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Братику, сестричке, пс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еще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КОМУ? ЧЕМУ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732720" y="3357720"/>
            <a:ext cx="1428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И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нительный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я  во  всем  виню  нев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то  отличников  люблю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я  них  «пятерки»  я  лов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звать, во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игр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отов  ребятам  подсказ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 прочь  с  предлогами  дружи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 и  без  них  могу  прож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659640" y="15573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ВОР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ворительный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полнен  всяческих  над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ите! 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ите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  К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 подскажу  вам – нет  пробле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ам  «ПЕРЕД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ОД»  и  «НА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 любой  момент  я  очень  ра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948360" y="23493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ЕДЛОЖНЫЙ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3680" y="134136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я  падеж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Предложный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о  мною – случай  сложный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Мне  без  предлогов  свет  не  ми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О  КОМ, О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я  говорил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х  да, нужны  предлоги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Без  них  мне  нет  дорог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усть  будет  «В», и  «О», и «ПРИ» –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Ты  их  случайно  не  сотри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Тогда  смогу  я  рассказать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О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мечтать  и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В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гуля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093080" y="4221000"/>
            <a:ext cx="142848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7:10:13Z</dcterms:created>
  <dc:creator>XTreme</dc:creator>
  <dc:description/>
  <dc:language>en-US</dc:language>
  <cp:lastModifiedBy>Admin</cp:lastModifiedBy>
  <dcterms:modified xsi:type="dcterms:W3CDTF">2013-03-18T18:08:58Z</dcterms:modified>
  <cp:revision>20</cp:revision>
  <dc:subject/>
  <dc:title>ПАДЕЖИ  ИМЕН  СУЩЕСТВИТЕЛЬНЫХ</dc:title>
</cp:coreProperties>
</file>