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5D4F-A04F-4D8F-8D39-B1A6871AF08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8A06-CD71-4852-B4FF-C6A2C868244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9287-CE53-4BB2-9641-22D3096374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E5CE-E99C-4A79-94CE-642E1F8EE03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595C-2509-4B93-AEF1-56DBF63426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0196-B582-4183-93BA-6033FA9A96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EAA18-02AB-4F6E-B814-FB66BB632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C2AA0-6333-4D9A-8C4B-FF842652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7CB10-91F1-4ABB-8608-E1AD04D1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12509-0223-4FD2-B875-CB9F9A29B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D451-6A45-4FA2-99C5-7909E0AA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F89D-DC96-4AFF-8E98-39CCDBD9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9A7EB-382C-433B-9327-B581EC66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C99D2-638F-422E-93F5-D185EF898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C8F8-0123-498B-A3BD-FAE29B88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9709-B01C-45F7-B012-4C5EA755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96BD-C3E1-4E94-8630-4EEAAED1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F95C-D612-41EE-892F-4936D9F6E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46CA-CA73-47ED-9FD7-22EE15CEBA2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порции тела человека</a:t>
            </a:r>
            <a:endParaRPr b="0" lang="en-US" sz="4400" spc="-1" strike="noStrike">
              <a:solidFill>
                <a:srgbClr val="000000"/>
              </a:solidFill>
              <a:latin typeface="Calibri"/>
            </a:endParaRPr>
          </a:p>
        </p:txBody>
      </p:sp>
      <p:pic>
        <p:nvPicPr>
          <p:cNvPr id="49" name="Picture 4" descr="http://festival.1september.ru/articles/412513/img10.jpg"/>
          <p:cNvPicPr/>
          <p:nvPr/>
        </p:nvPicPr>
        <p:blipFill>
          <a:blip r:embed="rId1"/>
          <a:stretch/>
        </p:blipFill>
        <p:spPr>
          <a:xfrm>
            <a:off x="2843280" y="1916280"/>
            <a:ext cx="3029040" cy="42670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а и возраст человека</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растные различия в пропорциях тела общеизвестны: ребёнок отличается от взрослого Изменение пропорций тела происходит  с возрастом. У ребенка относительно большая голова, руки длин нее ног, а у взрослого человека пропорции обратные. Возрастные изменения пропорции тела можно использовать для доказательства родства человека с другими приматами. У них, как и у детей, передние конечности длиннее задних.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озрастные изменения пропорций тела</a:t>
            </a:r>
            <a:endParaRPr b="0" lang="en-US" sz="4000" spc="-1" strike="noStrike">
              <a:solidFill>
                <a:srgbClr val="000000"/>
              </a:solidFill>
              <a:latin typeface="Calibri"/>
            </a:endParaRPr>
          </a:p>
        </p:txBody>
      </p:sp>
      <p:pic>
        <p:nvPicPr>
          <p:cNvPr id="72" name="Picture 4" descr="C:\Users\пользователь\Pictures\ControlCenter3\Scan\CCF19122012_00000.jpg"/>
          <p:cNvPicPr/>
          <p:nvPr/>
        </p:nvPicPr>
        <p:blipFill>
          <a:blip r:embed="rId1"/>
          <a:stretch/>
        </p:blipFill>
        <p:spPr>
          <a:xfrm>
            <a:off x="1000080" y="1357200"/>
            <a:ext cx="7072200" cy="5072040"/>
          </a:xfrm>
          <a:prstGeom prst="rect">
            <a:avLst/>
          </a:prstGeom>
          <a:ln w="0">
            <a:noFill/>
          </a:ln>
        </p:spPr>
      </p:pic>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а и половые различия</a:t>
            </a:r>
            <a:endParaRPr b="0" lang="en-US" sz="4000" spc="-1" strike="noStrike">
              <a:solidFill>
                <a:srgbClr val="000000"/>
              </a:solidFill>
              <a:latin typeface="Calibri"/>
            </a:endParaRPr>
          </a:p>
        </p:txBody>
      </p:sp>
      <p:pic>
        <p:nvPicPr>
          <p:cNvPr id="74" name="Picture 2" descr="Venus de Milo Louvre Ma399.jpg"/>
          <p:cNvPicPr/>
          <p:nvPr/>
        </p:nvPicPr>
        <p:blipFill>
          <a:blip r:embed="rId1"/>
          <a:stretch/>
        </p:blipFill>
        <p:spPr>
          <a:xfrm>
            <a:off x="6500880" y="1428840"/>
            <a:ext cx="1857240" cy="3857400"/>
          </a:xfrm>
          <a:prstGeom prst="rect">
            <a:avLst/>
          </a:prstGeom>
          <a:ln w="0">
            <a:noFill/>
          </a:ln>
        </p:spPr>
      </p:pic>
      <p:pic>
        <p:nvPicPr>
          <p:cNvPr id="75" name="Picture 6" descr="Michelangelos David.jpg"/>
          <p:cNvPicPr/>
          <p:nvPr/>
        </p:nvPicPr>
        <p:blipFill>
          <a:blip r:embed="rId2"/>
          <a:stretch/>
        </p:blipFill>
        <p:spPr>
          <a:xfrm>
            <a:off x="500040" y="1500120"/>
            <a:ext cx="2286000" cy="37148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41148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опорции тела и половые различия</a:t>
            </a:r>
            <a:br>
              <a:rPr sz="2000"/>
            </a:br>
            <a:endParaRPr b="0" lang="en-US" sz="2000" spc="-1" strike="noStrike">
              <a:solidFill>
                <a:srgbClr val="000000"/>
              </a:solidFill>
              <a:latin typeface="Calibri"/>
            </a:endParaRPr>
          </a:p>
        </p:txBody>
      </p:sp>
      <p:sp>
        <p:nvSpPr>
          <p:cNvPr id="77" name=""/>
          <p:cNvSpPr txBox="1"/>
          <p:nvPr/>
        </p:nvSpPr>
        <p:spPr>
          <a:xfrm>
            <a:off x="4786200" y="356760"/>
            <a:ext cx="4043520" cy="5853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овые различия частично связаны с различием в длине тела мужчин и женщин, но главным образом они являются специфическим проявлением полового диморфизма. Женщины отличаются от мужчин большей шириной таза и меньшей шириной плеч (в % длины тела). Длина руки и длина ноги в процентах длины тела примерно одинакова в обоих полах. При всех расчетах мужчины обладают относительно более узким тазом и более широкими плечами, чем женщи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8" name="Picture 2" descr="http://upload.wikimedia.org/wikipedia/commons/thumb/f/f5/Human_body_features.svg/200px-Human_body_features.svg.png"/>
          <p:cNvPicPr/>
          <p:nvPr/>
        </p:nvPicPr>
        <p:blipFill>
          <a:blip r:embed="rId1"/>
          <a:stretch/>
        </p:blipFill>
        <p:spPr>
          <a:xfrm>
            <a:off x="428760" y="1928880"/>
            <a:ext cx="4000320" cy="41432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типы телосложения</a:t>
            </a:r>
            <a:br>
              <a:rPr sz="4000"/>
            </a:br>
            <a:endParaRPr b="0" lang="en-US" sz="4000" spc="-1" strike="noStrike">
              <a:solidFill>
                <a:srgbClr val="000000"/>
              </a:solidFill>
              <a:latin typeface="Calibri"/>
            </a:endParaRPr>
          </a:p>
        </p:txBody>
      </p:sp>
      <p:sp>
        <p:nvSpPr>
          <p:cNvPr id="80"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1. Астеник: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a:t>
            </a:r>
            <a:r>
              <a:rPr b="0" lang="ru-RU" sz="1800" spc="-1" strike="noStrike">
                <a:solidFill>
                  <a:srgbClr val="000000"/>
                </a:solidFill>
                <a:latin typeface="Calibri"/>
              </a:rPr>
              <a:t>онечности длинные; туловище относительно короткое; ладони и ступни узкие, но продолговатые; верхний грудной отдел и плечи также узкие. Мышцы, пропорционально костям, имеют тонкую и удлиненную структуру. Жировые подкожные отложения минимальны. Характерен быстрый обмен веществ и достаточно медленный процесс набора мышечной массы;                                                                                                                                                         2.</a:t>
            </a:r>
            <a:r>
              <a:rPr b="0" lang="ru-RU" sz="600" spc="-1" strike="noStrike">
                <a:solidFill>
                  <a:srgbClr val="000000"/>
                </a:solidFill>
                <a:latin typeface="Calibri"/>
              </a:rPr>
              <a:t> </a:t>
            </a:r>
            <a:r>
              <a:rPr b="0" lang="ru-RU" sz="1800" spc="-1" strike="noStrike">
                <a:solidFill>
                  <a:srgbClr val="000000"/>
                </a:solidFill>
                <a:latin typeface="Calibri"/>
              </a:rPr>
              <a:t> Атлети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рхний грудной отдел хорошо развит; широкие плечи; туловище длинное с плотной мускулатурой; от природы имеет значительный силовой мышечный потенциал. Относительно легко набирает мышечную массу, но нужно тщательно следить за пропорциями и формой приобретаемой мускулатуры;                                                                                                                                            3. </a:t>
            </a:r>
            <a:r>
              <a:rPr b="1" lang="ru-RU" sz="1800" spc="-1" strike="noStrike">
                <a:solidFill>
                  <a:srgbClr val="000000"/>
                </a:solidFill>
                <a:latin typeface="Calibri"/>
              </a:rPr>
              <a:t>Пикни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ссивное телосложение, с большим содержанием подкожного жира; таз имеет более широкое строение, по сравнению с предыдущими типами; мышцы имеют «мягкую» структуру; формы лица округлые; шея короткая. Способны, весьма быстро, набрать общую массу, но довольно тяжело избавляются от жировых отложени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порции телосложения</a:t>
            </a:r>
            <a:endParaRPr b="0" lang="en-US" sz="4000" spc="-1" strike="noStrike">
              <a:solidFill>
                <a:srgbClr val="000000"/>
              </a:solidFill>
              <a:latin typeface="Calibri"/>
            </a:endParaRPr>
          </a:p>
        </p:txBody>
      </p:sp>
      <p:sp>
        <p:nvSpPr>
          <p:cNvPr id="82" name=""/>
          <p:cNvSpPr txBox="1"/>
          <p:nvPr/>
        </p:nvSpPr>
        <p:spPr>
          <a:xfrm>
            <a:off x="457200" y="642600"/>
            <a:ext cx="8229600" cy="548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р. Цель: научиться определять пропорции тел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орудование: сантиметровая лента.</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ить рост стоя, рост сид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Высчитать показатель пропорциональ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 = рост стоя- рост сидя*100%/рост сид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порциональное сложение 87- 9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алая длина ног – менее 8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ая длина ног- более 92%</a:t>
            </a:r>
            <a:endParaRPr b="0" lang="en-US" sz="3200" spc="-1" strike="noStrike">
              <a:solidFill>
                <a:srgbClr val="000000"/>
              </a:solidFill>
              <a:latin typeface="Calibri"/>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826920" y="333360"/>
            <a:ext cx="771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Unicode MS"/>
              </a:rPr>
              <a:t>Гармоничность телосложения</a:t>
            </a:r>
            <a:endParaRPr b="0" lang="en-US" sz="3200" spc="-1" strike="noStrike">
              <a:solidFill>
                <a:srgbClr val="000000"/>
              </a:solidFill>
              <a:latin typeface="Arial"/>
            </a:endParaRPr>
          </a:p>
        </p:txBody>
      </p:sp>
      <p:sp>
        <p:nvSpPr>
          <p:cNvPr id="84" name="Прямоугольник 3"/>
          <p:cNvSpPr/>
          <p:nvPr/>
        </p:nvSpPr>
        <p:spPr>
          <a:xfrm>
            <a:off x="539640" y="2060640"/>
            <a:ext cx="8215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Определить окружность груд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Рассчитать гармоничность телосложени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кружность грудной клетки в паузе*100%/ ро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ормальное телосложение- 50-5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лабое телосложение меньше 5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ысокое телосложение больше 55% </a:t>
            </a:r>
            <a:endParaRPr b="0" lang="en-US" sz="3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бобщить   и   систематизировать   знания   учащихся об опорно-двигательной системе;</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акрепить умения  учащихся работать с оборудованием;</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формировать представления о типах телосложения;</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одолжить формирование практических умений учащихся при работе с лабораторным оборудованием;</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3008160" cy="5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асти тела человека</a:t>
            </a:r>
            <a:endParaRPr b="0" lang="en-US" sz="2000" spc="-1" strike="noStrike">
              <a:solidFill>
                <a:srgbClr val="000000"/>
              </a:solidFill>
              <a:latin typeface="Calibri"/>
            </a:endParaRPr>
          </a:p>
        </p:txBody>
      </p:sp>
      <p:sp>
        <p:nvSpPr>
          <p:cNvPr id="53" name="PlaceHolder 2"/>
          <p:cNvSpPr>
            <a:spLocks noGrp="1"/>
          </p:cNvSpPr>
          <p:nvPr>
            <p:ph/>
          </p:nvPr>
        </p:nvSpPr>
        <p:spPr>
          <a:xfrm>
            <a:off x="499680" y="856800"/>
            <a:ext cx="4357800" cy="53341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ая из этих частей состоит из более мелких: на лице выделяют рот, нос, глаза, лоб, щек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ука состоит из плеча, предплечья и кисти (то, что мы обычно называем плечом, носит название надплечье). Нога состоит из бедра, голени и стоп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уловище подразделятся на грудь и живот. Грудная часть защищена ребрами, грудиной, а сзади – частью позвоночника. Живот состоит из одних мягких тканей.</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ло человека покрывает кожа. Под ней располагаются мышцы и  кости. Кости образуют скеле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уловище внутри разделено на грудную и брюшную полость мышцей диафрагмой, ее еще называют грудобрюшной перегородкой.  В грудной полости находятся сердце и легкие, проходят пищевод и дыхательные пути. В брюшной полости находятся желудок, кишечник, печень, поджелудочная железа, селезенка, почки, многочисленные сосуды и нервы. Здесь же размещены половые органы женщин. У мужчин половые органы находятся вне брюшной полости, так как для развития мужских половых клеток – сперматозоидов требуется более низкая температур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4" name="Picture 2" descr=""/>
          <p:cNvPicPr/>
          <p:nvPr/>
        </p:nvPicPr>
        <p:blipFill>
          <a:blip r:embed="rId1"/>
          <a:stretch/>
        </p:blipFill>
        <p:spPr>
          <a:xfrm>
            <a:off x="4950000" y="272880"/>
            <a:ext cx="2361960" cy="5853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опорции тела –                                                          это соотношение размеров           отдельных частей тела(туловища,                    конечностей и их сегментов)</a:t>
            </a:r>
            <a:endParaRPr b="0" lang="en-US" sz="3200" spc="-1" strike="noStrike">
              <a:solidFill>
                <a:srgbClr val="000000"/>
              </a:solidFill>
              <a:latin typeface="Calibri"/>
            </a:endParaRPr>
          </a:p>
        </p:txBody>
      </p:sp>
      <p:pic>
        <p:nvPicPr>
          <p:cNvPr id="56" name="Picture 2" descr="Анатомическое строение"/>
          <p:cNvPicPr/>
          <p:nvPr/>
        </p:nvPicPr>
        <p:blipFill>
          <a:blip r:embed="rId1"/>
          <a:stretch/>
        </p:blipFill>
        <p:spPr>
          <a:xfrm>
            <a:off x="6643800" y="1357200"/>
            <a:ext cx="2500200" cy="5072040"/>
          </a:xfrm>
          <a:prstGeom prst="rect">
            <a:avLst/>
          </a:prstGeom>
          <a:ln w="0">
            <a:noFill/>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56760"/>
            <a:ext cx="77724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ревнеегипетские пропорции</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1356840"/>
            <a:ext cx="6400800" cy="4281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9" name="Picture 2" descr=""/>
          <p:cNvPicPr/>
          <p:nvPr/>
        </p:nvPicPr>
        <p:blipFill>
          <a:blip r:embed="rId1"/>
          <a:stretch/>
        </p:blipFill>
        <p:spPr>
          <a:xfrm>
            <a:off x="1071720" y="1143000"/>
            <a:ext cx="7072200" cy="465444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ревнегреческие пропорции</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1143000" y="1071720"/>
            <a:ext cx="6643800" cy="4786200"/>
          </a:xfrm>
          <a:prstGeom prst="rect">
            <a:avLst/>
          </a:prstGeom>
          <a:ln w="0">
            <a:noFill/>
          </a:ln>
        </p:spPr>
      </p:pic>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574800" y="272520"/>
            <a:ext cx="5111640" cy="58532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а вычисления идеальных пропорций тела человека была разработана в 5 веке древнегреческим скульптором Поликлетом. За основу для вычисления идеальных пропорций скульптор взял свои собственные представления об идеальной фигуре. Согласно его вычислениям, голова составляет одну седьмую часть от общего роста человека, кисти рук и лицо – одна десятая часть, а ступни одна шестая часть от общего роста. Не смотря на то, что многие современники Поликлета сочли такие фигуры слишком квадратными и массивными, именно эти пропорции стали каноном для античности. Свои представления об идеальных пропорциях тела Поликлет воплотил в статуе Дорифор (Копьеносец). Тело юноши олицетворяет собой могущество настоящей мужской силы. Широкие плечи и могучий рост – таким были идеальные пропорции тела для Поликлета</a:t>
            </a:r>
            <a:endParaRPr b="0" lang="en-US" sz="1800" spc="-1" strike="noStrike">
              <a:solidFill>
                <a:srgbClr val="000000"/>
              </a:solidFill>
              <a:latin typeface="Calibri"/>
            </a:endParaRPr>
          </a:p>
        </p:txBody>
      </p:sp>
      <p:sp>
        <p:nvSpPr>
          <p:cNvPr id="63" name="PlaceHolder 1"/>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64" name="Picture 2" descr="Doriphorus02 pushkin.jpg"/>
          <p:cNvPicPr/>
          <p:nvPr/>
        </p:nvPicPr>
        <p:blipFill>
          <a:blip r:embed="rId1"/>
          <a:stretch/>
        </p:blipFill>
        <p:spPr>
          <a:xfrm>
            <a:off x="500040" y="428760"/>
            <a:ext cx="3071880" cy="592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раметры статуи</a:t>
            </a:r>
            <a:br>
              <a:rPr sz="4400"/>
            </a:br>
            <a:endParaRPr b="0" lang="en-US" sz="4400" spc="-1" strike="noStrike">
              <a:solidFill>
                <a:srgbClr val="000000"/>
              </a:solidFill>
              <a:latin typeface="Calibri"/>
            </a:endParaRPr>
          </a:p>
        </p:txBody>
      </p:sp>
      <p:sp>
        <p:nvSpPr>
          <p:cNvPr id="66" name=""/>
          <p:cNvSpPr txBox="1"/>
          <p:nvPr/>
        </p:nvSpPr>
        <p:spPr>
          <a:xfrm>
            <a:off x="457200" y="999720"/>
            <a:ext cx="8229600" cy="5429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сли пересчитать пропорции этого идеального мужчины для роста 178 см, размеры будут таковы:</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ъем шеи — 44 см,                                                                                                             груди — 119,                                                                                                               бицепса — 38,                                                                                                                талии — 92,                                                                                                              предплечья — 33,                                                                                                          запястья — 19,                                                                                                                                                                                                                                                    ягодиц — 108,                                                                                                                       бедра — 60,                                                                                                                     колена — 40,                                                                                                                голени — 42,                                                                                                              лодыжки — 25,                                                                                                                     ступни — 30 см.</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Афродита (Венера) Милосская. Около 300 до н.э. Мрамор. Лувр. Париж."/>
          <p:cNvPicPr/>
          <p:nvPr/>
        </p:nvPicPr>
        <p:blipFill>
          <a:blip r:embed="rId1"/>
          <a:stretch/>
        </p:blipFill>
        <p:spPr>
          <a:xfrm>
            <a:off x="2786040" y="1000080"/>
            <a:ext cx="3786120" cy="5500800"/>
          </a:xfrm>
          <a:prstGeom prst="rect">
            <a:avLst/>
          </a:prstGeom>
          <a:ln w="0">
            <a:noFill/>
          </a:ln>
        </p:spPr>
      </p:pic>
      <p:sp>
        <p:nvSpPr>
          <p:cNvPr id="6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енера Милосская</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0:03:11Z</dcterms:created>
  <dc:creator>пользователь</dc:creator>
  <dc:description/>
  <dc:language>en-US</dc:language>
  <cp:lastModifiedBy>пользователь</cp:lastModifiedBy>
  <dcterms:modified xsi:type="dcterms:W3CDTF">2013-02-19T15:54:47Z</dcterms:modified>
  <cp:revision>87</cp:revision>
  <dc:subject/>
  <dc:title>Пропорции тела</dc:title>
</cp:coreProperties>
</file>