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push.wav" ContentType="audio/x-wav"/>
  <Override PartName="/ppt/media/image2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A3DC-67E4-499C-A98C-E9B70EEB4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5779-F1D3-42B3-8446-E4F64EB53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ECCCBA9C-9616-4B64-A95D-516C5514CEF1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3"/>
          <a:stretch/>
        </p:blipFill>
        <p:spPr>
          <a:xfrm>
            <a:off x="1206360" y="1206360"/>
            <a:ext cx="6724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1785960" y="857160"/>
            <a:ext cx="635796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971640" y="404640"/>
            <a:ext cx="511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бр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4000" y="308916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отзывчив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шевное расположение к людя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емление делать добро друг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чества по Ожегов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душ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жел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нра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порядо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серде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сове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571840" y="1143000"/>
            <a:ext cx="528624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714680" y="50004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5500800" y="571680"/>
            <a:ext cx="331920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1928880" y="2786040"/>
            <a:ext cx="328608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4"/>
          <a:stretch/>
        </p:blipFill>
        <p:spPr>
          <a:xfrm>
            <a:off x="5572080" y="2643120"/>
            <a:ext cx="3357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4857480" cy="4929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582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ебята,  давайте  жить  дру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1547640" y="333360"/>
            <a:ext cx="52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ловицы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35120" y="17208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0920" y="134136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0920" y="213372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дежда красит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0920" y="292428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опись на доброе д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50920" y="371628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хвались сереб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50920" y="443700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добро твор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4000" y="522936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 добра н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250920" y="602136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щи красот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5435640" y="609300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хвались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435640" y="530064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щи добр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5435640" y="443700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худое само присп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5435640" y="364500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м и правды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5435640" y="285264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о Бог отблагода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435640" y="2133720"/>
            <a:ext cx="3384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шке при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5435640" y="1341360"/>
            <a:ext cx="33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го добрые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3780000" y="1628640"/>
            <a:ext cx="1584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 flipV="1">
            <a:off x="3924360" y="1700280"/>
            <a:ext cx="1152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>
            <a:off x="3780000" y="3284640"/>
            <a:ext cx="158400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"/>
          <p:cNvSpPr/>
          <p:nvPr/>
        </p:nvSpPr>
        <p:spPr>
          <a:xfrm>
            <a:off x="3708360" y="4076640"/>
            <a:ext cx="1655640" cy="23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 flipV="1">
            <a:off x="3780000" y="3212640"/>
            <a:ext cx="151272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0"/>
          <p:cNvSpPr/>
          <p:nvPr/>
        </p:nvSpPr>
        <p:spPr>
          <a:xfrm flipV="1">
            <a:off x="3851280" y="4076280"/>
            <a:ext cx="1512720" cy="151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 flipV="1">
            <a:off x="3851280" y="5589720"/>
            <a:ext cx="14414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321480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5000760" y="714240"/>
            <a:ext cx="38574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гра « Добрый или зло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324DE3D4"/>
          <p:cNvPicPr/>
          <p:nvPr/>
        </p:nvPicPr>
        <p:blipFill>
          <a:blip r:embed="rId1"/>
          <a:stretch/>
        </p:blipFill>
        <p:spPr>
          <a:xfrm>
            <a:off x="0" y="1268280"/>
            <a:ext cx="160020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5C4FD02"/>
          <p:cNvPicPr/>
          <p:nvPr/>
        </p:nvPicPr>
        <p:blipFill>
          <a:blip r:embed="rId2"/>
          <a:stretch/>
        </p:blipFill>
        <p:spPr>
          <a:xfrm>
            <a:off x="1908000" y="1341360"/>
            <a:ext cx="180216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836CE96E"/>
          <p:cNvPicPr/>
          <p:nvPr/>
        </p:nvPicPr>
        <p:blipFill>
          <a:blip r:embed="rId3"/>
          <a:stretch/>
        </p:blipFill>
        <p:spPr>
          <a:xfrm>
            <a:off x="4211640" y="1413000"/>
            <a:ext cx="1254240" cy="25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50819DEB"/>
          <p:cNvPicPr/>
          <p:nvPr/>
        </p:nvPicPr>
        <p:blipFill>
          <a:blip r:embed="rId4"/>
          <a:stretch/>
        </p:blipFill>
        <p:spPr>
          <a:xfrm>
            <a:off x="5796000" y="1341360"/>
            <a:ext cx="174132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386E15"/>
          <p:cNvPicPr/>
          <p:nvPr/>
        </p:nvPicPr>
        <p:blipFill>
          <a:blip r:embed="rId5"/>
          <a:stretch/>
        </p:blipFill>
        <p:spPr>
          <a:xfrm>
            <a:off x="7724880" y="1413000"/>
            <a:ext cx="1419120" cy="492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107BFD2F"/>
          <p:cNvPicPr/>
          <p:nvPr/>
        </p:nvPicPr>
        <p:blipFill>
          <a:blip r:embed="rId6"/>
          <a:stretch/>
        </p:blipFill>
        <p:spPr>
          <a:xfrm>
            <a:off x="179280" y="4114800"/>
            <a:ext cx="217188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899639B9"/>
          <p:cNvPicPr/>
          <p:nvPr/>
        </p:nvPicPr>
        <p:blipFill>
          <a:blip r:embed="rId7"/>
          <a:stretch/>
        </p:blipFill>
        <p:spPr>
          <a:xfrm>
            <a:off x="5940360" y="4221000"/>
            <a:ext cx="1587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Cергей</cp:lastModifiedBy>
  <dcterms:modified xsi:type="dcterms:W3CDTF">2013-01-15T16:41:06Z</dcterms:modified>
  <cp:revision>68</cp:revision>
  <dc:subject/>
  <dc:title>Green Butterflies</dc:title>
</cp:coreProperties>
</file>