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F8B-8549-40DA-8278-D73695AB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CF4-20E3-419B-B3F3-9FAFE3EB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9FB-9F98-46AD-9241-D4246AC5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629-0037-4582-AA6E-B820E126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6198-1CFF-4346-86FA-0F40D3D4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DA0A-5FAA-446A-B5CB-E0D26D69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0FFC-C298-4A02-9973-19677F04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9CD9-7335-473A-B1F2-1BF87143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3691-BA97-4ED6-829A-4F9AA4C9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BF4F-CDDC-448B-A24D-AC21C43E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2915-E9B8-4C83-BF1C-92CD20DF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043-73EE-4279-B57D-4FC40D1D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40BE-8226-4F76-811F-6B76576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9D06-B3A1-4966-879E-A1111A12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3446-E986-48AE-BF10-32202E8F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0200-AB07-4820-B4C5-92E30825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B8CF-E789-4EEB-8F34-AB40D070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1D6-D7D7-4C6D-95E7-516C7E1D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FA5-0E8B-4F16-8BAC-726D4B17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4BA-CDD4-4674-88C8-DC144030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52F-B556-4839-97C4-E5B0091B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059-C3AE-4414-AF54-C4C94561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29D-0524-4296-B054-E183A49A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E86-9237-44D0-81C4-B60B466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961F-C09A-408B-894E-0B71E14054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9573-E29E-49B4-AEFD-68121FB6FD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бота и мощность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ученица 7 класса Игнатченко Виктория МБОУ СОШ № 10 Каневского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0" y="6784920"/>
            <a:ext cx="73080" cy="73080"/>
          </a:xfrm>
          <a:custGeom>
            <a:avLst/>
            <a:gdLst>
              <a:gd name="textAreaLeft" fmla="*/ 12600 w 73080"/>
              <a:gd name="textAreaRight" fmla="*/ 52920 w 730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ределения.Формул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9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стоянной силы равна произведению силы на переме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ж (Джоу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389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щность-быстрота совершения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щность равна работе совершаемой  за единицу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A/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(Ват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Администратор\Рабочий стол\работа .gif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072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ереведите в систему С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МДж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кДж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Вт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 МДж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3 кВт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6 МВт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 кДж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7,9 кВт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Администратор\Рабочий стол\раб.jpg"/>
          <p:cNvPicPr/>
          <p:nvPr/>
        </p:nvPicPr>
        <p:blipFill>
          <a:blip r:embed="rId1"/>
          <a:stretch/>
        </p:blipFill>
        <p:spPr>
          <a:xfrm>
            <a:off x="1143000" y="571680"/>
            <a:ext cx="7072200" cy="53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ите задач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 полу стоит ящик массой 20 кг.Какую работу совершит рабочий подняв его на высоту 1,5 ме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мощность трактора если за 1 мину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совершает работу 120 кД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илы совершают раб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адении камня на зем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еме штанги спортсме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новке автомобил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лете пули из ство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тывании санок с го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:Работа.Мощность. (читать,пересказыв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ить на вопросы (письмен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ы и единицы измерения –выучить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19:48:11Z</dcterms:created>
  <dc:creator>МАМА_2</dc:creator>
  <dc:description/>
  <dc:language>en-US</dc:language>
  <cp:lastModifiedBy>user</cp:lastModifiedBy>
  <dcterms:modified xsi:type="dcterms:W3CDTF">2013-03-17T11:47:11Z</dcterms:modified>
  <cp:revision>9</cp:revision>
  <dc:subject/>
  <dc:title>Работа и мощность.</dc:title>
</cp:coreProperties>
</file>