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05F-13FD-4930-AD97-15643D17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22F-49E9-4B2A-AAC7-420ED769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544-2B5A-43F6-97CD-19E2B914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974-8B8C-4D94-ADC4-3AAA8D10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0110-9FA9-420A-8AF3-B59E4EDD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86D5-6C0B-4795-B614-2C5DC968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D586-6F52-4B84-B01A-27DD5B96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94FF-63DC-4454-971D-BCC47F25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0D19-04A3-4FA8-BEA4-0AF9DAD8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CB9E-E452-45DA-88BA-D385FB3E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EE63-CD9C-4BF9-A754-4852F0CA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E36-7C6A-420B-A031-03FBDF60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0721-11D6-4A93-9320-3D39A7D4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4AE8-F5C5-440F-BDBF-A3BCC07C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8310-9BE3-4684-9C85-3C131182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BEE2-1A13-44ED-9F57-F602CB7F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99E5-4FA3-400F-85A2-6FCE8EE7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415-5CAE-48AE-A309-D487F25B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0ED-4AE4-467A-AA55-7FF4D11F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7FC-9632-4DF2-A30C-293AEFAC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A05-485F-45C9-888C-96E18643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E2B-3895-4D2C-BD03-6667E2E0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63D-EFA4-4B48-AAA8-7948509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483-8CBB-4CD3-9A89-7540610E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5D4E-12F0-4F32-AB0C-BCCDA6CB97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A7E5-5F84-4EEA-8F0B-9ED224BAA4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бота и мощность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ученица 7 класса Игнатченко Виктория МБОУ СОШ № 10 Каневского рай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0" y="6784920"/>
            <a:ext cx="73080" cy="73080"/>
          </a:xfrm>
          <a:custGeom>
            <a:avLst/>
            <a:gdLst>
              <a:gd name="textAreaLeft" fmla="*/ 12600 w 73080"/>
              <a:gd name="textAreaRight" fmla="*/ 52920 w 73080"/>
              <a:gd name="textAreaTop" fmla="*/ 9720 h 73080"/>
              <a:gd name="textAreaBottom" fmla="*/ 6336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пределения.Формул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9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постоянной силы равна произведению силы на переме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ж (Джоу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1480" y="1599840"/>
            <a:ext cx="389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щность-быстрота совершения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щность равна работе совершаемой  за единицу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=A/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=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т(Ват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Администратор\Рабочий стол\работа .gif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5072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ереведите в систему С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МДж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 кДж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МВт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0 МДж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3 кВт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6 МВт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 кДж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7,9 кВт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Администратор\Рабочий стол\раб.jpg"/>
          <p:cNvPicPr/>
          <p:nvPr/>
        </p:nvPicPr>
        <p:blipFill>
          <a:blip r:embed="rId1"/>
          <a:stretch/>
        </p:blipFill>
        <p:spPr>
          <a:xfrm>
            <a:off x="1143000" y="571680"/>
            <a:ext cx="7072200" cy="53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ешите задач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На полу стоит ящик массой 20 кг.Какую работу совершит рабочий подняв его на высоту 1,5 ме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а мощность трактора если за 1 мину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совершает работу 120 кДж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илы совершают рабо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адении камня на земл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ъеме штанги спортсмен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ановке автомобиля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лете пули из ство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тывании санок с го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:Работа.Мощность. (читать,пересказыв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ить на вопросы (письмен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ы и единицы измерения –выучить наизу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19:48:11Z</dcterms:created>
  <dc:creator>МАМА_2</dc:creator>
  <dc:description/>
  <dc:language>en-US</dc:language>
  <cp:lastModifiedBy>user</cp:lastModifiedBy>
  <dcterms:modified xsi:type="dcterms:W3CDTF">2013-03-17T11:47:11Z</dcterms:modified>
  <cp:revision>9</cp:revision>
  <dc:subject/>
  <dc:title>Работа и мощность.</dc:title>
</cp:coreProperties>
</file>