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81BB-DDA4-4CAE-9DD9-468F64CF7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B1B5-FA29-4537-960F-C4C4ABC2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5367-2F8A-4D98-9999-03BBB0E62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2233-F182-4D67-B8AC-515331F75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DAD9-2445-4705-A9D2-E65F75B7E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4EC4-6D0E-4E8B-B11E-865B3A1D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F02B-ADC8-41F8-83F0-6AC40D39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1BB3-24A7-4103-9904-866EA9C7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F7C0-3CA1-423C-8FDE-66AF4B1F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406F-ED47-45A3-BD2B-372DE56A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D29B-1EE3-4FCD-B498-45EE5A7B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423E-DF61-4587-9892-C734C958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D97E-98F4-44C9-AF3F-5ABB828F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EEC5-7A01-47F4-B112-461C5B39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2057-598D-4ECC-A7F8-70793198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A8D5-001D-4F35-BFB5-745420891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E8D4-D3BF-4BFB-8685-EA2F2BFA7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A9793-518B-4F98-9C3F-A96DD67C5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FBACA-4A25-4CED-A091-1A21A1CB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73964-8525-4B51-9FE5-6D0EA250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88B92-6137-48C8-A9AD-2C43E3B5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FF0D2-F226-4067-87DD-13FFAABC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75DD-DB57-44B3-8C54-7AF9D34D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6A035-CF20-4D64-85BA-FAE47F47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0BC17-BA72-4445-A9DF-F24564C8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7A581-082D-461F-85E1-FE184E91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63B35-D970-48F6-B176-416BFCFD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8CFBB-36F8-478B-87FE-0918C373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33E36-8F17-4E9E-99FA-07EBA7C93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7CE6B-9D1B-485F-88FA-56186B52D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C0B30-D61B-46C5-AD72-14892CDAC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DA5F1-B5A5-4506-8EB5-3C96ABFE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4AED5-C3B3-4548-88B0-D0C95597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EE27-9B73-41C4-8F90-0BE1E5DC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DD557-CDE4-4BCF-9E85-4608335F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5906A-7C14-4811-8582-1F4B0B49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22F35-E341-4659-B436-963FBA9F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D5D1F-6D28-4978-9E00-6A111801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E3DC5-D851-41DA-B721-C7DA1C0E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127B0-E889-4782-A649-9965CF6B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A0187-3082-4D9E-BA7E-E800A643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D6811-4C23-4115-A570-ED5786A06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D723A-DD33-4EB2-BB1E-F1370CB63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66C83-4681-4041-BD4F-2FADBDB6D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854B-3F1E-4DA8-9AED-85DA005D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523D1-EA25-4B71-B509-B08AC289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94C47-D473-4579-BE29-3910CA60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CEC91-5433-4685-9918-1B47AC43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7D7BE-CC61-4430-A910-EFA0080F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87526-B280-4056-8DB1-72604364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49AF2-BFFD-4D57-A5B9-F025B9C4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2C774-A62E-4AFF-92DC-848F8B13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6F229-9F8B-4594-AB01-A7745D37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C5E11-57D5-4116-81B8-799F0965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C3E8E-F7DA-4F2B-9A53-44D5836DE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8ADD-1EE8-423E-808D-68503E07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56EFC-A822-413A-84EB-3AA16AAFF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A9CF-FBA4-4066-96F9-70A2A48B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80CE-7ADE-492A-AB62-07C733D8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A49C-8559-42AA-8A4C-ACAED721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50D0-669B-46F9-AE58-F386C611DC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31E4-EE43-4843-B9A0-88EAD7B8DD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48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50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155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Group 15"/>
              <p:cNvGrpSpPr/>
              <p:nvPr/>
            </p:nvGrpSpPr>
            <p:grpSpPr>
              <a:xfrm>
                <a:off x="852480" y="4053600"/>
                <a:ext cx="1833840" cy="1665720"/>
                <a:chOff x="852480" y="4053600"/>
                <a:chExt cx="1833840" cy="1665720"/>
              </a:xfrm>
            </p:grpSpPr>
            <p:sp>
              <p:nvSpPr>
                <p:cNvPr id="161" name="Freeform 16"/>
                <p:cNvSpPr/>
                <p:nvPr/>
              </p:nvSpPr>
              <p:spPr>
                <a:xfrm flipH="1" rot="7102800">
                  <a:off x="1268280" y="3940560"/>
                  <a:ext cx="477360" cy="12312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17"/>
                <p:cNvSpPr/>
                <p:nvPr/>
              </p:nvSpPr>
              <p:spPr>
                <a:xfrm flipH="1" rot="7102800">
                  <a:off x="2347560" y="4979160"/>
                  <a:ext cx="110520" cy="5050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18"/>
                <p:cNvSpPr/>
                <p:nvPr/>
              </p:nvSpPr>
              <p:spPr>
                <a:xfrm flipH="1" rot="7102800">
                  <a:off x="2500200" y="5567760"/>
                  <a:ext cx="200880" cy="85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4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65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69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73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2B59-3D4A-4752-82C3-42AA5D7DAD6F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32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3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4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6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8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9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D25C-B40F-466F-9BEC-D545DC6514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337" name="Group 3"/>
            <p:cNvGrpSpPr/>
            <p:nvPr/>
          </p:nvGrpSpPr>
          <p:grpSpPr>
            <a:xfrm>
              <a:off x="5404680" y="58680"/>
              <a:ext cx="3626280" cy="6136920"/>
              <a:chOff x="5404680" y="58680"/>
              <a:chExt cx="3626280" cy="6136920"/>
            </a:xfrm>
          </p:grpSpPr>
          <p:sp>
            <p:nvSpPr>
              <p:cNvPr id="338" name="Freeform 4"/>
              <p:cNvSpPr/>
              <p:nvPr/>
            </p:nvSpPr>
            <p:spPr>
              <a:xfrm flipV="1" rot="11970000">
                <a:off x="6582600" y="34416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5"/>
              <p:cNvSpPr/>
              <p:nvPr/>
            </p:nvSpPr>
            <p:spPr>
              <a:xfrm flipV="1" rot="11970000">
                <a:off x="7421400" y="195768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6"/>
              <p:cNvSpPr/>
              <p:nvPr/>
            </p:nvSpPr>
            <p:spPr>
              <a:xfrm flipV="1" rot="11970000">
                <a:off x="6823440" y="258912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7"/>
              <p:cNvSpPr/>
              <p:nvPr/>
            </p:nvSpPr>
            <p:spPr>
              <a:xfrm flipV="1" rot="11970000">
                <a:off x="7250040" y="67068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8"/>
              <p:cNvSpPr/>
              <p:nvPr/>
            </p:nvSpPr>
            <p:spPr>
              <a:xfrm flipV="1" rot="11970000">
                <a:off x="7149600" y="26481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9"/>
              <p:cNvSpPr/>
              <p:nvPr/>
            </p:nvSpPr>
            <p:spPr>
              <a:xfrm flipV="1" rot="11970000">
                <a:off x="7134840" y="124200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0"/>
              <p:cNvSpPr/>
              <p:nvPr/>
            </p:nvSpPr>
            <p:spPr>
              <a:xfrm flipV="1" rot="11970000">
                <a:off x="5935320" y="293364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352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Group 21"/>
            <p:cNvGrpSpPr/>
            <p:nvPr/>
          </p:nvGrpSpPr>
          <p:grpSpPr>
            <a:xfrm>
              <a:off x="5646240" y="285480"/>
              <a:ext cx="892440" cy="825840"/>
              <a:chOff x="5646240" y="285480"/>
              <a:chExt cx="892440" cy="825840"/>
            </a:xfrm>
          </p:grpSpPr>
          <p:sp>
            <p:nvSpPr>
              <p:cNvPr id="356" name="Freeform 22"/>
              <p:cNvSpPr/>
              <p:nvPr/>
            </p:nvSpPr>
            <p:spPr>
              <a:xfrm rot="14908200">
                <a:off x="5757840" y="78084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23"/>
              <p:cNvSpPr/>
              <p:nvPr/>
            </p:nvSpPr>
            <p:spPr>
              <a:xfrm rot="14908200">
                <a:off x="5706360" y="46044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24"/>
              <p:cNvSpPr/>
              <p:nvPr/>
            </p:nvSpPr>
            <p:spPr>
              <a:xfrm rot="14908200">
                <a:off x="6248880" y="38592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Group 25"/>
            <p:cNvGrpSpPr/>
            <p:nvPr/>
          </p:nvGrpSpPr>
          <p:grpSpPr>
            <a:xfrm>
              <a:off x="968760" y="5255280"/>
              <a:ext cx="1059120" cy="830880"/>
              <a:chOff x="968760" y="5255280"/>
              <a:chExt cx="1059120" cy="830880"/>
            </a:xfrm>
          </p:grpSpPr>
          <p:sp>
            <p:nvSpPr>
              <p:cNvPr id="360" name="Freeform 26"/>
              <p:cNvSpPr/>
              <p:nvPr/>
            </p:nvSpPr>
            <p:spPr>
              <a:xfrm rot="8524800">
                <a:off x="1711080" y="552024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27"/>
              <p:cNvSpPr/>
              <p:nvPr/>
            </p:nvSpPr>
            <p:spPr>
              <a:xfrm rot="8524800">
                <a:off x="1194120" y="573156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28"/>
              <p:cNvSpPr/>
              <p:nvPr/>
            </p:nvSpPr>
            <p:spPr>
              <a:xfrm rot="8524800">
                <a:off x="960120" y="53798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29"/>
            <p:cNvGrpSpPr/>
            <p:nvPr/>
          </p:nvGrpSpPr>
          <p:grpSpPr>
            <a:xfrm>
              <a:off x="375840" y="435240"/>
              <a:ext cx="1690200" cy="1146600"/>
              <a:chOff x="375840" y="435240"/>
              <a:chExt cx="1690200" cy="1146600"/>
            </a:xfrm>
          </p:grpSpPr>
          <p:sp>
            <p:nvSpPr>
              <p:cNvPr id="364" name="Freeform 30"/>
              <p:cNvSpPr/>
              <p:nvPr/>
            </p:nvSpPr>
            <p:spPr>
              <a:xfrm flipH="1" rot="4107000">
                <a:off x="1576080" y="105372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31"/>
              <p:cNvSpPr/>
              <p:nvPr/>
            </p:nvSpPr>
            <p:spPr>
              <a:xfrm flipH="1" rot="4107000">
                <a:off x="1022760" y="57888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32"/>
              <p:cNvSpPr/>
              <p:nvPr/>
            </p:nvSpPr>
            <p:spPr>
              <a:xfrm flipH="1" rot="4107000">
                <a:off x="278640" y="109260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33"/>
            <p:cNvGrpSpPr/>
            <p:nvPr/>
          </p:nvGrpSpPr>
          <p:grpSpPr>
            <a:xfrm>
              <a:off x="7393680" y="3712320"/>
              <a:ext cx="1155600" cy="1607760"/>
              <a:chOff x="7393680" y="3712320"/>
              <a:chExt cx="1155600" cy="1607760"/>
            </a:xfrm>
          </p:grpSpPr>
          <p:sp>
            <p:nvSpPr>
              <p:cNvPr id="368" name="Freeform 34"/>
              <p:cNvSpPr/>
              <p:nvPr/>
            </p:nvSpPr>
            <p:spPr>
              <a:xfrm flipH="1" rot="10015800">
                <a:off x="74484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35"/>
              <p:cNvSpPr/>
              <p:nvPr/>
            </p:nvSpPr>
            <p:spPr>
              <a:xfrm flipH="1" rot="10015800">
                <a:off x="789912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36"/>
              <p:cNvSpPr/>
              <p:nvPr/>
            </p:nvSpPr>
            <p:spPr>
              <a:xfrm flipH="1" rot="10015800">
                <a:off x="759168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96DE-4B4C-4511-85E7-9BC3D7841C31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кторий для родите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ние сознательно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циплины у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Черная З. 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БОУ « СОШ№17» г. Новомосков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Результат каждого поручения, выполненного ребёнком, должен быть оценён.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4373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Для этого в каждой семье выработалась своя система поощрений и наказа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Picture 4" descr="профессор"/>
          <p:cNvPicPr/>
          <p:nvPr/>
        </p:nvPicPr>
        <p:blipFill>
          <a:blip r:embed="rId1"/>
          <a:stretch/>
        </p:blipFill>
        <p:spPr>
          <a:xfrm>
            <a:off x="6572160" y="3000240"/>
            <a:ext cx="1847880" cy="201960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6"/>
          <p:cNvSpPr/>
          <p:nvPr/>
        </p:nvSpPr>
        <p:spPr>
          <a:xfrm>
            <a:off x="755640" y="2924280"/>
            <a:ext cx="583236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Поощрение –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это проявление положительной оценки поведения ребёнка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Наказание –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это отрицательная оценка поведения ребёнка.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63520" y="390240"/>
            <a:ext cx="752328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Verdana"/>
              </a:rPr>
              <a:t>Поощрение  и  наказа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4" name="Rectangle 10"/>
          <p:cNvSpPr/>
          <p:nvPr/>
        </p:nvSpPr>
        <p:spPr>
          <a:xfrm>
            <a:off x="1168560" y="828720"/>
            <a:ext cx="2692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Рисунок 1" descr="http://festival.1september.ru/articles/212479/img1.gif"/>
          <p:cNvPicPr/>
          <p:nvPr/>
        </p:nvPicPr>
        <p:blipFill>
          <a:blip r:embed="rId1"/>
          <a:stretch/>
        </p:blipFill>
        <p:spPr>
          <a:xfrm>
            <a:off x="1168560" y="1484280"/>
            <a:ext cx="2133360" cy="429732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12"/>
          <p:cNvSpPr/>
          <p:nvPr/>
        </p:nvSpPr>
        <p:spPr>
          <a:xfrm>
            <a:off x="1168560" y="828720"/>
            <a:ext cx="44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3492360" y="2349360"/>
          <a:ext cx="41616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8" name="Rectangle 29"/>
          <p:cNvSpPr/>
          <p:nvPr/>
        </p:nvSpPr>
        <p:spPr>
          <a:xfrm>
            <a:off x="1168560" y="828720"/>
            <a:ext cx="2692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Рисунок 1" descr="http://festival.1september.ru/articles/212479/img1.gif"/>
          <p:cNvPicPr/>
          <p:nvPr/>
        </p:nvPicPr>
        <p:blipFill>
          <a:blip r:embed="rId2"/>
          <a:stretch/>
        </p:blipFill>
        <p:spPr>
          <a:xfrm>
            <a:off x="1168560" y="1413000"/>
            <a:ext cx="3116160" cy="504036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31"/>
          <p:cNvSpPr/>
          <p:nvPr/>
        </p:nvSpPr>
        <p:spPr>
          <a:xfrm>
            <a:off x="1168560" y="828720"/>
            <a:ext cx="44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Рисунок 2" descr="http://festival.1september.ru/articles/212479/img2.gif"/>
          <p:cNvPicPr/>
          <p:nvPr/>
        </p:nvPicPr>
        <p:blipFill>
          <a:blip r:embed="rId3"/>
          <a:stretch/>
        </p:blipFill>
        <p:spPr>
          <a:xfrm>
            <a:off x="4788000" y="1413000"/>
            <a:ext cx="3744720" cy="504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2" name=""/>
          <p:cNvGraphicFramePr/>
          <p:nvPr/>
        </p:nvGraphicFramePr>
        <p:xfrm>
          <a:off x="7975440" y="1498680"/>
          <a:ext cx="416160" cy="51732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3" name="Rectangle 48"/>
          <p:cNvSpPr/>
          <p:nvPr/>
        </p:nvSpPr>
        <p:spPr>
          <a:xfrm>
            <a:off x="1168560" y="828720"/>
            <a:ext cx="2692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50"/>
          <p:cNvSpPr/>
          <p:nvPr/>
        </p:nvSpPr>
        <p:spPr>
          <a:xfrm>
            <a:off x="1168560" y="828720"/>
            <a:ext cx="44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885080" y="1989000"/>
          <a:ext cx="41580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Rectangle 67"/>
          <p:cNvSpPr/>
          <p:nvPr/>
        </p:nvSpPr>
        <p:spPr>
          <a:xfrm>
            <a:off x="1168560" y="828720"/>
            <a:ext cx="2692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69"/>
          <p:cNvSpPr/>
          <p:nvPr/>
        </p:nvSpPr>
        <p:spPr>
          <a:xfrm>
            <a:off x="1168560" y="828720"/>
            <a:ext cx="44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6227640" y="1714680"/>
          <a:ext cx="1747800" cy="850680"/>
        </p:xfrm>
        <a:graphic>
          <a:graphicData uri="http://schemas.openxmlformats.org/drawingml/2006/table">
            <a:tbl>
              <a:tblPr/>
              <a:tblGrid>
                <a:gridCol w="1052640"/>
                <a:gridCol w="695160"/>
              </a:tblGrid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179280" y="2349000"/>
            <a:ext cx="8507520" cy="37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Поощрение:                               Наказание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*дают сладкое – 5                * не дают сладкое – 1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*разрешают смотреть         * не разрешают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телевизор, играть                  смотреть телевизор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на компьютере – 6                   играть на компьютере - 4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*хвалят, целуют – 2              * ругают – 9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*покупают новые                    * ремень – 9    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  </a:t>
            </a: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игрушки, вещи – 5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*никак не хвалят – 4              * никак не наказывают - 4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0" name="WordArt 4"/>
          <p:cNvSpPr txBox="1"/>
          <p:nvPr/>
        </p:nvSpPr>
        <p:spPr>
          <a:xfrm>
            <a:off x="324000" y="404640"/>
            <a:ext cx="835164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т, как ответили дети:</a:t>
            </a:r>
            <a:endParaRPr b="1" i="1" lang="en-US" sz="4000" spc="1" strike="noStrike">
              <a:ln w="9360">
                <a:solidFill>
                  <a:srgbClr val="00ff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Verdana"/>
              </a:rPr>
              <a:t>Определить необходимое наказание и его меру очень трудно. Оно должно соответствовать проступку.</a:t>
            </a:r>
            <a:br>
              <a:rPr sz="2400"/>
            </a:br>
            <a:r>
              <a:rPr b="1" i="1" lang="ru-RU" sz="2400" spc="-1" strike="noStrike" u="sng">
                <a:solidFill>
                  <a:srgbClr val="ff0066"/>
                </a:solidFill>
                <a:uFillTx/>
                <a:latin typeface="Verdana"/>
              </a:rPr>
              <a:t>Ребёнок очень чувствителен к справедливости наказания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6840" y="2565000"/>
            <a:ext cx="5267160" cy="34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Товарищи родители, помните следующее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99"/>
                </a:solidFill>
                <a:latin typeface="Verdana"/>
              </a:rPr>
              <a:t>Вы можете ошибаться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99"/>
                </a:solidFill>
                <a:latin typeface="Verdana"/>
              </a:rPr>
              <a:t>Имейте мужество извиниться перед ребёнком, если наказали его незаслуженно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99"/>
                </a:solidFill>
                <a:latin typeface="Verdana"/>
              </a:rPr>
              <a:t>Контролируйте поведение ребёнка, старайтесь предупредить возможные отрицательные поступки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63" name="Picture 4" descr="24234"/>
          <p:cNvPicPr/>
          <p:nvPr/>
        </p:nvPicPr>
        <p:blipFill>
          <a:blip r:embed="rId1"/>
          <a:stretch/>
        </p:blipFill>
        <p:spPr>
          <a:xfrm>
            <a:off x="5651640" y="3357720"/>
            <a:ext cx="30351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зультаты анкеты для родителе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держиваются        правиль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нцип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спит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51055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держиваю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тода воспитания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кнут и пряник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одекс истинного родител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0" y="12859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Если родители хотят, чтобы ребенок не воровал, они сами не должны создавать подобных ситуаций в своей семь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Если родители требуют от ребенка, чтобы он много читал и с удовольствием, они читают сами и с удовольствием, несмотря на недостаток времен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Если родители требуют от ребенка проявления трудолюбия, они сами его проявляю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Если родители хотят, чтобы их ребенок бережно и уважительно относился к дедушкам и бабушкам, они начинают с себя и сами уважительно и бережно относятся к своим родителя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Если родители хотят, чтобы их ребенок не страдал от одиночества, они дают ему возможность иметь друзей, приводить их в д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Если родители хотят, чтобы ребенок не относился к школе и учению с предубеждением, они сами вспоминают о школьных днях с удовольствием и с самыми теплыми чувства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Если родители хотят, чтобы их ребенок не пристрастился с раннего детства к спиртным напиткам, они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не должны создавать культ спиртных напитк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Если родители требуют, чтобы ребенок не лгал, они сами не лгут ником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1585440" y="1499760"/>
            <a:ext cx="75582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Спасибо за внимани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>
            <a:alpha val="6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семья 004"/>
          <p:cNvPicPr/>
          <p:nvPr/>
        </p:nvPicPr>
        <p:blipFill>
          <a:blip r:embed="rId1"/>
          <a:stretch/>
        </p:blipFill>
        <p:spPr>
          <a:xfrm>
            <a:off x="142920" y="285840"/>
            <a:ext cx="3071880" cy="4214880"/>
          </a:xfrm>
          <a:prstGeom prst="rect">
            <a:avLst/>
          </a:prstGeom>
          <a:ln w="0">
            <a:noFill/>
          </a:ln>
        </p:spPr>
      </p:pic>
      <p:sp>
        <p:nvSpPr>
          <p:cNvPr id="423" name="WordArt 5"/>
          <p:cNvSpPr txBox="1"/>
          <p:nvPr/>
        </p:nvSpPr>
        <p:spPr>
          <a:xfrm>
            <a:off x="357120" y="3286080"/>
            <a:ext cx="8607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                     </a:t>
            </a:r>
            <a:r>
              <a:rPr b="1" i="1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частлив тот, </a:t>
            </a:r>
            <a:endParaRPr b="1" i="1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                    </a:t>
            </a:r>
            <a:r>
              <a:rPr b="1" i="1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то  счастлив   дома.</a:t>
            </a:r>
            <a:endParaRPr b="1" i="1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4" name="Picture 6" descr="flowers30-web"/>
          <p:cNvPicPr/>
          <p:nvPr/>
        </p:nvPicPr>
        <p:blipFill>
          <a:blip r:embed="rId2"/>
          <a:stretch/>
        </p:blipFill>
        <p:spPr>
          <a:xfrm>
            <a:off x="7000920" y="500040"/>
            <a:ext cx="182088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7"/>
          <p:cNvSpPr/>
          <p:nvPr/>
        </p:nvSpPr>
        <p:spPr>
          <a:xfrm>
            <a:off x="250920" y="0"/>
            <a:ext cx="889308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словаре  русского языка  С.И. Ожегова записано, что «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исциплина – это обязательное для всех членов какого-нибудь коллектива подчинение установленному порядку, правилу…»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ответственно,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исциплинированный 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то человек, подчиняющийся дисциплине, соблюдающий порядок, воспитанный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исциплина –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определенный порядок поведения людей, отвечающий сложившимся в обществе нормам права и морали, а также требованиям той или иной организации…»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 из «Энциклопедического словаря»)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4" descr="профессор"/>
          <p:cNvPicPr/>
          <p:nvPr/>
        </p:nvPicPr>
        <p:blipFill>
          <a:blip r:embed="rId1"/>
          <a:stretch/>
        </p:blipFill>
        <p:spPr>
          <a:xfrm>
            <a:off x="7286760" y="2643120"/>
            <a:ext cx="14396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362800" cy="271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о мнению современных учёных:</a:t>
            </a:r>
            <a:br>
              <a:rPr sz="2800"/>
            </a:b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«В области воспитания детей дисциплина – это тренировка ума и характера ребенка, чтобы он стал самостоятельным, умеющим владеть собой, достойным и конструктивным членом общества»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28" name="Picture 7" descr="Рисунок30"/>
          <p:cNvPicPr/>
          <p:nvPr/>
        </p:nvPicPr>
        <p:blipFill>
          <a:blip r:embed="rId1"/>
          <a:stretch/>
        </p:blipFill>
        <p:spPr>
          <a:xfrm>
            <a:off x="4284720" y="3213000"/>
            <a:ext cx="38559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т ребенка требуется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быть прилежным и настойчивым в учень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* быть добросовестным, верным слов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* быть точным и аккуратным в работ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* уметь организовать своё время и досуг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*проявлять уважение к старши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* заботиться о близких людя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* быть скромным и вежливы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Рекомендуемый специалистами перечень возрастных поручений, выполняемых детьми в семье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* уход за своей одеждой и обувь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* уборка своей постел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* уборка своей комнат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* уход за комнатными растения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* приготовление простой ед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* прогулка с домашними животны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* уборка двор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* помощь в смене постельного бель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* поход в магазин и покупка по списку продук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* обслуживание гостей и д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Для того, чтобы разовое поручение вошло в привычку, доставляло ребёнку удовольствие, попробуйте: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* составлять вместе с детьми список необходимых дел как помочь семь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* научить детей навыкам работы и выполнять её вместе с детьми до тех пор, пока они не научатся работать самостоятельно, дайте им понять, что в случае необходимости вы всегда будете рядом, отойдите в сторону и не вмешивайтесь, пока вас не попросят, если появятся проблемы, обсудите их, не спешите с критикой, особенно в тот момент, когда работа выполняетс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* обеспечьте детей инвентарём соответственно их возраст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* установите время для совместной домашней работы, когда все члены семьи могут работать вместе, вместо того, чтобы вывешивать список дел для дет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*цените вклад, а не качество сделанной работы, если ребёнок потерял интерес к своей работе на её середине, похвалите его за выполненное, вместо того, чтобы требовать окончания начатой работ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* не жалейте детей и не делайте за них их работу потому, что им много задали или они занимаются спорт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Понятие дисциплины неразрывно связано с таким понятием, как любовь близких, так как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* родители первыми знакомят своих детей с нормами и правилами поведения дома, на улице, в общественных места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* имея свой жизненный опыт, родители формируют в своих детях представления о том, что такое «хорошо» и что такое «плохо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* пример родителей (положительный или отрицательный) влияет на формирование жизненного опыта дет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* только эмоционально уравновешенные и любящие родители формируют у ребёнка доброе и заботливое отношение к людя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СОВЕТЫ  ПСИХОЛОГА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* обращайтесь к ребёнку с просьбой вежливо, исключайте  командный то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* старайтесь вызвать  у ребёнка ответственное отношение к выполнению вашей просьб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* обращаясь с просьбой, давайте ребёнку инструкции её выполн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* не просите ребёнка выполнить то, что ему не  по силам, сначала научит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* не забывайте, пожалуйста, выразить родительскую признательность за выполненную просьб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09:41:13Z</dcterms:created>
  <dc:creator>Владос</dc:creator>
  <dc:description/>
  <dc:language>en-US</dc:language>
  <cp:lastModifiedBy>зоя</cp:lastModifiedBy>
  <dcterms:modified xsi:type="dcterms:W3CDTF">2013-02-05T12:58:50Z</dcterms:modified>
  <cp:revision>19</cp:revision>
  <dc:subject/>
  <dc:title>Слайд 1</dc:title>
</cp:coreProperties>
</file>