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CA1-E228-41BE-83C2-8BFAEFCD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199-EAAB-4412-9913-4FCA654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A38-6396-4BF8-8885-DF89E507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A9A-1E9D-4699-A5CE-4791963E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CD2-2235-4075-A3A6-36CF7F4C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8C9E-CE8E-47E5-864C-4F6B0DAA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9B8-4566-4859-8D3E-6BD6FA78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281B-C03C-4D18-B556-CAC8119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20E-25DA-4461-9878-11120FC2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36C-219D-43AA-AB72-7EDA9EC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CE5A-A59D-4CA2-A360-E5EB7E57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9BD-4A5D-49B0-AD06-4DF2EA4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8E9D-5DDB-42FA-BD60-B448C4F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437-C136-4917-8677-0292183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3B1-2FFA-4426-8D81-3BCC92DD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265B-5F1C-4516-9F8A-6115654F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47D-02C6-4B7D-9092-BA90B3F2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46F6-414E-4FDB-989D-66950615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91DB-7B9F-4969-BE55-6A905930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7997-72FA-4436-A3EB-084A9A3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7BD7-F3AD-4465-BC64-B2488032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35FC-BDD6-4EAC-811F-8D13A631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CB6-8AE2-4DB8-8F7F-655BDF5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5205-524C-4342-9C5D-B168EC5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249B-F627-4ED7-87C9-3F77E29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FAB4-3792-432A-BE21-E525B12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A94B-4A1E-48CB-8C8C-4438B8E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595B-9559-4854-AC9A-490A332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521A-3BA7-4696-AE1E-8D1425D4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576F-2725-4718-BF48-5337F06F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0CAC-0E62-4021-9D69-6F659C82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AC02-AE7F-4195-8651-E922CED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49F3-E272-4BD2-92E2-DF55B91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CF3-2590-4C0F-ABD6-F938DB2E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4CC8-C40A-4B42-938E-C12CF1A0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C8B6-1DBE-4E5E-B6DA-3579ED6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59F1A-F626-4700-8409-9D2B6873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DCD4-1AD2-4166-B7D0-662AFD9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6F8D-10BB-40A3-A7F8-246D05F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A3E0-F6E3-491B-B675-FD39E1C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96B87-98D1-4866-AC02-043DD965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E68B-1BE4-44D2-A7FC-78CECDE8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FE7B-3590-4429-B2A2-D6692D03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757B-1832-4B6A-9692-03E1AB41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9BE-B21B-4BF6-BE31-15BDCBF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615F-FAD0-4CF1-89B5-8E56AAF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70FC-3930-492C-858D-969722A7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3894-CB2B-45E0-AC1F-988CDE0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3ACE0-86A9-47D7-97CD-2B8CE3F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EB96-CC60-43A8-B949-6C5B36F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CACC1-083E-4CF9-8121-86787EE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C2718-B776-4490-B7C0-57653B7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E2E1-AB15-4709-843B-C8F668A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9491-16ED-4D8E-9793-9AD46035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3537-2225-4E38-92F0-A50F9F09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1FA-5D90-489F-840E-D63E52A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937F-1476-4F5B-B503-E8BC6834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5F5-05D8-4B78-9561-0255B95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E3A-4EC3-4B71-968F-4B2BEE1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E38-6A0C-4D77-B702-372E2348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44E8-3BB5-4B92-A5C2-06AE92CE9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BC63-A5A4-4F0D-AE06-40618F842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4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61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6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73DC-9F8A-4E85-BF74-AE8169E9DA9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3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8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ACC0-78E9-4DBD-9DFB-82CB7380A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37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38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5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56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60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64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68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649-A182-4486-92E2-1F44A8A7C74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ий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сознате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ы 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Черная З.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СОШ№17» г. Новомоск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зультат каждого поручения, выполненного ребёнком, должен быть оценён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ля этого в каждой семье выработалась своя система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профессор"/>
          <p:cNvPicPr/>
          <p:nvPr/>
        </p:nvPicPr>
        <p:blipFill>
          <a:blip r:embed="rId1"/>
          <a:stretch/>
        </p:blipFill>
        <p:spPr>
          <a:xfrm>
            <a:off x="6572160" y="3000240"/>
            <a:ext cx="1847880" cy="20196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55640" y="2924280"/>
            <a:ext cx="5832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ощрение –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оявление положительной оценки поведения ребёнк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казани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отрицательная оценка поведения ребёнка.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63520" y="390240"/>
            <a:ext cx="75232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Verdana"/>
              </a:rPr>
              <a:t>Поощрение  и  наказ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http://festival.1september.ru/articles/212479/img1.gif"/>
          <p:cNvPicPr/>
          <p:nvPr/>
        </p:nvPicPr>
        <p:blipFill>
          <a:blip r:embed="rId1"/>
          <a:stretch/>
        </p:blipFill>
        <p:spPr>
          <a:xfrm>
            <a:off x="1168560" y="1484280"/>
            <a:ext cx="2133360" cy="4297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2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360" y="2349360"/>
          <a:ext cx="41616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29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http://festival.1september.ru/articles/212479/img1.gif"/>
          <p:cNvPicPr/>
          <p:nvPr/>
        </p:nvPicPr>
        <p:blipFill>
          <a:blip r:embed="rId2"/>
          <a:stretch/>
        </p:blipFill>
        <p:spPr>
          <a:xfrm>
            <a:off x="1168560" y="1413000"/>
            <a:ext cx="3116160" cy="50403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1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2" descr="http://festival.1september.ru/articles/212479/img2.gif"/>
          <p:cNvPicPr/>
          <p:nvPr/>
        </p:nvPicPr>
        <p:blipFill>
          <a:blip r:embed="rId3"/>
          <a:stretch/>
        </p:blipFill>
        <p:spPr>
          <a:xfrm>
            <a:off x="4788000" y="1413000"/>
            <a:ext cx="374472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7975440" y="1498680"/>
          <a:ext cx="41616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48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885080" y="1989000"/>
          <a:ext cx="415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67"/>
          <p:cNvSpPr/>
          <p:nvPr/>
        </p:nvSpPr>
        <p:spPr>
          <a:xfrm>
            <a:off x="1168560" y="828720"/>
            <a:ext cx="26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9"/>
          <p:cNvSpPr/>
          <p:nvPr/>
        </p:nvSpPr>
        <p:spPr>
          <a:xfrm>
            <a:off x="1168560" y="828720"/>
            <a:ext cx="44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227640" y="1714680"/>
          <a:ext cx="1747800" cy="850680"/>
        </p:xfrm>
        <a:graphic>
          <a:graphicData uri="http://schemas.openxmlformats.org/drawingml/2006/table">
            <a:tbl>
              <a:tblPr/>
              <a:tblGrid>
                <a:gridCol w="1052640"/>
                <a:gridCol w="69516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9280" y="2349000"/>
            <a:ext cx="8507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ощрение:                               Наказани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дают сладкое – 5                * не дают сладкое –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разрешают смотреть         * не разрешают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телевизор, играть                  смотреть телевизор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на компьютере – 6                   играть на компьютере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хвалят, целуют – 2              * ругают –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покупают новые                    * ремень – 9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игрушки, вещи – 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*никак не хвалят – 4              * никак не наказывают - 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324000" y="404640"/>
            <a:ext cx="835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т, как ответили дети:</a:t>
            </a:r>
            <a:endParaRPr b="1" i="1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Определить необходимое наказание и его меру очень трудно. Оно должно соответствовать проступку.</a:t>
            </a:r>
            <a:br>
              <a:rPr sz="24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Verdana"/>
              </a:rPr>
              <a:t>Ребёнок очень чувствителен к справедливости наказани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526716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оварищи родители, помните следующе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Вы можете ошибатьс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Имейте мужество извиниться перед ребёнком, если наказали его незаслуженно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онтролируйте поведение ребёнка, старайтесь предупредить возможные отрицательные поступк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4" descr="24234"/>
          <p:cNvPicPr/>
          <p:nvPr/>
        </p:nvPicPr>
        <p:blipFill>
          <a:blip r:embed="rId1"/>
          <a:stretch/>
        </p:blipFill>
        <p:spPr>
          <a:xfrm>
            <a:off x="5651640" y="3357720"/>
            <a:ext cx="3035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анкеты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        прави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1055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ерж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а воспита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нут и прян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декс истинного родител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1285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воровал, они сами не должны создавать подобных ситуаций в своей сем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, чтобы он много читал и с удовольствием, они читают сами и с удовольствием, несмотря на недостаток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требуют от ребенка проявления трудолюбия, они сами его проявляю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, они начинают с себя и сами уважительно и бережно относятся к своим родител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ребенок не относился к школе и учению с предубеждением, они сами вспоминают о школьных днях с удовольствием и с самыми теплыми чув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сли родители хотят, чтобы их ребенок не пристрастился с раннего детства к спиртным напиткам, они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е должны создавать культ спиртных напит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Если родители требуют, чтобы ребенок не лгал, они сами не лгут нико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85440" y="1499760"/>
            <a:ext cx="75582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семья 004"/>
          <p:cNvPicPr/>
          <p:nvPr/>
        </p:nvPicPr>
        <p:blipFill>
          <a:blip r:embed="rId1"/>
          <a:stretch/>
        </p:blipFill>
        <p:spPr>
          <a:xfrm>
            <a:off x="142920" y="285840"/>
            <a:ext cx="3071880" cy="4214880"/>
          </a:xfrm>
          <a:prstGeom prst="rect">
            <a:avLst/>
          </a:prstGeom>
          <a:ln w="0">
            <a:noFill/>
          </a:ln>
        </p:spPr>
      </p:pic>
      <p:sp>
        <p:nvSpPr>
          <p:cNvPr id="423" name="WordArt 5"/>
          <p:cNvSpPr txBox="1"/>
          <p:nvPr/>
        </p:nvSpPr>
        <p:spPr>
          <a:xfrm>
            <a:off x="357120" y="3286080"/>
            <a:ext cx="860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астлив тот, 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</a:t>
            </a:r>
            <a:r>
              <a:rPr b="1" i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то  счастлив   дома.</a:t>
            </a:r>
            <a:endParaRPr b="1" i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4" name="Picture 6" descr="flowers30-web"/>
          <p:cNvPicPr/>
          <p:nvPr/>
        </p:nvPicPr>
        <p:blipFill>
          <a:blip r:embed="rId2"/>
          <a:stretch/>
        </p:blipFill>
        <p:spPr>
          <a:xfrm>
            <a:off x="7000920" y="500040"/>
            <a:ext cx="18208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250920" y="0"/>
            <a:ext cx="8893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оваре  русского языка  С.И. Ожегова записано, что «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 это обязательное для всех членов какого-нибудь коллектива подчинение установленному порядку, правилу…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ен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циплинированный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человек, подчиняющийся дисциплине, соблюдающий порядок, воспитанны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циплина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пределенный порядок поведения людей, отвечающий сложившимся в обществе нормам права и морали, а также требованиям той или иной организации…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из «Энциклопедического словаря»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профессор"/>
          <p:cNvPicPr/>
          <p:nvPr/>
        </p:nvPicPr>
        <p:blipFill>
          <a:blip r:embed="rId1"/>
          <a:stretch/>
        </p:blipFill>
        <p:spPr>
          <a:xfrm>
            <a:off x="7286760" y="2643120"/>
            <a:ext cx="1439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нению современных учёных:</a:t>
            </a:r>
            <a:br>
              <a:rPr sz="2800"/>
            </a:b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В области воспитания детей дисциплина – это тренировка ума и характера ребенка, чтобы он стал самостоятельным, умеющим владеть собой, достойным и конструктивным членом общества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8" name="Picture 7" descr="Рисунок30"/>
          <p:cNvPicPr/>
          <p:nvPr/>
        </p:nvPicPr>
        <p:blipFill>
          <a:blip r:embed="rId1"/>
          <a:stretch/>
        </p:blipFill>
        <p:spPr>
          <a:xfrm>
            <a:off x="4284720" y="3213000"/>
            <a:ext cx="3855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ребенка требует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ть прилежным и настойчивым в учен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добросовестным, верным сл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точным и аккуратным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уметь организовать своё время и дос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проявлять уважение к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заботиться о близких люд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* быть скромным и вежлив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екомендуемый специалистами перечень возрастных поручений, выполняемых детьми в семь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своей одеждой и обув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пос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своей комна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ход за комнатными раст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иготовление простой 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рогулка с домашними животны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уборка д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мощь в смене постельного бел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поход в магазин и покупка по списку проду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* обслуживание госте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ля того, чтобы разовое поручение вошло в привычку, доставляло ребёнку удовольствие, попробуйте: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составлять вместе с детьми список необходимых дел как помочь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аучить детей навыкам работы и выполнять её вместе с детьми до тех пор, пока они не научатся работать самостоятельно, дайте им понять, что в случае необходимости вы всегда будете рядом, отойдите в сторону и не вмешивайтесь, пока вас не попросят, если появятся проблемы, обсудите их, не спешите с критикой, особенно в тот момент, когда работа выполняет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обеспечьте детей инвентарём соответственно их возраст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установите время для совместной домашней работы, когда все члены семьи могут работать вместе, вместо того, чтобы вывешивать список дел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цените вклад, а не качество сделанной работы, если ребёнок потерял интерес к своей работе на её середине, похвалите его за выполненное, вместо того, чтобы требовать окончания начат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* не жалейте детей и не делайте за них их работу потому, что им много задали или они занимают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нятие дисциплины неразрывно связано с таким понятием, как любовь близких, так как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родители первыми знакомят своих детей с нормами и правилами поведения дома, на улице, в общественных мес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имея свой жизненный опыт, родители формируют в своих детях представления о том, что такое «хорошо» и что такое «плох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пример родителей (положительный или отрицательный) влияет на формирование жизненного опыта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* только эмоционально уравновешенные и любящие родители формируют у ребёнка доброе и заботливое отношение к люд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 ПСИХОЛОГ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йтесь к ребёнку с просьбой вежливо, исключайте  командный т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старайтесь вызвать  у ребёнка ответственное отношение к выполнению вашей прось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обращаясь с просьбой, давайте ребёнку инструкции её выпол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просите ребёнка выполнить то, что ему не  по силам, сначала научи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* не забывайте, пожалуйста, выразить родительскую признательность за выполненную просьб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41:13Z</dcterms:created>
  <dc:creator>Владос</dc:creator>
  <dc:description/>
  <dc:language>en-US</dc:language>
  <cp:lastModifiedBy>зоя</cp:lastModifiedBy>
  <dcterms:modified xsi:type="dcterms:W3CDTF">2013-02-05T12:58:50Z</dcterms:modified>
  <cp:revision>19</cp:revision>
  <dc:subject/>
  <dc:title>Слайд 1</dc:title>
</cp:coreProperties>
</file>