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D1D-3F87-4894-85E9-6CD7879C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BBA-8FC0-422F-9C65-C8A23BF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AAB-A187-48F3-AC3C-C515DDAE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F77-6478-4D2D-8CDD-E64DFD72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0E38-CF54-4FCB-BEC7-17DC7D93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3C0E-68A0-4144-B8E7-3C5414FC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0500-8DE6-4F8F-8D2B-2648F074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848C-B521-41F3-90C4-3B03A04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2390-D19E-40EE-89B8-D25E1BCB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2971-B7B7-4D1E-8179-50AE717B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61E3-9083-472E-807E-84D25F9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139-FD2E-41CA-85F7-A3CAC5AD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1CBB-F3E1-427D-A6C6-A3C4F66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BBAC-75CC-4DB6-B224-4FCEF0E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5896-4EDC-4CB5-B59C-E712EBE4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1793-CCF6-4D56-AEF5-6DD1BBB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E36D-1163-4F9B-B38F-B97EE76A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0383-01E6-437E-89B2-1CE6C1E0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AF33-E4AA-4C20-97C3-6C911B0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67B6-12E4-4AFD-B84F-C13DDFC8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C1DD-106C-46F0-AE57-631110CB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FA52-4391-44D6-BCC4-07F3021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69A-B2CA-4F09-AFE2-A999FE5A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D5BA-6959-464D-B69A-0EA73E6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FF00-A0B8-44FD-9A34-513FE451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D78D-8DA6-46B0-86C8-B9DB6CE3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B032-DDE9-43C1-B891-733C1A05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7463-072B-414A-B5C7-2EB7125C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5E387-1552-47B1-B0B2-1C65E5B9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96A5-01FB-443F-98FC-993C40DA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ED68-ABDE-4A12-8E8E-F7DD2A4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68F9-2C4B-4680-992E-648BD224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EEAC-26E5-4ED2-AFD9-E9283BD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2BF-54CE-4C4A-B1FC-C5661DE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8584C-08F2-4A01-8548-7AF69B77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DC15-56DF-4BFC-93AB-E48C7C98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7A53-40F3-42B6-B050-961F589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4B53-C6DE-43D3-A97C-10B65E7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4304-8147-403A-B9D8-C1E8621E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3E51B-7CFD-44FD-BA83-B64BA97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4A0B-1FDD-4122-B3CB-D52C263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7287-FA03-4B27-8130-4544B41B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9793-CD04-4769-8F8D-AAD474E5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0A1A8-9B3B-46FA-913E-37B1BA8C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CB6-8698-4509-B83E-57552F2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F5F2-FA5C-4A91-B44B-7E3400F7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F351-1722-45EB-97F2-71F102C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53E8-99E0-4BD7-873A-A0259BF8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F329-B3F8-444A-BE67-9FDCE54F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75CA-C503-4263-979E-F6DC2365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5881D-F7D3-4CAA-AEEB-2102ED0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CEA1D-F8EC-4867-B275-E52EA12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50B7-738E-4F5A-8F87-71DD6BF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8429-6B8E-4F3D-9937-46BF89C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CF17-9F4E-4CE6-968C-819595E2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EFA-0305-431F-95B9-DA3DB101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2C46-B4DD-481E-B75D-F722C25B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CAC-438B-4D7E-9D63-3EB37408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188-D01D-4E3A-B39E-CEFB43C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AD8-E85F-40B8-88F2-68A0F78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6191-D5F9-41A9-9D8C-1946BD1EE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5650-6F60-477F-8B45-556AAD5E4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4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5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61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6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6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7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CB51-A1FA-4FC4-A586-6C0AC92B225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3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3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8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9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5546-7D5D-4AB5-A124-674B00B2B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37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338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5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356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360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364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368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564-F32B-4F33-96BE-36DC3C25C3F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ий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сознатель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ы 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Черная З.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 СОШ№17» г. Новомоск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езультат каждого поручения, выполненного ребёнком, должен быть оценён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ля этого в каждой семье выработалась своя система поощрений и наказ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профессор"/>
          <p:cNvPicPr/>
          <p:nvPr/>
        </p:nvPicPr>
        <p:blipFill>
          <a:blip r:embed="rId1"/>
          <a:stretch/>
        </p:blipFill>
        <p:spPr>
          <a:xfrm>
            <a:off x="6572160" y="3000240"/>
            <a:ext cx="1847880" cy="20196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755640" y="2924280"/>
            <a:ext cx="5832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ощрение –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проявление положительной оценки поведения ребёнк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казание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отрицательная оценка поведения ребёнка.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63520" y="390240"/>
            <a:ext cx="75232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Verdana"/>
              </a:rPr>
              <a:t>Поощрение  и  наказ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" descr="http://festival.1september.ru/articles/212479/img1.gif"/>
          <p:cNvPicPr/>
          <p:nvPr/>
        </p:nvPicPr>
        <p:blipFill>
          <a:blip r:embed="rId1"/>
          <a:stretch/>
        </p:blipFill>
        <p:spPr>
          <a:xfrm>
            <a:off x="1168560" y="1484280"/>
            <a:ext cx="2133360" cy="4297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2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360" y="2349360"/>
          <a:ext cx="41616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29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1" descr="http://festival.1september.ru/articles/212479/img1.gif"/>
          <p:cNvPicPr/>
          <p:nvPr/>
        </p:nvPicPr>
        <p:blipFill>
          <a:blip r:embed="rId2"/>
          <a:stretch/>
        </p:blipFill>
        <p:spPr>
          <a:xfrm>
            <a:off x="1168560" y="1413000"/>
            <a:ext cx="3116160" cy="50403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1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2" descr="http://festival.1september.ru/articles/212479/img2.gif"/>
          <p:cNvPicPr/>
          <p:nvPr/>
        </p:nvPicPr>
        <p:blipFill>
          <a:blip r:embed="rId3"/>
          <a:stretch/>
        </p:blipFill>
        <p:spPr>
          <a:xfrm>
            <a:off x="4788000" y="1413000"/>
            <a:ext cx="374472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7975440" y="1498680"/>
          <a:ext cx="41616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Rectangle 48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885080" y="1989000"/>
          <a:ext cx="4158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Rectangle 67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9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6227640" y="1714680"/>
          <a:ext cx="1747800" cy="850680"/>
        </p:xfrm>
        <a:graphic>
          <a:graphicData uri="http://schemas.openxmlformats.org/drawingml/2006/table">
            <a:tbl>
              <a:tblPr/>
              <a:tblGrid>
                <a:gridCol w="1052640"/>
                <a:gridCol w="69516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9280" y="2349000"/>
            <a:ext cx="8507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ощрение:                               Наказани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дают сладкое – 5                * не дают сладкое –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разрешают смотреть         * не разрешают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телевизор, играть                  смотреть телевизор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на компьютере – 6                   играть на компьютере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хвалят, целуют – 2              * ругают – 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покупают новые                    * ремень – 9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игрушки, вещи – 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никак не хвалят – 4              * никак не наказывают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WordArt 4"/>
          <p:cNvSpPr txBox="1"/>
          <p:nvPr/>
        </p:nvSpPr>
        <p:spPr>
          <a:xfrm>
            <a:off x="324000" y="404640"/>
            <a:ext cx="8351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т, как ответили дети:</a:t>
            </a:r>
            <a:endParaRPr b="1" i="1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Определить необходимое наказание и его меру очень трудно. Оно должно соответствовать проступку.</a:t>
            </a:r>
            <a:br>
              <a:rPr sz="2400"/>
            </a:b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Verdana"/>
              </a:rPr>
              <a:t>Ребёнок очень чувствителен к справедливости наказания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526716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оварищи родители, помните следующе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Вы можете ошибатьс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Имейте мужество извиниться перед ребёнком, если наказали его незаслуженно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онтролируйте поведение ребёнка, старайтесь предупредить возможные отрицательные поступк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3" name="Picture 4" descr="24234"/>
          <p:cNvPicPr/>
          <p:nvPr/>
        </p:nvPicPr>
        <p:blipFill>
          <a:blip r:embed="rId1"/>
          <a:stretch/>
        </p:blipFill>
        <p:spPr>
          <a:xfrm>
            <a:off x="5651640" y="3357720"/>
            <a:ext cx="3035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анкеты для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        прави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1055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а воспита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нут и прян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декс истинного родител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1285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воровал, они сами не должны создавать подобных ситуаций в своей сем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, чтобы он много читал и с удовольствием, они читают сами и с удовольствием, несмотря на недостаток вре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 проявления трудолюбия, они сами его проявляю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бережно и уважительно относился к дедушкам и бабушкам, они начинают с себя и сами уважительно и бережно относятся к своим родител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страдал от одиночества, они дают ему возможность иметь друзей, приводить их в д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относился к школе и учению с предубеждением, они сами вспоминают о школьных днях с удовольствием и с самыми теплыми чувств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пристрастился с раннего детства к спиртным напиткам, они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е должны создавать культ спиртных напит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Если родители требуют, чтобы ребенок не лгал, они сами не лгут ником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585440" y="1499760"/>
            <a:ext cx="75582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семья 004"/>
          <p:cNvPicPr/>
          <p:nvPr/>
        </p:nvPicPr>
        <p:blipFill>
          <a:blip r:embed="rId1"/>
          <a:stretch/>
        </p:blipFill>
        <p:spPr>
          <a:xfrm>
            <a:off x="142920" y="285840"/>
            <a:ext cx="3071880" cy="4214880"/>
          </a:xfrm>
          <a:prstGeom prst="rect">
            <a:avLst/>
          </a:prstGeom>
          <a:ln w="0">
            <a:noFill/>
          </a:ln>
        </p:spPr>
      </p:pic>
      <p:sp>
        <p:nvSpPr>
          <p:cNvPr id="423" name="WordArt 5"/>
          <p:cNvSpPr txBox="1"/>
          <p:nvPr/>
        </p:nvSpPr>
        <p:spPr>
          <a:xfrm>
            <a:off x="357120" y="3286080"/>
            <a:ext cx="860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частлив тот, 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то  счастлив   дома.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4" name="Picture 6" descr="flowers30-web"/>
          <p:cNvPicPr/>
          <p:nvPr/>
        </p:nvPicPr>
        <p:blipFill>
          <a:blip r:embed="rId2"/>
          <a:stretch/>
        </p:blipFill>
        <p:spPr>
          <a:xfrm>
            <a:off x="7000920" y="500040"/>
            <a:ext cx="18208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7"/>
          <p:cNvSpPr/>
          <p:nvPr/>
        </p:nvSpPr>
        <p:spPr>
          <a:xfrm>
            <a:off x="250920" y="0"/>
            <a:ext cx="8893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оваре  русского языка  С.И. Ожегова записано, что «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 это обязательное для всех членов какого-нибудь коллектива подчинение установленному порядку, правилу…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енн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ированный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человек, подчиняющийся дисциплине, соблюдающий порядок, воспитанный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пределенный порядок поведения людей, отвечающий сложившимся в обществе нормам права и морали, а также требованиям той или иной организации…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из «Энциклопедического словаря»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профессор"/>
          <p:cNvPicPr/>
          <p:nvPr/>
        </p:nvPicPr>
        <p:blipFill>
          <a:blip r:embed="rId1"/>
          <a:stretch/>
        </p:blipFill>
        <p:spPr>
          <a:xfrm>
            <a:off x="7286760" y="2643120"/>
            <a:ext cx="1439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7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нению современных учёных:</a:t>
            </a:r>
            <a:br>
              <a:rPr sz="2800"/>
            </a:b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В области воспитания детей дисциплина – это тренировка ума и характера ребенка, чтобы он стал самостоятельным, умеющим владеть собой, достойным и конструктивным членом общества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8" name="Picture 7" descr="Рисунок30"/>
          <p:cNvPicPr/>
          <p:nvPr/>
        </p:nvPicPr>
        <p:blipFill>
          <a:blip r:embed="rId1"/>
          <a:stretch/>
        </p:blipFill>
        <p:spPr>
          <a:xfrm>
            <a:off x="4284720" y="3213000"/>
            <a:ext cx="3855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ребенка требуетс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ть прилежным и настойчивым в учен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добросовестным, верным сло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точным и аккуратным в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уметь организовать своё время и досу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проявлять уважение к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заботиться о близких люд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скромным и вежлив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Рекомендуемый специалистами перечень возрастных поручений, выполняемых детьми в семь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своей одеждой и обув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пос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комна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комнатными растен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иготовление простой 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огулка с домашними животны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д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мощь в смене постельного бель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ход в магазин и покупка по списку проду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обслуживание гостей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Для того, чтобы разовое поручение вошло в привычку, доставляло ребёнку удовольствие, попробуйте: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составлять вместе с детьми список необходимых дел как помочь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аучить детей навыкам работы и выполнять её вместе с детьми до тех пор, пока они не научатся работать самостоятельно, дайте им понять, что в случае необходимости вы всегда будете рядом, отойдите в сторону и не вмешивайтесь, пока вас не попросят, если появятся проблемы, обсудите их, не спешите с критикой, особенно в тот момент, когда работа выполняет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обеспечьте детей инвентарём соответственно их возраст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установите время для совместной домашней работы, когда все члены семьи могут работать вместе, вместо того, чтобы вывешивать список дел дл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цените вклад, а не качество сделанной работы, если ребёнок потерял интерес к своей работе на её середине, похвалите его за выполненное, вместо того, чтобы требовать окончания начатой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е жалейте детей и не делайте за них их работу потому, что им много задали или они занимаются спо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онятие дисциплины неразрывно связано с таким понятием, как любовь близких, так как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родители первыми знакомят своих детей с нормами и правилами поведения дома, на улице, в общественных мес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имея свой жизненный опыт, родители формируют в своих детях представления о том, что такое «хорошо» и что такое «плох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пример родителей (положительный или отрицательный) влияет на формирование жизненного опыта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только эмоционально уравновешенные и любящие родители формируют у ребёнка доброе и заботливое отношение к люд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ВЕТЫ  ПСИХОЛОГ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йтесь к ребёнку с просьбой вежливо, исключайте  командный т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старайтесь вызвать  у ребёнка ответственное отношение к выполнению вашей прось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ясь с просьбой, давайте ребёнку инструкции её выпол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просите ребёнка выполнить то, что ему не  по силам, сначала научи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забывайте, пожалуйста, выразить родительскую признательность за выполненную просьб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41:13Z</dcterms:created>
  <dc:creator>Владос</dc:creator>
  <dc:description/>
  <dc:language>en-US</dc:language>
  <cp:lastModifiedBy>зоя</cp:lastModifiedBy>
  <dcterms:modified xsi:type="dcterms:W3CDTF">2013-02-05T12:58:50Z</dcterms:modified>
  <cp:revision>19</cp:revision>
  <dc:subject/>
  <dc:title>Слайд 1</dc:title>
</cp:coreProperties>
</file>