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0B90-0848-4055-8FE1-5A1543FA3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E0B6-83F1-485E-8742-E66266E67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7001-C02E-41EA-8488-782764967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4DE8-0539-4245-8F73-07D99656B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58A86-09B5-4780-991B-E44E51B3D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AABBC-9470-495F-B692-82B583753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11B2C-B709-476B-82DD-5B3D685F6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1A59D-2A32-4EE8-A847-B17AA7780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FEA36-2096-4C3F-9293-FE221325B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6545E-A78D-46D0-A795-C38DC680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A22BF-DAD3-4E89-8D09-ABA46C95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E557-62EE-4B61-9AFC-AA4ECBCE9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AECC2-5D87-4F2B-B1CE-ED69A04A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3F37F-7C5A-4923-8C08-F2336068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F8195-223A-4CE7-96A9-EF317A158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72E75-56B0-4527-B8BE-B860F71EF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CDC10-2C61-4994-9B9D-24A64BD1F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B041E-1DE3-4E71-BC91-8855B59D1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59888-9925-48C9-AC75-3D553CEF5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99F17-B28C-4B63-9580-1DE2D932F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F5714-48CF-4F38-90D7-23B074EA6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1B333-F502-4B56-82B7-C14917C03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A9F5-6E0E-4BD6-ABE3-5A7E575F6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C090C-D1DF-4F60-8A75-BC11F54EB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850AD-DB2B-4DEC-A21B-107F9096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61A9A-7D00-4036-B454-9D887430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B9532-78AE-4510-B238-6051CE05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401E2-0954-4DDF-A8D9-46DE2EBF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9AC4D-BA2C-4A62-8805-02314EC4D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EDB64-1E31-416F-9736-A7E77E843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46723-309E-4C60-AD8E-19D09DC87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3F6BE-4A0D-45B8-ACF3-513930E6E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0F3C8-C10F-4728-9D70-F618955A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C1CF-8EB4-47B9-91A4-5D256A03C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84417-86B4-414D-9EC9-8A230275C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C56DC-32B3-4788-9C3A-810CBC813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7785E-ABC4-4E63-A03F-B6429CC04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0D17E-1565-4AF9-93F8-C27F92FE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A423F-B49A-43D0-8E78-35C83FF1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A6DFC-C6F0-4112-8C68-F1B6EAB1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34CB8-BA90-4ED7-BE1E-24E63CFB6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6ACA3-0A9D-4A4A-A51D-E59CFD22C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678BD-F07C-4C5F-8D2A-E2AF4D981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B274F-1E2B-4EE0-A1CC-3508F57A4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F22E-F3AB-4EE1-8838-C0314D1F4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3F135-7A0A-4411-ABC3-255DF640F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CE2D5-F5A9-4AC8-A3B8-80E10D7EF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66A16-3251-49A8-B95B-2A92A0A88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CF2F4-7210-44C8-81FB-874F80B55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2B9C3-F4BD-4EEE-8DE8-27DF99961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8E9A1-227A-4FCB-82BE-244FDC4E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4099B-9B6B-43BC-8909-2873F58F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FF127E-E094-4506-8817-7E018B5D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C5896-B6A7-429B-8B69-D9243215B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39FE0-E3E6-469F-9984-BF7833FAC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D6B3-E7CC-4BE4-A670-80C8FF870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DB895-3944-44B6-9B54-6F40391FA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D6EB-9D13-4CDE-AE77-0D9EC6BB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BBA3-8BC9-4A4D-A4CC-AD88D688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C9BE-EE60-4C45-91A2-64669C53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D937C-7ADD-43BD-AF6A-965737D90B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3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B53BC-5D60-4A13-823A-A0D4ACDCAE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48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50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9"/>
            <p:cNvGrpSpPr/>
            <p:nvPr/>
          </p:nvGrpSpPr>
          <p:grpSpPr>
            <a:xfrm>
              <a:off x="-1080" y="2601000"/>
              <a:ext cx="2687400" cy="3118320"/>
              <a:chOff x="-1080" y="2601000"/>
              <a:chExt cx="2687400" cy="3118320"/>
            </a:xfrm>
          </p:grpSpPr>
          <p:sp>
            <p:nvSpPr>
              <p:cNvPr id="155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" name="Group 15"/>
              <p:cNvGrpSpPr/>
              <p:nvPr/>
            </p:nvGrpSpPr>
            <p:grpSpPr>
              <a:xfrm>
                <a:off x="852480" y="4053600"/>
                <a:ext cx="1833840" cy="1665720"/>
                <a:chOff x="852480" y="4053600"/>
                <a:chExt cx="1833840" cy="1665720"/>
              </a:xfrm>
            </p:grpSpPr>
            <p:sp>
              <p:nvSpPr>
                <p:cNvPr id="161" name="Freeform 16"/>
                <p:cNvSpPr/>
                <p:nvPr/>
              </p:nvSpPr>
              <p:spPr>
                <a:xfrm flipH="1" rot="7102800">
                  <a:off x="1268280" y="3940560"/>
                  <a:ext cx="477360" cy="12312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17"/>
                <p:cNvSpPr/>
                <p:nvPr/>
              </p:nvSpPr>
              <p:spPr>
                <a:xfrm flipH="1" rot="7102800">
                  <a:off x="2347560" y="4979160"/>
                  <a:ext cx="110520" cy="5050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Freeform 18"/>
                <p:cNvSpPr/>
                <p:nvPr/>
              </p:nvSpPr>
              <p:spPr>
                <a:xfrm flipH="1" rot="7102800">
                  <a:off x="2500200" y="5567760"/>
                  <a:ext cx="200880" cy="853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4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65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69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73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3E609-5753-4BD9-994E-1536D7DBC659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32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34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46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65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83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0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91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5E59D-27F9-4547-B70F-A6764C785D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337" name="Group 3"/>
            <p:cNvGrpSpPr/>
            <p:nvPr/>
          </p:nvGrpSpPr>
          <p:grpSpPr>
            <a:xfrm>
              <a:off x="5404680" y="58680"/>
              <a:ext cx="3626280" cy="6136920"/>
              <a:chOff x="5404680" y="58680"/>
              <a:chExt cx="3626280" cy="6136920"/>
            </a:xfrm>
          </p:grpSpPr>
          <p:sp>
            <p:nvSpPr>
              <p:cNvPr id="338" name="Freeform 4"/>
              <p:cNvSpPr/>
              <p:nvPr/>
            </p:nvSpPr>
            <p:spPr>
              <a:xfrm flipV="1" rot="11970000">
                <a:off x="6582600" y="344160"/>
                <a:ext cx="211536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5"/>
              <p:cNvSpPr/>
              <p:nvPr/>
            </p:nvSpPr>
            <p:spPr>
              <a:xfrm flipV="1" rot="11970000">
                <a:off x="7421400" y="1957680"/>
                <a:ext cx="906120" cy="8427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6"/>
              <p:cNvSpPr/>
              <p:nvPr/>
            </p:nvSpPr>
            <p:spPr>
              <a:xfrm flipV="1" rot="11970000">
                <a:off x="6823440" y="258912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7"/>
              <p:cNvSpPr/>
              <p:nvPr/>
            </p:nvSpPr>
            <p:spPr>
              <a:xfrm flipV="1" rot="11970000">
                <a:off x="7250040" y="67068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8"/>
              <p:cNvSpPr/>
              <p:nvPr/>
            </p:nvSpPr>
            <p:spPr>
              <a:xfrm flipV="1" rot="11970000">
                <a:off x="7149600" y="2648160"/>
                <a:ext cx="16344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9"/>
              <p:cNvSpPr/>
              <p:nvPr/>
            </p:nvSpPr>
            <p:spPr>
              <a:xfrm flipV="1" rot="11970000">
                <a:off x="7134840" y="124200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10"/>
              <p:cNvSpPr/>
              <p:nvPr/>
            </p:nvSpPr>
            <p:spPr>
              <a:xfrm flipV="1" rot="11970000">
                <a:off x="5935320" y="293364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5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1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352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" name="Group 21"/>
            <p:cNvGrpSpPr/>
            <p:nvPr/>
          </p:nvGrpSpPr>
          <p:grpSpPr>
            <a:xfrm>
              <a:off x="5646240" y="285480"/>
              <a:ext cx="892440" cy="825840"/>
              <a:chOff x="5646240" y="285480"/>
              <a:chExt cx="892440" cy="825840"/>
            </a:xfrm>
          </p:grpSpPr>
          <p:sp>
            <p:nvSpPr>
              <p:cNvPr id="356" name="Freeform 22"/>
              <p:cNvSpPr/>
              <p:nvPr/>
            </p:nvSpPr>
            <p:spPr>
              <a:xfrm rot="14908200">
                <a:off x="5757840" y="780840"/>
                <a:ext cx="17856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23"/>
              <p:cNvSpPr/>
              <p:nvPr/>
            </p:nvSpPr>
            <p:spPr>
              <a:xfrm rot="14908200">
                <a:off x="5706360" y="460440"/>
                <a:ext cx="30600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24"/>
              <p:cNvSpPr/>
              <p:nvPr/>
            </p:nvSpPr>
            <p:spPr>
              <a:xfrm rot="14908200">
                <a:off x="6248880" y="385920"/>
                <a:ext cx="32004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9" name="Group 25"/>
            <p:cNvGrpSpPr/>
            <p:nvPr/>
          </p:nvGrpSpPr>
          <p:grpSpPr>
            <a:xfrm>
              <a:off x="968760" y="5255280"/>
              <a:ext cx="1059120" cy="830880"/>
              <a:chOff x="968760" y="5255280"/>
              <a:chExt cx="1059120" cy="830880"/>
            </a:xfrm>
          </p:grpSpPr>
          <p:sp>
            <p:nvSpPr>
              <p:cNvPr id="360" name="Freeform 26"/>
              <p:cNvSpPr/>
              <p:nvPr/>
            </p:nvSpPr>
            <p:spPr>
              <a:xfrm rot="8524800">
                <a:off x="1711080" y="5520240"/>
                <a:ext cx="25092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27"/>
              <p:cNvSpPr/>
              <p:nvPr/>
            </p:nvSpPr>
            <p:spPr>
              <a:xfrm rot="8524800">
                <a:off x="1194120" y="5731560"/>
                <a:ext cx="42948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28"/>
              <p:cNvSpPr/>
              <p:nvPr/>
            </p:nvSpPr>
            <p:spPr>
              <a:xfrm rot="8524800">
                <a:off x="960120" y="537984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Group 29"/>
            <p:cNvGrpSpPr/>
            <p:nvPr/>
          </p:nvGrpSpPr>
          <p:grpSpPr>
            <a:xfrm>
              <a:off x="375840" y="435240"/>
              <a:ext cx="1690200" cy="1146600"/>
              <a:chOff x="375840" y="435240"/>
              <a:chExt cx="1690200" cy="1146600"/>
            </a:xfrm>
          </p:grpSpPr>
          <p:sp>
            <p:nvSpPr>
              <p:cNvPr id="364" name="Freeform 30"/>
              <p:cNvSpPr/>
              <p:nvPr/>
            </p:nvSpPr>
            <p:spPr>
              <a:xfrm flipH="1" rot="4107000">
                <a:off x="1576080" y="105372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31"/>
              <p:cNvSpPr/>
              <p:nvPr/>
            </p:nvSpPr>
            <p:spPr>
              <a:xfrm flipH="1" rot="4107000">
                <a:off x="1022760" y="57888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32"/>
              <p:cNvSpPr/>
              <p:nvPr/>
            </p:nvSpPr>
            <p:spPr>
              <a:xfrm flipH="1" rot="4107000">
                <a:off x="278640" y="109260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Group 33"/>
            <p:cNvGrpSpPr/>
            <p:nvPr/>
          </p:nvGrpSpPr>
          <p:grpSpPr>
            <a:xfrm>
              <a:off x="7393680" y="3712320"/>
              <a:ext cx="1155600" cy="1607760"/>
              <a:chOff x="7393680" y="3712320"/>
              <a:chExt cx="1155600" cy="1607760"/>
            </a:xfrm>
          </p:grpSpPr>
          <p:sp>
            <p:nvSpPr>
              <p:cNvPr id="368" name="Freeform 34"/>
              <p:cNvSpPr/>
              <p:nvPr/>
            </p:nvSpPr>
            <p:spPr>
              <a:xfrm flipH="1" rot="10015800">
                <a:off x="744840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35"/>
              <p:cNvSpPr/>
              <p:nvPr/>
            </p:nvSpPr>
            <p:spPr>
              <a:xfrm flipH="1" rot="10015800">
                <a:off x="789912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36"/>
              <p:cNvSpPr/>
              <p:nvPr/>
            </p:nvSpPr>
            <p:spPr>
              <a:xfrm flipH="1" rot="10015800">
                <a:off x="759168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C316C-3837-41FB-BE48-808F1193CBDE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кторий для родител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итание сознательной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сциплины у ребе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 Черная З. 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БОУ « СОШ№17» г. Новомосков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Результат каждого поручения, выполненного ребёнком, должен быть оценён.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4373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Для этого в каждой семье выработалась своя система поощрений и наказа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1" name="Picture 4" descr="профессор"/>
          <p:cNvPicPr/>
          <p:nvPr/>
        </p:nvPicPr>
        <p:blipFill>
          <a:blip r:embed="rId1"/>
          <a:stretch/>
        </p:blipFill>
        <p:spPr>
          <a:xfrm>
            <a:off x="6572160" y="3000240"/>
            <a:ext cx="1847880" cy="2019600"/>
          </a:xfrm>
          <a:prstGeom prst="rect">
            <a:avLst/>
          </a:prstGeom>
          <a:ln w="0">
            <a:noFill/>
          </a:ln>
        </p:spPr>
      </p:pic>
      <p:sp>
        <p:nvSpPr>
          <p:cNvPr id="442" name="Text Box 6"/>
          <p:cNvSpPr/>
          <p:nvPr/>
        </p:nvSpPr>
        <p:spPr>
          <a:xfrm>
            <a:off x="755640" y="2924280"/>
            <a:ext cx="583236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Поощрение –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это проявление положительной оценки поведения ребёнка.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Наказание –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это отрицательная оценка поведения ребёнка.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163520" y="390240"/>
            <a:ext cx="7523280" cy="73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00"/>
                </a:solidFill>
                <a:uFillTx/>
                <a:latin typeface="Verdana"/>
              </a:rPr>
              <a:t>Поощрение  и  наказани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4" name="Rectangle 10"/>
          <p:cNvSpPr/>
          <p:nvPr/>
        </p:nvSpPr>
        <p:spPr>
          <a:xfrm>
            <a:off x="1168560" y="828720"/>
            <a:ext cx="2692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Рисунок 1" descr="http://festival.1september.ru/articles/212479/img1.gif"/>
          <p:cNvPicPr/>
          <p:nvPr/>
        </p:nvPicPr>
        <p:blipFill>
          <a:blip r:embed="rId1"/>
          <a:stretch/>
        </p:blipFill>
        <p:spPr>
          <a:xfrm>
            <a:off x="1168560" y="1484280"/>
            <a:ext cx="2133360" cy="429732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12"/>
          <p:cNvSpPr/>
          <p:nvPr/>
        </p:nvSpPr>
        <p:spPr>
          <a:xfrm>
            <a:off x="1168560" y="828720"/>
            <a:ext cx="4471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3492360" y="2349360"/>
          <a:ext cx="416160" cy="5176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8" name="Rectangle 29"/>
          <p:cNvSpPr/>
          <p:nvPr/>
        </p:nvSpPr>
        <p:spPr>
          <a:xfrm>
            <a:off x="1168560" y="828720"/>
            <a:ext cx="2692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Рисунок 1" descr="http://festival.1september.ru/articles/212479/img1.gif"/>
          <p:cNvPicPr/>
          <p:nvPr/>
        </p:nvPicPr>
        <p:blipFill>
          <a:blip r:embed="rId2"/>
          <a:stretch/>
        </p:blipFill>
        <p:spPr>
          <a:xfrm>
            <a:off x="1168560" y="1413000"/>
            <a:ext cx="3116160" cy="504036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31"/>
          <p:cNvSpPr/>
          <p:nvPr/>
        </p:nvSpPr>
        <p:spPr>
          <a:xfrm>
            <a:off x="1168560" y="828720"/>
            <a:ext cx="4471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Рисунок 2" descr="http://festival.1september.ru/articles/212479/img2.gif"/>
          <p:cNvPicPr/>
          <p:nvPr/>
        </p:nvPicPr>
        <p:blipFill>
          <a:blip r:embed="rId3"/>
          <a:stretch/>
        </p:blipFill>
        <p:spPr>
          <a:xfrm>
            <a:off x="4788000" y="1413000"/>
            <a:ext cx="3744720" cy="504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2" name=""/>
          <p:cNvGraphicFramePr/>
          <p:nvPr/>
        </p:nvGraphicFramePr>
        <p:xfrm>
          <a:off x="7975440" y="1498680"/>
          <a:ext cx="416160" cy="51732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3" name="Rectangle 48"/>
          <p:cNvSpPr/>
          <p:nvPr/>
        </p:nvSpPr>
        <p:spPr>
          <a:xfrm>
            <a:off x="1168560" y="828720"/>
            <a:ext cx="2692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50"/>
          <p:cNvSpPr/>
          <p:nvPr/>
        </p:nvSpPr>
        <p:spPr>
          <a:xfrm>
            <a:off x="1168560" y="828720"/>
            <a:ext cx="4471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885080" y="1989000"/>
          <a:ext cx="415800" cy="5176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Rectangle 67"/>
          <p:cNvSpPr/>
          <p:nvPr/>
        </p:nvSpPr>
        <p:spPr>
          <a:xfrm>
            <a:off x="1168560" y="828720"/>
            <a:ext cx="2692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69"/>
          <p:cNvSpPr/>
          <p:nvPr/>
        </p:nvSpPr>
        <p:spPr>
          <a:xfrm>
            <a:off x="1168560" y="828720"/>
            <a:ext cx="4471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6227640" y="1714680"/>
          <a:ext cx="1747800" cy="850680"/>
        </p:xfrm>
        <a:graphic>
          <a:graphicData uri="http://schemas.openxmlformats.org/drawingml/2006/table">
            <a:tbl>
              <a:tblPr/>
              <a:tblGrid>
                <a:gridCol w="1052640"/>
                <a:gridCol w="695160"/>
              </a:tblGrid>
              <a:tr h="85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179280" y="2349000"/>
            <a:ext cx="8507520" cy="37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1" i="1" lang="ru-RU" sz="2000" spc="-1" strike="noStrike">
                <a:solidFill>
                  <a:srgbClr val="ff0000"/>
                </a:solidFill>
                <a:latin typeface="Verdana"/>
              </a:rPr>
              <a:t>Поощрение:                               Наказание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00"/>
                </a:solidFill>
                <a:latin typeface="Verdana"/>
              </a:rPr>
              <a:t>*дают сладкое – 5                * не дают сладкое – 1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00"/>
                </a:solidFill>
                <a:latin typeface="Verdana"/>
              </a:rPr>
              <a:t>*разрешают смотреть         * не разрешают       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009900"/>
                </a:solidFill>
                <a:latin typeface="Verdana"/>
              </a:rPr>
              <a:t>телевизор, играть                  смотреть телевизор,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00"/>
                </a:solidFill>
                <a:latin typeface="Verdana"/>
              </a:rPr>
              <a:t>на компьютере – 6                   играть на компьютере - 4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00"/>
                </a:solidFill>
                <a:latin typeface="Verdana"/>
              </a:rPr>
              <a:t>*хвалят, целуют – 2              * ругают – 9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00"/>
                </a:solidFill>
                <a:latin typeface="Verdana"/>
              </a:rPr>
              <a:t>*покупают новые                    * ремень – 9           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00"/>
                </a:solidFill>
                <a:latin typeface="Verdana"/>
              </a:rPr>
              <a:t>  </a:t>
            </a:r>
            <a:r>
              <a:rPr b="1" i="1" lang="ru-RU" sz="2000" spc="-1" strike="noStrike">
                <a:solidFill>
                  <a:srgbClr val="009900"/>
                </a:solidFill>
                <a:latin typeface="Verdana"/>
              </a:rPr>
              <a:t>игрушки, вещи – 5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00"/>
                </a:solidFill>
                <a:latin typeface="Verdana"/>
              </a:rPr>
              <a:t>*никак не хвалят – 4              * никак не наказывают - 4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0" name="WordArt 4"/>
          <p:cNvSpPr txBox="1"/>
          <p:nvPr/>
        </p:nvSpPr>
        <p:spPr>
          <a:xfrm>
            <a:off x="324000" y="404640"/>
            <a:ext cx="835164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т, как ответили дети:</a:t>
            </a:r>
            <a:endParaRPr b="1" i="1" lang="en-US" sz="4000" spc="1" strike="noStrike">
              <a:ln w="9360">
                <a:solidFill>
                  <a:srgbClr val="00ffff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Verdana"/>
              </a:rPr>
              <a:t>Определить необходимое наказание и его меру очень трудно. Оно должно соответствовать проступку.</a:t>
            </a:r>
            <a:br>
              <a:rPr sz="2400"/>
            </a:br>
            <a:r>
              <a:rPr b="1" i="1" lang="ru-RU" sz="2400" spc="-1" strike="noStrike" u="sng">
                <a:solidFill>
                  <a:srgbClr val="ff0066"/>
                </a:solidFill>
                <a:uFillTx/>
                <a:latin typeface="Verdana"/>
              </a:rPr>
              <a:t>Ребёнок очень чувствителен к справедливости наказания.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6840" y="2565000"/>
            <a:ext cx="5267160" cy="34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Товарищи родители, помните следующее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99"/>
                </a:solidFill>
                <a:latin typeface="Verdana"/>
              </a:rPr>
              <a:t>Вы можете ошибаться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99"/>
                </a:solidFill>
                <a:latin typeface="Verdana"/>
              </a:rPr>
              <a:t>Имейте мужество извиниться перед ребёнком, если наказали его незаслуженно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99"/>
                </a:solidFill>
                <a:latin typeface="Verdana"/>
              </a:rPr>
              <a:t>Контролируйте поведение ребёнка, старайтесь предупредить возможные отрицательные поступки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63" name="Picture 4" descr="24234"/>
          <p:cNvPicPr/>
          <p:nvPr/>
        </p:nvPicPr>
        <p:blipFill>
          <a:blip r:embed="rId1"/>
          <a:stretch/>
        </p:blipFill>
        <p:spPr>
          <a:xfrm>
            <a:off x="5651640" y="3357720"/>
            <a:ext cx="303516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езультаты анкеты для родителе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держиваются        правильны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нцип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спит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51055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держивают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тода воспитания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кнут и пряник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одекс истинного родителя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0" y="128592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Если родители хотят, чтобы ребенок не воровал, они сами не должны создавать подобных ситуаций в своей семь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Если родители требуют от ребенка, чтобы он много читал и с удовольствием, они читают сами и с удовольствием, несмотря на недостаток времен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Если родители требуют от ребенка проявления трудолюбия, они сами его проявляют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Если родители хотят, чтобы их ребенок бережно и уважительно относился к дедушкам и бабушкам, они начинают с себя и сами уважительно и бережно относятся к своим родителя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Если родители хотят, чтобы их ребенок не страдал от одиночества, они дают ему возможность иметь друзей, приводить их в до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Если родители хотят, чтобы ребенок не относился к школе и учению с предубеждением, они сами вспоминают о школьных днях с удовольствием и с самыми теплыми чувствам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Если родители хотят, чтобы их ребенок не пристрастился с раннего детства к спиртным напиткам, они 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не должны создавать культ спиртных напитко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Если родители требуют, чтобы ребенок не лгал, они сами не лгут ником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1585440" y="1499760"/>
            <a:ext cx="75582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Arial"/>
              </a:rPr>
              <a:t>Спасибо за внимание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>
            <a:alpha val="6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4" descr="семья 004"/>
          <p:cNvPicPr/>
          <p:nvPr/>
        </p:nvPicPr>
        <p:blipFill>
          <a:blip r:embed="rId1"/>
          <a:stretch/>
        </p:blipFill>
        <p:spPr>
          <a:xfrm>
            <a:off x="142920" y="285840"/>
            <a:ext cx="3071880" cy="4214880"/>
          </a:xfrm>
          <a:prstGeom prst="rect">
            <a:avLst/>
          </a:prstGeom>
          <a:ln w="0">
            <a:noFill/>
          </a:ln>
        </p:spPr>
      </p:pic>
      <p:sp>
        <p:nvSpPr>
          <p:cNvPr id="423" name="WordArt 5"/>
          <p:cNvSpPr txBox="1"/>
          <p:nvPr/>
        </p:nvSpPr>
        <p:spPr>
          <a:xfrm>
            <a:off x="357120" y="3286080"/>
            <a:ext cx="8607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                         </a:t>
            </a:r>
            <a:r>
              <a:rPr b="1" i="1" lang="en-US" sz="4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частлив тот, </a:t>
            </a:r>
            <a:endParaRPr b="1" i="1" lang="en-US" sz="40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                        </a:t>
            </a:r>
            <a:r>
              <a:rPr b="1" i="1" lang="en-US" sz="4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то  счастлив   дома.</a:t>
            </a:r>
            <a:endParaRPr b="1" i="1" lang="en-US" sz="40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4" name="Picture 6" descr="flowers30-web"/>
          <p:cNvPicPr/>
          <p:nvPr/>
        </p:nvPicPr>
        <p:blipFill>
          <a:blip r:embed="rId2"/>
          <a:stretch/>
        </p:blipFill>
        <p:spPr>
          <a:xfrm>
            <a:off x="7000920" y="500040"/>
            <a:ext cx="182088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7"/>
          <p:cNvSpPr/>
          <p:nvPr/>
        </p:nvSpPr>
        <p:spPr>
          <a:xfrm>
            <a:off x="250920" y="0"/>
            <a:ext cx="8893080" cy="64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словаре  русского языка  С.И. Ожегова записано, что «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исциплина – это обязательное для всех членов какого-нибудь коллектива подчинение установленному порядку, правилу…»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ответственно,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исциплинированный –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это человек, подчиняющийся дисциплине, соблюдающий порядок, воспитанный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исциплина –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определенный порядок поведения людей, отвечающий сложившимся в обществе нормам права и морали, а также требованиям той или иной организации…»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 из «Энциклопедического словаря»)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4" descr="профессор"/>
          <p:cNvPicPr/>
          <p:nvPr/>
        </p:nvPicPr>
        <p:blipFill>
          <a:blip r:embed="rId1"/>
          <a:stretch/>
        </p:blipFill>
        <p:spPr>
          <a:xfrm>
            <a:off x="7286760" y="2643120"/>
            <a:ext cx="143964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24000" y="277920"/>
            <a:ext cx="8362800" cy="2719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о мнению современных учёных:</a:t>
            </a:r>
            <a:br>
              <a:rPr sz="2800"/>
            </a:b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«В области воспитания детей дисциплина – это тренировка ума и характера ребенка, чтобы он стал самостоятельным, умеющим владеть собой, достойным и конструктивным членом общества»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28" name="Picture 7" descr="Рисунок30"/>
          <p:cNvPicPr/>
          <p:nvPr/>
        </p:nvPicPr>
        <p:blipFill>
          <a:blip r:embed="rId1"/>
          <a:stretch/>
        </p:blipFill>
        <p:spPr>
          <a:xfrm>
            <a:off x="4284720" y="3213000"/>
            <a:ext cx="385596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От ребенка требуется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быть прилежным и настойчивым в учень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* быть добросовестным, верным слов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* быть точным и аккуратным в работ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* уметь организовать своё время и досуг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*проявлять уважение к старши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* заботиться о близких людя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* быть скромным и вежливы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Рекомендуемый специалистами перечень возрастных поручений, выполняемых детьми в семье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* уход за своей одеждой и обувью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* уборка своей постел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* уборка своей комнат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* уход за комнатными растениям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* приготовление простой ед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* прогулка с домашними животным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* уборка двор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* помощь в смене постельного бель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* поход в магазин и покупка по списку продукт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* обслуживание гостей и д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Для того, чтобы разовое поручение вошло в привычку, доставляло ребёнку удовольствие, попробуйте: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* составлять вместе с детьми список необходимых дел как помочь семь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* научить детей навыкам работы и выполнять её вместе с детьми до тех пор, пока они не научатся работать самостоятельно, дайте им понять, что в случае необходимости вы всегда будете рядом, отойдите в сторону и не вмешивайтесь, пока вас не попросят, если появятся проблемы, обсудите их, не спешите с критикой, особенно в тот момент, когда работа выполняетс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* обеспечьте детей инвентарём соответственно их возрасту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* установите время для совместной домашней работы, когда все члены семьи могут работать вместе, вместо того, чтобы вывешивать список дел для дете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*цените вклад, а не качество сделанной работы, если ребёнок потерял интерес к своей работе на её середине, похвалите его за выполненное, вместо того, чтобы требовать окончания начатой работ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* не жалейте детей и не делайте за них их работу потому, что им много задали или они занимаются спорто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00"/>
                </a:solidFill>
                <a:uFillTx/>
                <a:latin typeface="Arial"/>
              </a:rPr>
              <a:t>Понятие дисциплины неразрывно связано с таким понятием, как любовь близких, так как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* родители первыми знакомят своих детей с нормами и правилами поведения дома, на улице, в общественных местах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* имея свой жизненный опыт, родители формируют в своих детях представления о том, что такое «хорошо» и что такое «плохо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* пример родителей (положительный или отрицательный) влияет на формирование жизненного опыта дете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* только эмоционально уравновешенные и любящие родители формируют у ребёнка доброе и заботливое отношение к людя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СОВЕТЫ  ПСИХОЛОГА: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* обращайтесь к ребёнку с просьбой вежливо, исключайте  командный тон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* старайтесь вызвать  у ребёнка ответственное отношение к выполнению вашей просьб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* обращаясь с просьбой, давайте ребёнку инструкции её выполн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* не просите ребёнка выполнить то, что ему не  по силам, сначала научит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* не забывайте, пожалуйста, выразить родительскую признательность за выполненную просьбу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6T09:41:13Z</dcterms:created>
  <dc:creator>Владос</dc:creator>
  <dc:description/>
  <dc:language>en-US</dc:language>
  <cp:lastModifiedBy>зоя</cp:lastModifiedBy>
  <dcterms:modified xsi:type="dcterms:W3CDTF">2013-02-05T12:58:50Z</dcterms:modified>
  <cp:revision>19</cp:revision>
  <dc:subject/>
  <dc:title>Слайд 1</dc:title>
</cp:coreProperties>
</file>