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488D-A238-4FAB-8E40-8FE3BAAE53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37DA-10A8-45CE-A145-CF1D5F4762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1913-5254-41D4-87A3-75916FF8FA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3487-0B67-4BC3-8A23-AD91ECED98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CDEE-7D12-4E2A-9385-4827B3C025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9A86-DD40-48B5-8B85-F305EC4777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CF55-6DE4-4F54-ABE0-2BA93CBA06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815C-0F11-46FE-98EE-C0A71E0BFA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106B-DBF0-430F-ABD3-CDE2A21BCA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0A83-8A14-4097-80D4-7BCF0F39D5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B09B-2B4B-469D-A156-5AD3767E32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C09F-79CE-465D-90CF-493B5BDA7B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890-BA60-4667-9DFC-8CE2B603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E7E-B080-45FC-BF8C-532D77A1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753-43D2-4EB2-B636-E74E780B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A376-EB13-4D97-9E2E-23C7E219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C71A-2A28-41CB-8B5A-6B3B53F2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8F67-0034-4BFD-A82B-76925596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BFA4-AAEF-4DD0-856F-C73E5086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74A3-8DDE-4EC4-94CB-F86F464E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1B03-8204-4C50-BA9F-1C529EB0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A93D-FA6A-4149-B782-1F1A6C91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B96C-B575-4605-80B0-C641A3E8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7CA-7005-4ABF-AA03-A6ECEA33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5CEE-D683-4DF6-A1B7-F5A8CE3C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28DA-1DB3-4B31-9771-6AA0192A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18AC-8375-4CE7-801F-36EB8208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7692-D168-42BA-B285-D273B427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B882-E8FB-4B5F-A750-15E93339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FD0F-EF21-432D-9AEA-A83AEE25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F33-E387-4C27-98A5-C916FC09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FD9-6DC5-4471-8449-2D19E627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60E8-BFEF-48F5-A419-7A8D971C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831-1F7A-4914-8CA0-10D115A9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645-1F1C-4A27-9146-9A8CC7CE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2E4-65AE-447F-856C-7D7A98D6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AAA8-BB22-46D5-B4F9-3B2B28A485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CAE3-889E-4173-8544-3B03D7E412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412640"/>
            <a:ext cx="807696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ычаг.                            Правило равновесия рычага.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Блоки .                 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 ученик 7 класса Откидыч Виталий МБОУ СОШ № 10 Каневского рай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ешите задачу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34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нцам рычага подвешены грузы массами 4 кг и 24 кг.Расстояние от точки опоры до меньшего груза равно 6 см.Определите длину рыча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Блоки: подвижный и неподвижный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{70B7F506-2F13-4516-AA28-26FCB6B29B83}"/>
          <p:cNvPicPr/>
          <p:nvPr/>
        </p:nvPicPr>
        <p:blipFill>
          <a:blip r:embed="rId1"/>
          <a:stretch/>
        </p:blipFill>
        <p:spPr>
          <a:xfrm>
            <a:off x="684360" y="1197000"/>
            <a:ext cx="79200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прос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примеры рыча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чего применяют рычаги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азывают плечом сил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единицах измеряют момент силы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читается правило равновесия рычага?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блоки вы знаете?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ычаги.Применени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2560" y="5229360"/>
            <a:ext cx="748980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51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чаги применяли на строительстве пирамид в Егип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Рычаг на строительстве пирамид"/>
          <p:cNvPicPr/>
          <p:nvPr/>
        </p:nvPicPr>
        <p:blipFill>
          <a:blip r:embed="rId1"/>
          <a:stretch/>
        </p:blipFill>
        <p:spPr>
          <a:xfrm>
            <a:off x="1979640" y="1428840"/>
            <a:ext cx="54720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меры рычагов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8" descr="j0300840"/>
          <p:cNvPicPr/>
          <p:nvPr/>
        </p:nvPicPr>
        <p:blipFill>
          <a:blip r:embed="rId1"/>
          <a:stretch/>
        </p:blipFill>
        <p:spPr>
          <a:xfrm>
            <a:off x="5867280" y="1341360"/>
            <a:ext cx="2894040" cy="2436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_setup"/>
          <p:cNvPicPr/>
          <p:nvPr/>
        </p:nvPicPr>
        <p:blipFill>
          <a:blip r:embed="rId2"/>
          <a:stretch/>
        </p:blipFill>
        <p:spPr>
          <a:xfrm>
            <a:off x="8964720" y="6858000"/>
            <a:ext cx="2917800" cy="2187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j0285698"/>
          <p:cNvPicPr/>
          <p:nvPr/>
        </p:nvPicPr>
        <p:blipFill>
          <a:blip r:embed="rId3"/>
          <a:stretch/>
        </p:blipFill>
        <p:spPr>
          <a:xfrm>
            <a:off x="3995640" y="3429000"/>
            <a:ext cx="2965680" cy="316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j0252349"/>
          <p:cNvPicPr/>
          <p:nvPr/>
        </p:nvPicPr>
        <p:blipFill>
          <a:blip r:embed="rId4"/>
          <a:stretch/>
        </p:blipFill>
        <p:spPr>
          <a:xfrm>
            <a:off x="1258920" y="4532400"/>
            <a:ext cx="2736720" cy="1663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j0278882"/>
          <p:cNvPicPr/>
          <p:nvPr/>
        </p:nvPicPr>
        <p:blipFill>
          <a:blip r:embed="rId5"/>
          <a:stretch/>
        </p:blipFill>
        <p:spPr>
          <a:xfrm>
            <a:off x="826920" y="1371600"/>
            <a:ext cx="2778120" cy="277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пределе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чаг это твердое тело имеющее ось вра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ечо силы это расстояние от оси вращения до линии действия с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чаг находится в равновесии если силы действующие на него обратно пропорциональны плеч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Формулы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ила (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ечо силы (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момент силы (Н 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1 L1=F2 L2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равновесия рыч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1=М2  -закон равновесия рыч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менение рычаг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5444640"/>
            <a:ext cx="785016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случае человек применяет большую сил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Рычаг в быту"/>
          <p:cNvPicPr/>
          <p:nvPr/>
        </p:nvPicPr>
        <p:blipFill>
          <a:blip r:embed="rId1"/>
          <a:stretch/>
        </p:blipFill>
        <p:spPr>
          <a:xfrm>
            <a:off x="1908000" y="1714680"/>
            <a:ext cx="4608720" cy="36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ешите задачу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948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равновесии рычага на его меньшее плечо действует сила 300 Н,на большее 20 Н.Длина меньшего плеча 5 см.Определите длину большего пле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ешите задачу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9948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меньшего плеча рычага 5 см,большего 30 см.На меньшее плечо действует сила12 Н.Какую силу надо приложить к большему плечу,чтобы уравновесить рыча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менение в техник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чаги применяют для поднятия гру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чего зависит длина стрелы подъемного кра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611280" y="162864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081212_101113"/>
          <p:cNvPicPr/>
          <p:nvPr/>
        </p:nvPicPr>
        <p:blipFill>
          <a:blip r:embed="rId1"/>
          <a:stretch/>
        </p:blipFill>
        <p:spPr>
          <a:xfrm>
            <a:off x="611280" y="1773360"/>
            <a:ext cx="388620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44:25Z</dcterms:created>
  <dc:creator>МАМА_2</dc:creator>
  <dc:description/>
  <dc:language>en-US</dc:language>
  <cp:lastModifiedBy>user</cp:lastModifiedBy>
  <dcterms:modified xsi:type="dcterms:W3CDTF">2013-03-17T11:48:31Z</dcterms:modified>
  <cp:revision>18</cp:revision>
  <dc:subject/>
  <dc:title>Слайд 1</dc:title>
</cp:coreProperties>
</file>