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FEC5-2D42-438B-808E-631A8065D9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E2F5-B516-430C-9B25-D9043D23EB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2EA4-F337-4BA0-930F-2C3E4162DA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EB20-E6FD-4803-BD36-DBB78B12F5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77C5-3EFF-4C35-A05A-8C57C7D09D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95EE-1501-4323-942B-B450105B7C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A078-D6B6-4CA6-9107-7D4ABB1EC6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5970-E6FD-49A3-84DF-C0868260D1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0F35-E325-4D7A-9332-CF6DF32F59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4C82-68E9-46ED-949B-A96EC30125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9943-C3A7-41E0-B510-3C1A05AABA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53D4-D549-48BD-A51D-A47BACEA57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CBD8-2DEF-4F6C-BEA7-8361FFF5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F1B-C584-4EA8-B456-2CC678BB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F92F-E997-482F-862E-8A1380E1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6CE7-3A44-4F78-89F9-D6EC7E29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367E-4C74-48DD-95DA-C4E782D6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6BF7-783D-4E2D-A769-FA9455CA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63E9-56D6-468F-84C9-0AC09198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4757-799E-4815-AEA1-05BFA8CC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F3D9-856C-40AE-9E09-6387ABF3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329F-EB24-4D64-8A8C-DA7406DB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0C7A-CB2F-450A-A488-D7562726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191-995C-4E64-9F3F-B6068F61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9435-9C03-46AE-A83F-A9B93D9C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67DE-8BED-435B-9A60-1D0892AE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17BC-5343-40FD-8B74-0B4CCBF9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6EA1-8CA1-4006-9E31-3D4DD480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83CD-D94D-41B0-A468-9316AD74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DBCC-C3E5-4C2D-A85F-B518AE39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1116-D028-476D-A932-AB795246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0BB-C749-4021-88B9-733954BA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9BB2-DE6D-4743-AA51-E7AA1112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853-7131-456A-B618-0170FCDC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B30-FABE-4712-A106-268DBD0A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28A-C29E-4A77-877A-193F3467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EFCA-9563-4503-A109-D08A570936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B30A-BF86-47C8-9478-441AEEF6911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412640"/>
            <a:ext cx="807696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ычаг.                            Правило равновесия рычага.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Блоки .                 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 ученик 7 класса Откидыч Виталий МБОУ СОШ № 10 Каневского рай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ешите задачу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34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нцам рычага подвешены грузы массами 4 кг и 24 кг.Расстояние от точки опоры до меньшего груза равно 6 см.Определите длину рыча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Блоки: подвижный и неподвижный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{70B7F506-2F13-4516-AA28-26FCB6B29B83}"/>
          <p:cNvPicPr/>
          <p:nvPr/>
        </p:nvPicPr>
        <p:blipFill>
          <a:blip r:embed="rId1"/>
          <a:stretch/>
        </p:blipFill>
        <p:spPr>
          <a:xfrm>
            <a:off x="684360" y="1197000"/>
            <a:ext cx="79200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прос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примеры рыча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чего применяют рычаги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азывают плечом сил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единицах измеряют момент силы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читается правило равновесия рычага?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блоки вы знаете?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ычаги.Применени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2560" y="5229360"/>
            <a:ext cx="748980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51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чаги применяли на строительстве пирамид в Егип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Рычаг на строительстве пирамид"/>
          <p:cNvPicPr/>
          <p:nvPr/>
        </p:nvPicPr>
        <p:blipFill>
          <a:blip r:embed="rId1"/>
          <a:stretch/>
        </p:blipFill>
        <p:spPr>
          <a:xfrm>
            <a:off x="1979640" y="1428840"/>
            <a:ext cx="54720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меры рычагов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8" descr="j0300840"/>
          <p:cNvPicPr/>
          <p:nvPr/>
        </p:nvPicPr>
        <p:blipFill>
          <a:blip r:embed="rId1"/>
          <a:stretch/>
        </p:blipFill>
        <p:spPr>
          <a:xfrm>
            <a:off x="5867280" y="1341360"/>
            <a:ext cx="2894040" cy="2436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_setup"/>
          <p:cNvPicPr/>
          <p:nvPr/>
        </p:nvPicPr>
        <p:blipFill>
          <a:blip r:embed="rId2"/>
          <a:stretch/>
        </p:blipFill>
        <p:spPr>
          <a:xfrm>
            <a:off x="8964720" y="6858000"/>
            <a:ext cx="2917800" cy="2187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j0285698"/>
          <p:cNvPicPr/>
          <p:nvPr/>
        </p:nvPicPr>
        <p:blipFill>
          <a:blip r:embed="rId3"/>
          <a:stretch/>
        </p:blipFill>
        <p:spPr>
          <a:xfrm>
            <a:off x="3995640" y="3429000"/>
            <a:ext cx="2965680" cy="316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j0252349"/>
          <p:cNvPicPr/>
          <p:nvPr/>
        </p:nvPicPr>
        <p:blipFill>
          <a:blip r:embed="rId4"/>
          <a:stretch/>
        </p:blipFill>
        <p:spPr>
          <a:xfrm>
            <a:off x="1258920" y="4532400"/>
            <a:ext cx="2736720" cy="1663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j0278882"/>
          <p:cNvPicPr/>
          <p:nvPr/>
        </p:nvPicPr>
        <p:blipFill>
          <a:blip r:embed="rId5"/>
          <a:stretch/>
        </p:blipFill>
        <p:spPr>
          <a:xfrm>
            <a:off x="826920" y="1371600"/>
            <a:ext cx="2778120" cy="277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пределе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чаг это твердое тело имеющее ось вра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ечо силы это расстояние от оси вращения до линии действия с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чаг находится в равновесии если силы действующие на него обратно пропорциональны плеч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Формулы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ила (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ечо силы (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момент силы (Н 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1 L1=F2 L2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равновесия рыч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1=М2  -закон равновесия рыч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менение рычаг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5444640"/>
            <a:ext cx="785016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случае человек применяет большую сил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Рычаг в быту"/>
          <p:cNvPicPr/>
          <p:nvPr/>
        </p:nvPicPr>
        <p:blipFill>
          <a:blip r:embed="rId1"/>
          <a:stretch/>
        </p:blipFill>
        <p:spPr>
          <a:xfrm>
            <a:off x="1908000" y="1714680"/>
            <a:ext cx="4608720" cy="36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ешите задачу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948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равновесии рычага на его меньшее плечо действует сила 300 Н,на большее 20 Н.Длина меньшего плеча 5 см.Определите длину большего пле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ешите задачу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9948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меньшего плеча рычага 5 см,большего 30 см.На меньшее плечо действует сила12 Н.Какую силу надо приложить к большему плечу,чтобы уравновесить рыча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менение в техник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чаги применяют для поднятия гру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чего зависит длина стрелы подъемного кра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611280" y="162864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081212_101113"/>
          <p:cNvPicPr/>
          <p:nvPr/>
        </p:nvPicPr>
        <p:blipFill>
          <a:blip r:embed="rId1"/>
          <a:stretch/>
        </p:blipFill>
        <p:spPr>
          <a:xfrm>
            <a:off x="611280" y="1773360"/>
            <a:ext cx="388620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44:25Z</dcterms:created>
  <dc:creator>МАМА_2</dc:creator>
  <dc:description/>
  <dc:language>en-US</dc:language>
  <cp:lastModifiedBy>user</cp:lastModifiedBy>
  <dcterms:modified xsi:type="dcterms:W3CDTF">2013-03-17T11:48:31Z</dcterms:modified>
  <cp:revision>18</cp:revision>
  <dc:subject/>
  <dc:title>Слайд 1</dc:title>
</cp:coreProperties>
</file>