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9E08-8A08-4DA4-ADA0-ACC709F058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350A-9056-4EA1-986D-8780F6C84B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EBE1-6775-47BF-8CDD-E872F81CF1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14E4-8083-4DB3-9461-CC0AA56832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91AF-F797-46DA-81E8-EB4F8B42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E665-FD0B-40F2-8C1C-095B18A2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B8B3-6169-47AF-AD58-535857EF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CD48-1DF4-480F-8019-8AA97890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A8A6-07C6-4143-82B2-AF289388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D03E-3D42-4A45-8A86-7A340371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3CC2-BAFD-4CAA-8766-B4E2EA45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1525-43A7-4ED5-B6DB-E6C4B28B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2E20-1CB1-4A51-B6E0-54059BBE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0E2D-D199-4C87-AF9F-37E790D0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E912-F83F-41E3-92BB-F5EDE576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CEE0-E114-4B26-9C1B-02654E66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530A-BDD9-47D2-846F-83FB66AD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2A2C-CA12-475A-9A62-D002ED5D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A0D9-E1FB-4D0F-9F04-DA47CFC3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78E2-6EF1-4DAF-9B78-CE53BDDD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CB47-DFE9-4B19-A7BF-6BAB57A0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45345-5741-4FE4-BB4E-4C68EA31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59949-681B-4C72-84A8-CF2B32C7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66817-A293-4A05-BE80-DEFC2599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C9CFA-653F-487B-BFD0-7AA482E0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4D97F-E326-48F9-821A-9400823B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AD0-433B-4173-9859-83E6A99E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167E1-1B10-422A-8E9C-15005D11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A4592-575C-47D1-AF5F-08DE9F18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8683C-4F01-4795-AE94-537B965A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D2846-78FA-4861-A264-CE4AB0EE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4B90B-CA49-437C-80FE-7C1B1B07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A6444-21DD-4F18-B129-8635BF9A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587E6-6D73-420B-8452-1087C6D1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5A1AE-CA05-49F9-A4E1-C3E6B73B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C754E-70DE-496B-BE8B-24DE4107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246EF-1F5A-44BD-B6A9-ECB99CE1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B4AC-EE96-49FD-8453-84376DE8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5CA3B-9A82-4359-96B2-E809553E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22AD0-557C-479D-B01A-98E5E8B7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7FCF4-3AFD-4296-97A2-48E41CF5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9EE78-84F5-4A22-B14B-EFF16D04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097D8-7BAA-462C-83F8-68EAC871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6E831-DC77-4CF3-A61A-C0E6576C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988E4-3335-4AEA-8008-11E4BFB4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1CE5C-23BC-4A2F-AE8D-9FA711FE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1FC69-0E10-4B5B-8D99-EA983685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DEF6A-4CC2-4D70-AC03-4FD9542F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CF63-6D9F-4E66-BED8-07D0FA44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F96D9-939A-411B-A3B9-AF254678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0CFE7-6456-498C-A25E-6BDC8D37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1629E-A64B-4581-875C-D4047A75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200A6-EDE4-49D0-B5BB-CA99EF1B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44E8A-246B-45AD-A285-954194B6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2A366-2E3A-434C-B91E-4272B46A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39C0F-82BF-46A1-BCDC-A0E0DD20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4ADAB-EAEC-4F47-BACF-4CB2DB22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2D480-2350-4638-96C5-FF832091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37255-9E1A-4BF6-8806-741EDD8D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4C82-4F7A-4DF7-8B51-626B2516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D7F70-2992-4501-9F01-4E4DC523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6644-91F9-42F9-98CE-5C799C15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DF4-FAF5-4C47-BE4D-84DD0361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54C6-5BE3-4310-A0EA-D714D579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0A49-2AAD-44FC-94E4-7F3D7FD4E1B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4F99-561D-4D3F-BE61-98A7A4063D5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CD70-60FF-4E08-B1B4-FA57B7BB7EC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DA03-F5D4-4904-A4C9-66C0CD3A631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1797-4841-4DA9-B647-DFF4DB78AD3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w@lemitec.d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hw@lemitec.d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1042920" y="641988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я перемещения объектов предложена Hans Werner Hofmann </a:t>
            </a:r>
            <a:r>
              <a:rPr b="0" lang="ru-RU" sz="12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C:\Users\Public\Pictures\Новая папка\iCACB4QZY.jpg"/>
          <p:cNvPicPr/>
          <p:nvPr/>
        </p:nvPicPr>
        <p:blipFill>
          <a:blip r:embed="rId2"/>
          <a:stretch/>
        </p:blipFill>
        <p:spPr>
          <a:xfrm>
            <a:off x="571680" y="1071720"/>
            <a:ext cx="8072280" cy="2786040"/>
          </a:xfrm>
          <a:prstGeom prst="rect">
            <a:avLst/>
          </a:prstGeom>
          <a:ln w="0">
            <a:noFill/>
          </a:ln>
        </p:spPr>
      </p:pic>
      <p:sp>
        <p:nvSpPr>
          <p:cNvPr id="237" name="TextBox 4"/>
          <p:cNvSpPr/>
          <p:nvPr/>
        </p:nvSpPr>
        <p:spPr>
          <a:xfrm>
            <a:off x="1714680" y="1500120"/>
            <a:ext cx="528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1785960" y="2357280"/>
            <a:ext cx="6786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3611"/>
                </a:solidFill>
                <a:latin typeface="Arial"/>
              </a:rPr>
              <a:t>Устный счёт. Матема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риенко Д.И.,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Средняя школа №40» г. Петропавловск Камчат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786800" y="5643720"/>
            <a:ext cx="1042920" cy="4284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52558" h="21600">
                <a:moveTo>
                  <a:pt x="0" y="0"/>
                </a:moveTo>
                <a:lnTo>
                  <a:pt x="52558" y="0"/>
                </a:lnTo>
                <a:lnTo>
                  <a:pt x="52558" y="21600"/>
                </a:lnTo>
                <a:lnTo>
                  <a:pt x="0" y="21600"/>
                </a:lnTo>
                <a:close/>
              </a:path>
              <a:path fill="lightenLess" w="52558" h="21600">
                <a:moveTo>
                  <a:pt x="0" y="0"/>
                </a:moveTo>
                <a:lnTo>
                  <a:pt x="52558" y="0"/>
                </a:lnTo>
                <a:lnTo>
                  <a:pt x="51158" y="1400"/>
                </a:lnTo>
                <a:lnTo>
                  <a:pt x="1400" y="1400"/>
                </a:lnTo>
                <a:close/>
              </a:path>
              <a:path fill="darken" w="52558" h="21600">
                <a:moveTo>
                  <a:pt x="52558" y="0"/>
                </a:moveTo>
                <a:lnTo>
                  <a:pt x="52558" y="21600"/>
                </a:lnTo>
                <a:lnTo>
                  <a:pt x="51158" y="20200"/>
                </a:lnTo>
                <a:lnTo>
                  <a:pt x="51158" y="1400"/>
                </a:lnTo>
                <a:close/>
              </a:path>
              <a:path fill="darkenLess" w="52558" h="21600">
                <a:moveTo>
                  <a:pt x="52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58" y="20200"/>
                </a:lnTo>
                <a:close/>
              </a:path>
              <a:path fill="lighten" w="52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558" h="21600">
                <a:moveTo>
                  <a:pt x="19273" y="3794"/>
                </a:moveTo>
                <a:lnTo>
                  <a:pt x="33286" y="10800"/>
                </a:lnTo>
                <a:lnTo>
                  <a:pt x="19273" y="1780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1042920" y="641988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я перемещения объектов предложена Hans Werner Hofmann </a:t>
            </a:r>
            <a:r>
              <a:rPr b="0" lang="ru-RU" sz="12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3571920" y="1857240"/>
            <a:ext cx="1285920" cy="571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90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428840" y="5000760"/>
          <a:ext cx="5594400" cy="1285920"/>
        </p:xfrm>
        <a:graphic>
          <a:graphicData uri="http://schemas.openxmlformats.org/drawingml/2006/table">
            <a:tbl>
              <a:tblPr/>
              <a:tblGrid>
                <a:gridCol w="622080"/>
                <a:gridCol w="621000"/>
                <a:gridCol w="622080"/>
                <a:gridCol w="620640"/>
                <a:gridCol w="622440"/>
                <a:gridCol w="620640"/>
                <a:gridCol w="622440"/>
                <a:gridCol w="620640"/>
                <a:gridCol w="62244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243" name="Прямоугольник 8"/>
          <p:cNvSpPr/>
          <p:nvPr/>
        </p:nvSpPr>
        <p:spPr>
          <a:xfrm>
            <a:off x="7929720" y="3643200"/>
            <a:ext cx="642960" cy="6429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6"/>
          <p:cNvSpPr/>
          <p:nvPr/>
        </p:nvSpPr>
        <p:spPr>
          <a:xfrm>
            <a:off x="3571920" y="3643200"/>
            <a:ext cx="1357200" cy="571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19+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7"/>
          <p:cNvSpPr/>
          <p:nvPr/>
        </p:nvSpPr>
        <p:spPr>
          <a:xfrm>
            <a:off x="857160" y="2643120"/>
            <a:ext cx="1357560" cy="571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40-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9"/>
          <p:cNvSpPr/>
          <p:nvPr/>
        </p:nvSpPr>
        <p:spPr>
          <a:xfrm>
            <a:off x="857160" y="3571920"/>
            <a:ext cx="1357560" cy="5713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45+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1"/>
          <p:cNvSpPr/>
          <p:nvPr/>
        </p:nvSpPr>
        <p:spPr>
          <a:xfrm>
            <a:off x="6429240" y="2786040"/>
            <a:ext cx="1285920" cy="571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46+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2"/>
          <p:cNvSpPr/>
          <p:nvPr/>
        </p:nvSpPr>
        <p:spPr>
          <a:xfrm>
            <a:off x="857160" y="1857240"/>
            <a:ext cx="1357560" cy="571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rpetu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88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3"/>
          <p:cNvSpPr/>
          <p:nvPr/>
        </p:nvSpPr>
        <p:spPr>
          <a:xfrm>
            <a:off x="6429240" y="3643200"/>
            <a:ext cx="1285920" cy="571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42+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6"/>
          <p:cNvSpPr/>
          <p:nvPr/>
        </p:nvSpPr>
        <p:spPr>
          <a:xfrm>
            <a:off x="2352600" y="1863720"/>
            <a:ext cx="642960" cy="6429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7"/>
          <p:cNvSpPr/>
          <p:nvPr/>
        </p:nvSpPr>
        <p:spPr>
          <a:xfrm>
            <a:off x="2357280" y="3571920"/>
            <a:ext cx="662040" cy="6429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8"/>
          <p:cNvSpPr/>
          <p:nvPr/>
        </p:nvSpPr>
        <p:spPr>
          <a:xfrm>
            <a:off x="5214960" y="3571920"/>
            <a:ext cx="642960" cy="6573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0"/>
          <p:cNvSpPr/>
          <p:nvPr/>
        </p:nvSpPr>
        <p:spPr>
          <a:xfrm>
            <a:off x="5143680" y="1857240"/>
            <a:ext cx="642600" cy="6429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1"/>
          <p:cNvSpPr/>
          <p:nvPr/>
        </p:nvSpPr>
        <p:spPr>
          <a:xfrm>
            <a:off x="5214960" y="2786040"/>
            <a:ext cx="641160" cy="6573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2"/>
          <p:cNvSpPr/>
          <p:nvPr/>
        </p:nvSpPr>
        <p:spPr>
          <a:xfrm>
            <a:off x="2357280" y="2643120"/>
            <a:ext cx="642960" cy="6429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7858080" y="1928880"/>
            <a:ext cx="642960" cy="5713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3571920" y="2786040"/>
            <a:ext cx="1357200" cy="571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70-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6429240" y="1928880"/>
            <a:ext cx="1143000" cy="5713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45+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7"/>
          <p:cNvSpPr/>
          <p:nvPr/>
        </p:nvSpPr>
        <p:spPr>
          <a:xfrm>
            <a:off x="714240" y="42876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e3611"/>
                </a:solidFill>
                <a:latin typeface="Arial"/>
              </a:rPr>
              <a:t>Реши примеры и назови сказочного            гер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Управляющая кнопка: далее 27">
            <a:hlinkClick r:id="" action="ppaction://hlinkshowjump?jump=nextslide"/>
          </p:cNvPr>
          <p:cNvSpPr/>
          <p:nvPr/>
        </p:nvSpPr>
        <p:spPr>
          <a:xfrm>
            <a:off x="7786800" y="5643720"/>
            <a:ext cx="1042920" cy="4284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52558" h="21600">
                <a:moveTo>
                  <a:pt x="0" y="0"/>
                </a:moveTo>
                <a:lnTo>
                  <a:pt x="52558" y="0"/>
                </a:lnTo>
                <a:lnTo>
                  <a:pt x="52558" y="21600"/>
                </a:lnTo>
                <a:lnTo>
                  <a:pt x="0" y="21600"/>
                </a:lnTo>
                <a:close/>
              </a:path>
              <a:path fill="lightenLess" w="52558" h="21600">
                <a:moveTo>
                  <a:pt x="0" y="0"/>
                </a:moveTo>
                <a:lnTo>
                  <a:pt x="52558" y="0"/>
                </a:lnTo>
                <a:lnTo>
                  <a:pt x="51158" y="1400"/>
                </a:lnTo>
                <a:lnTo>
                  <a:pt x="1400" y="1400"/>
                </a:lnTo>
                <a:close/>
              </a:path>
              <a:path fill="darken" w="52558" h="21600">
                <a:moveTo>
                  <a:pt x="52558" y="0"/>
                </a:moveTo>
                <a:lnTo>
                  <a:pt x="52558" y="21600"/>
                </a:lnTo>
                <a:lnTo>
                  <a:pt x="51158" y="20200"/>
                </a:lnTo>
                <a:lnTo>
                  <a:pt x="51158" y="1400"/>
                </a:lnTo>
                <a:close/>
              </a:path>
              <a:path fill="darkenLess" w="52558" h="21600">
                <a:moveTo>
                  <a:pt x="52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58" y="20200"/>
                </a:lnTo>
                <a:close/>
              </a:path>
              <a:path fill="lighten" w="52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558" h="21600">
                <a:moveTo>
                  <a:pt x="19273" y="3794"/>
                </a:moveTo>
                <a:lnTo>
                  <a:pt x="33286" y="10800"/>
                </a:lnTo>
                <a:lnTo>
                  <a:pt x="19273" y="1780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7929720" y="2786040"/>
            <a:ext cx="642960" cy="571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143160" y="714240"/>
            <a:ext cx="3500640" cy="4857840"/>
          </a:xfrm>
          <a:prstGeom prst="rect">
            <a:avLst/>
          </a:prstGeom>
          <a:ln w="0">
            <a:noFill/>
          </a:ln>
        </p:spPr>
      </p:pic>
      <p:sp>
        <p:nvSpPr>
          <p:cNvPr id="263" name="Двойная волна 2"/>
          <p:cNvSpPr/>
          <p:nvPr/>
        </p:nvSpPr>
        <p:spPr>
          <a:xfrm>
            <a:off x="2357280" y="5715000"/>
            <a:ext cx="4857840" cy="914400"/>
          </a:xfrm>
          <a:custGeom>
            <a:avLst/>
            <a:gdLst>
              <a:gd name="textAreaLeft" fmla="*/ 0 w 4857840"/>
              <a:gd name="textAreaRight" fmla="*/ 4858200 w 4857840"/>
              <a:gd name="textAreaTop" fmla="*/ 11412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mbria"/>
              </a:rPr>
              <a:t>Н. Но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1428840" y="35712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e3611"/>
                </a:solidFill>
                <a:latin typeface="Arial"/>
              </a:rPr>
              <a:t>Назовите    моего    ав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786800" y="5643720"/>
            <a:ext cx="1042920" cy="4284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52558" h="21600">
                <a:moveTo>
                  <a:pt x="0" y="0"/>
                </a:moveTo>
                <a:lnTo>
                  <a:pt x="52558" y="0"/>
                </a:lnTo>
                <a:lnTo>
                  <a:pt x="52558" y="21600"/>
                </a:lnTo>
                <a:lnTo>
                  <a:pt x="0" y="21600"/>
                </a:lnTo>
                <a:close/>
              </a:path>
              <a:path fill="lightenLess" w="52558" h="21600">
                <a:moveTo>
                  <a:pt x="0" y="0"/>
                </a:moveTo>
                <a:lnTo>
                  <a:pt x="52558" y="0"/>
                </a:lnTo>
                <a:lnTo>
                  <a:pt x="51158" y="1400"/>
                </a:lnTo>
                <a:lnTo>
                  <a:pt x="1400" y="1400"/>
                </a:lnTo>
                <a:close/>
              </a:path>
              <a:path fill="darken" w="52558" h="21600">
                <a:moveTo>
                  <a:pt x="52558" y="0"/>
                </a:moveTo>
                <a:lnTo>
                  <a:pt x="52558" y="21600"/>
                </a:lnTo>
                <a:lnTo>
                  <a:pt x="51158" y="20200"/>
                </a:lnTo>
                <a:lnTo>
                  <a:pt x="51158" y="1400"/>
                </a:lnTo>
                <a:close/>
              </a:path>
              <a:path fill="darkenLess" w="52558" h="21600">
                <a:moveTo>
                  <a:pt x="52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58" y="20200"/>
                </a:lnTo>
                <a:close/>
              </a:path>
              <a:path fill="lighten" w="52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558" h="21600">
                <a:moveTo>
                  <a:pt x="19273" y="3794"/>
                </a:moveTo>
                <a:lnTo>
                  <a:pt x="33286" y="10800"/>
                </a:lnTo>
                <a:lnTo>
                  <a:pt x="19273" y="1780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714240" y="357120"/>
            <a:ext cx="8001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Незнайкины 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Что такое уравн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6929280" y="2500200"/>
            <a:ext cx="2214720" cy="3429000"/>
          </a:xfrm>
          <a:prstGeom prst="rect">
            <a:avLst/>
          </a:prstGeom>
          <a:ln w="0">
            <a:noFill/>
          </a:ln>
        </p:spPr>
      </p:pic>
      <p:sp>
        <p:nvSpPr>
          <p:cNvPr id="268" name="Овал 7"/>
          <p:cNvSpPr/>
          <p:nvPr/>
        </p:nvSpPr>
        <p:spPr>
          <a:xfrm>
            <a:off x="1143000" y="1785960"/>
            <a:ext cx="5500800" cy="100008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Равенство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Овал 8"/>
          <p:cNvSpPr/>
          <p:nvPr/>
        </p:nvSpPr>
        <p:spPr>
          <a:xfrm>
            <a:off x="1214280" y="3143160"/>
            <a:ext cx="5286600" cy="1143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Деление на равные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Овал 9"/>
          <p:cNvSpPr/>
          <p:nvPr/>
        </p:nvSpPr>
        <p:spPr>
          <a:xfrm>
            <a:off x="1366920" y="4929120"/>
            <a:ext cx="5491080" cy="1143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Равенство с неизвестным чис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786800" y="5643720"/>
            <a:ext cx="1042920" cy="4284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52558" h="21600">
                <a:moveTo>
                  <a:pt x="0" y="0"/>
                </a:moveTo>
                <a:lnTo>
                  <a:pt x="52558" y="0"/>
                </a:lnTo>
                <a:lnTo>
                  <a:pt x="52558" y="21600"/>
                </a:lnTo>
                <a:lnTo>
                  <a:pt x="0" y="21600"/>
                </a:lnTo>
                <a:close/>
              </a:path>
              <a:path fill="lightenLess" w="52558" h="21600">
                <a:moveTo>
                  <a:pt x="0" y="0"/>
                </a:moveTo>
                <a:lnTo>
                  <a:pt x="52558" y="0"/>
                </a:lnTo>
                <a:lnTo>
                  <a:pt x="51158" y="1400"/>
                </a:lnTo>
                <a:lnTo>
                  <a:pt x="1400" y="1400"/>
                </a:lnTo>
                <a:close/>
              </a:path>
              <a:path fill="darken" w="52558" h="21600">
                <a:moveTo>
                  <a:pt x="52558" y="0"/>
                </a:moveTo>
                <a:lnTo>
                  <a:pt x="52558" y="21600"/>
                </a:lnTo>
                <a:lnTo>
                  <a:pt x="51158" y="20200"/>
                </a:lnTo>
                <a:lnTo>
                  <a:pt x="51158" y="1400"/>
                </a:lnTo>
                <a:close/>
              </a:path>
              <a:path fill="darkenLess" w="52558" h="21600">
                <a:moveTo>
                  <a:pt x="52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58" y="20200"/>
                </a:lnTo>
                <a:close/>
              </a:path>
              <a:path fill="lighten" w="52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558" h="21600">
                <a:moveTo>
                  <a:pt x="19273" y="3794"/>
                </a:moveTo>
                <a:lnTo>
                  <a:pt x="33286" y="10800"/>
                </a:lnTo>
                <a:lnTo>
                  <a:pt x="19273" y="1780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animClr clrSpc="rgb">
                                      <p:cBhvr>
                                        <p:cTn id="13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14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animClr clrSpc="rgb">
                                      <p:cBhvr>
                                        <p:cTn id="25" dur="1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26" dur="1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2"/>
          <p:cNvSpPr/>
          <p:nvPr/>
        </p:nvSpPr>
        <p:spPr>
          <a:xfrm>
            <a:off x="571680" y="571680"/>
            <a:ext cx="82152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f6c5d"/>
                </a:solidFill>
                <a:latin typeface="Arial"/>
              </a:rPr>
              <a:t>Незнайкины   вопросы</a:t>
            </a:r>
            <a:r>
              <a:rPr b="1" i="1" lang="ru-RU" sz="3200" spc="-1" strike="noStrike">
                <a:solidFill>
                  <a:srgbClr val="df6c5d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f6c5d"/>
                </a:solidFill>
                <a:latin typeface="Arial"/>
              </a:rPr>
              <a:t>                </a:t>
            </a:r>
            <a:r>
              <a:rPr b="1" i="1" lang="ru-RU" sz="3200" spc="-1" strike="noStrike">
                <a:solidFill>
                  <a:srgbClr val="df6c5d"/>
                </a:solidFill>
                <a:latin typeface="Arial"/>
              </a:rPr>
              <a:t>Что такое квадр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6c5d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Выноска-облако 10"/>
          <p:cNvSpPr/>
          <p:nvPr/>
        </p:nvSpPr>
        <p:spPr>
          <a:xfrm>
            <a:off x="3857760" y="1928880"/>
            <a:ext cx="3857400" cy="1357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Фигура  с прямыми уг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Выноска-облако 11"/>
          <p:cNvSpPr/>
          <p:nvPr/>
        </p:nvSpPr>
        <p:spPr>
          <a:xfrm>
            <a:off x="4786200" y="3857760"/>
            <a:ext cx="4000680" cy="15714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Фигура с равными  сторонами  и прямыми  уг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Выноска-облако 12"/>
          <p:cNvSpPr/>
          <p:nvPr/>
        </p:nvSpPr>
        <p:spPr>
          <a:xfrm>
            <a:off x="571680" y="3929040"/>
            <a:ext cx="3286080" cy="1357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Красивая фиг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786800" y="5643720"/>
            <a:ext cx="1042920" cy="4284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52558" h="21600">
                <a:moveTo>
                  <a:pt x="0" y="0"/>
                </a:moveTo>
                <a:lnTo>
                  <a:pt x="52558" y="0"/>
                </a:lnTo>
                <a:lnTo>
                  <a:pt x="52558" y="21600"/>
                </a:lnTo>
                <a:lnTo>
                  <a:pt x="0" y="21600"/>
                </a:lnTo>
                <a:close/>
              </a:path>
              <a:path fill="lightenLess" w="52558" h="21600">
                <a:moveTo>
                  <a:pt x="0" y="0"/>
                </a:moveTo>
                <a:lnTo>
                  <a:pt x="52558" y="0"/>
                </a:lnTo>
                <a:lnTo>
                  <a:pt x="51158" y="1400"/>
                </a:lnTo>
                <a:lnTo>
                  <a:pt x="1400" y="1400"/>
                </a:lnTo>
                <a:close/>
              </a:path>
              <a:path fill="darken" w="52558" h="21600">
                <a:moveTo>
                  <a:pt x="52558" y="0"/>
                </a:moveTo>
                <a:lnTo>
                  <a:pt x="52558" y="21600"/>
                </a:lnTo>
                <a:lnTo>
                  <a:pt x="51158" y="20200"/>
                </a:lnTo>
                <a:lnTo>
                  <a:pt x="51158" y="1400"/>
                </a:lnTo>
                <a:close/>
              </a:path>
              <a:path fill="darkenLess" w="52558" h="21600">
                <a:moveTo>
                  <a:pt x="52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58" y="20200"/>
                </a:lnTo>
                <a:close/>
              </a:path>
              <a:path fill="lighten" w="52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558" h="21600">
                <a:moveTo>
                  <a:pt x="19273" y="3794"/>
                </a:moveTo>
                <a:lnTo>
                  <a:pt x="33286" y="10800"/>
                </a:lnTo>
                <a:lnTo>
                  <a:pt x="19273" y="1780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animClr clrSpc="rgb">
                                      <p:cBhvr>
                                        <p:cTn id="43" dur="1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44" dur="1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animClr clrSpc="rgb">
                                      <p:cBhvr>
                                        <p:cTn id="55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56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Users\Public\Pictures\Новая папка\iCAZ21GPS.jpg"/>
          <p:cNvPicPr/>
          <p:nvPr/>
        </p:nvPicPr>
        <p:blipFill>
          <a:blip r:embed="rId1"/>
          <a:stretch/>
        </p:blipFill>
        <p:spPr>
          <a:xfrm>
            <a:off x="-19080" y="-17640"/>
            <a:ext cx="9134640" cy="6875640"/>
          </a:xfrm>
          <a:prstGeom prst="rect">
            <a:avLst/>
          </a:prstGeom>
          <a:ln w="0">
            <a:noFill/>
          </a:ln>
        </p:spPr>
      </p:pic>
      <p:sp>
        <p:nvSpPr>
          <p:cNvPr id="278" name="TextBox 2"/>
          <p:cNvSpPr/>
          <p:nvPr/>
        </p:nvSpPr>
        <p:spPr>
          <a:xfrm>
            <a:off x="1285920" y="271476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нтим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"/>
          <p:cNvSpPr/>
          <p:nvPr/>
        </p:nvSpPr>
        <p:spPr>
          <a:xfrm rot="20287800">
            <a:off x="4210920" y="20412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цим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 rot="20870400">
            <a:off x="6692400" y="310464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лом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1643040" y="485784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5429160" y="514368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юй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500040" y="35712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f8c6a"/>
                </a:solidFill>
                <a:latin typeface="Arial"/>
              </a:rPr>
              <a:t>Какое слово лишне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786800" y="5643720"/>
            <a:ext cx="1042920" cy="4284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52558" h="21600">
                <a:moveTo>
                  <a:pt x="0" y="0"/>
                </a:moveTo>
                <a:lnTo>
                  <a:pt x="52558" y="0"/>
                </a:lnTo>
                <a:lnTo>
                  <a:pt x="52558" y="21600"/>
                </a:lnTo>
                <a:lnTo>
                  <a:pt x="0" y="21600"/>
                </a:lnTo>
                <a:close/>
              </a:path>
              <a:path fill="lightenLess" w="52558" h="21600">
                <a:moveTo>
                  <a:pt x="0" y="0"/>
                </a:moveTo>
                <a:lnTo>
                  <a:pt x="52558" y="0"/>
                </a:lnTo>
                <a:lnTo>
                  <a:pt x="51158" y="1400"/>
                </a:lnTo>
                <a:lnTo>
                  <a:pt x="1400" y="1400"/>
                </a:lnTo>
                <a:close/>
              </a:path>
              <a:path fill="darken" w="52558" h="21600">
                <a:moveTo>
                  <a:pt x="52558" y="0"/>
                </a:moveTo>
                <a:lnTo>
                  <a:pt x="52558" y="21600"/>
                </a:lnTo>
                <a:lnTo>
                  <a:pt x="51158" y="20200"/>
                </a:lnTo>
                <a:lnTo>
                  <a:pt x="51158" y="1400"/>
                </a:lnTo>
                <a:close/>
              </a:path>
              <a:path fill="darkenLess" w="52558" h="21600">
                <a:moveTo>
                  <a:pt x="52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58" y="20200"/>
                </a:lnTo>
                <a:close/>
              </a:path>
              <a:path fill="lighten" w="52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558" h="21600">
                <a:moveTo>
                  <a:pt x="19273" y="3794"/>
                </a:moveTo>
                <a:lnTo>
                  <a:pt x="33286" y="10800"/>
                </a:lnTo>
                <a:lnTo>
                  <a:pt x="19273" y="1780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857160" y="192888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8дм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2786040" y="2071800"/>
            <a:ext cx="857160" cy="5713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3500280" y="20001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857160" y="314316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2м7см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6"/>
          <p:cNvSpPr/>
          <p:nvPr/>
        </p:nvSpPr>
        <p:spPr>
          <a:xfrm>
            <a:off x="2786040" y="3071880"/>
            <a:ext cx="857160" cy="5713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2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7"/>
          <p:cNvSpPr/>
          <p:nvPr/>
        </p:nvSpPr>
        <p:spPr>
          <a:xfrm>
            <a:off x="3857760" y="321480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8"/>
          <p:cNvSpPr/>
          <p:nvPr/>
        </p:nvSpPr>
        <p:spPr>
          <a:xfrm>
            <a:off x="928800" y="414324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9м3см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9"/>
          <p:cNvSpPr/>
          <p:nvPr/>
        </p:nvSpPr>
        <p:spPr>
          <a:xfrm>
            <a:off x="2786040" y="4143240"/>
            <a:ext cx="857160" cy="571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9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0"/>
          <p:cNvSpPr/>
          <p:nvPr/>
        </p:nvSpPr>
        <p:spPr>
          <a:xfrm>
            <a:off x="3929040" y="4214880"/>
            <a:ext cx="10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1"/>
          <p:cNvSpPr/>
          <p:nvPr/>
        </p:nvSpPr>
        <p:spPr>
          <a:xfrm>
            <a:off x="928800" y="5357880"/>
            <a:ext cx="240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5дм6мм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2"/>
          <p:cNvSpPr/>
          <p:nvPr/>
        </p:nvSpPr>
        <p:spPr>
          <a:xfrm>
            <a:off x="2857680" y="5286240"/>
            <a:ext cx="928440" cy="571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5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4000680" y="5357880"/>
            <a:ext cx="10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4"/>
          <p:cNvSpPr/>
          <p:nvPr/>
        </p:nvSpPr>
        <p:spPr>
          <a:xfrm>
            <a:off x="2000160" y="785880"/>
            <a:ext cx="17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Выра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7786800" y="5643720"/>
            <a:ext cx="1042920" cy="4284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52558" h="21600">
                <a:moveTo>
                  <a:pt x="0" y="0"/>
                </a:moveTo>
                <a:lnTo>
                  <a:pt x="52558" y="0"/>
                </a:lnTo>
                <a:lnTo>
                  <a:pt x="52558" y="21600"/>
                </a:lnTo>
                <a:lnTo>
                  <a:pt x="0" y="21600"/>
                </a:lnTo>
                <a:close/>
              </a:path>
              <a:path fill="lightenLess" w="52558" h="21600">
                <a:moveTo>
                  <a:pt x="0" y="0"/>
                </a:moveTo>
                <a:lnTo>
                  <a:pt x="52558" y="0"/>
                </a:lnTo>
                <a:lnTo>
                  <a:pt x="51158" y="1400"/>
                </a:lnTo>
                <a:lnTo>
                  <a:pt x="1400" y="1400"/>
                </a:lnTo>
                <a:close/>
              </a:path>
              <a:path fill="darken" w="52558" h="21600">
                <a:moveTo>
                  <a:pt x="52558" y="0"/>
                </a:moveTo>
                <a:lnTo>
                  <a:pt x="52558" y="21600"/>
                </a:lnTo>
                <a:lnTo>
                  <a:pt x="51158" y="20200"/>
                </a:lnTo>
                <a:lnTo>
                  <a:pt x="51158" y="1400"/>
                </a:lnTo>
                <a:close/>
              </a:path>
              <a:path fill="darkenLess" w="52558" h="21600">
                <a:moveTo>
                  <a:pt x="52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58" y="20200"/>
                </a:lnTo>
                <a:close/>
              </a:path>
              <a:path fill="lighten" w="52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558" h="21600">
                <a:moveTo>
                  <a:pt x="19273" y="3794"/>
                </a:moveTo>
                <a:lnTo>
                  <a:pt x="33286" y="10800"/>
                </a:lnTo>
                <a:lnTo>
                  <a:pt x="19273" y="1780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C:\Users\Public\Pictures\Новая папка\Незнайка.jpg"/>
          <p:cNvPicPr/>
          <p:nvPr/>
        </p:nvPicPr>
        <p:blipFill>
          <a:blip r:embed="rId1"/>
          <a:stretch/>
        </p:blipFill>
        <p:spPr>
          <a:xfrm>
            <a:off x="6572160" y="214200"/>
            <a:ext cx="2286000" cy="32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786800" y="5643720"/>
            <a:ext cx="1042920" cy="4284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52558" h="21600">
                <a:moveTo>
                  <a:pt x="0" y="0"/>
                </a:moveTo>
                <a:lnTo>
                  <a:pt x="52558" y="0"/>
                </a:lnTo>
                <a:lnTo>
                  <a:pt x="52558" y="21600"/>
                </a:lnTo>
                <a:lnTo>
                  <a:pt x="0" y="21600"/>
                </a:lnTo>
                <a:close/>
              </a:path>
              <a:path fill="lightenLess" w="52558" h="21600">
                <a:moveTo>
                  <a:pt x="0" y="0"/>
                </a:moveTo>
                <a:lnTo>
                  <a:pt x="52558" y="0"/>
                </a:lnTo>
                <a:lnTo>
                  <a:pt x="51158" y="1400"/>
                </a:lnTo>
                <a:lnTo>
                  <a:pt x="1400" y="1400"/>
                </a:lnTo>
                <a:close/>
              </a:path>
              <a:path fill="darken" w="52558" h="21600">
                <a:moveTo>
                  <a:pt x="52558" y="0"/>
                </a:moveTo>
                <a:lnTo>
                  <a:pt x="52558" y="21600"/>
                </a:lnTo>
                <a:lnTo>
                  <a:pt x="51158" y="20200"/>
                </a:lnTo>
                <a:lnTo>
                  <a:pt x="51158" y="1400"/>
                </a:lnTo>
                <a:close/>
              </a:path>
              <a:path fill="darkenLess" w="52558" h="21600">
                <a:moveTo>
                  <a:pt x="52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58" y="20200"/>
                </a:lnTo>
                <a:close/>
              </a:path>
              <a:path fill="lighten" w="52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558" h="21600">
                <a:moveTo>
                  <a:pt x="19273" y="3794"/>
                </a:moveTo>
                <a:lnTo>
                  <a:pt x="33286" y="10800"/>
                </a:lnTo>
                <a:lnTo>
                  <a:pt x="19273" y="1780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1000080" y="1500120"/>
            <a:ext cx="6000840" cy="4521240"/>
          </a:xfrm>
          <a:prstGeom prst="rect">
            <a:avLst/>
          </a:prstGeom>
          <a:ln w="0">
            <a:noFill/>
          </a:ln>
        </p:spPr>
      </p:pic>
      <p:sp>
        <p:nvSpPr>
          <p:cNvPr id="302" name="TextBox 3"/>
          <p:cNvSpPr/>
          <p:nvPr/>
        </p:nvSpPr>
        <p:spPr>
          <a:xfrm>
            <a:off x="1357200" y="714240"/>
            <a:ext cx="700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e3611"/>
                </a:solidFill>
                <a:latin typeface="Arial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1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animClr clrSpc="rgb">
                                      <p:cBhvr>
                                        <p:cTn id="117" dur="1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118" dur="1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1042920" y="641988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я перемещения объектов предложена Hans Werner Hofmann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2"/>
          <p:cNvSpPr/>
          <p:nvPr/>
        </p:nvSpPr>
        <p:spPr>
          <a:xfrm>
            <a:off x="357120" y="192888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ages.yandex.ru/#!/yandsearch?text=картинки осени для детей&amp;noreask=1&amp;img_url=www.flowersfamily.ru%2Fuserfiles%2Fklen.jpg&amp;pos=2&amp;rpt=simage&amp;lr=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3"/>
          <p:cNvSpPr/>
          <p:nvPr/>
        </p:nvSpPr>
        <p:spPr>
          <a:xfrm>
            <a:off x="357120" y="364320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g1.liveinternet.ru/images/attach/b/1/18127/18127513_Smaylik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смайлик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4"/>
          <p:cNvSpPr/>
          <p:nvPr/>
        </p:nvSpPr>
        <p:spPr>
          <a:xfrm>
            <a:off x="357120" y="296712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eka-amama.ru/upload/forum/upload/6d2/6d2a3ef5d85f849be5852102263c33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езна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Дола</cp:lastModifiedBy>
  <dcterms:modified xsi:type="dcterms:W3CDTF">2013-03-18T10:52:11Z</dcterms:modified>
  <cp:revision>86</cp:revision>
  <dc:subject/>
  <dc:title>Слайд 1</dc:title>
</cp:coreProperties>
</file>