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25BC-2A78-4742-8418-8770DA4A5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7058-1317-4EB1-BCCA-C48C18341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2727-8EB9-415E-91AF-D6A505631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7722-9A0C-4FE3-ADD8-1D450116E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70D-EA3B-4041-AE3D-E408661C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2E5-3A05-4091-9877-F940B436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478-B9F9-4CC4-8C2E-ADB1E188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E5E-4FB9-410E-AE15-931B57D4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A728-2A7E-4E64-B54B-D567255F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D179-5879-48CF-AA23-14E66C67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BD5E-3CC3-40EB-B6B2-902E904A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823D-EDFD-43B7-AC1E-0ED991CF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2212-ABE1-402A-8F6F-F79F4F37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66EA-DEF7-4020-852E-582AA2EE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FC94-DFC7-447B-BFA6-A36025F9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A61-DA39-4FD9-8E4C-762759C3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E681-C15E-4377-824E-040CB60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B8F3-F454-41D4-9652-2BB5EA87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5F93-4F0A-4F74-9ED3-CD1A520E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5721-C2FE-4A6B-A3D8-6843CAAC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8B9D-0A6A-449F-9073-D7E12167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B1F1-0503-4731-B77A-3078E665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93906-0FC1-4823-9FEB-59C02DEA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6592-AB15-4FE7-9F2B-58A2AA02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2B15-E7E0-4234-A43D-4B940B39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D42D-E0B1-441C-9633-9574CB4D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F57-C712-4653-8030-07B3F04A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D949-9017-4C35-8947-6250422D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CA68-DDE3-4760-B02E-15C08ED2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8FA7-B47C-4B50-B1C2-E47E014B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9208-315D-4E0B-87ED-608CEF0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B2AB-6EB7-4B90-800A-96B23F20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FBCC-89E9-46EE-AD0E-5DC8B83D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FF66A-A37E-45BF-BF27-1810425E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20932-B537-4A5C-9F10-D6404E43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36E5F-43DF-48C2-AB35-A058FA6D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35EC4-7EDC-4266-82CC-31122F47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215-3017-44A4-8ED9-110EF086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E4AD-7CF2-4940-8332-7005DB44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0A066-89DD-4A58-9AAD-062F0076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6DB6-6CDE-49B8-8A90-D5541AFF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476B-DF4C-48AA-961D-02EC3FF3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7D75-ACDC-407A-A154-8F0DCD9D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00E8-2524-4B3E-AC7C-BE8C4B49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7EE98-F739-4F4D-9E5D-53526F23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2E678-98C0-46E8-9052-B8AC3FB9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17DA-29CB-47EC-9F77-06CDE815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F6532-AEAF-4354-93B4-C744C3EA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115-670F-40F1-B5D8-2ADD8281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D86F0-CB1E-494B-8995-D8C53935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EA402-9382-4F25-95CA-757907D2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C7C1D-44E1-4F9F-8E88-8FC7B71D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C3CC5-E87B-4C12-B4B9-7AA6881E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F2CAC-BAAC-40E1-ACFF-8103D166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B9582-FFD8-447D-9CD6-CC30265B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16B5F-5BB4-4E31-9C85-F1BC1CDF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7CB03-9E5F-4865-8C76-A2A198C3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0977F-F7F8-42BA-AF03-D8504F34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FD02A-8E5C-465A-9E67-6260417D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044-00C7-4940-893D-89498CB8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B5FB6-B4A6-4FD3-AB56-F5F1C71A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1FA-A50A-43A7-859F-9268615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024-69EB-4912-8EBF-19AA36C9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10B-1FE8-4E0D-88A0-D142F46D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BCC4-4863-41B5-BE91-26B9B9F1EDF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55C7-282A-43B9-83F3-C3DEE10B941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91A4-4ABA-41AB-B00B-87AB682956E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A3C8-E405-41BF-9D29-4DB2AC683AE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9049-72A3-4BD1-ABBD-0204E0A7EB1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C:\Users\Public\Pictures\Новая папка\iCACB4QZY.jpg"/>
          <p:cNvPicPr/>
          <p:nvPr/>
        </p:nvPicPr>
        <p:blipFill>
          <a:blip r:embed="rId2"/>
          <a:stretch/>
        </p:blipFill>
        <p:spPr>
          <a:xfrm>
            <a:off x="571680" y="1071720"/>
            <a:ext cx="8072280" cy="27860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1714680" y="1500120"/>
            <a:ext cx="528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785960" y="2357280"/>
            <a:ext cx="678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Arial"/>
              </a:rPr>
              <a:t>Устный счёт. Матема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енко Д.И.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редняя школа №40» г. Петропавловск Камчат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3571920" y="1857240"/>
            <a:ext cx="128592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90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428840" y="5000760"/>
          <a:ext cx="5594400" cy="1285920"/>
        </p:xfrm>
        <a:graphic>
          <a:graphicData uri="http://schemas.openxmlformats.org/drawingml/2006/table">
            <a:tbl>
              <a:tblPr/>
              <a:tblGrid>
                <a:gridCol w="622080"/>
                <a:gridCol w="621000"/>
                <a:gridCol w="622080"/>
                <a:gridCol w="620640"/>
                <a:gridCol w="622440"/>
                <a:gridCol w="620640"/>
                <a:gridCol w="622440"/>
                <a:gridCol w="620640"/>
                <a:gridCol w="6224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43" name="Прямоугольник 8"/>
          <p:cNvSpPr/>
          <p:nvPr/>
        </p:nvSpPr>
        <p:spPr>
          <a:xfrm>
            <a:off x="7929720" y="3643200"/>
            <a:ext cx="64296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3571920" y="3643200"/>
            <a:ext cx="135720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19+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857160" y="2643120"/>
            <a:ext cx="135756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40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9"/>
          <p:cNvSpPr/>
          <p:nvPr/>
        </p:nvSpPr>
        <p:spPr>
          <a:xfrm>
            <a:off x="857160" y="3571920"/>
            <a:ext cx="1357560" cy="5713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45+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1"/>
          <p:cNvSpPr/>
          <p:nvPr/>
        </p:nvSpPr>
        <p:spPr>
          <a:xfrm>
            <a:off x="6429240" y="2786040"/>
            <a:ext cx="128592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46+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2"/>
          <p:cNvSpPr/>
          <p:nvPr/>
        </p:nvSpPr>
        <p:spPr>
          <a:xfrm>
            <a:off x="857160" y="1857240"/>
            <a:ext cx="135756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88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3"/>
          <p:cNvSpPr/>
          <p:nvPr/>
        </p:nvSpPr>
        <p:spPr>
          <a:xfrm>
            <a:off x="6429240" y="3643200"/>
            <a:ext cx="128592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42+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6"/>
          <p:cNvSpPr/>
          <p:nvPr/>
        </p:nvSpPr>
        <p:spPr>
          <a:xfrm>
            <a:off x="2352600" y="1863720"/>
            <a:ext cx="64296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7"/>
          <p:cNvSpPr/>
          <p:nvPr/>
        </p:nvSpPr>
        <p:spPr>
          <a:xfrm>
            <a:off x="2357280" y="3571920"/>
            <a:ext cx="66204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214960" y="3571920"/>
            <a:ext cx="642960" cy="657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0"/>
          <p:cNvSpPr/>
          <p:nvPr/>
        </p:nvSpPr>
        <p:spPr>
          <a:xfrm>
            <a:off x="5143680" y="1857240"/>
            <a:ext cx="64260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1"/>
          <p:cNvSpPr/>
          <p:nvPr/>
        </p:nvSpPr>
        <p:spPr>
          <a:xfrm>
            <a:off x="5214960" y="2786040"/>
            <a:ext cx="641160" cy="657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2357280" y="2643120"/>
            <a:ext cx="64296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7858080" y="1928880"/>
            <a:ext cx="642960" cy="5713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3571920" y="2786040"/>
            <a:ext cx="135720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70-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6429240" y="1928880"/>
            <a:ext cx="1143000" cy="5713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45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714240" y="42876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e3611"/>
                </a:solidFill>
                <a:latin typeface="Arial"/>
              </a:rPr>
              <a:t>Реши примеры и назови сказочного            ге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Управляющая кнопка: далее 27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7929720" y="2786040"/>
            <a:ext cx="64296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143160" y="714240"/>
            <a:ext cx="3500640" cy="4857840"/>
          </a:xfrm>
          <a:prstGeom prst="rect">
            <a:avLst/>
          </a:prstGeom>
          <a:ln w="0">
            <a:noFill/>
          </a:ln>
        </p:spPr>
      </p:pic>
      <p:sp>
        <p:nvSpPr>
          <p:cNvPr id="263" name="Двойная волна 2"/>
          <p:cNvSpPr/>
          <p:nvPr/>
        </p:nvSpPr>
        <p:spPr>
          <a:xfrm>
            <a:off x="2357280" y="5715000"/>
            <a:ext cx="4857840" cy="914400"/>
          </a:xfrm>
          <a:custGeom>
            <a:avLst/>
            <a:gdLst>
              <a:gd name="textAreaLeft" fmla="*/ 0 w 4857840"/>
              <a:gd name="textAreaRight" fmla="*/ 4858200 w 485784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Н. Н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428840" y="35712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e3611"/>
                </a:solidFill>
                <a:latin typeface="Arial"/>
              </a:rPr>
              <a:t>Назовите    моего   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714240" y="3571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Незнайкины 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Что такое уравн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6929280" y="2500200"/>
            <a:ext cx="221472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7"/>
          <p:cNvSpPr/>
          <p:nvPr/>
        </p:nvSpPr>
        <p:spPr>
          <a:xfrm>
            <a:off x="1143000" y="1785960"/>
            <a:ext cx="5500800" cy="100008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авенство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8"/>
          <p:cNvSpPr/>
          <p:nvPr/>
        </p:nvSpPr>
        <p:spPr>
          <a:xfrm>
            <a:off x="1214280" y="3143160"/>
            <a:ext cx="5286600" cy="1143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Деление на равные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9"/>
          <p:cNvSpPr/>
          <p:nvPr/>
        </p:nvSpPr>
        <p:spPr>
          <a:xfrm>
            <a:off x="1366920" y="4929120"/>
            <a:ext cx="5491080" cy="1143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авенство с неизвестным чис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14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25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26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"/>
          <p:cNvSpPr/>
          <p:nvPr/>
        </p:nvSpPr>
        <p:spPr>
          <a:xfrm>
            <a:off x="571680" y="571680"/>
            <a:ext cx="82152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6c5d"/>
                </a:solidFill>
                <a:latin typeface="Arial"/>
              </a:rPr>
              <a:t>Незнайкины   вопросы</a:t>
            </a:r>
            <a:r>
              <a:rPr b="1" i="1" lang="ru-RU" sz="3200" spc="-1" strike="noStrike">
                <a:solidFill>
                  <a:srgbClr val="df6c5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f6c5d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df6c5d"/>
                </a:solidFill>
                <a:latin typeface="Arial"/>
              </a:rPr>
              <a:t>Что такое квад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6c5d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Выноска-облако 10"/>
          <p:cNvSpPr/>
          <p:nvPr/>
        </p:nvSpPr>
        <p:spPr>
          <a:xfrm>
            <a:off x="3857760" y="1928880"/>
            <a:ext cx="385740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Фигура  с прямыми уг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Выноска-облако 11"/>
          <p:cNvSpPr/>
          <p:nvPr/>
        </p:nvSpPr>
        <p:spPr>
          <a:xfrm>
            <a:off x="4786200" y="3857760"/>
            <a:ext cx="4000680" cy="1571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Фигура с равными  сторонами  и прямыми  уг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Выноска-облако 12"/>
          <p:cNvSpPr/>
          <p:nvPr/>
        </p:nvSpPr>
        <p:spPr>
          <a:xfrm>
            <a:off x="571680" y="3929040"/>
            <a:ext cx="328608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расивая фиг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56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Public\Pictures\Новая папка\iCAZ21GPS.jpg"/>
          <p:cNvPicPr/>
          <p:nvPr/>
        </p:nvPicPr>
        <p:blipFill>
          <a:blip r:embed="rId1"/>
          <a:stretch/>
        </p:blipFill>
        <p:spPr>
          <a:xfrm>
            <a:off x="-19080" y="-17640"/>
            <a:ext cx="9134640" cy="6875640"/>
          </a:xfrm>
          <a:prstGeom prst="rect">
            <a:avLst/>
          </a:prstGeom>
          <a:ln w="0">
            <a:noFill/>
          </a:ln>
        </p:spPr>
      </p:pic>
      <p:sp>
        <p:nvSpPr>
          <p:cNvPr id="278" name="TextBox 2"/>
          <p:cNvSpPr/>
          <p:nvPr/>
        </p:nvSpPr>
        <p:spPr>
          <a:xfrm>
            <a:off x="1285920" y="27147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нт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 rot="20287800">
            <a:off x="4210920" y="20412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ц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 rot="20870400">
            <a:off x="6692400" y="310464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ло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1643040" y="4857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429160" y="51436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юй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500040" y="35712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f8c6a"/>
                </a:solidFill>
                <a:latin typeface="Arial"/>
              </a:rPr>
              <a:t>Какое слово лишне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857160" y="192888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8дм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786040" y="2071800"/>
            <a:ext cx="857160" cy="5713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3500280" y="20001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857160" y="314316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м7см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2786040" y="3071880"/>
            <a:ext cx="857160" cy="5713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2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3857760" y="32148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8"/>
          <p:cNvSpPr/>
          <p:nvPr/>
        </p:nvSpPr>
        <p:spPr>
          <a:xfrm>
            <a:off x="928800" y="41432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9м3см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9"/>
          <p:cNvSpPr/>
          <p:nvPr/>
        </p:nvSpPr>
        <p:spPr>
          <a:xfrm>
            <a:off x="2786040" y="4143240"/>
            <a:ext cx="85716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9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0"/>
          <p:cNvSpPr/>
          <p:nvPr/>
        </p:nvSpPr>
        <p:spPr>
          <a:xfrm>
            <a:off x="3929040" y="4214880"/>
            <a:ext cx="10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1"/>
          <p:cNvSpPr/>
          <p:nvPr/>
        </p:nvSpPr>
        <p:spPr>
          <a:xfrm>
            <a:off x="928800" y="5357880"/>
            <a:ext cx="24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5дм6мм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2"/>
          <p:cNvSpPr/>
          <p:nvPr/>
        </p:nvSpPr>
        <p:spPr>
          <a:xfrm>
            <a:off x="2857680" y="5286240"/>
            <a:ext cx="92844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5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4000680" y="535788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4"/>
          <p:cNvSpPr/>
          <p:nvPr/>
        </p:nvSpPr>
        <p:spPr>
          <a:xfrm>
            <a:off x="2000160" y="78588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Выра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C:\Users\Public\Pictures\Новая папка\Незнайка.jpg"/>
          <p:cNvPicPr/>
          <p:nvPr/>
        </p:nvPicPr>
        <p:blipFill>
          <a:blip r:embed="rId1"/>
          <a:stretch/>
        </p:blipFill>
        <p:spPr>
          <a:xfrm>
            <a:off x="6572160" y="214200"/>
            <a:ext cx="228600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6000840" cy="45212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357200" y="71424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e3611"/>
                </a:solidFill>
                <a:latin typeface="Arial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357120" y="19288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yandex.ru/#!/yandsearch?text=картинки осени для детей&amp;noreask=1&amp;img_url=www.flowersfamily.ru%2Fuserfiles%2Fklen.jpg&amp;pos=2&amp;rpt=simage&amp;lr=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"/>
          <p:cNvSpPr/>
          <p:nvPr/>
        </p:nvSpPr>
        <p:spPr>
          <a:xfrm>
            <a:off x="357120" y="364320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1.liveinternet.ru/images/attach/b/1/18127/18127513_Smaylik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майли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357120" y="29671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eka-amama.ru/upload/forum/upload/6d2/6d2a3ef5d85f849be5852102263c3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езн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Дола</cp:lastModifiedBy>
  <dcterms:modified xsi:type="dcterms:W3CDTF">2013-03-18T10:52:11Z</dcterms:modified>
  <cp:revision>86</cp:revision>
  <dc:subject/>
  <dc:title>Слайд 1</dc:title>
</cp:coreProperties>
</file>