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89F-F7B5-45DA-AE5F-2C8B7C09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818-0CDF-487F-A2F9-C5CC2C3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6AF-C683-4310-AACC-DDA8F3E7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A4C-DF9F-4A83-A01E-BE9F7AF9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96FB-A172-47DD-9533-E53E3D0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35D88-C63C-4FDC-B172-7F73CB36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05C35-189E-4D10-9284-BCC295CB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7BF5-4A7D-4F09-9F90-95B56508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62A11-D892-4AE8-A4FF-B5EA8A2D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2D56-0580-4508-9A17-3BAB0C5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E5D6E-E1DF-4331-80A5-AB9433B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E86-0113-44DC-A609-9E1C6ED0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15111-2F68-48FF-9A17-1B27208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5F058-C37F-40BD-9376-0AD372F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68955-566F-4FBF-BD6A-7359A9B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57CD-6DF8-4314-AD68-82927F8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9E0E-31B8-4D1F-A2DD-BFF484A3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F80-CD43-409C-B49B-A1F7D3F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72C-141A-4093-B686-868049B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6BB-7949-4A6B-98CF-6CEBD57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014-701C-4471-AA32-789DF49C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C31-9C2D-4531-AA12-1BD9E3A5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9AE-103C-480B-8727-6C8432D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E35-E57F-435F-8BDA-B9021C7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F32-8635-4226-8DC1-CAC0B06925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F98D-364D-4BF2-999A-8E988D78A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Слайд-шоу к непосредственной образовательной деятельности по окружающему миру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Я – Курганинец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83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598320"/>
            <a:ext cx="835164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090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1:24:01Z</dcterms:created>
  <dc:creator>Учитель</dc:creator>
  <dc:description/>
  <dc:language>en-US</dc:language>
  <cp:lastModifiedBy>Учитель</cp:lastModifiedBy>
  <dcterms:modified xsi:type="dcterms:W3CDTF">2013-03-18T11:34:57Z</dcterms:modified>
  <cp:revision>2</cp:revision>
  <dc:subject/>
  <dc:title>Слайд-шоу к непосредственной образовательной деятельности по окружающему миру</dc:title>
</cp:coreProperties>
</file>