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993-5327-410E-9BC0-36C364AA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2B6-0C85-4F09-B0B1-47320ADA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552-025A-4161-9B81-5761353B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F22-A1BC-4D52-9B90-840ADFF1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827B1-0826-4346-95F1-60BC7ACB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382DC-E492-4BC9-9B4A-747C2CA9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21E77-120C-44FE-8B1A-FE1877F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6C14-4FF0-4179-844F-9414D619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F044-BF67-4BB3-9EE6-9029B55D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B8C71-BD14-401C-9DAD-42E526C6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C10A9-7A3B-4D0C-B201-29B4BEE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8BC-4135-40E5-A987-C453FBF3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672A-0837-4558-9737-50BECC9D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86DF5-DE7B-4BAC-B841-2223CEC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6DDCC-91F0-4F68-BF30-5BE6950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D6D2-8F24-474F-84B5-3B27754F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6B838-1887-48FF-ABCD-D1CCAEDB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392-0E48-46FF-B6C5-2630BE0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094-42DB-4A26-AFE6-94617AC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556-518F-44FA-882B-4481167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C45-A40D-4297-BA19-0B178AEA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BE9-A631-460D-B0DE-B5438D8C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43A-9C03-4366-B5C4-FC5BC3F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28E-4393-436A-80EF-3233E59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4AE-7506-4C62-9456-2A9CA7649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51B-CABB-4BE8-B2EA-859DF2C3C7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Слайд-шоу к непосредственной образовательной деятельности по окружающему миру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Я – Курганинец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832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458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598320"/>
            <a:ext cx="835164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2090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1:24:01Z</dcterms:created>
  <dc:creator>Учитель</dc:creator>
  <dc:description/>
  <dc:language>en-US</dc:language>
  <cp:lastModifiedBy>Учитель</cp:lastModifiedBy>
  <dcterms:modified xsi:type="dcterms:W3CDTF">2013-03-18T11:34:57Z</dcterms:modified>
  <cp:revision>2</cp:revision>
  <dc:subject/>
  <dc:title>Слайд-шоу к непосредственной образовательной деятельности по окружающему миру</dc:title>
</cp:coreProperties>
</file>