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76C0-92F5-45BC-B638-1B2B588CB3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9F6B-75D2-4CD6-8D8D-B61B06256E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7DAA-B0AB-4A9A-9028-CBB4B623C8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B8D-5A40-40FD-B66F-37E643A5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852-FDB0-4320-8939-D9DBC465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73B-3ECA-49C2-BC12-00529134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50A-3C52-4797-9DDA-4BC2633A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1595-928B-445C-AB02-3189F244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5575-F2B0-47FB-B138-C35E838C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3BFD-B1B2-4156-83B6-365EDFE2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BD88-0612-4FCE-B3CB-90A71665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4478-05D6-4BD3-96B0-17A9D33B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B5D9-9053-4A67-BCE8-52281EE6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8AF1-820F-4690-9667-5047344A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85C-BE5C-4228-88AB-8C67DCD4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54E3-5258-4242-A92E-96B95000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5421-3B7C-4952-AE45-DAFF67A7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9E6F-0CBA-4ABB-A68A-5FD970B6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5649-F4CE-4F4F-9461-0534BCBF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AE20-FF8F-4DEA-828D-453F6ADD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D932E-3F38-43EB-884C-C0C98546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D37A7-2726-4261-8244-F22388F0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70BC-E2AB-43BC-BE4D-9EAF1A62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7765E-6D8B-478E-BFC8-3DD71CA3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287AA-0224-4AF7-85AB-606A0523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61B-5B27-4426-8B1C-F700ECCC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20E32-5DCD-4BB9-97AE-5101989D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F1CD3-6443-4083-9912-F9FA58E2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4994F-2C7A-4A3E-92A0-682F6E4C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B2BF6-5D62-4A53-848A-BF5F37EF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21DC-5C4E-44E3-BABC-87BC9F8D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A594-7B75-4BCC-95E6-12702001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FCA01-E8A0-4B1B-85E6-69E21389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90D78-9E8E-4368-80A7-D1CD8E36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C9185-8FBF-44A1-8B5F-9600D9E5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D9FA2-832D-411E-B76E-0AC7FF6D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60A-4054-477A-BF8E-EACD5D1B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F3BE4-ABE9-4557-ACAA-B49E8182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77E7D-53BD-4BC5-BEB5-EC3EC65B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3027B-DDC9-4FA7-B609-41E595B7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1734D-04BE-499B-AD75-D6A238B4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4638D-14B9-4385-86A2-B965B367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4ECD1-5734-4FD6-BDBF-AF2E64B5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DE8E5-26DE-4CDE-9A74-44B9CE35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F0A0B-A937-4446-A2FD-33CEA4FE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E02BB-6FFA-48F5-9FAA-E12EF1C5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052-8C3D-4056-9AD1-683CEA31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504-A286-4FEC-81B4-28E13265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47A-B28C-4E81-8722-EEE66BE1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72C-2305-4FD3-8ED9-76EF8788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93F-1CD7-4A53-A054-27C6A2DE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B9E3-DF9F-4211-AE8B-ADC090A27062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A9E1-BEC2-4A08-8782-9B99054B7491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4311-B355-4EC1-9B65-621F06E1A873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BE53-2735-45C5-91BE-4D7FCB07C34D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3"/>
          <p:cNvSpPr/>
          <p:nvPr/>
        </p:nvSpPr>
        <p:spPr>
          <a:xfrm>
            <a:off x="539640" y="612720"/>
            <a:ext cx="8064720" cy="45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adf3"/>
                </a:solidFill>
                <a:latin typeface="Trebuchet MS"/>
              </a:rPr>
              <a:t>Сложение и вычитание смешанн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Ц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Объяснить правила сложения и вычитания смешанных чисел и закрепить эти правила при выполнении упражнений; контроль полученных знаний и ум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Воспитывать внимательность, самостоятельность, сообрази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Развивать логическое мышление учащихся, математическую 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Тип урока: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Оборудование: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доска, м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Хронометраж: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4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1692360" y="2602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84360" y="836640"/>
          <a:ext cx="7559640" cy="5400720"/>
        </p:xfrm>
        <a:graphic>
          <a:graphicData uri="http://schemas.openxmlformats.org/drawingml/2006/table">
            <a:tbl>
              <a:tblPr/>
              <a:tblGrid>
                <a:gridCol w="493560"/>
                <a:gridCol w="1684440"/>
                <a:gridCol w="1922400"/>
                <a:gridCol w="1495440"/>
                <a:gridCol w="1963800"/>
              </a:tblGrid>
              <a:tr h="11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5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5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6(а, 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6(в, г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 (а, 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 (в, г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1692360" y="2602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Таблица 2" descr=""/>
          <p:cNvPicPr/>
          <p:nvPr/>
        </p:nvPicPr>
        <p:blipFill>
          <a:blip r:embed="rId1"/>
          <a:stretch/>
        </p:blipFill>
        <p:spPr>
          <a:xfrm>
            <a:off x="682560" y="835200"/>
            <a:ext cx="75661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68000" y="404640"/>
            <a:ext cx="806436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4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Домашнее задание к следующему уроку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24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№</a:t>
            </a: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468 (а, в)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№ </a:t>
            </a: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469 (а, в)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№ </a:t>
            </a: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471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3"/>
          <p:cNvSpPr/>
          <p:nvPr/>
        </p:nvSpPr>
        <p:spPr>
          <a:xfrm>
            <a:off x="826920" y="213372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. 29"/>
          <p:cNvSpPr/>
          <p:nvPr/>
        </p:nvSpPr>
        <p:spPr>
          <a:xfrm>
            <a:off x="0" y="11556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уализация зна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4" descr=""/>
          <p:cNvPicPr/>
          <p:nvPr/>
        </p:nvPicPr>
        <p:blipFill>
          <a:blip r:embed="rId1"/>
          <a:srcRect l="0" t="11836" r="50309" b="0"/>
          <a:stretch/>
        </p:blipFill>
        <p:spPr>
          <a:xfrm>
            <a:off x="2556000" y="3429000"/>
            <a:ext cx="3882960" cy="3240000"/>
          </a:xfrm>
          <a:prstGeom prst="rect">
            <a:avLst/>
          </a:prstGeom>
          <a:ln w="0">
            <a:noFill/>
          </a:ln>
        </p:spPr>
      </p:pic>
      <p:sp>
        <p:nvSpPr>
          <p:cNvPr id="224" name="Поле 30"/>
          <p:cNvSpPr/>
          <p:nvPr/>
        </p:nvSpPr>
        <p:spPr>
          <a:xfrm>
            <a:off x="142920" y="765000"/>
            <a:ext cx="88218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помним определение смешен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мешанные чис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это числа, в которых явно выделена целая и дробная части. Где дробная часть представляет собой правильную дроб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понятия нам потребовались для формулировки опреде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extBox 23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975816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2"/>
          <p:cNvSpPr/>
          <p:nvPr/>
        </p:nvSpPr>
        <p:spPr>
          <a:xfrm>
            <a:off x="4788000" y="3789360"/>
            <a:ext cx="215640" cy="57636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5"/>
          <p:cNvSpPr/>
          <p:nvPr/>
        </p:nvSpPr>
        <p:spPr>
          <a:xfrm>
            <a:off x="4896000" y="5805360"/>
            <a:ext cx="215640" cy="57636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5114880" y="3870360"/>
            <a:ext cx="108000" cy="49536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Группа 5"/>
          <p:cNvGrpSpPr/>
          <p:nvPr/>
        </p:nvGrpSpPr>
        <p:grpSpPr>
          <a:xfrm>
            <a:off x="2340000" y="2421000"/>
            <a:ext cx="6803640" cy="4319280"/>
            <a:chOff x="2340000" y="2421000"/>
            <a:chExt cx="6803640" cy="4319280"/>
          </a:xfrm>
        </p:grpSpPr>
        <p:sp>
          <p:nvSpPr>
            <p:cNvPr id="230" name="Поле 6"/>
            <p:cNvSpPr/>
            <p:nvPr/>
          </p:nvSpPr>
          <p:spPr>
            <a:xfrm>
              <a:off x="4629240" y="2421000"/>
              <a:ext cx="2247840" cy="39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Циф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оле 7"/>
            <p:cNvSpPr/>
            <p:nvPr/>
          </p:nvSpPr>
          <p:spPr>
            <a:xfrm>
              <a:off x="4629960" y="3074400"/>
              <a:ext cx="2247840" cy="39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оле 8"/>
            <p:cNvSpPr/>
            <p:nvPr/>
          </p:nvSpPr>
          <p:spPr>
            <a:xfrm>
              <a:off x="4641840" y="3668400"/>
              <a:ext cx="2247840" cy="39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Поле 9"/>
            <p:cNvSpPr/>
            <p:nvPr/>
          </p:nvSpPr>
          <p:spPr>
            <a:xfrm>
              <a:off x="4641480" y="4251240"/>
              <a:ext cx="2247840" cy="39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Поле 10"/>
            <p:cNvSpPr/>
            <p:nvPr/>
          </p:nvSpPr>
          <p:spPr>
            <a:xfrm>
              <a:off x="2340000" y="4933800"/>
              <a:ext cx="1310760" cy="7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Поле 11"/>
            <p:cNvSpPr/>
            <p:nvPr/>
          </p:nvSpPr>
          <p:spPr>
            <a:xfrm>
              <a:off x="3734640" y="4933800"/>
              <a:ext cx="1310760" cy="7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Поле 12"/>
            <p:cNvSpPr/>
            <p:nvPr/>
          </p:nvSpPr>
          <p:spPr>
            <a:xfrm>
              <a:off x="6483600" y="4933800"/>
              <a:ext cx="1310760" cy="7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Поле 13"/>
            <p:cNvSpPr/>
            <p:nvPr/>
          </p:nvSpPr>
          <p:spPr>
            <a:xfrm>
              <a:off x="7832880" y="4933800"/>
              <a:ext cx="1310760" cy="7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Поле 14"/>
            <p:cNvSpPr/>
            <p:nvPr/>
          </p:nvSpPr>
          <p:spPr>
            <a:xfrm>
              <a:off x="5111280" y="4933800"/>
              <a:ext cx="1310760" cy="7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мешанное числ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Поле 15"/>
            <p:cNvSpPr/>
            <p:nvPr/>
          </p:nvSpPr>
          <p:spPr>
            <a:xfrm>
              <a:off x="5112360" y="5941440"/>
              <a:ext cx="1310760" cy="7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Поле 16"/>
            <p:cNvSpPr/>
            <p:nvPr/>
          </p:nvSpPr>
          <p:spPr>
            <a:xfrm>
              <a:off x="6547680" y="5941440"/>
              <a:ext cx="1310760" cy="7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Поле 17"/>
            <p:cNvSpPr/>
            <p:nvPr/>
          </p:nvSpPr>
          <p:spPr>
            <a:xfrm>
              <a:off x="3666600" y="5941440"/>
              <a:ext cx="1310760" cy="7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Линия 18"/>
            <p:cNvSpPr/>
            <p:nvPr/>
          </p:nvSpPr>
          <p:spPr>
            <a:xfrm flipH="1">
              <a:off x="4401000" y="4667760"/>
              <a:ext cx="1344600" cy="24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Линия 19"/>
            <p:cNvSpPr/>
            <p:nvPr/>
          </p:nvSpPr>
          <p:spPr>
            <a:xfrm flipH="1">
              <a:off x="4336560" y="5740200"/>
              <a:ext cx="1249920" cy="19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Линия 20"/>
            <p:cNvSpPr/>
            <p:nvPr/>
          </p:nvSpPr>
          <p:spPr>
            <a:xfrm flipH="1">
              <a:off x="2861640" y="4660200"/>
              <a:ext cx="289872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Линия 21"/>
            <p:cNvSpPr/>
            <p:nvPr/>
          </p:nvSpPr>
          <p:spPr>
            <a:xfrm>
              <a:off x="5763960" y="4666680"/>
              <a:ext cx="135504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Линия 22"/>
            <p:cNvSpPr/>
            <p:nvPr/>
          </p:nvSpPr>
          <p:spPr>
            <a:xfrm>
              <a:off x="5793840" y="4660200"/>
              <a:ext cx="268596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Линия 23"/>
            <p:cNvSpPr/>
            <p:nvPr/>
          </p:nvSpPr>
          <p:spPr>
            <a:xfrm>
              <a:off x="6030360" y="5726160"/>
              <a:ext cx="120924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Линия 24"/>
            <p:cNvSpPr/>
            <p:nvPr/>
          </p:nvSpPr>
          <p:spPr>
            <a:xfrm flipH="1">
              <a:off x="5747040" y="4673520"/>
              <a:ext cx="180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Линия 25"/>
            <p:cNvSpPr/>
            <p:nvPr/>
          </p:nvSpPr>
          <p:spPr>
            <a:xfrm flipH="1">
              <a:off x="5763600" y="4052880"/>
              <a:ext cx="180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Линия 26"/>
            <p:cNvSpPr/>
            <p:nvPr/>
          </p:nvSpPr>
          <p:spPr>
            <a:xfrm flipH="1">
              <a:off x="5770800" y="5723640"/>
              <a:ext cx="180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Линия 27"/>
            <p:cNvSpPr/>
            <p:nvPr/>
          </p:nvSpPr>
          <p:spPr>
            <a:xfrm flipH="1">
              <a:off x="5758920" y="3459600"/>
              <a:ext cx="180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Линия 28"/>
            <p:cNvSpPr/>
            <p:nvPr/>
          </p:nvSpPr>
          <p:spPr>
            <a:xfrm flipH="1">
              <a:off x="5753160" y="2851560"/>
              <a:ext cx="180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Прямоуг. 29"/>
          <p:cNvSpPr/>
          <p:nvPr/>
        </p:nvSpPr>
        <p:spPr>
          <a:xfrm>
            <a:off x="0" y="11556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для учащих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оле 31"/>
          <p:cNvSpPr/>
          <p:nvPr/>
        </p:nvSpPr>
        <p:spPr>
          <a:xfrm>
            <a:off x="142920" y="1028880"/>
            <a:ext cx="42847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Заполните схему взаимосвязей между понятиями следующими терминами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туральное число,  обыкновенная дробь, целая часть числа, числитель дроби, десятичная система счисления, знаменатель дроби, дробная часть числа, правильная дробь, неправильная дробь, смешанное число, десятичная дробь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е 32"/>
          <p:cNvSpPr/>
          <p:nvPr/>
        </p:nvSpPr>
        <p:spPr>
          <a:xfrm>
            <a:off x="6372360" y="1197000"/>
            <a:ext cx="26287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спомните определения указанных понятий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. 4"/>
          <p:cNvSpPr/>
          <p:nvPr/>
        </p:nvSpPr>
        <p:spPr>
          <a:xfrm>
            <a:off x="0" y="42192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мните схему сложения смешанных чисе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Группа 5"/>
          <p:cNvGrpSpPr/>
          <p:nvPr/>
        </p:nvGrpSpPr>
        <p:grpSpPr>
          <a:xfrm>
            <a:off x="1979640" y="1341360"/>
            <a:ext cx="5473440" cy="2012760"/>
            <a:chOff x="1979640" y="1341360"/>
            <a:chExt cx="5473440" cy="2012760"/>
          </a:xfrm>
        </p:grpSpPr>
        <p:sp>
          <p:nvSpPr>
            <p:cNvPr id="258" name="Поле 6"/>
            <p:cNvSpPr/>
            <p:nvPr/>
          </p:nvSpPr>
          <p:spPr>
            <a:xfrm>
              <a:off x="1979640" y="1341360"/>
              <a:ext cx="5472000" cy="76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Поле 7"/>
            <p:cNvSpPr/>
            <p:nvPr/>
          </p:nvSpPr>
          <p:spPr>
            <a:xfrm>
              <a:off x="1981080" y="2593800"/>
              <a:ext cx="5472000" cy="76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Линия 8"/>
            <p:cNvSpPr/>
            <p:nvPr/>
          </p:nvSpPr>
          <p:spPr>
            <a:xfrm flipH="1">
              <a:off x="4715280" y="2116080"/>
              <a:ext cx="4680" cy="4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Группа 9"/>
          <p:cNvGrpSpPr/>
          <p:nvPr/>
        </p:nvGrpSpPr>
        <p:grpSpPr>
          <a:xfrm>
            <a:off x="1979640" y="1341360"/>
            <a:ext cx="5473440" cy="2012760"/>
            <a:chOff x="1979640" y="1341360"/>
            <a:chExt cx="5473440" cy="2012760"/>
          </a:xfrm>
        </p:grpSpPr>
        <p:sp>
          <p:nvSpPr>
            <p:cNvPr id="262" name="Поле 10"/>
            <p:cNvSpPr/>
            <p:nvPr/>
          </p:nvSpPr>
          <p:spPr>
            <a:xfrm>
              <a:off x="1979640" y="1341360"/>
              <a:ext cx="5472000" cy="76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ложить целые ч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оле 11"/>
            <p:cNvSpPr/>
            <p:nvPr/>
          </p:nvSpPr>
          <p:spPr>
            <a:xfrm>
              <a:off x="1981080" y="2593800"/>
              <a:ext cx="5472000" cy="76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ложить дробные ч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Линия 12"/>
            <p:cNvSpPr/>
            <p:nvPr/>
          </p:nvSpPr>
          <p:spPr>
            <a:xfrm flipH="1">
              <a:off x="4715280" y="2116080"/>
              <a:ext cx="4680" cy="4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Группа 13"/>
          <p:cNvGrpSpPr/>
          <p:nvPr/>
        </p:nvGrpSpPr>
        <p:grpSpPr>
          <a:xfrm>
            <a:off x="2050920" y="4508640"/>
            <a:ext cx="5473440" cy="2012400"/>
            <a:chOff x="2050920" y="4508640"/>
            <a:chExt cx="5473440" cy="2012400"/>
          </a:xfrm>
        </p:grpSpPr>
        <p:sp>
          <p:nvSpPr>
            <p:cNvPr id="266" name="Поле 14"/>
            <p:cNvSpPr/>
            <p:nvPr/>
          </p:nvSpPr>
          <p:spPr>
            <a:xfrm>
              <a:off x="2050920" y="4508640"/>
              <a:ext cx="5472000" cy="76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ле 15"/>
            <p:cNvSpPr/>
            <p:nvPr/>
          </p:nvSpPr>
          <p:spPr>
            <a:xfrm>
              <a:off x="2052360" y="5760720"/>
              <a:ext cx="5472000" cy="76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Линия 16"/>
            <p:cNvSpPr/>
            <p:nvPr/>
          </p:nvSpPr>
          <p:spPr>
            <a:xfrm flipH="1">
              <a:off x="4786560" y="5283000"/>
              <a:ext cx="4680" cy="45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Группа 17"/>
          <p:cNvGrpSpPr/>
          <p:nvPr/>
        </p:nvGrpSpPr>
        <p:grpSpPr>
          <a:xfrm>
            <a:off x="2050920" y="4508640"/>
            <a:ext cx="5473440" cy="2012400"/>
            <a:chOff x="2050920" y="4508640"/>
            <a:chExt cx="5473440" cy="2012400"/>
          </a:xfrm>
        </p:grpSpPr>
        <p:sp>
          <p:nvSpPr>
            <p:cNvPr id="270" name="Поле 18"/>
            <p:cNvSpPr/>
            <p:nvPr/>
          </p:nvSpPr>
          <p:spPr>
            <a:xfrm>
              <a:off x="2050920" y="4508640"/>
              <a:ext cx="5472000" cy="76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ычесть целые ч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оле 19"/>
            <p:cNvSpPr/>
            <p:nvPr/>
          </p:nvSpPr>
          <p:spPr>
            <a:xfrm>
              <a:off x="2052360" y="5760720"/>
              <a:ext cx="5472000" cy="76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ычесть дробные ч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Линия 20"/>
            <p:cNvSpPr/>
            <p:nvPr/>
          </p:nvSpPr>
          <p:spPr>
            <a:xfrm flipH="1">
              <a:off x="4786560" y="5283000"/>
              <a:ext cx="4680" cy="45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Прямоуг. 21"/>
          <p:cNvSpPr/>
          <p:nvPr/>
        </p:nvSpPr>
        <p:spPr>
          <a:xfrm>
            <a:off x="0" y="364428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мните схему вычитания смешанных чисе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extBox 3" descr=""/>
          <p:cNvPicPr/>
          <p:nvPr/>
        </p:nvPicPr>
        <p:blipFill>
          <a:blip r:embed="rId1"/>
          <a:stretch/>
        </p:blipFill>
        <p:spPr>
          <a:xfrm>
            <a:off x="774720" y="414360"/>
            <a:ext cx="68943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extBox 1" descr=""/>
          <p:cNvPicPr/>
          <p:nvPr/>
        </p:nvPicPr>
        <p:blipFill>
          <a:blip r:embed="rId1"/>
          <a:stretch/>
        </p:blipFill>
        <p:spPr>
          <a:xfrm>
            <a:off x="219240" y="476280"/>
            <a:ext cx="857088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extBox 1" descr=""/>
          <p:cNvPicPr/>
          <p:nvPr/>
        </p:nvPicPr>
        <p:blipFill>
          <a:blip r:embed="rId1"/>
          <a:stretch/>
        </p:blipFill>
        <p:spPr>
          <a:xfrm>
            <a:off x="530280" y="317520"/>
            <a:ext cx="77119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extBox 1" descr=""/>
          <p:cNvPicPr/>
          <p:nvPr/>
        </p:nvPicPr>
        <p:blipFill>
          <a:blip r:embed="rId1"/>
          <a:stretch/>
        </p:blipFill>
        <p:spPr>
          <a:xfrm>
            <a:off x="237960" y="249120"/>
            <a:ext cx="846792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20:45:08Z</dcterms:created>
  <dc:creator>DJeKa Kulikov &amp; Ok$ana</dc:creator>
  <dc:description/>
  <dc:language>en-US</dc:language>
  <cp:lastModifiedBy>Admin</cp:lastModifiedBy>
  <dcterms:modified xsi:type="dcterms:W3CDTF">2013-03-18T18:40:34Z</dcterms:modified>
  <cp:revision>44</cp:revision>
  <dc:subject/>
  <dc:title>Анализ внутрипредметных связей по математике на основе построения иерархической понятийной сети знаний      Выполнила:       студентка 5 курса      группы МФ-5      Куликова О.П. </dc:title>
</cp:coreProperties>
</file>