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7529-9BC0-4EB3-8695-EA81EEDE6A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2D8-F24F-4603-A669-863F91787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2FD-EC47-4EAA-8643-7452D57120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538-D016-4FC8-9B28-B70F6F98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6BA-A23B-4077-8964-DAA4E449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EC1-A28F-4A26-91FB-100CA11F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6D1-D63B-4D3F-83ED-ECDFC76E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686-458B-47B9-B7F2-BE580912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E0C4-4F5C-44B0-94CE-C175C5C8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F5B3-96F1-4892-8765-7C807AF0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D9D0-DF75-4726-AE10-91406CCB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B1AD-DEFB-4836-BB1D-4CE981B5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0824-F1AA-4E9E-83DC-AE0333C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CA77-5968-44FD-AFD7-7CA1B8F8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441-9D17-4280-939B-89E547C4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F484-1081-43AA-95BD-DD0EE895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3A3-1BDC-43AB-AE5E-5692DC5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A209-CEC4-43E0-9C21-66122A30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E805-C43B-4BA0-9CBB-47AED632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2B17-7739-49DC-ABC9-5DE0338F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8ED6-EE68-4A62-A9F6-E2F15D3F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26F2-2987-4BA7-A4DE-11086A81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1DD1-1F72-467A-9FE2-DED0513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2149-8A52-4546-B081-DE59F45B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A2B0-186C-4748-ACA8-8157658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F37-44DE-4841-847A-D2AB43E6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0FDA-E681-42F7-950D-EDF6B2FB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6B7E-2891-4269-9C0B-346F6AE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7498-0E09-4430-B696-A8785A66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472E-CF5B-44DC-9E6B-B3DC58EB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9C62-35F3-4A97-A9C2-F4C09DE9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64DC-4EEE-4C15-A865-44C0A002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2933-5F90-4F7B-A276-ECE883FF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A8BC-3126-480F-B093-169770B7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0A2D-277F-49EB-96E4-7CA4FD7D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C085-70CE-4470-BCB6-CD8AD40B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81E-6D5B-44BB-826F-C37C5349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94E6-25EE-41B2-97B3-BCFB3289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46CC-EF9A-4E59-B792-C2CB87C9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9C2C-E1F0-487A-95E6-AAA1922D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4B1CB-82C7-481B-879E-0EE99BD8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0F76-FFDF-4927-A926-35002E38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F725D-E6CB-43A3-9F1B-F1EE365F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DD75B-9A84-4763-BE8D-F6BE6FD0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D0C2-295D-40CC-BFC9-C44C3A30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0EA2-B6D0-479B-967D-8568C2DB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AEE-D246-4BB8-BAB0-6686EC6B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C89-A3E9-46B4-80A7-2F1A2E71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DE4-4FB8-47CA-8CE7-4F1E9B3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1BA-085E-4644-B1E2-4CBB7927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75D-D034-427A-8196-70F97B3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7DAF-0485-4FC4-B21B-30C71F1AD79F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EEF6-7EEA-4290-B6C3-BF29DC9DF335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3FDC-C225-4CAE-B64C-6E7147BF085F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F2AA-92EB-44A3-9331-D09A55036C4E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3"/>
          <p:cNvSpPr/>
          <p:nvPr/>
        </p:nvSpPr>
        <p:spPr>
          <a:xfrm>
            <a:off x="539640" y="612720"/>
            <a:ext cx="806472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adf3"/>
                </a:solidFill>
                <a:latin typeface="Trebuchet MS"/>
              </a:rPr>
              <a:t>Сложение и вычитание смешан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Объяснить правила сложения и вычитания смешанных чисел и закрепить эти правила при выполнении упражнений; контроль полученных знаний и ум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Воспитывать внимательность, самостоятельность, сообрази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звивать логическое мышление учащихся, математическую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Тип урока: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Оборудование: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доска, м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Хронометраж: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4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1692360" y="260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4360" y="836640"/>
          <a:ext cx="7559640" cy="5400720"/>
        </p:xfrm>
        <a:graphic>
          <a:graphicData uri="http://schemas.openxmlformats.org/drawingml/2006/table">
            <a:tbl>
              <a:tblPr/>
              <a:tblGrid>
                <a:gridCol w="493560"/>
                <a:gridCol w="1684440"/>
                <a:gridCol w="1922400"/>
                <a:gridCol w="1495440"/>
                <a:gridCol w="1963800"/>
              </a:tblGrid>
              <a:tr h="11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(а, 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(в, г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 (а, 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 (в, 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92360" y="260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Таблица 2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566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68000" y="404640"/>
            <a:ext cx="806436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Домашнее задание к следующему уроку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4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№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468 (а, в)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№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469 (а, в)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№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471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826920" y="213372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. 29"/>
          <p:cNvSpPr/>
          <p:nvPr/>
        </p:nvSpPr>
        <p:spPr>
          <a:xfrm>
            <a:off x="0" y="11556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изация зн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"/>
          <p:cNvPicPr/>
          <p:nvPr/>
        </p:nvPicPr>
        <p:blipFill>
          <a:blip r:embed="rId1"/>
          <a:srcRect l="0" t="11836" r="50309" b="0"/>
          <a:stretch/>
        </p:blipFill>
        <p:spPr>
          <a:xfrm>
            <a:off x="2556000" y="3429000"/>
            <a:ext cx="3882960" cy="3240000"/>
          </a:xfrm>
          <a:prstGeom prst="rect">
            <a:avLst/>
          </a:prstGeom>
          <a:ln w="0">
            <a:noFill/>
          </a:ln>
        </p:spPr>
      </p:pic>
      <p:sp>
        <p:nvSpPr>
          <p:cNvPr id="224" name="Поле 30"/>
          <p:cNvSpPr/>
          <p:nvPr/>
        </p:nvSpPr>
        <p:spPr>
          <a:xfrm>
            <a:off x="142920" y="765000"/>
            <a:ext cx="882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помним определение смешен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ешанные чис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это числа, в которых явно выделена целая и дробная части. Где дробная часть представляет собой правильную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понятия нам потребовались для формулировки опреде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extBox 23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975816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2"/>
          <p:cNvSpPr/>
          <p:nvPr/>
        </p:nvSpPr>
        <p:spPr>
          <a:xfrm>
            <a:off x="4788000" y="3789360"/>
            <a:ext cx="215640" cy="5763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4896000" y="5805360"/>
            <a:ext cx="215640" cy="5763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5114880" y="3870360"/>
            <a:ext cx="108000" cy="4953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Группа 5"/>
          <p:cNvGrpSpPr/>
          <p:nvPr/>
        </p:nvGrpSpPr>
        <p:grpSpPr>
          <a:xfrm>
            <a:off x="2340000" y="2421000"/>
            <a:ext cx="6803640" cy="4319280"/>
            <a:chOff x="2340000" y="2421000"/>
            <a:chExt cx="6803640" cy="4319280"/>
          </a:xfrm>
        </p:grpSpPr>
        <p:sp>
          <p:nvSpPr>
            <p:cNvPr id="230" name="Поле 6"/>
            <p:cNvSpPr/>
            <p:nvPr/>
          </p:nvSpPr>
          <p:spPr>
            <a:xfrm>
              <a:off x="4629240" y="2421000"/>
              <a:ext cx="224784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иф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оле 7"/>
            <p:cNvSpPr/>
            <p:nvPr/>
          </p:nvSpPr>
          <p:spPr>
            <a:xfrm>
              <a:off x="4629960" y="3074400"/>
              <a:ext cx="224784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оле 8"/>
            <p:cNvSpPr/>
            <p:nvPr/>
          </p:nvSpPr>
          <p:spPr>
            <a:xfrm>
              <a:off x="4641840" y="3668400"/>
              <a:ext cx="224784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оле 9"/>
            <p:cNvSpPr/>
            <p:nvPr/>
          </p:nvSpPr>
          <p:spPr>
            <a:xfrm>
              <a:off x="4641480" y="4251240"/>
              <a:ext cx="224784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оле 10"/>
            <p:cNvSpPr/>
            <p:nvPr/>
          </p:nvSpPr>
          <p:spPr>
            <a:xfrm>
              <a:off x="234000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оле 11"/>
            <p:cNvSpPr/>
            <p:nvPr/>
          </p:nvSpPr>
          <p:spPr>
            <a:xfrm>
              <a:off x="373464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оле 12"/>
            <p:cNvSpPr/>
            <p:nvPr/>
          </p:nvSpPr>
          <p:spPr>
            <a:xfrm>
              <a:off x="648360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оле 13"/>
            <p:cNvSpPr/>
            <p:nvPr/>
          </p:nvSpPr>
          <p:spPr>
            <a:xfrm>
              <a:off x="783288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Поле 14"/>
            <p:cNvSpPr/>
            <p:nvPr/>
          </p:nvSpPr>
          <p:spPr>
            <a:xfrm>
              <a:off x="511128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мешанное числ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оле 15"/>
            <p:cNvSpPr/>
            <p:nvPr/>
          </p:nvSpPr>
          <p:spPr>
            <a:xfrm>
              <a:off x="5112360" y="594144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оле 16"/>
            <p:cNvSpPr/>
            <p:nvPr/>
          </p:nvSpPr>
          <p:spPr>
            <a:xfrm>
              <a:off x="6547680" y="594144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оле 17"/>
            <p:cNvSpPr/>
            <p:nvPr/>
          </p:nvSpPr>
          <p:spPr>
            <a:xfrm>
              <a:off x="3666600" y="594144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Линия 18"/>
            <p:cNvSpPr/>
            <p:nvPr/>
          </p:nvSpPr>
          <p:spPr>
            <a:xfrm flipH="1">
              <a:off x="4401000" y="4667760"/>
              <a:ext cx="134460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Линия 19"/>
            <p:cNvSpPr/>
            <p:nvPr/>
          </p:nvSpPr>
          <p:spPr>
            <a:xfrm flipH="1">
              <a:off x="4336560" y="5740200"/>
              <a:ext cx="1249920" cy="19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Линия 20"/>
            <p:cNvSpPr/>
            <p:nvPr/>
          </p:nvSpPr>
          <p:spPr>
            <a:xfrm flipH="1">
              <a:off x="2861640" y="4660200"/>
              <a:ext cx="289872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Линия 21"/>
            <p:cNvSpPr/>
            <p:nvPr/>
          </p:nvSpPr>
          <p:spPr>
            <a:xfrm>
              <a:off x="5763960" y="4666680"/>
              <a:ext cx="135504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Линия 22"/>
            <p:cNvSpPr/>
            <p:nvPr/>
          </p:nvSpPr>
          <p:spPr>
            <a:xfrm>
              <a:off x="5793840" y="4660200"/>
              <a:ext cx="268596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Линия 23"/>
            <p:cNvSpPr/>
            <p:nvPr/>
          </p:nvSpPr>
          <p:spPr>
            <a:xfrm>
              <a:off x="6030360" y="5726160"/>
              <a:ext cx="120924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Линия 24"/>
            <p:cNvSpPr/>
            <p:nvPr/>
          </p:nvSpPr>
          <p:spPr>
            <a:xfrm flipH="1">
              <a:off x="5747040" y="467352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Линия 25"/>
            <p:cNvSpPr/>
            <p:nvPr/>
          </p:nvSpPr>
          <p:spPr>
            <a:xfrm flipH="1">
              <a:off x="5763600" y="405288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Линия 26"/>
            <p:cNvSpPr/>
            <p:nvPr/>
          </p:nvSpPr>
          <p:spPr>
            <a:xfrm flipH="1">
              <a:off x="5770800" y="572364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Линия 27"/>
            <p:cNvSpPr/>
            <p:nvPr/>
          </p:nvSpPr>
          <p:spPr>
            <a:xfrm flipH="1">
              <a:off x="5758920" y="345960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Линия 28"/>
            <p:cNvSpPr/>
            <p:nvPr/>
          </p:nvSpPr>
          <p:spPr>
            <a:xfrm flipH="1">
              <a:off x="5753160" y="285156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рямоуг. 29"/>
          <p:cNvSpPr/>
          <p:nvPr/>
        </p:nvSpPr>
        <p:spPr>
          <a:xfrm>
            <a:off x="0" y="11556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е 31"/>
          <p:cNvSpPr/>
          <p:nvPr/>
        </p:nvSpPr>
        <p:spPr>
          <a:xfrm>
            <a:off x="142920" y="1028880"/>
            <a:ext cx="42847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Заполните схему взаимосвязей между понятиями следующими терминами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туральное число,  обыкновенная дробь, целая часть числа, числитель дроби, десятичная система счисления, знаменатель дроби, дробная часть числа, правильная дробь, неправильная дробь, смешанное число, десятичная дробь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е 32"/>
          <p:cNvSpPr/>
          <p:nvPr/>
        </p:nvSpPr>
        <p:spPr>
          <a:xfrm>
            <a:off x="6372360" y="1197000"/>
            <a:ext cx="26287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спомните определения указанных поняти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. 4"/>
          <p:cNvSpPr/>
          <p:nvPr/>
        </p:nvSpPr>
        <p:spPr>
          <a:xfrm>
            <a:off x="0" y="42192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схему сложения смешан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Группа 5"/>
          <p:cNvGrpSpPr/>
          <p:nvPr/>
        </p:nvGrpSpPr>
        <p:grpSpPr>
          <a:xfrm>
            <a:off x="1979640" y="1341360"/>
            <a:ext cx="5473440" cy="2012760"/>
            <a:chOff x="1979640" y="1341360"/>
            <a:chExt cx="5473440" cy="2012760"/>
          </a:xfrm>
        </p:grpSpPr>
        <p:sp>
          <p:nvSpPr>
            <p:cNvPr id="258" name="Поле 6"/>
            <p:cNvSpPr/>
            <p:nvPr/>
          </p:nvSpPr>
          <p:spPr>
            <a:xfrm>
              <a:off x="1979640" y="134136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оле 7"/>
            <p:cNvSpPr/>
            <p:nvPr/>
          </p:nvSpPr>
          <p:spPr>
            <a:xfrm>
              <a:off x="1981080" y="259380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Линия 8"/>
            <p:cNvSpPr/>
            <p:nvPr/>
          </p:nvSpPr>
          <p:spPr>
            <a:xfrm flipH="1">
              <a:off x="4715280" y="2116080"/>
              <a:ext cx="468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9"/>
          <p:cNvGrpSpPr/>
          <p:nvPr/>
        </p:nvGrpSpPr>
        <p:grpSpPr>
          <a:xfrm>
            <a:off x="1979640" y="1341360"/>
            <a:ext cx="5473440" cy="2012760"/>
            <a:chOff x="1979640" y="1341360"/>
            <a:chExt cx="5473440" cy="2012760"/>
          </a:xfrm>
        </p:grpSpPr>
        <p:sp>
          <p:nvSpPr>
            <p:cNvPr id="262" name="Поле 10"/>
            <p:cNvSpPr/>
            <p:nvPr/>
          </p:nvSpPr>
          <p:spPr>
            <a:xfrm>
              <a:off x="1979640" y="134136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ложить целые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е 11"/>
            <p:cNvSpPr/>
            <p:nvPr/>
          </p:nvSpPr>
          <p:spPr>
            <a:xfrm>
              <a:off x="1981080" y="259380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ложить дробные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Линия 12"/>
            <p:cNvSpPr/>
            <p:nvPr/>
          </p:nvSpPr>
          <p:spPr>
            <a:xfrm flipH="1">
              <a:off x="4715280" y="2116080"/>
              <a:ext cx="468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Группа 13"/>
          <p:cNvGrpSpPr/>
          <p:nvPr/>
        </p:nvGrpSpPr>
        <p:grpSpPr>
          <a:xfrm>
            <a:off x="2050920" y="4508640"/>
            <a:ext cx="5473440" cy="2012400"/>
            <a:chOff x="2050920" y="4508640"/>
            <a:chExt cx="5473440" cy="2012400"/>
          </a:xfrm>
        </p:grpSpPr>
        <p:sp>
          <p:nvSpPr>
            <p:cNvPr id="266" name="Поле 14"/>
            <p:cNvSpPr/>
            <p:nvPr/>
          </p:nvSpPr>
          <p:spPr>
            <a:xfrm>
              <a:off x="2050920" y="450864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е 15"/>
            <p:cNvSpPr/>
            <p:nvPr/>
          </p:nvSpPr>
          <p:spPr>
            <a:xfrm>
              <a:off x="2052360" y="576072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Линия 16"/>
            <p:cNvSpPr/>
            <p:nvPr/>
          </p:nvSpPr>
          <p:spPr>
            <a:xfrm flipH="1">
              <a:off x="4786560" y="5283000"/>
              <a:ext cx="4680" cy="45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Группа 17"/>
          <p:cNvGrpSpPr/>
          <p:nvPr/>
        </p:nvGrpSpPr>
        <p:grpSpPr>
          <a:xfrm>
            <a:off x="2050920" y="4508640"/>
            <a:ext cx="5473440" cy="2012400"/>
            <a:chOff x="2050920" y="4508640"/>
            <a:chExt cx="5473440" cy="2012400"/>
          </a:xfrm>
        </p:grpSpPr>
        <p:sp>
          <p:nvSpPr>
            <p:cNvPr id="270" name="Поле 18"/>
            <p:cNvSpPr/>
            <p:nvPr/>
          </p:nvSpPr>
          <p:spPr>
            <a:xfrm>
              <a:off x="2050920" y="450864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ычесть целые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е 19"/>
            <p:cNvSpPr/>
            <p:nvPr/>
          </p:nvSpPr>
          <p:spPr>
            <a:xfrm>
              <a:off x="2052360" y="576072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ычесть дробные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Линия 20"/>
            <p:cNvSpPr/>
            <p:nvPr/>
          </p:nvSpPr>
          <p:spPr>
            <a:xfrm flipH="1">
              <a:off x="4786560" y="5283000"/>
              <a:ext cx="4680" cy="45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Прямоуг. 21"/>
          <p:cNvSpPr/>
          <p:nvPr/>
        </p:nvSpPr>
        <p:spPr>
          <a:xfrm>
            <a:off x="0" y="364428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схему вычитания смешан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extBox 3" descr=""/>
          <p:cNvPicPr/>
          <p:nvPr/>
        </p:nvPicPr>
        <p:blipFill>
          <a:blip r:embed="rId1"/>
          <a:stretch/>
        </p:blipFill>
        <p:spPr>
          <a:xfrm>
            <a:off x="774720" y="414360"/>
            <a:ext cx="68943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extBox 1" descr=""/>
          <p:cNvPicPr/>
          <p:nvPr/>
        </p:nvPicPr>
        <p:blipFill>
          <a:blip r:embed="rId1"/>
          <a:stretch/>
        </p:blipFill>
        <p:spPr>
          <a:xfrm>
            <a:off x="219240" y="476280"/>
            <a:ext cx="85708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extBox 1" descr=""/>
          <p:cNvPicPr/>
          <p:nvPr/>
        </p:nvPicPr>
        <p:blipFill>
          <a:blip r:embed="rId1"/>
          <a:stretch/>
        </p:blipFill>
        <p:spPr>
          <a:xfrm>
            <a:off x="530280" y="317520"/>
            <a:ext cx="77119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extBox 1" descr=""/>
          <p:cNvPicPr/>
          <p:nvPr/>
        </p:nvPicPr>
        <p:blipFill>
          <a:blip r:embed="rId1"/>
          <a:stretch/>
        </p:blipFill>
        <p:spPr>
          <a:xfrm>
            <a:off x="237960" y="249120"/>
            <a:ext cx="846792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0:45:08Z</dcterms:created>
  <dc:creator>DJeKa Kulikov &amp; Ok$ana</dc:creator>
  <dc:description/>
  <dc:language>en-US</dc:language>
  <cp:lastModifiedBy>Admin</cp:lastModifiedBy>
  <dcterms:modified xsi:type="dcterms:W3CDTF">2013-03-18T18:40:34Z</dcterms:modified>
  <cp:revision>44</cp:revision>
  <dc:subject/>
  <dc:title>Анализ внутрипредметных связей по математике на основе построения иерархической понятийной сети знаний      Выполнила:       студентка 5 курса      группы МФ-5      Куликова О.П. </dc:title>
</cp:coreProperties>
</file>