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468F-230F-4EA5-BDA5-178AD616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7245-0DD6-4E28-91F0-7CD13753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42B-7E50-4500-A128-19DB763D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F3BB-D787-440B-9C50-98D64CBC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46F7-36EC-49E2-A34A-93DCF5F3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610-4E34-4197-8C85-211C225E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B06E-07D9-4CDC-B658-6006E2CD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C6B-610B-48F3-9530-A544783F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DAE8-252B-41EC-9C2B-38202013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71A8-4115-4707-BD79-BF24D6B3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5C30-D72D-4D8E-A92E-CAD9DABE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786-6B75-4225-BBBE-551D39F2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E546-5EBA-4024-A50F-D495BFE047C6}" type="slidenum">
              <a:rPr b="0" lang="en-US" sz="14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hyperlink" Target="http://standart.edu.ru/" TargetMode="External"/><Relationship Id="rId9" Type="http://schemas.openxmlformats.org/officeDocument/2006/relationships/hyperlink" Target="http://standart.edu.ru/" TargetMode="External"/><Relationship Id="rId10" Type="http://schemas.openxmlformats.org/officeDocument/2006/relationships/hyperlink" Target="http://standart.edu.ru/" TargetMode="Externa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241128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AutoShape 7">
            <a:hlinkClick r:id="rId1" action="ppaction://hlinksldjump"/>
          </p:cNvPr>
          <p:cNvSpPr/>
          <p:nvPr/>
        </p:nvSpPr>
        <p:spPr>
          <a:xfrm>
            <a:off x="0" y="333360"/>
            <a:ext cx="2268360" cy="72072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Georgia"/>
              </a:rPr>
              <a:t>Титул портфолио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AutoShape 8">
            <a:hlinkClick r:id="rId2" action="ppaction://hlinksldjump"/>
          </p:cNvPr>
          <p:cNvSpPr/>
          <p:nvPr/>
        </p:nvSpPr>
        <p:spPr>
          <a:xfrm>
            <a:off x="0" y="1197000"/>
            <a:ext cx="2268360" cy="79056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Общие    сведения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AutoShape 9">
            <a:hlinkClick r:id="rId3" action="ppaction://hlinksldjump"/>
          </p:cNvPr>
          <p:cNvSpPr/>
          <p:nvPr/>
        </p:nvSpPr>
        <p:spPr>
          <a:xfrm>
            <a:off x="0" y="2205000"/>
            <a:ext cx="2268360" cy="79236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AutoShape 10">
            <a:hlinkClick r:id="rId4" action="ppaction://hlinksldjump"/>
          </p:cNvPr>
          <p:cNvSpPr/>
          <p:nvPr/>
        </p:nvSpPr>
        <p:spPr>
          <a:xfrm>
            <a:off x="0" y="3141720"/>
            <a:ext cx="2268360" cy="79200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Научно-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методическая  деятельность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AutoShape 11">
            <a:hlinkClick r:id="rId5" action="ppaction://hlinksldjump"/>
          </p:cNvPr>
          <p:cNvSpPr/>
          <p:nvPr/>
        </p:nvSpPr>
        <p:spPr>
          <a:xfrm>
            <a:off x="0" y="4149720"/>
            <a:ext cx="2268360" cy="79200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AutoShape 16">
            <a:hlinkClick r:id="rId6" action="ppaction://hlinksldjump"/>
          </p:cNvPr>
          <p:cNvSpPr/>
          <p:nvPr/>
        </p:nvSpPr>
        <p:spPr>
          <a:xfrm>
            <a:off x="0" y="5084640"/>
            <a:ext cx="2268360" cy="72072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Учебно-материальная база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28600" y="1928520"/>
            <a:ext cx="570708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4400" spc="-1" strike="noStrike">
                <a:solidFill>
                  <a:srgbClr val="222268"/>
                </a:solidFill>
                <a:latin typeface="Georgia"/>
              </a:rPr>
              <a:t>Портфолио  </a:t>
            </a:r>
            <a:r>
              <a:rPr b="1" lang="ru-RU" sz="3200" spc="-1" strike="noStrike">
                <a:solidFill>
                  <a:srgbClr val="222268"/>
                </a:solidFill>
                <a:latin typeface="Georgia"/>
              </a:rPr>
              <a:t>директора школы </a:t>
            </a:r>
            <a:br>
              <a:rPr sz="3200"/>
            </a:br>
            <a:br>
              <a:rPr sz="800"/>
            </a:br>
            <a:r>
              <a:rPr b="1" lang="ru-RU" sz="800" spc="-1" strike="noStrike">
                <a:solidFill>
                  <a:srgbClr val="222268"/>
                </a:solidFill>
                <a:latin typeface="Georgia"/>
              </a:rPr>
              <a:t>          </a:t>
            </a:r>
            <a:r>
              <a:rPr b="1" lang="ru-RU" sz="3200" spc="-1" strike="noStrike">
                <a:solidFill>
                  <a:srgbClr val="222268"/>
                </a:solidFill>
                <a:latin typeface="Georgia"/>
              </a:rPr>
              <a:t>Ю.А. Ребзон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0">
            <a:hlinkClick r:id="rId7" action="ppaction://hlinksldjump"/>
          </p:cNvPr>
          <p:cNvSpPr/>
          <p:nvPr/>
        </p:nvSpPr>
        <p:spPr>
          <a:xfrm>
            <a:off x="0" y="5950080"/>
            <a:ext cx="2268360" cy="71892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Отзывы, награждения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2484360" y="476280"/>
            <a:ext cx="6278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«Каменская средняя общеобразовательная школа»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4500720" y="5805360"/>
            <a:ext cx="27288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    </a:t>
            </a: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с. Каменка, 2013 год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Молния 15"/>
          <p:cNvSpPr/>
          <p:nvPr/>
        </p:nvSpPr>
        <p:spPr>
          <a:xfrm>
            <a:off x="11917440" y="3573360"/>
            <a:ext cx="71280" cy="46080"/>
          </a:xfrm>
          <a:prstGeom prst="lightningBol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AutoShape 3">
            <a:hlinkClick r:id="rId1" action="ppaction://hlinksldjump"/>
          </p:cNvPr>
          <p:cNvSpPr/>
          <p:nvPr/>
        </p:nvSpPr>
        <p:spPr>
          <a:xfrm>
            <a:off x="0" y="214200"/>
            <a:ext cx="1835280" cy="5508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2" name="AutoShape 3">
            <a:hlinkClick r:id="rId2" action="ppaction://hlinksldjump"/>
          </p:cNvPr>
          <p:cNvSpPr/>
          <p:nvPr/>
        </p:nvSpPr>
        <p:spPr>
          <a:xfrm>
            <a:off x="0" y="907920"/>
            <a:ext cx="1835280" cy="5922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AutoShape 3">
            <a:hlinkClick r:id="rId3" action="ppaction://hlinksldjump"/>
          </p:cNvPr>
          <p:cNvSpPr/>
          <p:nvPr/>
        </p:nvSpPr>
        <p:spPr>
          <a:xfrm>
            <a:off x="0" y="1643040"/>
            <a:ext cx="1835280" cy="585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4" name="AutoShape 3">
            <a:hlinkClick r:id="rId4" action="ppaction://hlinksldjump"/>
          </p:cNvPr>
          <p:cNvSpPr/>
          <p:nvPr/>
        </p:nvSpPr>
        <p:spPr>
          <a:xfrm>
            <a:off x="0" y="2357280"/>
            <a:ext cx="1835280" cy="5716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AutoShape 3">
            <a:hlinkClick r:id="rId5" action="ppaction://hlinksldjump"/>
          </p:cNvPr>
          <p:cNvSpPr/>
          <p:nvPr/>
        </p:nvSpPr>
        <p:spPr>
          <a:xfrm>
            <a:off x="500040" y="3071880"/>
            <a:ext cx="1835280" cy="6476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Научно-методическ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AutoShape 3">
            <a:hlinkClick r:id="rId6" action="ppaction://hlinksldjump"/>
          </p:cNvPr>
          <p:cNvSpPr/>
          <p:nvPr/>
        </p:nvSpPr>
        <p:spPr>
          <a:xfrm>
            <a:off x="0" y="3857760"/>
            <a:ext cx="1835280" cy="6508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AutoShape 3">
            <a:hlinkClick r:id="rId7" action="ppaction://hlinksldjump"/>
          </p:cNvPr>
          <p:cNvSpPr/>
          <p:nvPr/>
        </p:nvSpPr>
        <p:spPr>
          <a:xfrm>
            <a:off x="0" y="4724280"/>
            <a:ext cx="1835280" cy="5716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928600" y="1571400"/>
            <a:ext cx="5545080" cy="350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268"/>
            </a:solidFill>
            <a:miter/>
          </a:ln>
        </p:spPr>
        <p:txBody>
          <a:bodyPr anchor="t">
            <a:noAutofit/>
          </a:bodyPr>
          <a:p>
            <a:pPr marL="187200">
              <a:lnSpc>
                <a:spcPct val="90000"/>
              </a:lnSpc>
              <a:spcBef>
                <a:spcPts val="125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На базе школы открыты 2 места для 2-х учителей работающих по программе дистанционного обучения детей инвалидов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90000"/>
              </a:lnSpc>
              <a:spcBef>
                <a:spcPts val="125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90000"/>
              </a:lnSpc>
              <a:spcBef>
                <a:spcPts val="125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Активно используются  современные образовательные технологии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, в том числе и информационно-коммуникационных, технологий обучения и воспитания детей с проблемами развития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18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18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2484360" y="404640"/>
            <a:ext cx="66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05040" indent="-1805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Научно – методическая   деятельность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AutoShape 3">
            <a:hlinkClick r:id="rId1" action="ppaction://hlinksldjump"/>
          </p:cNvPr>
          <p:cNvSpPr/>
          <p:nvPr/>
        </p:nvSpPr>
        <p:spPr>
          <a:xfrm>
            <a:off x="0" y="260280"/>
            <a:ext cx="1835280" cy="5968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AutoShape 3">
            <a:hlinkClick r:id="rId2" action="ppaction://hlinksldjump"/>
          </p:cNvPr>
          <p:cNvSpPr/>
          <p:nvPr/>
        </p:nvSpPr>
        <p:spPr>
          <a:xfrm>
            <a:off x="0" y="1000080"/>
            <a:ext cx="1835280" cy="5763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AutoShape 3">
            <a:hlinkClick r:id="rId3" action="ppaction://hlinksldjump"/>
          </p:cNvPr>
          <p:cNvSpPr/>
          <p:nvPr/>
        </p:nvSpPr>
        <p:spPr>
          <a:xfrm>
            <a:off x="0" y="1714680"/>
            <a:ext cx="1835280" cy="5745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AutoShape 3">
            <a:hlinkClick r:id="rId4" action="ppaction://hlinksldjump"/>
          </p:cNvPr>
          <p:cNvSpPr/>
          <p:nvPr/>
        </p:nvSpPr>
        <p:spPr>
          <a:xfrm>
            <a:off x="0" y="242892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7" name="AutoShape 3">
            <a:hlinkClick r:id="rId5" action="ppaction://hlinksldjump"/>
          </p:cNvPr>
          <p:cNvSpPr/>
          <p:nvPr/>
        </p:nvSpPr>
        <p:spPr>
          <a:xfrm>
            <a:off x="0" y="307188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AutoShape 3">
            <a:hlinkClick r:id="rId6" action="ppaction://hlinksldjump"/>
          </p:cNvPr>
          <p:cNvSpPr/>
          <p:nvPr/>
        </p:nvSpPr>
        <p:spPr>
          <a:xfrm>
            <a:off x="428760" y="3929040"/>
            <a:ext cx="183492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AutoShape 3">
            <a:hlinkClick r:id="rId7" action="ppaction://hlinksldjump"/>
          </p:cNvPr>
          <p:cNvSpPr/>
          <p:nvPr/>
        </p:nvSpPr>
        <p:spPr>
          <a:xfrm>
            <a:off x="0" y="501336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2987640" y="999720"/>
            <a:ext cx="5184720" cy="535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268"/>
            </a:solidFill>
            <a:miter/>
          </a:ln>
        </p:spPr>
        <p:txBody>
          <a:bodyPr anchor="t">
            <a:noAutofit/>
          </a:bodyPr>
          <a:p>
            <a:pPr marL="187200">
              <a:spcBef>
                <a:spcPts val="125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15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В школе имеется 17 кабинетов, оснащённых всем необходимым оборудованием, актовый и спортивный залы, медицинский блок ( кабинет для приёма больных, процедурная), столовая с обеденным залом на 72 посадочных места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15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Имеются и активно применяются  в процессе обучения технические средства обучения: 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28 компьютеров, из них 23 используются в учебных целях, 7 мультимедийных проекторов, экраны, телевизоры, видеомагнитофоны, музыкальные центры и другие ТСО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3071880" y="357120"/>
            <a:ext cx="46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Учебно-материальная база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-458640"/>
            <a:ext cx="2268360" cy="731664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AutoShape 3">
            <a:hlinkClick r:id="rId1" action="ppaction://hlinksldjump"/>
          </p:cNvPr>
          <p:cNvSpPr/>
          <p:nvPr/>
        </p:nvSpPr>
        <p:spPr>
          <a:xfrm>
            <a:off x="0" y="260280"/>
            <a:ext cx="19288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0" y="907920"/>
            <a:ext cx="1928880" cy="5922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0" y="1643040"/>
            <a:ext cx="1928880" cy="585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22268"/>
                </a:solidFill>
                <a:latin typeface="Georgia"/>
              </a:rPr>
              <a:t>Нормативные</a:t>
            </a: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 документы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0" y="2428920"/>
            <a:ext cx="1928880" cy="5810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Повышение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0" y="3143160"/>
            <a:ext cx="19288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5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0" y="4000680"/>
            <a:ext cx="200016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22268"/>
                </a:solidFill>
                <a:latin typeface="Georgia"/>
              </a:rPr>
              <a:t>Учебно-</a:t>
            </a: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материальная  база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0" y="4869000"/>
            <a:ext cx="190656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c00000"/>
                </a:solidFill>
                <a:latin typeface="Georgia"/>
              </a:rPr>
              <a:t>Отзывы, награждения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2571840" y="2142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Отзывы и рекомендации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627280" y="836640"/>
            <a:ext cx="1994040" cy="2581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716360" y="1341360"/>
            <a:ext cx="1944720" cy="2654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6804000" y="2565360"/>
            <a:ext cx="2089080" cy="2797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AutoShape 3">
            <a:hlinkClick r:id="rId1" action="ppaction://hlinksldjump"/>
          </p:cNvPr>
          <p:cNvSpPr/>
          <p:nvPr/>
        </p:nvSpPr>
        <p:spPr>
          <a:xfrm>
            <a:off x="500040" y="142920"/>
            <a:ext cx="1835280" cy="6429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AutoShape 3">
            <a:hlinkClick r:id="rId2" action="ppaction://hlinksldjump"/>
          </p:cNvPr>
          <p:cNvSpPr/>
          <p:nvPr/>
        </p:nvSpPr>
        <p:spPr>
          <a:xfrm>
            <a:off x="0" y="928800"/>
            <a:ext cx="1835280" cy="5922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AutoShape 3">
            <a:hlinkClick r:id="rId3" action="ppaction://hlinksldjump"/>
          </p:cNvPr>
          <p:cNvSpPr/>
          <p:nvPr/>
        </p:nvSpPr>
        <p:spPr>
          <a:xfrm>
            <a:off x="0" y="1643040"/>
            <a:ext cx="1835280" cy="5875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AutoShape 3">
            <a:hlinkClick r:id="rId4" action="ppaction://hlinksldjump"/>
          </p:cNvPr>
          <p:cNvSpPr/>
          <p:nvPr/>
        </p:nvSpPr>
        <p:spPr>
          <a:xfrm>
            <a:off x="0" y="2357280"/>
            <a:ext cx="1835280" cy="5828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AutoShape 3">
            <a:hlinkClick r:id="rId5" action="ppaction://hlinksldjump"/>
          </p:cNvPr>
          <p:cNvSpPr/>
          <p:nvPr/>
        </p:nvSpPr>
        <p:spPr>
          <a:xfrm>
            <a:off x="0" y="307188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аучно-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методическая 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AutoShape 3">
            <a:hlinkClick r:id="rId6" action="ppaction://hlinksldjump"/>
          </p:cNvPr>
          <p:cNvSpPr/>
          <p:nvPr/>
        </p:nvSpPr>
        <p:spPr>
          <a:xfrm>
            <a:off x="0" y="3929040"/>
            <a:ext cx="1835280" cy="6429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AutoShape 3">
            <a:hlinkClick r:id="rId7" action="ppaction://hlinksldjump"/>
          </p:cNvPr>
          <p:cNvSpPr/>
          <p:nvPr/>
        </p:nvSpPr>
        <p:spPr>
          <a:xfrm>
            <a:off x="0" y="4724280"/>
            <a:ext cx="1835280" cy="5716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Подзаголовок 2"/>
          <p:cNvSpPr/>
          <p:nvPr/>
        </p:nvSpPr>
        <p:spPr>
          <a:xfrm>
            <a:off x="2500200" y="1000080"/>
            <a:ext cx="3872160" cy="552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Образование –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высшее,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окончила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Иркутский государственный педагогический университет,  2000 год;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специальность – 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физика*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квалификация – 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учитель физики и информатик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Трудовой стаж  -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 лет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,  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педагогический стаж - 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12 лет,     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стаж работы в данной школе - 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12 лет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Должность - 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директор школы      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            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с 30.08.2010 год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Квалификационная категория: руководителя - 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первая, 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разряд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 – 13, </a:t>
            </a:r>
            <a:r>
              <a:rPr b="0" i="1" lang="en-US" sz="1400" spc="-1" strike="noStrike">
                <a:solidFill>
                  <a:srgbClr val="003300"/>
                </a:solidFill>
                <a:latin typeface="Arial"/>
              </a:rPr>
              <a:t>учителя 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– первая,  </a:t>
            </a:r>
            <a:r>
              <a:rPr b="0" i="1" lang="en-US" sz="1400" spc="-1" strike="noStrike">
                <a:solidFill>
                  <a:srgbClr val="003300"/>
                </a:solidFill>
                <a:latin typeface="Arial"/>
              </a:rPr>
              <a:t>разряд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 13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окончила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Иркутский государственный педагогический университет, 2007 год;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специальность – 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психология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квалификация – </a:t>
            </a: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педагог-психолог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71840" y="214200"/>
            <a:ext cx="5857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22268"/>
                </a:solidFill>
                <a:latin typeface="Arial"/>
              </a:rPr>
              <a:t>Ребзон </a:t>
            </a:r>
            <a:br>
              <a:rPr sz="2400"/>
            </a:br>
            <a:r>
              <a:rPr b="1" i="1" lang="en-US" sz="2400" spc="-1" strike="noStrike">
                <a:solidFill>
                  <a:srgbClr val="222268"/>
                </a:solidFill>
                <a:latin typeface="Arial"/>
              </a:rPr>
              <a:t>Юлия Аркад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6443640" y="2708280"/>
            <a:ext cx="1258920" cy="1800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7093080" y="4581360"/>
            <a:ext cx="1257120" cy="1800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6748560" y="260280"/>
            <a:ext cx="217620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AutoShape 3">
            <a:hlinkClick r:id="rId1" action="ppaction://hlinksldjump"/>
          </p:cNvPr>
          <p:cNvSpPr/>
          <p:nvPr/>
        </p:nvSpPr>
        <p:spPr>
          <a:xfrm>
            <a:off x="500040" y="214200"/>
            <a:ext cx="1835280" cy="5716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AutoShape 3">
            <a:hlinkClick r:id="rId2" action="ppaction://hlinksldjump"/>
          </p:cNvPr>
          <p:cNvSpPr/>
          <p:nvPr/>
        </p:nvSpPr>
        <p:spPr>
          <a:xfrm>
            <a:off x="0" y="928800"/>
            <a:ext cx="1835280" cy="5922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AutoShape 3">
            <a:hlinkClick r:id="rId3" action="ppaction://hlinksldjump"/>
          </p:cNvPr>
          <p:cNvSpPr/>
          <p:nvPr/>
        </p:nvSpPr>
        <p:spPr>
          <a:xfrm>
            <a:off x="0" y="1643040"/>
            <a:ext cx="1835280" cy="5875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AutoShape 3">
            <a:hlinkClick r:id="rId4" action="ppaction://hlinksldjump"/>
          </p:cNvPr>
          <p:cNvSpPr/>
          <p:nvPr/>
        </p:nvSpPr>
        <p:spPr>
          <a:xfrm>
            <a:off x="0" y="2357280"/>
            <a:ext cx="1835280" cy="5828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AutoShape 3">
            <a:hlinkClick r:id="rId5" action="ppaction://hlinksldjump"/>
          </p:cNvPr>
          <p:cNvSpPr/>
          <p:nvPr/>
        </p:nvSpPr>
        <p:spPr>
          <a:xfrm>
            <a:off x="0" y="307188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аучно-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методическая 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AutoShape 3">
            <a:hlinkClick r:id="rId6" action="ppaction://hlinksldjump"/>
          </p:cNvPr>
          <p:cNvSpPr/>
          <p:nvPr/>
        </p:nvSpPr>
        <p:spPr>
          <a:xfrm>
            <a:off x="0" y="3929040"/>
            <a:ext cx="1835280" cy="7192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AutoShape 3">
            <a:hlinkClick r:id="rId7" action="ppaction://hlinksldjump"/>
          </p:cNvPr>
          <p:cNvSpPr/>
          <p:nvPr/>
        </p:nvSpPr>
        <p:spPr>
          <a:xfrm>
            <a:off x="0" y="4869000"/>
            <a:ext cx="1835280" cy="5000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42840" y="142560"/>
            <a:ext cx="351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Звания, нагр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7"/>
          <p:cNvSpPr/>
          <p:nvPr/>
        </p:nvSpPr>
        <p:spPr>
          <a:xfrm>
            <a:off x="2643120" y="1000080"/>
            <a:ext cx="2286000" cy="73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Член административного совета МО «Каменка»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2738520" y="2421000"/>
            <a:ext cx="1628640" cy="2303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9"/>
          <a:stretch/>
        </p:blipFill>
        <p:spPr>
          <a:xfrm>
            <a:off x="5003640" y="4365720"/>
            <a:ext cx="1611360" cy="2089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0"/>
          <a:stretch/>
        </p:blipFill>
        <p:spPr>
          <a:xfrm>
            <a:off x="6443640" y="1700280"/>
            <a:ext cx="162720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AutoShape 3">
            <a:hlinkClick r:id="rId1" action="ppaction://hlinksldjump"/>
          </p:cNvPr>
          <p:cNvSpPr/>
          <p:nvPr/>
        </p:nvSpPr>
        <p:spPr>
          <a:xfrm>
            <a:off x="500040" y="214200"/>
            <a:ext cx="1835280" cy="5716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AutoShape 3">
            <a:hlinkClick r:id="rId2" action="ppaction://hlinksldjump"/>
          </p:cNvPr>
          <p:cNvSpPr/>
          <p:nvPr/>
        </p:nvSpPr>
        <p:spPr>
          <a:xfrm>
            <a:off x="0" y="928800"/>
            <a:ext cx="1835280" cy="5922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AutoShape 3">
            <a:hlinkClick r:id="rId3" action="ppaction://hlinksldjump"/>
          </p:cNvPr>
          <p:cNvSpPr/>
          <p:nvPr/>
        </p:nvSpPr>
        <p:spPr>
          <a:xfrm>
            <a:off x="0" y="1643040"/>
            <a:ext cx="1835280" cy="5875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AutoShape 3">
            <a:hlinkClick r:id="rId4" action="ppaction://hlinksldjump"/>
          </p:cNvPr>
          <p:cNvSpPr/>
          <p:nvPr/>
        </p:nvSpPr>
        <p:spPr>
          <a:xfrm>
            <a:off x="0" y="2357280"/>
            <a:ext cx="1835280" cy="5828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AutoShape 3">
            <a:hlinkClick r:id="rId5" action="ppaction://hlinksldjump"/>
          </p:cNvPr>
          <p:cNvSpPr/>
          <p:nvPr/>
        </p:nvSpPr>
        <p:spPr>
          <a:xfrm>
            <a:off x="0" y="307188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аучно-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методическая 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AutoShape 3">
            <a:hlinkClick r:id="rId6" action="ppaction://hlinksldjump"/>
          </p:cNvPr>
          <p:cNvSpPr/>
          <p:nvPr/>
        </p:nvSpPr>
        <p:spPr>
          <a:xfrm>
            <a:off x="0" y="3929040"/>
            <a:ext cx="1835280" cy="7192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Учебно-материальная</a:t>
            </a: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  база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AutoShape 3">
            <a:hlinkClick r:id="rId7" action="ppaction://hlinksldjump"/>
          </p:cNvPr>
          <p:cNvSpPr/>
          <p:nvPr/>
        </p:nvSpPr>
        <p:spPr>
          <a:xfrm>
            <a:off x="0" y="486900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28920" y="357120"/>
            <a:ext cx="65008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24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Результаты личного участия в конференциях, конкурсах , смотрах, фестиваля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2340000" y="1052640"/>
            <a:ext cx="1380960" cy="178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2340000" y="3429000"/>
            <a:ext cx="2232000" cy="1722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4716360" y="4508640"/>
            <a:ext cx="2376720" cy="1833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4140360" y="1484280"/>
            <a:ext cx="1349280" cy="1943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2"/>
          <a:stretch/>
        </p:blipFill>
        <p:spPr>
          <a:xfrm>
            <a:off x="5508720" y="2060640"/>
            <a:ext cx="1369800" cy="1942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3"/>
          <a:stretch/>
        </p:blipFill>
        <p:spPr>
          <a:xfrm>
            <a:off x="7093080" y="2708280"/>
            <a:ext cx="1403280" cy="18604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AutoShape 3">
            <a:hlinkClick r:id="rId1" action="ppaction://hlinksldjump"/>
          </p:cNvPr>
          <p:cNvSpPr/>
          <p:nvPr/>
        </p:nvSpPr>
        <p:spPr>
          <a:xfrm>
            <a:off x="0" y="14292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AutoShape 3">
            <a:hlinkClick r:id="rId2" action="ppaction://hlinksldjump"/>
          </p:cNvPr>
          <p:cNvSpPr/>
          <p:nvPr/>
        </p:nvSpPr>
        <p:spPr>
          <a:xfrm>
            <a:off x="500040" y="785880"/>
            <a:ext cx="1835280" cy="5763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AutoShape 3">
            <a:hlinkClick r:id="rId3" action="ppaction://hlinksldjump"/>
          </p:cNvPr>
          <p:cNvSpPr/>
          <p:nvPr/>
        </p:nvSpPr>
        <p:spPr>
          <a:xfrm>
            <a:off x="0" y="1500120"/>
            <a:ext cx="1835280" cy="5889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AutoShape 3">
            <a:hlinkClick r:id="rId4" action="ppaction://hlinksldjump"/>
          </p:cNvPr>
          <p:cNvSpPr/>
          <p:nvPr/>
        </p:nvSpPr>
        <p:spPr>
          <a:xfrm>
            <a:off x="0" y="2214720"/>
            <a:ext cx="1835280" cy="6555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AutoShape 3">
            <a:hlinkClick r:id="rId5" action="ppaction://hlinksldjump"/>
          </p:cNvPr>
          <p:cNvSpPr/>
          <p:nvPr/>
        </p:nvSpPr>
        <p:spPr>
          <a:xfrm>
            <a:off x="0" y="300024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AutoShape 3">
            <a:hlinkClick r:id="rId6" action="ppaction://hlinksldjump"/>
          </p:cNvPr>
          <p:cNvSpPr/>
          <p:nvPr/>
        </p:nvSpPr>
        <p:spPr>
          <a:xfrm>
            <a:off x="0" y="3857760"/>
            <a:ext cx="1835280" cy="7189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AutoShape 3">
            <a:hlinkClick r:id="rId7" action="ppaction://hlinksldjump"/>
          </p:cNvPr>
          <p:cNvSpPr/>
          <p:nvPr/>
        </p:nvSpPr>
        <p:spPr>
          <a:xfrm>
            <a:off x="0" y="479736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00200" y="928800"/>
            <a:ext cx="2719440" cy="537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txBody>
          <a:bodyPr anchor="t">
            <a:noAutofit/>
          </a:bodyPr>
          <a:p>
            <a:pPr marL="187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Times New Roman"/>
              </a:rPr>
              <a:t>2011 год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Открытие и переезд в новое современное здание школы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Установлена новая АПС, Оборудована телефонная мини-станция для внутренней связи.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Теплые туалеты, душевые в спортивных раздевалках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Тренажерный зал с 4-мя тренажерами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Оснащение начальных классов соглсно требования ФГОС НОО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Оборудована спальня для 1 класса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Начало издания школьной газеты «Школьная страничка»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286000" y="26028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Результаты деятельности</a:t>
            </a: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Подзаголовок 19"/>
          <p:cNvSpPr/>
          <p:nvPr/>
        </p:nvSpPr>
        <p:spPr>
          <a:xfrm>
            <a:off x="5651640" y="836640"/>
            <a:ext cx="2741400" cy="545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2012 год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10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Поведена локальная сеть, выход в Интернет из всех кабинетов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10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Обновлено полностью спортивное оборудование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10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Развивается проектная деятельность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Расширяется дополнительное образование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Прохождение процедуры лицензирования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187200">
              <a:lnSpc>
                <a:spcPct val="15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Получены два места для дистанционного обучения детей инвалидов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AutoShape 3">
            <a:hlinkClick r:id="rId1" action="ppaction://hlinksldjump"/>
          </p:cNvPr>
          <p:cNvSpPr/>
          <p:nvPr/>
        </p:nvSpPr>
        <p:spPr>
          <a:xfrm>
            <a:off x="0" y="14292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AutoShape 3">
            <a:hlinkClick r:id="rId2" action="ppaction://hlinksldjump"/>
          </p:cNvPr>
          <p:cNvSpPr/>
          <p:nvPr/>
        </p:nvSpPr>
        <p:spPr>
          <a:xfrm>
            <a:off x="500040" y="785880"/>
            <a:ext cx="1835280" cy="5763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AutoShape 3">
            <a:hlinkClick r:id="rId3" action="ppaction://hlinksldjump"/>
          </p:cNvPr>
          <p:cNvSpPr/>
          <p:nvPr/>
        </p:nvSpPr>
        <p:spPr>
          <a:xfrm>
            <a:off x="0" y="1500120"/>
            <a:ext cx="1835280" cy="5889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AutoShape 3">
            <a:hlinkClick r:id="rId4" action="ppaction://hlinksldjump"/>
          </p:cNvPr>
          <p:cNvSpPr/>
          <p:nvPr/>
        </p:nvSpPr>
        <p:spPr>
          <a:xfrm>
            <a:off x="0" y="2214720"/>
            <a:ext cx="1835280" cy="6555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AutoShape 3">
            <a:hlinkClick r:id="rId5" action="ppaction://hlinksldjump"/>
          </p:cNvPr>
          <p:cNvSpPr/>
          <p:nvPr/>
        </p:nvSpPr>
        <p:spPr>
          <a:xfrm>
            <a:off x="0" y="300024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AutoShape 3">
            <a:hlinkClick r:id="rId6" action="ppaction://hlinksldjump"/>
          </p:cNvPr>
          <p:cNvSpPr/>
          <p:nvPr/>
        </p:nvSpPr>
        <p:spPr>
          <a:xfrm>
            <a:off x="0" y="3857760"/>
            <a:ext cx="1835280" cy="7189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AutoShape 3">
            <a:hlinkClick r:id="rId7" action="ppaction://hlinksldjump"/>
          </p:cNvPr>
          <p:cNvSpPr/>
          <p:nvPr/>
        </p:nvSpPr>
        <p:spPr>
          <a:xfrm>
            <a:off x="0" y="479736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714760" y="857160"/>
            <a:ext cx="5643360" cy="5572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Одним из результатов образовательной деятельности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школы является </a:t>
            </a: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подготовка к ЕГЭ</a:t>
            </a:r>
            <a:r>
              <a:rPr b="0" i="1" lang="en-US" sz="1600" spc="-1" strike="noStrike">
                <a:solidFill>
                  <a:srgbClr val="003300"/>
                </a:solidFill>
                <a:latin typeface="Arial"/>
              </a:rPr>
              <a:t>. Средний балл по школе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Динамика поступления в вузы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2357280" y="28584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Результаты деятельности</a:t>
            </a: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59280" y="2133720"/>
          <a:ext cx="3528720" cy="1216080"/>
        </p:xfrm>
        <a:graphic>
          <a:graphicData uri="http://schemas.openxmlformats.org/drawingml/2006/table">
            <a:tbl>
              <a:tblPr/>
              <a:tblGrid>
                <a:gridCol w="936360"/>
                <a:gridCol w="863640"/>
                <a:gridCol w="865080"/>
                <a:gridCol w="863640"/>
              </a:tblGrid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916360" y="4076640"/>
          <a:ext cx="4535280" cy="1822680"/>
        </p:xfrm>
        <a:graphic>
          <a:graphicData uri="http://schemas.openxmlformats.org/drawingml/2006/table">
            <a:tbl>
              <a:tblPr/>
              <a:tblGrid>
                <a:gridCol w="1133280"/>
                <a:gridCol w="1135080"/>
                <a:gridCol w="1133640"/>
                <a:gridCol w="11332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18720">
                      <a:solidFill>
                        <a:srgbClr val="d7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бщее количество выпускников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1872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оступили в вузы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цент поступления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7%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7ffff"/>
                      </a:solidFill>
                    </a:lnL>
                    <a:lnR w="5760">
                      <a:solidFill>
                        <a:srgbClr val="d7ffff"/>
                      </a:solidFill>
                    </a:lnR>
                    <a:lnT w="5760">
                      <a:solidFill>
                        <a:srgbClr val="d7ffff"/>
                      </a:solidFill>
                    </a:lnT>
                    <a:lnB w="5760">
                      <a:solidFill>
                        <a:srgbClr val="d7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AutoShape 3">
            <a:hlinkClick r:id="rId1" action="ppaction://hlinksldjump"/>
          </p:cNvPr>
          <p:cNvSpPr/>
          <p:nvPr/>
        </p:nvSpPr>
        <p:spPr>
          <a:xfrm>
            <a:off x="0" y="214200"/>
            <a:ext cx="1835280" cy="5508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AutoShape 3">
            <a:hlinkClick r:id="rId2" action="ppaction://hlinksldjump"/>
          </p:cNvPr>
          <p:cNvSpPr/>
          <p:nvPr/>
        </p:nvSpPr>
        <p:spPr>
          <a:xfrm>
            <a:off x="0" y="907920"/>
            <a:ext cx="1835280" cy="5922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AutoShape 3">
            <a:hlinkClick r:id="rId3" action="ppaction://hlinksldjump"/>
          </p:cNvPr>
          <p:cNvSpPr/>
          <p:nvPr/>
        </p:nvSpPr>
        <p:spPr>
          <a:xfrm>
            <a:off x="428760" y="1643040"/>
            <a:ext cx="1834920" cy="6429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AutoShape 3">
            <a:hlinkClick r:id="rId4" action="ppaction://hlinksldjump"/>
          </p:cNvPr>
          <p:cNvSpPr/>
          <p:nvPr/>
        </p:nvSpPr>
        <p:spPr>
          <a:xfrm>
            <a:off x="0" y="2428920"/>
            <a:ext cx="1835280" cy="5810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AutoShape 3">
            <a:hlinkClick r:id="rId5" action="ppaction://hlinksldjump"/>
          </p:cNvPr>
          <p:cNvSpPr/>
          <p:nvPr/>
        </p:nvSpPr>
        <p:spPr>
          <a:xfrm>
            <a:off x="0" y="3143160"/>
            <a:ext cx="1835280" cy="6476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AutoShape 3">
            <a:hlinkClick r:id="rId6" action="ppaction://hlinksldjump"/>
          </p:cNvPr>
          <p:cNvSpPr/>
          <p:nvPr/>
        </p:nvSpPr>
        <p:spPr>
          <a:xfrm>
            <a:off x="0" y="392904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22268"/>
                </a:solidFill>
                <a:latin typeface="Georgia"/>
              </a:rPr>
              <a:t>Учебно-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материальная </a:t>
            </a: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AutoShape 3">
            <a:hlinkClick r:id="rId7" action="ppaction://hlinksldjump"/>
          </p:cNvPr>
          <p:cNvSpPr/>
          <p:nvPr/>
        </p:nvSpPr>
        <p:spPr>
          <a:xfrm>
            <a:off x="0" y="4869000"/>
            <a:ext cx="1835280" cy="504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916000" y="1071720"/>
            <a:ext cx="5599080" cy="430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268"/>
            </a:solidFill>
            <a:miter/>
          </a:ln>
        </p:spPr>
        <p:txBody>
          <a:bodyPr anchor="t">
            <a:noAutofit/>
          </a:bodyPr>
          <a:p>
            <a:pPr marL="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ff"/>
                </a:solidFill>
                <a:latin typeface="Arial"/>
              </a:rPr>
              <a:t>http://moukss.ucoz.ru/Lokal_akt/ustav_shkoly.doc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Устав школы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standart.edu.ru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1" i="1" lang="ru-RU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Образовательный стандарт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ff"/>
                </a:solidFill>
                <a:latin typeface="Arial"/>
              </a:rPr>
              <a:t>http://moukss.ucoz.ru/obrazovatelnavja_programma_kamenka.doc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Образовательная программа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ff"/>
                </a:solidFill>
                <a:latin typeface="Arial"/>
              </a:rPr>
              <a:t>http://moukss.ucoz.ru/programma_razvitija_2012-2016_ksosh.mdi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Программа развития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57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2700360" y="476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Нормативные документы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AutoShape 3">
            <a:hlinkClick r:id="rId1" action="ppaction://hlinksldjump"/>
          </p:cNvPr>
          <p:cNvSpPr/>
          <p:nvPr/>
        </p:nvSpPr>
        <p:spPr>
          <a:xfrm>
            <a:off x="0" y="214200"/>
            <a:ext cx="1835280" cy="6224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AutoShape 3">
            <a:hlinkClick r:id="rId2" action="ppaction://hlinksldjump"/>
          </p:cNvPr>
          <p:cNvSpPr/>
          <p:nvPr/>
        </p:nvSpPr>
        <p:spPr>
          <a:xfrm>
            <a:off x="0" y="928800"/>
            <a:ext cx="1835280" cy="5904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AutoShape 3">
            <a:hlinkClick r:id="rId3" action="ppaction://hlinksldjump"/>
          </p:cNvPr>
          <p:cNvSpPr/>
          <p:nvPr/>
        </p:nvSpPr>
        <p:spPr>
          <a:xfrm>
            <a:off x="0" y="1628640"/>
            <a:ext cx="1835280" cy="5860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AutoShape 3">
            <a:hlinkClick r:id="rId4" action="ppaction://hlinksldjump"/>
          </p:cNvPr>
          <p:cNvSpPr/>
          <p:nvPr/>
        </p:nvSpPr>
        <p:spPr>
          <a:xfrm>
            <a:off x="428760" y="2357280"/>
            <a:ext cx="1834920" cy="5716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AutoShape 3">
            <a:hlinkClick r:id="rId5" action="ppaction://hlinksldjump"/>
          </p:cNvPr>
          <p:cNvSpPr/>
          <p:nvPr/>
        </p:nvSpPr>
        <p:spPr>
          <a:xfrm>
            <a:off x="0" y="300024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AutoShape 3">
            <a:hlinkClick r:id="rId6" action="ppaction://hlinksldjump"/>
          </p:cNvPr>
          <p:cNvSpPr/>
          <p:nvPr/>
        </p:nvSpPr>
        <p:spPr>
          <a:xfrm>
            <a:off x="0" y="386064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Учебно-материальная  база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AutoShape 3">
            <a:hlinkClick r:id="rId7" action="ppaction://hlinksldjump"/>
          </p:cNvPr>
          <p:cNvSpPr/>
          <p:nvPr/>
        </p:nvSpPr>
        <p:spPr>
          <a:xfrm>
            <a:off x="0" y="4869000"/>
            <a:ext cx="1835280" cy="5713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428560" y="213840"/>
            <a:ext cx="43578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Повышение квалификации за последние 3 года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0" name="Подзаголовок 2"/>
          <p:cNvSpPr/>
          <p:nvPr/>
        </p:nvSpPr>
        <p:spPr>
          <a:xfrm>
            <a:off x="2571840" y="1071720"/>
            <a:ext cx="4087800" cy="422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2010 год.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«Современный образовательный менеджмент: теория и практика», 36 часов, БГУ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2011 год.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«Введение ФГОС в образовательном учреждении»,  24 часа, ИИПКРО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2011 год.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«Управление инновационными процессами в условиях сельской общеобразовательной школе», 16 часа - БГУ         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2011 год.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«Реорганизация бюджетных учреждений», 18 часов, БГУЭиП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2011 год.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«Система управлением качеством инновационных программ и проектов», 720 часов, ИРО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2012 год.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«Организационно-методическое сопровождение процедуры аттестации педагогических работников», 8 часов, ИРО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5796000" y="5445000"/>
            <a:ext cx="1728720" cy="1241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>
            <a:off x="7164360" y="1989000"/>
            <a:ext cx="1381320" cy="1789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7812000" y="3500280"/>
            <a:ext cx="1079640" cy="1584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1"/>
          <a:srcRect l="49852" t="0" r="0" b="0"/>
          <a:stretch/>
        </p:blipFill>
        <p:spPr>
          <a:xfrm>
            <a:off x="7740720" y="260280"/>
            <a:ext cx="1098360" cy="157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22226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0" y="3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AutoShape 3">
            <a:hlinkClick r:id="rId1" action="ppaction://hlinksldjump"/>
          </p:cNvPr>
          <p:cNvSpPr/>
          <p:nvPr/>
        </p:nvSpPr>
        <p:spPr>
          <a:xfrm>
            <a:off x="0" y="214200"/>
            <a:ext cx="1835280" cy="62244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бщие                 сведения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8" name="AutoShape 3">
            <a:hlinkClick r:id="rId2" action="ppaction://hlinksldjump"/>
          </p:cNvPr>
          <p:cNvSpPr/>
          <p:nvPr/>
        </p:nvSpPr>
        <p:spPr>
          <a:xfrm>
            <a:off x="0" y="928800"/>
            <a:ext cx="1835280" cy="59040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Результаты деятельност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AutoShape 3">
            <a:hlinkClick r:id="rId3" action="ppaction://hlinksldjump"/>
          </p:cNvPr>
          <p:cNvSpPr/>
          <p:nvPr/>
        </p:nvSpPr>
        <p:spPr>
          <a:xfrm>
            <a:off x="0" y="1628640"/>
            <a:ext cx="1835280" cy="5860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ормативные документы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AutoShape 3">
            <a:hlinkClick r:id="rId4" action="ppaction://hlinksldjump"/>
          </p:cNvPr>
          <p:cNvSpPr/>
          <p:nvPr/>
        </p:nvSpPr>
        <p:spPr>
          <a:xfrm>
            <a:off x="428760" y="2286000"/>
            <a:ext cx="1834920" cy="5716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Повышение квалификации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AutoShape 3">
            <a:hlinkClick r:id="rId5" action="ppaction://hlinksldjump"/>
          </p:cNvPr>
          <p:cNvSpPr/>
          <p:nvPr/>
        </p:nvSpPr>
        <p:spPr>
          <a:xfrm>
            <a:off x="0" y="3000240"/>
            <a:ext cx="1835280" cy="72072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Научно-методическая 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AutoShape 3">
            <a:hlinkClick r:id="rId6" action="ppaction://hlinksldjump"/>
          </p:cNvPr>
          <p:cNvSpPr/>
          <p:nvPr/>
        </p:nvSpPr>
        <p:spPr>
          <a:xfrm>
            <a:off x="0" y="4724280"/>
            <a:ext cx="1835280" cy="57168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Отзывы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AutoShape 3">
            <a:hlinkClick r:id="rId7" action="ppaction://hlinksldjump"/>
          </p:cNvPr>
          <p:cNvSpPr/>
          <p:nvPr/>
        </p:nvSpPr>
        <p:spPr>
          <a:xfrm>
            <a:off x="0" y="3857760"/>
            <a:ext cx="1835280" cy="642960"/>
          </a:xfrm>
          <a:prstGeom prst="roundRect">
            <a:avLst>
              <a:gd name="adj" fmla="val 50000"/>
            </a:avLst>
          </a:prstGeom>
          <a:solidFill>
            <a:srgbClr val="d0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Внеурочная</a:t>
            </a:r>
            <a:r>
              <a:rPr b="1" lang="en-US" sz="1600" spc="-1" strike="noStrike">
                <a:solidFill>
                  <a:srgbClr val="222268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222268"/>
                </a:solidFill>
                <a:latin typeface="Georgia"/>
              </a:rPr>
              <a:t>деятельность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285640" y="-360"/>
            <a:ext cx="671508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Аттестация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2743200" y="141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6" name="Подзаголовок 2"/>
          <p:cNvSpPr/>
          <p:nvPr/>
        </p:nvSpPr>
        <p:spPr>
          <a:xfrm>
            <a:off x="2571840" y="642960"/>
            <a:ext cx="642924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Первая категория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(13 разряд) по должности 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«руководитель»,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30.12.2010 г.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Первая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категория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 (13 разряд) по должности 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«учитель»,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30.12.2010 г.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90360" indent="88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2916360" y="2565360"/>
            <a:ext cx="2506680" cy="35402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5796000" y="2565360"/>
            <a:ext cx="2716200" cy="35164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01:04:27Z</dcterms:created>
  <dc:creator>Alex</dc:creator>
  <dc:description/>
  <dc:language>en-US</dc:language>
  <cp:lastModifiedBy>Юлия</cp:lastModifiedBy>
  <dcterms:modified xsi:type="dcterms:W3CDTF">2013-03-12T09:00:49Z</dcterms:modified>
  <cp:revision>265</cp:revision>
  <dc:subject/>
  <dc:title>Слайд 1</dc:title>
</cp:coreProperties>
</file>