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C8B5-53B1-4593-9943-CE0ECAABFB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1D9B-2B31-4214-AECB-9C07F746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9E9-936E-4D66-A905-A272B7D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BEC0-3361-457B-8BE1-0B08D383E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8170-24F8-4FDD-A5EF-39BBC66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2E52-5330-4599-A94D-2CD9787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5426-0412-45C6-953A-F612F634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EBB6-B2B0-4E24-B385-82FFF828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3E33-8E88-4373-8412-C2C88FD9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0B76-CEF2-4CD0-8FC6-26521F1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B998-AF5D-43CF-89B2-3A4960B0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28EA-564B-4E13-8A5A-EAC75AA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203A2F-7D75-45A2-8612-77A05BF3189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000160" y="500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гадайте загад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85960" y="151128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</a:t>
            </a: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жит кучка поросят, кто ни тронет –   завизжат”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857920" y="-214200"/>
            <a:ext cx="328608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 u="sng">
                <a:solidFill>
                  <a:srgbClr val="ff0000"/>
                </a:solidFill>
                <a:uFillTx/>
                <a:latin typeface="Book Antiqua"/>
              </a:rPr>
              <a:t>3 урове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23:3=7(ост.2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47:7=6(ост.5)    77:8=9(ост.5)      39:2=19(ост.1)        59:7=</a:t>
            </a:r>
            <a:r>
              <a:rPr b="0" lang="en-US" sz="3500" spc="-1" strike="noStrike">
                <a:solidFill>
                  <a:srgbClr val="640000"/>
                </a:solidFill>
                <a:latin typeface="Franklin Gothic Demi Cond"/>
              </a:rPr>
              <a:t>8</a:t>
            </a: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(ост.3</a:t>
            </a:r>
            <a:r>
              <a:rPr b="0" lang="ru-RU" sz="3600" spc="-1" strike="noStrike">
                <a:solidFill>
                  <a:srgbClr val="640000"/>
                </a:solidFill>
                <a:latin typeface="Franklin Gothic Demi C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14200" y="642960"/>
            <a:ext cx="278604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1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9:4=2(ост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50:9=5(ост.5)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48:7=6(ост.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15:6=2 (ост.3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84:9=9(ост.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928960" y="585720"/>
            <a:ext cx="3000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2.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56:9=6(ост.2)              45:8=5(ост.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60:7=8(ост.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83:40=2(ост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63:5=12(ост.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857240" y="4857840"/>
            <a:ext cx="22147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0099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19280" y="2205000"/>
            <a:ext cx="60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2788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143000" y="215280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домашнее зад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идумайте 5 примеров на деление с остатк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Учебник  стр. 45№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3867+2041)*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7481-1689)*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456: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"/>
          <p:cNvSpPr txBox="1"/>
          <p:nvPr/>
        </p:nvSpPr>
        <p:spPr>
          <a:xfrm>
            <a:off x="539640" y="1773360"/>
            <a:ext cx="8280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50000">
                      <a:srgbClr val="ff0066"/>
                    </a:gs>
                    <a:gs pos="100000">
                      <a:srgbClr val="76002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50000">
                    <a:srgbClr val="ff0066"/>
                  </a:gs>
                  <a:gs pos="100000">
                    <a:srgbClr val="76002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2394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250920" y="304920"/>
            <a:ext cx="889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ЙДИТЕ ЗНАЧЕНИЯ ВЫРАЖ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3280" y="1576440"/>
          <a:ext cx="4002120" cy="1492200"/>
        </p:xfrm>
        <a:graphic>
          <a:graphicData uri="http://schemas.openxmlformats.org/drawingml/2006/table">
            <a:tbl>
              <a:tblPr/>
              <a:tblGrid>
                <a:gridCol w="835200"/>
                <a:gridCol w="831960"/>
                <a:gridCol w="752400"/>
                <a:gridCol w="833400"/>
                <a:gridCol w="7491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14200" y="1557360"/>
          <a:ext cx="3073680" cy="3430440"/>
        </p:xfrm>
        <a:graphic>
          <a:graphicData uri="http://schemas.openxmlformats.org/drawingml/2006/table">
            <a:tbl>
              <a:tblPr/>
              <a:tblGrid>
                <a:gridCol w="307368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×8-30: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6×(32-30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6×7 + 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0- 3 × 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90-(3×6+30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0" descr=""/>
          <p:cNvPicPr/>
          <p:nvPr/>
        </p:nvPicPr>
        <p:blipFill>
          <a:blip r:embed="rId2"/>
          <a:stretch/>
        </p:blipFill>
        <p:spPr>
          <a:xfrm>
            <a:off x="4143240" y="3571920"/>
            <a:ext cx="475632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4643280" y="1571760"/>
          <a:ext cx="4002120" cy="1643040"/>
        </p:xfrm>
        <a:graphic>
          <a:graphicData uri="http://schemas.openxmlformats.org/drawingml/2006/table">
            <a:tbl>
              <a:tblPr/>
              <a:tblGrid>
                <a:gridCol w="835200"/>
                <a:gridCol w="831960"/>
                <a:gridCol w="752400"/>
                <a:gridCol w="833400"/>
                <a:gridCol w="7491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2"/>
          <p:cNvSpPr/>
          <p:nvPr/>
        </p:nvSpPr>
        <p:spPr>
          <a:xfrm>
            <a:off x="3500280" y="157176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3"/>
          <p:cNvSpPr/>
          <p:nvPr/>
        </p:nvSpPr>
        <p:spPr>
          <a:xfrm>
            <a:off x="3500280" y="228600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3500280" y="3000240"/>
            <a:ext cx="648000" cy="6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3500280" y="371484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3500280" y="442908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642960" y="171468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ление с остатком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57120" y="4143240"/>
            <a:ext cx="307188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762120" y="1162080"/>
            <a:ext cx="76197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-285840" y="988920"/>
            <a:ext cx="371484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2714760" y="642960"/>
            <a:ext cx="3714480" cy="557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3357360" cy="585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5"/>
          <a:stretch/>
        </p:blipFill>
        <p:spPr>
          <a:xfrm>
            <a:off x="2643120" y="142920"/>
            <a:ext cx="1852560" cy="1643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6715080" y="3786120"/>
            <a:ext cx="192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абота в задачнике стр. 42 №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3456000" cy="37051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3" descr=""/>
          <p:cNvPicPr/>
          <p:nvPr/>
        </p:nvPicPr>
        <p:blipFill>
          <a:blip r:embed="rId4"/>
          <a:stretch/>
        </p:blipFill>
        <p:spPr>
          <a:xfrm>
            <a:off x="1255680" y="6480"/>
            <a:ext cx="745020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9280" y="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202020"/>
                </a:solidFill>
                <a:uFillTx/>
                <a:latin typeface="Monotype Corsiva"/>
              </a:rPr>
              <a:t>Самостоятельная</a:t>
            </a:r>
            <a:r>
              <a:rPr b="1" lang="ru-RU" sz="4400" spc="-1" strike="noStrike" u="sng">
                <a:solidFill>
                  <a:srgbClr val="202020"/>
                </a:solidFill>
                <a:uFillTx/>
                <a:latin typeface="Monotype Corsiva"/>
              </a:rPr>
              <a:t>  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42920" y="1214280"/>
            <a:ext cx="2214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Arial Black"/>
              </a:rPr>
              <a:t>1. </a:t>
            </a: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Выпол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 </a:t>
            </a: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с остатк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9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50 : 9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48 : 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15 : 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84 : 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714760" y="1143000"/>
            <a:ext cx="28573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Arial Black"/>
              </a:rPr>
              <a:t>2. </a:t>
            </a: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Выпиши и реши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те выражения,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которых 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выполняется с остат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56 : 9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45 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96 :1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60 : 7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83 :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63 : 5</a:t>
            </a: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072120" y="1143000"/>
            <a:ext cx="307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3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Book Antiqua"/>
              </a:rPr>
              <a:t>Вставь пропущенные цифры,  чтобы запись была вер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2□: 3 = 7(ост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4□: 7= □ (ост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7□ : 8=□  (ост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□</a:t>
            </a: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9 : 2 =19(ост.1)   □9 : 7 =□ (ост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56:01Z</dcterms:created>
  <dc:creator>Администратор</dc:creator>
  <dc:description/>
  <dc:language>en-US</dc:language>
  <cp:lastModifiedBy>User</cp:lastModifiedBy>
  <dcterms:modified xsi:type="dcterms:W3CDTF">2012-10-30T06:48:20Z</dcterms:modified>
  <cp:revision>68</cp:revision>
  <dc:subject/>
  <dc:title>Слайд 1</dc:title>
</cp:coreProperties>
</file>