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4BDE3-81A7-4930-852F-F6E9111224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9C98-CB48-4628-924B-DDA28ED8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2AB22-223B-450F-B938-69A2D639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A755B-F1A4-4191-9FEA-CB87DA2E2E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2CD4A-FA71-4FA6-9358-7C94A20D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31BF-5A1D-4A7C-85CB-2FF2A3EB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5DE48-6A77-4289-B873-15C6D296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F50DC-D62B-4935-A6BC-5C815B7D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75BDF-F2F5-477B-94BB-3404E2E5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63F86-FFA6-4B60-A551-2F564C22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A60BC-136A-4CFE-B12C-A980FBCC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95977-C936-42A6-A189-2339E538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C4CB60-5814-448B-B3C0-4FF1E8256C69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000160" y="50004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гадайте загад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785960" y="1511280"/>
            <a:ext cx="657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“</a:t>
            </a: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жит кучка поросят, кто ни тронет –   завизжат”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857920" y="-214200"/>
            <a:ext cx="3286080" cy="59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 u="sng">
                <a:solidFill>
                  <a:srgbClr val="ff0000"/>
                </a:solidFill>
                <a:uFillTx/>
                <a:latin typeface="Book Antiqua"/>
              </a:rPr>
              <a:t>3 уровень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640000"/>
                </a:solidFill>
                <a:latin typeface="Franklin Gothic Demi Cond"/>
              </a:rPr>
              <a:t>23:3=7(ост.2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640000"/>
                </a:solidFill>
                <a:latin typeface="Franklin Gothic Demi Cond"/>
              </a:rPr>
              <a:t>47:7=6(ост.5)    77:8=9(ост.5)      39:2=19(ост.1)        59:7=</a:t>
            </a:r>
            <a:r>
              <a:rPr b="0" lang="en-US" sz="3500" spc="-1" strike="noStrike">
                <a:solidFill>
                  <a:srgbClr val="640000"/>
                </a:solidFill>
                <a:latin typeface="Franklin Gothic Demi Cond"/>
              </a:rPr>
              <a:t>8</a:t>
            </a:r>
            <a:r>
              <a:rPr b="0" lang="ru-RU" sz="3500" spc="-1" strike="noStrike">
                <a:solidFill>
                  <a:srgbClr val="640000"/>
                </a:solidFill>
                <a:latin typeface="Franklin Gothic Demi Cond"/>
              </a:rPr>
              <a:t>(ост.3</a:t>
            </a:r>
            <a:r>
              <a:rPr b="0" lang="ru-RU" sz="3600" spc="-1" strike="noStrike">
                <a:solidFill>
                  <a:srgbClr val="640000"/>
                </a:solidFill>
                <a:latin typeface="Franklin Gothic Demi C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214200" y="642960"/>
            <a:ext cx="278604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 Antiqua"/>
              </a:rPr>
              <a:t>1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c00"/>
                </a:solidFill>
                <a:latin typeface="Franklin Gothic Demi Cond"/>
              </a:rPr>
              <a:t>9:4=2(ост.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c00"/>
                </a:solidFill>
                <a:latin typeface="Franklin Gothic Demi Cond"/>
              </a:rPr>
              <a:t>50:9=5(ост.5)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c00"/>
                </a:solidFill>
                <a:latin typeface="Franklin Gothic Demi Cond"/>
              </a:rPr>
              <a:t>48:7=6(ост.6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c00"/>
                </a:solidFill>
                <a:latin typeface="Franklin Gothic Demi Cond"/>
              </a:rPr>
              <a:t>15:6=2 (ост.3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c00"/>
                </a:solidFill>
                <a:latin typeface="Franklin Gothic Demi Cond"/>
              </a:rPr>
              <a:t>84:9=9(ост.3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928960" y="585720"/>
            <a:ext cx="3000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 Antiqua"/>
              </a:rPr>
              <a:t>2.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Demi Cond"/>
              </a:rPr>
              <a:t>56:9=6(ост.2)              45:8=5(ост.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Demi Cond"/>
              </a:rPr>
              <a:t>60:7=8(ост.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Demi Cond"/>
              </a:rPr>
              <a:t>83:40=2(ост.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Demi Cond"/>
              </a:rPr>
              <a:t>63:5=12(ост.3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1857240" y="4857840"/>
            <a:ext cx="2214720" cy="21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0099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19280" y="2205000"/>
            <a:ext cx="6048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27880" y="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143000" y="2152800"/>
            <a:ext cx="70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е домашнее задани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ридумайте 5 примеров на деление с остатк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Учебник  стр. 45№1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3867+2041)*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7481-1689)*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456: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"/>
          <p:cNvSpPr txBox="1"/>
          <p:nvPr/>
        </p:nvSpPr>
        <p:spPr>
          <a:xfrm>
            <a:off x="539640" y="1773360"/>
            <a:ext cx="82803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2f"/>
                    </a:gs>
                    <a:gs pos="50000">
                      <a:srgbClr val="ff0066"/>
                    </a:gs>
                    <a:gs pos="100000">
                      <a:srgbClr val="76002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2f"/>
                  </a:gs>
                  <a:gs pos="50000">
                    <a:srgbClr val="ff0066"/>
                  </a:gs>
                  <a:gs pos="100000">
                    <a:srgbClr val="76002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2394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250920" y="304920"/>
            <a:ext cx="88930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АЙДИТЕ ЗНАЧЕНИЯ ВЫРАЖ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43280" y="1576440"/>
          <a:ext cx="4002120" cy="1492200"/>
        </p:xfrm>
        <a:graphic>
          <a:graphicData uri="http://schemas.openxmlformats.org/drawingml/2006/table">
            <a:tbl>
              <a:tblPr/>
              <a:tblGrid>
                <a:gridCol w="835200"/>
                <a:gridCol w="831960"/>
                <a:gridCol w="752400"/>
                <a:gridCol w="833400"/>
                <a:gridCol w="7491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14200" y="1557360"/>
          <a:ext cx="3073680" cy="3430440"/>
        </p:xfrm>
        <a:graphic>
          <a:graphicData uri="http://schemas.openxmlformats.org/drawingml/2006/table">
            <a:tbl>
              <a:tblPr/>
              <a:tblGrid>
                <a:gridCol w="307368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4×8-30: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6×(32-30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6×7 + 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30- 3 × 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90-(3×6+30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pic>
        <p:nvPicPr>
          <p:cNvPr id="47" name="Picture 20" descr=""/>
          <p:cNvPicPr/>
          <p:nvPr/>
        </p:nvPicPr>
        <p:blipFill>
          <a:blip r:embed="rId2"/>
          <a:stretch/>
        </p:blipFill>
        <p:spPr>
          <a:xfrm>
            <a:off x="4143240" y="3571920"/>
            <a:ext cx="4756320" cy="292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4643280" y="1571760"/>
          <a:ext cx="4002120" cy="1643040"/>
        </p:xfrm>
        <a:graphic>
          <a:graphicData uri="http://schemas.openxmlformats.org/drawingml/2006/table">
            <a:tbl>
              <a:tblPr/>
              <a:tblGrid>
                <a:gridCol w="835200"/>
                <a:gridCol w="831960"/>
                <a:gridCol w="752400"/>
                <a:gridCol w="833400"/>
                <a:gridCol w="74916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32"/>
          <p:cNvSpPr/>
          <p:nvPr/>
        </p:nvSpPr>
        <p:spPr>
          <a:xfrm>
            <a:off x="3500280" y="1571760"/>
            <a:ext cx="648000" cy="6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33"/>
          <p:cNvSpPr/>
          <p:nvPr/>
        </p:nvSpPr>
        <p:spPr>
          <a:xfrm>
            <a:off x="3500280" y="2286000"/>
            <a:ext cx="648000" cy="6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34"/>
          <p:cNvSpPr/>
          <p:nvPr/>
        </p:nvSpPr>
        <p:spPr>
          <a:xfrm>
            <a:off x="3500280" y="3000240"/>
            <a:ext cx="648000" cy="61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7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3500280" y="3714840"/>
            <a:ext cx="648000" cy="6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6"/>
          <p:cNvSpPr/>
          <p:nvPr/>
        </p:nvSpPr>
        <p:spPr>
          <a:xfrm>
            <a:off x="3500280" y="4429080"/>
            <a:ext cx="648000" cy="6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642960" y="1714680"/>
            <a:ext cx="814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ление с остатком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357120" y="4143240"/>
            <a:ext cx="3071880" cy="23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2"/>
          <a:stretch/>
        </p:blipFill>
        <p:spPr>
          <a:xfrm>
            <a:off x="762120" y="1162080"/>
            <a:ext cx="761976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-285840" y="988920"/>
            <a:ext cx="3714840" cy="544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2714760" y="642960"/>
            <a:ext cx="3714480" cy="5572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4"/>
          <a:stretch/>
        </p:blipFill>
        <p:spPr>
          <a:xfrm>
            <a:off x="6000840" y="785880"/>
            <a:ext cx="3357360" cy="585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5"/>
          <a:stretch/>
        </p:blipFill>
        <p:spPr>
          <a:xfrm>
            <a:off x="2643120" y="142920"/>
            <a:ext cx="1852560" cy="16430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9"/>
          <p:cNvSpPr/>
          <p:nvPr/>
        </p:nvSpPr>
        <p:spPr>
          <a:xfrm>
            <a:off x="6715080" y="3786120"/>
            <a:ext cx="1928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абота в задачнике стр. 42 №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285840" y="1928880"/>
            <a:ext cx="3456000" cy="370512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3" descr=""/>
          <p:cNvPicPr/>
          <p:nvPr/>
        </p:nvPicPr>
        <p:blipFill>
          <a:blip r:embed="rId4"/>
          <a:stretch/>
        </p:blipFill>
        <p:spPr>
          <a:xfrm>
            <a:off x="1255680" y="6480"/>
            <a:ext cx="745020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Решение задач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79280" y="0"/>
            <a:ext cx="88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202020"/>
                </a:solidFill>
                <a:uFillTx/>
                <a:latin typeface="Monotype Corsiva"/>
              </a:rPr>
              <a:t>Самостоятельная</a:t>
            </a:r>
            <a:r>
              <a:rPr b="1" lang="ru-RU" sz="4400" spc="-1" strike="noStrike" u="sng">
                <a:solidFill>
                  <a:srgbClr val="202020"/>
                </a:solidFill>
                <a:uFillTx/>
                <a:latin typeface="Monotype Corsiva"/>
              </a:rPr>
              <a:t>   раб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42920" y="1214280"/>
            <a:ext cx="2214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7030a0"/>
                </a:solidFill>
                <a:uFillTx/>
                <a:latin typeface="Arial Black"/>
              </a:rPr>
              <a:t>1. </a:t>
            </a:r>
            <a:r>
              <a:rPr b="1" i="1" lang="ru-RU" sz="1800" spc="-1" strike="noStrike" u="sng">
                <a:solidFill>
                  <a:srgbClr val="7030a0"/>
                </a:solidFill>
                <a:uFillTx/>
                <a:latin typeface="Times New Roman"/>
              </a:rPr>
              <a:t>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Franklin Gothic Demi Cond"/>
              </a:rPr>
              <a:t>Выпол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Franklin Gothic Demi Cond"/>
              </a:rPr>
              <a:t>де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Franklin Gothic Demi Cond"/>
              </a:rPr>
              <a:t> </a:t>
            </a:r>
            <a:r>
              <a:rPr b="0" lang="ru-RU" sz="1800" spc="-1" strike="noStrike">
                <a:solidFill>
                  <a:srgbClr val="ff5050"/>
                </a:solidFill>
                <a:latin typeface="Franklin Gothic Demi Cond"/>
              </a:rPr>
              <a:t>с остатко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 Black"/>
              </a:rPr>
              <a:t>9 :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5050"/>
                </a:solidFill>
                <a:latin typeface="Arial Black"/>
              </a:rPr>
              <a:t>50 : 9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 Black"/>
              </a:rPr>
              <a:t>48 : 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 Black"/>
              </a:rPr>
              <a:t>15 : 6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 Black"/>
              </a:rPr>
              <a:t>84 : 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714760" y="1143000"/>
            <a:ext cx="28573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7030a0"/>
                </a:solidFill>
                <a:uFillTx/>
                <a:latin typeface="Arial Black"/>
              </a:rPr>
              <a:t>2. </a:t>
            </a:r>
            <a:r>
              <a:rPr b="1" i="1" lang="ru-RU" sz="1800" spc="-1" strike="noStrike" u="sng">
                <a:solidFill>
                  <a:srgbClr val="7030a0"/>
                </a:solidFill>
                <a:uFillTx/>
                <a:latin typeface="Times New Roman"/>
              </a:rPr>
              <a:t>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 Antiqua"/>
              </a:rPr>
              <a:t>Выпиши и реши толь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 Antiqua"/>
              </a:rPr>
              <a:t>те выражения,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 Antiqua"/>
              </a:rPr>
              <a:t>которых де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 Antiqua"/>
              </a:rPr>
              <a:t>выполняется с остат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56 : 9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45 :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96 :1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60 : 7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83 : 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63 : 5</a:t>
            </a:r>
            <a:r>
              <a:rPr b="0" lang="ru-RU" sz="40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072120" y="1143000"/>
            <a:ext cx="307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 u="sng">
                <a:solidFill>
                  <a:srgbClr val="7030a0"/>
                </a:solidFill>
                <a:uFillTx/>
                <a:latin typeface="Times New Roman"/>
              </a:rPr>
              <a:t>3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Book Antiqua"/>
              </a:rPr>
              <a:t>Вставь пропущенные цифры,  чтобы запись была вер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640000"/>
                </a:solidFill>
                <a:latin typeface="Arial Black"/>
              </a:rPr>
              <a:t>2□: 3 = 7(ост.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40000"/>
                </a:solidFill>
                <a:latin typeface="Arial Black"/>
              </a:rPr>
              <a:t>4□: 7= □ (ост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40000"/>
                </a:solidFill>
                <a:latin typeface="Arial Black"/>
              </a:rPr>
              <a:t>7□ : 8=□  (ост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40000"/>
                </a:solidFill>
                <a:latin typeface="Arial Black"/>
              </a:rPr>
              <a:t>□</a:t>
            </a:r>
            <a:r>
              <a:rPr b="0" lang="ru-RU" sz="2400" spc="-1" strike="noStrike">
                <a:solidFill>
                  <a:srgbClr val="640000"/>
                </a:solidFill>
                <a:latin typeface="Arial Black"/>
              </a:rPr>
              <a:t>9 : 2 =19(ост.1)   □9 : 7 =□ (ост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3:56:01Z</dcterms:created>
  <dc:creator>Администратор</dc:creator>
  <dc:description/>
  <dc:language>en-US</dc:language>
  <cp:lastModifiedBy>User</cp:lastModifiedBy>
  <dcterms:modified xsi:type="dcterms:W3CDTF">2012-10-30T06:48:20Z</dcterms:modified>
  <cp:revision>68</cp:revision>
  <dc:subject/>
  <dc:title>Слайд 1</dc:title>
</cp:coreProperties>
</file>