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wmf" ContentType="image/x-wmf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6BB-9AAC-4655-8FC9-B90E06882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917D-3817-41FA-85FF-689B63E0429A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17A6DFA4-4E06-4B3C-884E-C44F5EE9C507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3952-63D7-45F8-ADBE-41FC47FBCD8D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C3539B97-8C93-4A7F-9C95-A372235C420A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F7A-7772-46CC-A230-16190C9DDED3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46758305-F914-4EB9-BE15-65A17EE4852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3E3-E56F-4ADD-8B8D-0E87B846B7F4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0C05F9EB-278A-44BD-AB8A-856DE6018364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B752-4018-4CD4-8609-B4378870E739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4D02BDDB-DBED-4393-A9AB-B674C2C0B553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E6F8-8DE8-4E84-88AD-FB847D06F4FD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0197F0FF-C22E-4776-9FC7-BA6756093203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E3B-A8CA-4BEE-9770-E8B6E2F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A33-6CB6-4824-ABD0-445BA8B1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B13-D1B5-4BD3-9A94-AFDB24A8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AE1-6DEE-40EC-AA13-3423DD10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F31-B6DD-4EAC-B6BF-8DCAE20E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650-3F3A-450E-85C8-BFA0E69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FB8-714A-43A6-B6BD-3CCA265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905C-F940-4CC4-8FF1-4D282F9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C9A-24A8-440E-BEF8-BACDB80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3E8-8255-493D-A594-51AA4E88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A482-EC42-4DF3-9C0C-05E66F8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2C4-D498-4C9C-9912-06A0A8F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032D-A3F3-4191-A972-99B820F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68B-9E4D-4AA2-8BE2-008D6CA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2E03-7010-4F07-BF41-4E84C539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FC5-F11C-4613-BE21-B40DF603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9F25-B90B-4CF3-9A16-667116F4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B2F-9373-4219-B752-2E1BECD7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374-A258-4AFF-9AE9-58C2682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3C8-CC9F-4834-AF9A-04E2E8C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E3F-126B-4983-8E65-7F553506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38A-3FA7-4B1A-9BC0-EB9DC3F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C8D-D9A8-4B8D-B754-E3B669C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32F-5E62-49FA-9294-1D671CA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238B-8245-45FC-8E61-A13FA8F416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3BA7-34BD-48B8-8858-A3D26B0514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42760" y="1213920"/>
            <a:ext cx="43578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емененко Дени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в класс школа №94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Найдите объяснение каждому фразеологизму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левать носом; идти в ногу; вставлять палки в колёса; бесструнная балалайка; заячья душа; играть первую скрипку; заблудиться в трёх соснах.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Для справок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русливый человек; дремать; мешать; робкий человек; быть самым главным; действовать согласованно; не суметь разобраться в чём-то простом.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1"/>
          <p:cNvSpPr/>
          <p:nvPr/>
        </p:nvSpPr>
        <p:spPr>
          <a:xfrm>
            <a:off x="684360" y="2421000"/>
            <a:ext cx="6696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олоден как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итер как    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доров как  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воротлив как 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дут как     ………….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ем как   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рязный как  …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прям как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тлив как  …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юч как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еуклюж как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Courier New"/>
              </a:rPr>
              <a:t>А сейчас мы с вами побываем во «Фразеологическом зверинце».</a:t>
            </a:r>
            <a:br>
              <a:rPr sz="2400"/>
            </a:br>
            <a:r>
              <a:rPr b="1" lang="ru-RU" sz="2400" spc="-1" strike="noStrike">
                <a:solidFill>
                  <a:srgbClr val="9999ff"/>
                </a:solidFill>
                <a:latin typeface="Courier New"/>
              </a:rPr>
              <a:t>Вместо точек вставь названия животных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5" name="Picture 4" descr="j0304933"/>
          <p:cNvPicPr/>
          <p:nvPr/>
        </p:nvPicPr>
        <p:blipFill>
          <a:blip r:embed="rId1"/>
          <a:stretch/>
        </p:blipFill>
        <p:spPr>
          <a:xfrm>
            <a:off x="826920" y="46530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0"/>
          <p:cNvSpPr/>
          <p:nvPr/>
        </p:nvSpPr>
        <p:spPr>
          <a:xfrm>
            <a:off x="468360" y="17208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услив как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7" name="Picture 19" descr="сканирование0001"/>
          <p:cNvPicPr/>
          <p:nvPr/>
        </p:nvPicPr>
        <p:blipFill>
          <a:blip r:embed="rId2"/>
          <a:stretch/>
        </p:blipFill>
        <p:spPr>
          <a:xfrm>
            <a:off x="4572000" y="1916280"/>
            <a:ext cx="187488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71640" y="260280"/>
            <a:ext cx="72738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DejaVu Sans"/>
              </a:rPr>
              <a:t>На заметку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ак и слово, фразеологизм может иметь синонимы и антонимы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– синонимы: два сапога пара – одного поля ягода (один другого не лучше); перековать мечи на орала  - вложить меч в ножны (закончить войну, распрю)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- антонимы: засучив рукава – спустя рукава; заварить кашу – расхлёбывать кашу; тяжёл на подъём – лёгок  на подъём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от наплак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имеет синони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а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и антони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89080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99ff"/>
                </a:solidFill>
                <a:uFillTx/>
                <a:latin typeface="Book Antiqua"/>
              </a:rPr>
              <a:t>Запишите в дневник  домашнее задание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08000" y="1989000"/>
            <a:ext cx="36162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Palatino Linotype"/>
              </a:rPr>
              <a:t>Выпишите 10 фразеологических оборотов из словаря, в которых встречаются имена числ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3" name="Picture 4" descr="j0251301"/>
          <p:cNvPicPr/>
          <p:nvPr/>
        </p:nvPicPr>
        <p:blipFill>
          <a:blip r:embed="rId1"/>
          <a:stretch/>
        </p:blipFill>
        <p:spPr>
          <a:xfrm>
            <a:off x="611280" y="2133720"/>
            <a:ext cx="2881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разеологизм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можно заменить фразеологизм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ую роль выполняет фразеологизм в предложении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 можете рассказать о происхождении и употреблении фразеологизмов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138132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Shape 1"/>
          <p:cNvSpPr/>
          <p:nvPr/>
        </p:nvSpPr>
        <p:spPr>
          <a:xfrm>
            <a:off x="457200" y="27468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ff"/>
                </a:solidFill>
                <a:latin typeface="Times New Roman"/>
                <a:ea typeface="DejaVu Sans"/>
              </a:rPr>
              <a:t>Происхождение фразеологизмов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Shape 2"/>
          <p:cNvSpPr/>
          <p:nvPr/>
        </p:nvSpPr>
        <p:spPr>
          <a:xfrm>
            <a:off x="928800" y="1500120"/>
            <a:ext cx="62150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DejaVu Sans"/>
              </a:rPr>
              <a:t>Основная часть фразеологизмов русского языка исконно русского происхождения, источником их являются: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f2b725"/>
                </a:solidFill>
                <a:latin typeface="Times New Roman"/>
                <a:ea typeface="DejaVu Sans"/>
              </a:rPr>
              <a:t>профессиональная речь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точить лясы, бить баклуши, без сучка и задоринки, снять стружку, сесть на мель, играть первую скрипку)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DejaVu Sans"/>
              </a:rPr>
              <a:t>жаргон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(втирать очки, карта бита, идти ва-банк — у картежников) и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DejaVu Sans"/>
              </a:rPr>
              <a:t>разговорная  речь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диалекты (связаны с трудом крестьянства)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поворачивать оглобли, из кулька в рогожку, на воде вилами написано). 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fdf6e5"/>
                </a:solidFill>
                <a:latin typeface="Times New Roman"/>
                <a:ea typeface="DejaVu Sans"/>
              </a:rPr>
              <a:t>богослужебные книги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святая святых, исчадие ада, по образу и подобию, глас вопиющего в пустыне, земля обетованная)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 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3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out">
                                      <p:cBhvr additive="repl">
                                        <p:cTn id="23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out">
                                      <p:cBhvr additive="repl">
                                        <p:cTn id="28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Shape 1"/>
          <p:cNvSpPr/>
          <p:nvPr/>
        </p:nvSpPr>
        <p:spPr>
          <a:xfrm>
            <a:off x="457200" y="27468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  <a:ea typeface="DejaVu Sans"/>
              </a:rPr>
              <a:t>Что  называют фразеологизмами </a:t>
            </a:r>
            <a:endParaRPr b="1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Shape 2"/>
          <p:cNvSpPr/>
          <p:nvPr/>
        </p:nvSpPr>
        <p:spPr>
          <a:xfrm>
            <a:off x="500040" y="2000160"/>
            <a:ext cx="67867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  <a:ea typeface="DejaVu Sans"/>
              </a:rPr>
              <a:t> 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DejaVu Sans"/>
              </a:rPr>
              <a:t>Фразеологизмы  (фразеологические обороты) -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DejaVu Sans"/>
              </a:rPr>
              <a:t>это устойчивые  сочетания слов, равные по значению либо одному слову, либо целому предложению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DejaVu Sans"/>
              </a:rPr>
              <a:t> 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DejaVu Sans"/>
              </a:rPr>
              <a:t>В языке каждого народа есть устойчивые образные обороты, которые воспроизводятся в речи подобно слову, а не строятся, подобно словосочетаниям и предложениям. Такие обороты называются фразеологизмами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  <a:ea typeface="DejaVu Sans"/>
              </a:rPr>
              <a:t>Другое важное свойство фразеологизмов: смысл целого фразеологизма не складывается из смыслов входящих в него слов, например выражение собаку съел, обозначающее быть мастером в каком-нибудь деле», совершенно не связано со значением входящих в него слов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539640" y="404640"/>
            <a:ext cx="8229600" cy="185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– это устойчивые сочетания слов, близкие по лексическому значению одному слову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равните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а краю света – далеко; намылить шею – проучить; зарубить на носу – запомнить: как в воду глядеть – предвидеть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14200" y="4143240"/>
            <a:ext cx="3219480" cy="180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500720" y="4000680"/>
            <a:ext cx="305100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Отгадайте загадки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468360" y="1197000"/>
            <a:ext cx="3959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Товарищ твой просит украдкой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ы списать из тетрадки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е надо! Ведь этим ты другу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кажешь 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716360" y="1125360"/>
            <a:ext cx="3889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альшивят, путают слова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оют кто в лес, …  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Ребята слушать их не станут: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т этой песни уши ...  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952720" cy="237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3324240" cy="181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0" y="428760"/>
            <a:ext cx="7443720" cy="10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Найдите фразеологизм, объясните его значение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457200" y="160020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 виду мы  не очень схожи: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тька толстый, я худой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е похожи мы, а всё же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ас не разольёшь водой!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(Б. Заходер)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11280" y="44370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50496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 фразеологическим оборотам определи, среди представителей каких профессий они появились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тричь под одну гребен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на живую нит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сложить оруж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закидывать удоч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играть первую скрип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петь с чужого голо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открывать Амери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ждать у моря погод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попасть в ловуш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сгущать крас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ход коне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закусить удил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13" descr="J0282747"/>
          <p:cNvPicPr/>
          <p:nvPr/>
        </p:nvPicPr>
        <p:blipFill>
          <a:blip r:embed="rId2"/>
          <a:stretch/>
        </p:blipFill>
        <p:spPr>
          <a:xfrm>
            <a:off x="5219640" y="1197000"/>
            <a:ext cx="1806480" cy="1806480"/>
          </a:xfrm>
          <a:prstGeom prst="rect">
            <a:avLst/>
          </a:prstGeom>
          <a:ln w="0">
            <a:noFill/>
          </a:ln>
        </p:spPr>
      </p:pic>
      <p:sp>
        <p:nvSpPr>
          <p:cNvPr id="313" name="WordArt 16"/>
          <p:cNvSpPr txBox="1"/>
          <p:nvPr/>
        </p:nvSpPr>
        <p:spPr>
          <a:xfrm>
            <a:off x="0" y="333360"/>
            <a:ext cx="5904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гадай професси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рожит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тается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водить на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ржать в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разить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риться в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деть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ть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AG00218_"/>
          <p:cNvPicPr/>
          <p:nvPr/>
        </p:nvPicPr>
        <p:blipFill>
          <a:blip r:embed="rId9"/>
          <a:stretch/>
        </p:blipFill>
        <p:spPr>
          <a:xfrm>
            <a:off x="4859280" y="2852640"/>
            <a:ext cx="2075040" cy="15890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>
            <a:off x="684360" y="260280"/>
            <a:ext cx="6696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иши фразеологизм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6"/>
          <p:cNvSpPr/>
          <p:nvPr/>
        </p:nvSpPr>
        <p:spPr>
          <a:xfrm>
            <a:off x="539640" y="1844640"/>
            <a:ext cx="3745080" cy="32400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Palatino Linotype"/>
              </a:rPr>
              <a:t>Прочитайте рассказ, замените выделенные слова фразеологизмами, дайте заголовок рассказу, используя пословицу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6165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         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Целую четверть Юра работал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плохо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Дома он тоже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ничего не делал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За домашние задания Юра брался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неохотно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В конце четверти  с дневником, в котором были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двойки,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мальчик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печально (…)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шел домой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«Надо после каникул 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усердно (…)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 приниматься за учебу», - думал о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Безымянный"/>
          <p:cNvPicPr/>
          <p:nvPr/>
        </p:nvPicPr>
        <p:blipFill>
          <a:blip r:embed="rId1"/>
          <a:stretch/>
        </p:blipFill>
        <p:spPr>
          <a:xfrm>
            <a:off x="4643280" y="2349360"/>
            <a:ext cx="25099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2:32:19Z</dcterms:created>
  <dc:creator>Татьяна </dc:creator>
  <dc:description/>
  <dc:language>en-US</dc:language>
  <cp:lastModifiedBy>Денис</cp:lastModifiedBy>
  <dcterms:modified xsi:type="dcterms:W3CDTF">2012-05-20T18:31:57Z</dcterms:modified>
  <cp:revision>15</cp:revision>
  <dc:subject/>
  <dc:title>Слайд 1</dc:title>
</cp:coreProperties>
</file>