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4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wmf" ContentType="image/x-wmf"/>
  <Override PartName="/ppt/media/image16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F08B-D556-4297-AB16-0201BA9CE7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0469-3AEC-4E9A-9F5E-8CABF98EEB7F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602C798B-EC8C-40A3-A87E-038AD0F542F3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C6D8-5D43-4655-8EF9-24D16171BC45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CE5FD1C8-AE1F-4289-98AD-4499CA248D39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A21B-6F98-4869-8973-6A1756E48C7E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15BA9AF5-6579-4ED9-B9B8-E4A6791F416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780F-3E36-4F8F-8B6C-5A93543CBB61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CBE24D57-8783-47D5-9392-7811AEF01608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C522-72B6-462F-B737-5B927F4037C3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E4413D86-9773-4D40-8E03-4CBFA1846D54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B251-8A09-48CD-8BA4-D4E28E9CB066}" type="slidenum">
              <a:rPr b="1" lang="ru-RU" sz="1200" spc="-1" strike="noStrike">
                <a:solidFill>
                  <a:srgbClr val="2f1311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52153BC9-DE53-42BF-A8DB-27A3E276301D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1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90F-64FE-4438-B598-7588F5F4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557-8D5B-42EB-9ADA-60F3ACB5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BFF-4BE3-48DF-B326-586666DE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25C-3CB1-456A-8A60-B17CAFD0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9F74-6B42-4C99-9E4A-6A258EF9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AF9B-BBE8-4D2B-87B1-AFF7D264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A950-C266-45D7-831B-DEE213D4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61B7-FB8E-4B01-B1D8-C2A3A4B2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5987-F887-493A-BC20-66339D5E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F31F-30DF-49A0-AAE4-61D2762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C04D-3B2B-4A10-95A4-839C3989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36A-877C-44A8-8E28-DCE3E219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1D87-0079-4F19-9B10-C080A17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D273-4E97-4D2D-9AE9-F6E0B35C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86B9-8334-4146-B6BE-2A81472E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5722-029C-4789-80F7-C54F777D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4C53-1A13-476A-8585-B2BB5CE7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F92-4DFF-477E-94A7-63D14356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538-EB57-4B7C-AE28-A56FA778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9D9-668F-4132-B510-09C0C81E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785-9146-4DC3-B44A-428CD1AC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6CC-D0DC-4A2C-9925-313DF08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72D-6F4D-4717-AB34-BCBD3E3A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0D0-E91B-4E06-AEF9-A1B5852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038F-7B21-4FB1-868D-BB5D186BBE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09C8-C891-4362-8916-61CE6D3CCC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2.gi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642760" y="1213920"/>
            <a:ext cx="43578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разеологиз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емененко Дени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в класс школа №94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Найдите объяснение каждому фразеологизму</a:t>
            </a:r>
            <a:endParaRPr b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Клевать носом; идти в ногу; вставлять палки в колёса; бесструнная балалайка; заячья душа; играть первую скрипку; заблудиться в трёх соснах.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Для справок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Трусливый человек; дремать; мешать; робкий человек; быть самым главным; действовать согласованно; не суметь разобраться в чём-то простом.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1"/>
          <p:cNvSpPr/>
          <p:nvPr/>
        </p:nvSpPr>
        <p:spPr>
          <a:xfrm>
            <a:off x="684360" y="2421000"/>
            <a:ext cx="6696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олоден как ………….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итер как     ………….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доров как   ………….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зворотлив как ………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адут как     ………….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ем как        …………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рязный как  …………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прям как     …………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олтлив как  …………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люч как     …………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еуклюж как …………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ff"/>
                </a:solidFill>
                <a:latin typeface="Courier New"/>
              </a:rPr>
              <a:t>А сейчас мы с вами побываем во «Фразеологическом зверинце».</a:t>
            </a:r>
            <a:br>
              <a:rPr sz="2400"/>
            </a:br>
            <a:r>
              <a:rPr b="1" lang="ru-RU" sz="2400" spc="-1" strike="noStrike">
                <a:solidFill>
                  <a:srgbClr val="9999ff"/>
                </a:solidFill>
                <a:latin typeface="Courier New"/>
              </a:rPr>
              <a:t>Вместо точек вставь названия животных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5" name="Picture 4" descr="j0304933"/>
          <p:cNvPicPr/>
          <p:nvPr/>
        </p:nvPicPr>
        <p:blipFill>
          <a:blip r:embed="rId1"/>
          <a:stretch/>
        </p:blipFill>
        <p:spPr>
          <a:xfrm>
            <a:off x="826920" y="4653000"/>
            <a:ext cx="1819440" cy="16686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0"/>
          <p:cNvSpPr/>
          <p:nvPr/>
        </p:nvSpPr>
        <p:spPr>
          <a:xfrm>
            <a:off x="468360" y="17208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руслив как ………….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7" name="Picture 19" descr="сканирование0001"/>
          <p:cNvPicPr/>
          <p:nvPr/>
        </p:nvPicPr>
        <p:blipFill>
          <a:blip r:embed="rId2"/>
          <a:stretch/>
        </p:blipFill>
        <p:spPr>
          <a:xfrm>
            <a:off x="4572000" y="1916280"/>
            <a:ext cx="1874880" cy="14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971640" y="260280"/>
            <a:ext cx="7273800" cy="15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DejaVu Sans"/>
              </a:rPr>
              <a:t>На заметку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Как и слово, фразеологизм может иметь синонимы и антонимы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Фразеологизмы – синонимы: два сапога пара – одного поля ягода (один другого не лучше); перековать мечи на орала  - вложить меч в ножны (закончить войну, распрю)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Фразеологизмы - антонимы: засучив рукава – спустя рукава; заварить кашу – расхлёбывать кашу; тяжёл на подъём – лёгок  на подъём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Фразеологиз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кот наплак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имеет синони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ма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и антони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мн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890800" cy="1708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99ff"/>
                </a:solidFill>
                <a:uFillTx/>
                <a:latin typeface="Book Antiqua"/>
              </a:rPr>
              <a:t>Запишите в дневник  домашнее задание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708000" y="1989000"/>
            <a:ext cx="36162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2f1311"/>
                </a:solidFill>
                <a:latin typeface="Palatino Linotype"/>
              </a:rPr>
              <a:t>Выпишите 10 фразеологических оборотов из словаря, в которых встречаются имена числитель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3" name="Picture 4" descr="j0251301"/>
          <p:cNvPicPr/>
          <p:nvPr/>
        </p:nvPicPr>
        <p:blipFill>
          <a:blip r:embed="rId1"/>
          <a:stretch/>
        </p:blipFill>
        <p:spPr>
          <a:xfrm>
            <a:off x="611280" y="2133720"/>
            <a:ext cx="28810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457200" y="274680"/>
            <a:ext cx="82296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ведём итоги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разеологизм?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можно заменить фразеологизм?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ую роль выполняет фразеологизм в предложении?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ы можете рассказать о происхождении и употреблении фразеологизмов?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6300720" y="4508640"/>
            <a:ext cx="1381320" cy="1590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Shape 1"/>
          <p:cNvSpPr/>
          <p:nvPr/>
        </p:nvSpPr>
        <p:spPr>
          <a:xfrm>
            <a:off x="457200" y="274680"/>
            <a:ext cx="8229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ff"/>
                </a:solidFill>
                <a:latin typeface="Times New Roman"/>
                <a:ea typeface="DejaVu Sans"/>
              </a:rPr>
              <a:t>Происхождение фразеологизмов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Shape 2"/>
          <p:cNvSpPr/>
          <p:nvPr/>
        </p:nvSpPr>
        <p:spPr>
          <a:xfrm>
            <a:off x="928800" y="1500120"/>
            <a:ext cx="621504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DejaVu Sans"/>
              </a:rPr>
              <a:t>Основная часть фразеологизмов русского языка исконно русского происхождения, источником их являются: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f2b725"/>
                </a:solidFill>
                <a:latin typeface="Times New Roman"/>
                <a:ea typeface="DejaVu Sans"/>
              </a:rPr>
              <a:t>профессиональная речь 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(точить лясы, бить баклуши, без сучка и задоринки, снять стружку, сесть на мель, играть первую скрипку)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DejaVu Sans"/>
              </a:rPr>
              <a:t>жаргон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 (втирать очки, карта бита, идти ва-банк — у картежников) и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DejaVu Sans"/>
              </a:rPr>
              <a:t>разговорная  речь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диалекты (связаны с трудом крестьянства) 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(поворачивать оглобли, из кулька в рогожку, на воде вилами написано). 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fdf6e5"/>
                </a:solidFill>
                <a:latin typeface="Times New Roman"/>
                <a:ea typeface="DejaVu Sans"/>
              </a:rPr>
              <a:t>богослужебные книги 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(святая святых, исчадие ада, по образу и подобию, глас вопиющего в пустыне, земля обетованная).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imes New Roman"/>
                <a:ea typeface="DejaVu Sans"/>
              </a:rPr>
              <a:t> 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3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out">
                                      <p:cBhvr additive="repl">
                                        <p:cTn id="18" dur="2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out">
                                      <p:cBhvr additive="repl">
                                        <p:cTn id="23" dur="3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out">
                                      <p:cBhvr additive="repl">
                                        <p:cTn id="28" dur="3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3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Shape 1"/>
          <p:cNvSpPr/>
          <p:nvPr/>
        </p:nvSpPr>
        <p:spPr>
          <a:xfrm>
            <a:off x="457200" y="274680"/>
            <a:ext cx="822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  <a:ea typeface="DejaVu Sans"/>
              </a:rPr>
              <a:t>Что  называют фразеологизмами </a:t>
            </a:r>
            <a:endParaRPr b="1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TextShape 2"/>
          <p:cNvSpPr/>
          <p:nvPr/>
        </p:nvSpPr>
        <p:spPr>
          <a:xfrm>
            <a:off x="500040" y="2000160"/>
            <a:ext cx="678672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  <a:ea typeface="DejaVu Sans"/>
              </a:rPr>
              <a:t> 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Arial"/>
                <a:ea typeface="DejaVu Sans"/>
              </a:rPr>
              <a:t>Фразеологизмы  (фразеологические обороты) - 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DejaVu Sans"/>
              </a:rPr>
              <a:t>это устойчивые  сочетания слов, равные по значению либо одному слову, либо целому предложению.</a:t>
            </a: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DejaVu Sans"/>
              </a:rPr>
              <a:t> </a:t>
            </a: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DejaVu Sans"/>
              </a:rPr>
              <a:t>В языке каждого народа есть устойчивые образные обороты, которые воспроизводятся в речи подобно слову, а не строятся, подобно словосочетаниям и предложениям. Такие обороты называются фразеологизмами.</a:t>
            </a: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  <a:ea typeface="DejaVu Sans"/>
              </a:rPr>
              <a:t>Другое важное свойство фразеологизмов: смысл целого фразеологизма не складывается из смыслов входящих в него слов, например выражение собаку съел, обозначающее быть мастером в каком-нибудь деле», совершенно не связано со значением входящих в него слов.</a:t>
            </a: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539640" y="404640"/>
            <a:ext cx="8229600" cy="185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Фразеологизмы – это устойчивые сочетания слов, близкие по лексическому значению одному слову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равните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на краю света – далеко; намылить шею – проучить; зарубить на носу – запомнить: как в воду глядеть – предвидеть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214200" y="4143240"/>
            <a:ext cx="3219480" cy="1809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4500720" y="4000680"/>
            <a:ext cx="305100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Отгадайте загадки</a:t>
            </a:r>
            <a:endParaRPr b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468360" y="1197000"/>
            <a:ext cx="3959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Товарищ твой просит украдкой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ы списать из тетрадки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Не надо! Ведь этим ты другу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Окажешь 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716360" y="1125360"/>
            <a:ext cx="3889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Фальшивят, путают слова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Поют кто в лес, …   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Ребята слушать их не станут: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От этой песни уши ...  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2952720" cy="237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3324240" cy="1819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0" y="428760"/>
            <a:ext cx="7443720" cy="107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Найдите фразеологизм, объясните его значение</a:t>
            </a:r>
            <a:endParaRPr b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457200" y="1600200"/>
            <a:ext cx="82296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 виду мы  не очень схожи: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Петька толстый, я худой.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Не похожи мы, а всё же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Нас не разольёшь водой!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(Б. Заходер)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11280" y="44370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3059280" y="4149720"/>
            <a:ext cx="350496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 фразеологическим оборотам определи, среди представителей каких профессий они появились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тричь под одну гребен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на живую нит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сложить оружи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закидывать удоч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играть первую скрип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петь с чужого голос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открывать Амери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ждать у моря погоды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попасть в ловушк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сгущать крас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ход коне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ccff"/>
                </a:solidFill>
                <a:latin typeface="Arial"/>
              </a:rPr>
              <a:t>закусить удил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2" name="Picture 13" descr="J0282747"/>
          <p:cNvPicPr/>
          <p:nvPr/>
        </p:nvPicPr>
        <p:blipFill>
          <a:blip r:embed="rId2"/>
          <a:stretch/>
        </p:blipFill>
        <p:spPr>
          <a:xfrm>
            <a:off x="5219640" y="1197000"/>
            <a:ext cx="1806480" cy="1806480"/>
          </a:xfrm>
          <a:prstGeom prst="rect">
            <a:avLst/>
          </a:prstGeom>
          <a:ln w="0">
            <a:noFill/>
          </a:ln>
        </p:spPr>
      </p:pic>
      <p:sp>
        <p:nvSpPr>
          <p:cNvPr id="313" name="WordArt 16"/>
          <p:cNvSpPr txBox="1"/>
          <p:nvPr/>
        </p:nvSpPr>
        <p:spPr>
          <a:xfrm>
            <a:off x="0" y="333360"/>
            <a:ext cx="5904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гадай професси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рожит как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тается как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водить на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ержать в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разить как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ариться в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деть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нать как 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Picture 4" descr="AG00218_"/>
          <p:cNvPicPr/>
          <p:nvPr/>
        </p:nvPicPr>
        <p:blipFill>
          <a:blip r:embed="rId9"/>
          <a:stretch/>
        </p:blipFill>
        <p:spPr>
          <a:xfrm>
            <a:off x="4859280" y="2852640"/>
            <a:ext cx="2075040" cy="1589040"/>
          </a:xfrm>
          <a:prstGeom prst="rect">
            <a:avLst/>
          </a:prstGeom>
          <a:ln w="0">
            <a:noFill/>
          </a:ln>
        </p:spPr>
      </p:pic>
      <p:sp>
        <p:nvSpPr>
          <p:cNvPr id="316" name="WordArt 6"/>
          <p:cNvSpPr txBox="1"/>
          <p:nvPr/>
        </p:nvSpPr>
        <p:spPr>
          <a:xfrm>
            <a:off x="684360" y="260280"/>
            <a:ext cx="669600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пиши фразеологизм: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6"/>
          <p:cNvSpPr/>
          <p:nvPr/>
        </p:nvSpPr>
        <p:spPr>
          <a:xfrm>
            <a:off x="539640" y="1844640"/>
            <a:ext cx="3745080" cy="32400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ff"/>
                </a:solidFill>
                <a:latin typeface="Palatino Linotype"/>
              </a:rPr>
              <a:t>Прочитайте рассказ, замените выделенные слова фразеологизмами, дайте заголовок рассказу, используя пословицу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36165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         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Целую четверть Юра работал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плохо (…).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Дома он тоже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ничего не делал (…).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За домашние задания Юра брался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неохотно (…).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В конце четверти  с дневником, в котором были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двойки,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мальчик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 печально (…)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шел домой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. 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«Надо после каникул </a:t>
            </a:r>
            <a:r>
              <a:rPr b="1" lang="ru-RU" sz="1600" spc="-1" strike="noStrike">
                <a:solidFill>
                  <a:srgbClr val="2f1311"/>
                </a:solidFill>
                <a:latin typeface="Palatino Linotype"/>
              </a:rPr>
              <a:t>усердно (…)</a:t>
            </a:r>
            <a:r>
              <a:rPr b="0" lang="ru-RU" sz="1600" spc="-1" strike="noStrike">
                <a:solidFill>
                  <a:srgbClr val="2f1311"/>
                </a:solidFill>
                <a:latin typeface="Palatino Linotype"/>
              </a:rPr>
              <a:t> приниматься за учебу», - думал он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4" descr="Безымянный"/>
          <p:cNvPicPr/>
          <p:nvPr/>
        </p:nvPicPr>
        <p:blipFill>
          <a:blip r:embed="rId1"/>
          <a:stretch/>
        </p:blipFill>
        <p:spPr>
          <a:xfrm>
            <a:off x="4643280" y="2349360"/>
            <a:ext cx="25099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2:32:19Z</dcterms:created>
  <dc:creator>Татьяна </dc:creator>
  <dc:description/>
  <dc:language>en-US</dc:language>
  <cp:lastModifiedBy>Денис</cp:lastModifiedBy>
  <dcterms:modified xsi:type="dcterms:W3CDTF">2012-05-20T18:31:57Z</dcterms:modified>
  <cp:revision>15</cp:revision>
  <dc:subject/>
  <dc:title>Слайд 1</dc:title>
</cp:coreProperties>
</file>