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F52-98A0-4FDD-B9C9-2A5E021C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608-27FB-4ABA-920F-DBB15BFA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039-432D-4496-B410-05FA9B66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5C6-A48C-4747-B282-1D7558CC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D94-317E-4C1B-8640-1AEB6CF2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7E1-5885-4F99-B2CA-C78EBDC4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EC1-A7D0-42AE-A3D2-0E7B5D3B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323-E81E-4D0F-8E2A-27B9DBC0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590-2ECC-454F-824D-46D32ACD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4C6-57BC-4087-A7F4-86D70F7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2EA-670E-4895-B954-EA33672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750-2FD8-4A1F-90AC-ADB2F54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7520-FC3B-44C7-83AB-03291CEDD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1989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3300"/>
                    </a:gs>
                    <a:gs pos="100000">
                      <a:srgbClr val="ffcc66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urier New"/>
              </a:rPr>
              <a:t>ИМПРЕССИОНИЗ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3300"/>
                  </a:gs>
                  <a:gs pos="100000">
                    <a:srgbClr val="ffcc66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Эдуард М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ренебрегает светскими условностями, общепринятыми идеалами 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Завтрак на т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Открывает подлинную красоту в повседневном течени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Балк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ридает поэтичности обычному, реальному об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Олимп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33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ане. Завтрак на тр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К"/>
          <p:cNvPicPr/>
          <p:nvPr/>
        </p:nvPicPr>
        <p:blipFill>
          <a:blip r:embed="rId1"/>
          <a:stretch/>
        </p:blipFill>
        <p:spPr>
          <a:xfrm>
            <a:off x="2271600" y="189000"/>
            <a:ext cx="4600800" cy="648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627280" y="33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ане. Бал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95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ане. Олим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Клод М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1280" y="1125360"/>
            <a:ext cx="8137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вым формулирует принципы нового направления, разрабатывает программу пленера и характерную для данного направления тех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Мир, погруженный в воздушную среду, лишается материальности, превращается в гармонию световых пя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«Бульвар Капуци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исал один и тот же мотив, исследуя эффекты освещения в разное время суток и в различные времен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«Руанский соб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«Кувшин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читал, что черного цвета в природе нет, утверждал, что даже тени цветные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Моне_Бульвар Капуцинок"/>
          <p:cNvPicPr/>
          <p:nvPr/>
        </p:nvPicPr>
        <p:blipFill>
          <a:blip r:embed="rId1"/>
          <a:stretch/>
        </p:blipFill>
        <p:spPr>
          <a:xfrm>
            <a:off x="2174760" y="189000"/>
            <a:ext cx="484848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2843280" y="26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Моне. Бульвар Капуц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Моне_Пруд с Кувшинками1"/>
          <p:cNvPicPr/>
          <p:nvPr/>
        </p:nvPicPr>
        <p:blipFill>
          <a:blip r:embed="rId1"/>
          <a:stretch/>
        </p:blipFill>
        <p:spPr>
          <a:xfrm>
            <a:off x="324000" y="189000"/>
            <a:ext cx="381636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5" descr="Моне_Пруд с Кувшинками2"/>
          <p:cNvPicPr/>
          <p:nvPr/>
        </p:nvPicPr>
        <p:blipFill>
          <a:blip r:embed="rId2"/>
          <a:stretch/>
        </p:blipFill>
        <p:spPr>
          <a:xfrm>
            <a:off x="4716360" y="189000"/>
            <a:ext cx="403236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6" descr="Моне_Пруд с Кувшинками3"/>
          <p:cNvPicPr/>
          <p:nvPr/>
        </p:nvPicPr>
        <p:blipFill>
          <a:blip r:embed="rId3"/>
          <a:stretch/>
        </p:blipFill>
        <p:spPr>
          <a:xfrm>
            <a:off x="324000" y="3429000"/>
            <a:ext cx="3816360" cy="307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7" descr="Моне_Пруд с Кувшинками"/>
          <p:cNvPicPr/>
          <p:nvPr/>
        </p:nvPicPr>
        <p:blipFill>
          <a:blip r:embed="rId4"/>
          <a:stretch/>
        </p:blipFill>
        <p:spPr>
          <a:xfrm>
            <a:off x="4716360" y="3429000"/>
            <a:ext cx="4032360" cy="305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 Box 8"/>
          <p:cNvSpPr/>
          <p:nvPr/>
        </p:nvSpPr>
        <p:spPr>
          <a:xfrm>
            <a:off x="539640" y="333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оне Кувш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Моне_Руанский в полдень"/>
          <p:cNvPicPr/>
          <p:nvPr/>
        </p:nvPicPr>
        <p:blipFill>
          <a:blip r:embed="rId1"/>
          <a:stretch/>
        </p:blipFill>
        <p:spPr>
          <a:xfrm>
            <a:off x="179280" y="404640"/>
            <a:ext cx="2714760" cy="475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Моне_Руанский в утреннем свете"/>
          <p:cNvPicPr/>
          <p:nvPr/>
        </p:nvPicPr>
        <p:blipFill>
          <a:blip r:embed="rId2"/>
          <a:stretch/>
        </p:blipFill>
        <p:spPr>
          <a:xfrm>
            <a:off x="3059280" y="404640"/>
            <a:ext cx="2895480" cy="475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Моне_Руанский пасмурно"/>
          <p:cNvPicPr/>
          <p:nvPr/>
        </p:nvPicPr>
        <p:blipFill>
          <a:blip r:embed="rId3"/>
          <a:stretch/>
        </p:blipFill>
        <p:spPr>
          <a:xfrm>
            <a:off x="6084720" y="404640"/>
            <a:ext cx="2857680" cy="4753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50920" y="5229360"/>
            <a:ext cx="2663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 М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анский собор, западный портал и башня Сен-Роман, полден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203640" y="5229360"/>
            <a:ext cx="266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 М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ал Руанского собора: гармония в утреннем све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27640" y="5229360"/>
            <a:ext cx="2664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 М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анский собор, западный портал, пасмурная погод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Камилл Писсар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скал художественную прелесть в обыденном, а значительность – в повседнев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Жа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ариж и его окрестности предстают и в лиловых сумерках, и в тумане серого утра, и в синеве зимнего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Бульвар Монмарт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Писсарро_Жат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79280" y="64911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Писсарро.  Жа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urier New"/>
              </a:rPr>
              <a:t>Импрессион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26836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Э. М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Э. Д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К. М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О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Рену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А. Сис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К. Писсар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Г. Кайбо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Б. Мори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Писсарро_Бульвар Монмарт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39640" y="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иссарро. Бульвар Монмартр. После полудня. Сол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84360" y="404640"/>
            <a:ext cx="51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Писсарро_Бульвар Монмарт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69080" y="260280"/>
            <a:ext cx="66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иссарро. Бульвар Монмартр. После полудня.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Писсарро_Бульвар Монмарт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542520" y="260280"/>
            <a:ext cx="58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иссарро. Бульвар Монмартр. Утро. Пасму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Огюст Рену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«Живописец сча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стинное призвание – изображени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Образы построены на гармоничных, чистых, мажорных красочных сочет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Портрет Жанны Сома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Человек – неотрывная, самая прекрасная часть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Завтрак Гребц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Ренуар_Портрет Жанны Сомари"/>
          <p:cNvPicPr/>
          <p:nvPr/>
        </p:nvPicPr>
        <p:blipFill>
          <a:blip r:embed="rId1"/>
          <a:stretch/>
        </p:blipFill>
        <p:spPr>
          <a:xfrm>
            <a:off x="2043000" y="189000"/>
            <a:ext cx="5219640" cy="6480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268360" y="6308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. Ренуар. Портрет Жанны Сом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енуар_Портрет Жанны Сомари1"/>
          <p:cNvPicPr/>
          <p:nvPr/>
        </p:nvPicPr>
        <p:blipFill>
          <a:blip r:embed="rId1"/>
          <a:stretch/>
        </p:blipFill>
        <p:spPr>
          <a:xfrm>
            <a:off x="2771640" y="189000"/>
            <a:ext cx="3667320" cy="6480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2708280" y="630864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. Ренуар. Портрет Жанны Сом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енуар_Завтрак Греб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. Ренуар. Завтрак греб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Эдгар Д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ротивник непосредственности в искусстве, пленэра, почти никогда не писал картин с н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зображал будни театра, ипподрома, женщин за туалетом, сцены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Голубые танцовщ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Гладильщ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Скаковые лошади перед трибун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Картины овеяны грустью, иногда ироничны, порой саркастич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«Абс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Дега_Голубые танцовщицы"/>
          <p:cNvPicPr/>
          <p:nvPr/>
        </p:nvPicPr>
        <p:blipFill>
          <a:blip r:embed="rId1"/>
          <a:stretch/>
        </p:blipFill>
        <p:spPr>
          <a:xfrm>
            <a:off x="1343160" y="189000"/>
            <a:ext cx="6456240" cy="6480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547640" y="33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Дега. Голубые танцовщ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Дега_Гладильщицы"/>
          <p:cNvPicPr/>
          <p:nvPr/>
        </p:nvPicPr>
        <p:blipFill>
          <a:blip r:embed="rId1"/>
          <a:stretch/>
        </p:blipFill>
        <p:spPr>
          <a:xfrm>
            <a:off x="1187280" y="189000"/>
            <a:ext cx="6840720" cy="6435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40328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 Дега. Гладильщ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</a:rPr>
              <a:t>Начало импрессион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чало в 1874 г. - Париж. Первая выставка импрессион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ставка объединила художников, не признанных широкой публикой 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твергаемых жюри салонов - «Салон Отверже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ермин «импрессионизм» (от французского слова «impression» — «впечатление») произнесен критиком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Леру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относительно картин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Клода Моне «Впечатление. Восход солн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ставки импрессионистов с 1874 по 1886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мпрессионизм был мировым направлением в культуре, пронизавшим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бой все виды изобразительного искусства, литературу, музыку, театр, повлиявшим на видение мира и философи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мпрессионисты отказались в своих работах от повествования, фабулы, от социальной кри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8244000" y="652464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Дега_Абсент"/>
          <p:cNvPicPr/>
          <p:nvPr/>
        </p:nvPicPr>
        <p:blipFill>
          <a:blip r:embed="rId1"/>
          <a:stretch/>
        </p:blipFill>
        <p:spPr>
          <a:xfrm>
            <a:off x="2239920" y="189000"/>
            <a:ext cx="4664160" cy="6480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340000" y="630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 Дега. Абс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Моне_Восход солнц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708360" y="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.Моне  «Впечатление. Восход солн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Французский импрессио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Это стилистическое направление, особое мировидение, мироощущение, миро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мпрессионисты — основоположники современного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скусств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Они установили прямую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вязь между глазом живописца и светом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Это особый творческий метод, в основе которого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ередача впечатления, фиксация ускользающих мгновени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лияние света и воздуха на формы и тона предметов -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дно из основных требований, предъявленных к кар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спроизвести впечатление от мгновенного взгляда на пейзаж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при особенной игре света, в момент, когда формы еще не поняты и только еще начинается процесс усвоения мозгом того, что видит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печатление иногда подобно тому, какое ощущает только что проснувшийся человек, видящий свет и цвета, но не успевший еще сообразить, где он и что перед ним нахо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Французский импрессио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Этюд как законченное произведение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Перестановка акцента: то,   что раньше казалось этюдом, заготовкой, стало целью их живо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ближение этюда и картины, а нередко и слияние несколь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тадий работы в один непрерывный процес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Освещение – ключевое понятие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По возможности запечатлеваются те скоропреходящие оттенки, которые создает быстро меняющееся освещ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Работа на пленере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– открытом воздухе, а не в студ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Очень быстрая манера письма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Такой метод изменил темпы 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боты, писать надо было быстро. Следствием этого явила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подвижная импульсивная фактура их живо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лияние фотографии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. Взяли из фотографии — ускользающие, прежде не замечаемые жесты, новый ритм; новые точки зрения, крупный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Влияние японского искусств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urier New"/>
                <a:hlinkClick r:id="rId1" action="ppaction://hlinksldjump"/>
              </a:rPr>
              <a:t>(гравю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японская гравюра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Техника и метод импрессион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вет –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главный герой их жив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Принцип «писать то, что видишь среди света и воздуха» - основа пленэрной живописи импрессион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вет стал равноправен сюжету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Из компонента изображения он превратился в предмет изображения. Пейзаж импрессиониста всегда показывает не только данную местность, но и данную местность в данном осве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Асимметрия композиции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Неожиданные точки зрения и сложные ракурсы. Децентрализация изображения, смещение композиционных осей, "произвольные" срезы частей композиции, предметов и фигур самой карт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Деталь может заслонять главное, отсутствие традиционного разделения на фон и основной предмет изоб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артина как фрагмент натуры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словно увиденного в окно или, по определению Дега, "подсмотренного через замочную скважину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Техника и метод импрессион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Нет предварительного рисун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нтурный рисунок, как и светотень,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отсутствует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глубина не передаётся перспекти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реимущество живым цветам солнечного спектр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Чёрные, коричневые и серые цветовые тона в общем игнорируются, не включаются в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азложение сложных тонов на чистые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Чистые цвета часто кладутся на холст без предвар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мешивания на палитре и воспринимаются зрителем согл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истеме оптического сме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Мазки разнообразной формы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ветные прикосновения дробятся, рассыпаются на  многочисленные «запятые», нанесённые одни возле других. Жидкие, свободные, пастозные мазки придают рельефность красочного сл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57:21Z</dcterms:created>
  <dc:creator>Teacher</dc:creator>
  <dc:description/>
  <dc:language>en-US</dc:language>
  <cp:lastModifiedBy>Макс</cp:lastModifiedBy>
  <dcterms:modified xsi:type="dcterms:W3CDTF">2013-03-19T19:18:28Z</dcterms:modified>
  <cp:revision>4</cp:revision>
  <dc:subject/>
  <dc:title>Слайд 1</dc:title>
</cp:coreProperties>
</file>