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0DB-4082-4080-B828-5CAA57B2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06C-26E4-44CE-AED4-99DED06E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8D1-BF24-4BB9-BC17-866316DA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33F-F339-402C-9871-E00FB24B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8A6-7ADF-40E6-85A4-76B75687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DC7-E595-4822-A6D9-B5155841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62D-C92F-4CC5-9ABF-EE6FADB7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04CC-618B-4577-992B-013984BA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A59-A8F1-44B0-B2C6-1A88836F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C527-B425-422A-A018-7148EBD9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1A9-78F0-4799-B0F8-4F1AD41E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A412-3CB2-49A8-B523-018F2A90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BE16-6D4C-4FF5-9E88-C3124CA7F3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826920" y="1989000"/>
            <a:ext cx="7490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cc3300"/>
                    </a:gs>
                    <a:gs pos="100000">
                      <a:srgbClr val="ffcc66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urier New"/>
              </a:rPr>
              <a:t>ИМПРЕССИОНИЗ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cc3300"/>
                  </a:gs>
                  <a:gs pos="100000">
                    <a:srgbClr val="ffcc66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Эдуард М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Пренебрегает светскими условностями, общепринятыми идеалами кра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Завтрак на тра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Открывает подлинную красоту в повседневном течении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Балк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Придает поэтичности обычному, реальному обр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Олимп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95280" y="33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.Мане. Завтрак на тра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К"/>
          <p:cNvPicPr/>
          <p:nvPr/>
        </p:nvPicPr>
        <p:blipFill>
          <a:blip r:embed="rId1"/>
          <a:stretch/>
        </p:blipFill>
        <p:spPr>
          <a:xfrm>
            <a:off x="2271600" y="189000"/>
            <a:ext cx="4600800" cy="648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2627280" y="333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.Мане. Бал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95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.Мане. Олим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Клод М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964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11280" y="1125360"/>
            <a:ext cx="813744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рвым формулирует принципы нового направления, разрабатывает программу пленера и характерную для данного направления тех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Мир, погруженный в воздушную среду, лишается материальности, превращается в гармонию световых пят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«Бульвар Капуцин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исал один и тот же мотив, исследуя эффекты освещения в разное время суток и в различные времена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«Руанский соб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«Кувшин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читал, что черного цвета в природе нет, утверждал, что даже тени цветные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Моне_Бульвар Капуцинок"/>
          <p:cNvPicPr/>
          <p:nvPr/>
        </p:nvPicPr>
        <p:blipFill>
          <a:blip r:embed="rId1"/>
          <a:stretch/>
        </p:blipFill>
        <p:spPr>
          <a:xfrm>
            <a:off x="2174760" y="189000"/>
            <a:ext cx="4848480" cy="640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Text Box 5"/>
          <p:cNvSpPr/>
          <p:nvPr/>
        </p:nvSpPr>
        <p:spPr>
          <a:xfrm>
            <a:off x="2843280" y="260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 Моне. Бульвар Капуци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Моне_Пруд с Кувшинками1"/>
          <p:cNvPicPr/>
          <p:nvPr/>
        </p:nvPicPr>
        <p:blipFill>
          <a:blip r:embed="rId1"/>
          <a:stretch/>
        </p:blipFill>
        <p:spPr>
          <a:xfrm>
            <a:off x="324000" y="189000"/>
            <a:ext cx="381636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5" descr="Моне_Пруд с Кувшинками2"/>
          <p:cNvPicPr/>
          <p:nvPr/>
        </p:nvPicPr>
        <p:blipFill>
          <a:blip r:embed="rId2"/>
          <a:stretch/>
        </p:blipFill>
        <p:spPr>
          <a:xfrm>
            <a:off x="4716360" y="189000"/>
            <a:ext cx="403236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6" descr="Моне_Пруд с Кувшинками3"/>
          <p:cNvPicPr/>
          <p:nvPr/>
        </p:nvPicPr>
        <p:blipFill>
          <a:blip r:embed="rId3"/>
          <a:stretch/>
        </p:blipFill>
        <p:spPr>
          <a:xfrm>
            <a:off x="324000" y="3429000"/>
            <a:ext cx="3816360" cy="307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7" descr="Моне_Пруд с Кувшинками"/>
          <p:cNvPicPr/>
          <p:nvPr/>
        </p:nvPicPr>
        <p:blipFill>
          <a:blip r:embed="rId4"/>
          <a:stretch/>
        </p:blipFill>
        <p:spPr>
          <a:xfrm>
            <a:off x="4716360" y="3429000"/>
            <a:ext cx="4032360" cy="305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Text Box 8"/>
          <p:cNvSpPr/>
          <p:nvPr/>
        </p:nvSpPr>
        <p:spPr>
          <a:xfrm>
            <a:off x="539640" y="33336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оне Кувш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Моне_Руанский в полдень"/>
          <p:cNvPicPr/>
          <p:nvPr/>
        </p:nvPicPr>
        <p:blipFill>
          <a:blip r:embed="rId1"/>
          <a:stretch/>
        </p:blipFill>
        <p:spPr>
          <a:xfrm>
            <a:off x="179280" y="404640"/>
            <a:ext cx="2714760" cy="4753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Моне_Руанский в утреннем свете"/>
          <p:cNvPicPr/>
          <p:nvPr/>
        </p:nvPicPr>
        <p:blipFill>
          <a:blip r:embed="rId2"/>
          <a:stretch/>
        </p:blipFill>
        <p:spPr>
          <a:xfrm>
            <a:off x="3059280" y="404640"/>
            <a:ext cx="2895480" cy="475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Моне_Руанский пасмурно"/>
          <p:cNvPicPr/>
          <p:nvPr/>
        </p:nvPicPr>
        <p:blipFill>
          <a:blip r:embed="rId3"/>
          <a:stretch/>
        </p:blipFill>
        <p:spPr>
          <a:xfrm>
            <a:off x="6084720" y="404640"/>
            <a:ext cx="2857680" cy="4753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250920" y="5229360"/>
            <a:ext cx="26636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. Мо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анский собор, западный портал и башня Сен-Роман, полдень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203640" y="5229360"/>
            <a:ext cx="26636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. Мо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ал Руанского собора: гармония в утреннем све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27640" y="5229360"/>
            <a:ext cx="2664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. Мо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анский собор, западный портал, пасмурная погод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Камилл Писсар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53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Искал художественную прелесть в обыденном, а значительность – в повседнев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Жа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Париж и его окрестности предстают и в лиловых сумерках, и в тумане серого утра, и в синеве зимнего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Бульвар Монмарт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Писсарро_Жатв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79280" y="64911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Писсарро.  Жа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urier New"/>
              </a:rPr>
              <a:t>Импрессион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268360" y="1484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Э. М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Э. Д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К. М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О.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Рену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А. Сис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К. Писсар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Г. Кайбо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Б. Мориз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Писсарро_Бульвар Монмарт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39640" y="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 Писсарро. Бульвар Монмартр. После полудня. Солн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684360" y="404640"/>
            <a:ext cx="51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Писсарро_Бульвар Монмарт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469080" y="260280"/>
            <a:ext cx="66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 Писсарро. Бульвар Монмартр. После полудня. 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Писсарро_Бульвар Монмарт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542520" y="260280"/>
            <a:ext cx="58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 Писсарро. Бульвар Монмартр. Утро. Пасму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Огюст Рену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«Живописец счаст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Истинное призвание – изображение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Образы построены на гармоничных, чистых, мажорных красочных сочет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Портрет Жанны Сома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Человек – неотрывная, самая прекрасная часть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Завтрак Гребц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Ренуар_Портрет Жанны Сомари"/>
          <p:cNvPicPr/>
          <p:nvPr/>
        </p:nvPicPr>
        <p:blipFill>
          <a:blip r:embed="rId1"/>
          <a:stretch/>
        </p:blipFill>
        <p:spPr>
          <a:xfrm>
            <a:off x="2043000" y="189000"/>
            <a:ext cx="5219640" cy="6480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268360" y="6308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. Ренуар. Портрет Жанны Сом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Ренуар_Портрет Жанны Сомари1"/>
          <p:cNvPicPr/>
          <p:nvPr/>
        </p:nvPicPr>
        <p:blipFill>
          <a:blip r:embed="rId1"/>
          <a:stretch/>
        </p:blipFill>
        <p:spPr>
          <a:xfrm>
            <a:off x="2771640" y="189000"/>
            <a:ext cx="3667320" cy="6480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2708280" y="6308640"/>
            <a:ext cx="371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. Ренуар. Портрет Жанны Сома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Ренуар_Завтрак Гребц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79280" y="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. Ренуар. Завтрак греб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Эдгар Д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Противник непосредственности в искусстве, пленэра, почти никогда не писал картин с н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Изображал будни театра, ипподрома, женщин за туалетом, сцены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Голубые танцовщ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Гладильщ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Скаковые лошади перед трибун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Картины овеяны грустью, иногда ироничны, порой саркастич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Абсен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Дега_Голубые танцовщицы"/>
          <p:cNvPicPr/>
          <p:nvPr/>
        </p:nvPicPr>
        <p:blipFill>
          <a:blip r:embed="rId1"/>
          <a:stretch/>
        </p:blipFill>
        <p:spPr>
          <a:xfrm>
            <a:off x="1343160" y="189000"/>
            <a:ext cx="6456240" cy="6480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547640" y="333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.Дега. Голубые танцовщ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Дега_Гладильщицы"/>
          <p:cNvPicPr/>
          <p:nvPr/>
        </p:nvPicPr>
        <p:blipFill>
          <a:blip r:embed="rId1"/>
          <a:stretch/>
        </p:blipFill>
        <p:spPr>
          <a:xfrm>
            <a:off x="1187280" y="189000"/>
            <a:ext cx="6840720" cy="6435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403280" y="26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. Дега. Гладильщ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urier New"/>
              </a:rPr>
              <a:t>Начало импрессион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ачало в 1874 г. - Париж. Первая выставка импрессион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ыставка объединила художников, не признанных широкой публикой 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твергаемых жюри салонов - «Салон Отвержен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Термин «импрессионизм» (от французского слова «impression» — «впечатление») произнесен критиком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Леруа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относительно картины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Клода Моне «Впечатление. Восход солн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ыставки импрессионистов с 1874 по 1886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мпрессионизм был мировым направлением в культуре, пронизавшим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бой все виды изобразительного искусства, литературу, музыку, театр, повлиявшим на видение мира и философию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мпрессионисты отказались в своих работах от повествования, фабулы, от социальной кри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>
            <a:off x="8244000" y="6524640"/>
            <a:ext cx="7207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Дега_Абсент"/>
          <p:cNvPicPr/>
          <p:nvPr/>
        </p:nvPicPr>
        <p:blipFill>
          <a:blip r:embed="rId1"/>
          <a:stretch/>
        </p:blipFill>
        <p:spPr>
          <a:xfrm>
            <a:off x="2239920" y="189000"/>
            <a:ext cx="4664160" cy="6480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340000" y="63086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. Дега. Абс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Моне_Восход солнц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708360" y="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.Моне  «Впечатление. Восход солн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urier New"/>
              </a:rPr>
              <a:t>Французский импрессио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Это стилистическое направление, особое мировидение, мироощущение, мировосприя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мпрессионисты — основоположники современного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скусств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 Они установили прямую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вязь между глазом живописца и светом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Это особый творческий метод, в основе которого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передача впечатления, фиксация ускользающих мгновени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лияние света и воздуха на формы и тона предметов -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дно из основных требований, предъявленных к карт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оспроизвести впечатление от мгновенного взгляда на пейзаж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при особенной игре света, в момент, когда формы еще не поняты и только еще начинается процесс усвоения мозгом того, что видит гл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печатление иногда подобно тому, какое ощущает только что проснувшийся человек, видящий свет и цвета, но не успевший еще сообразить, где он и что перед ним наход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urier New"/>
              </a:rPr>
              <a:t>Французский импрессио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Этюд как законченное произведение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. Перестановка акцента: то,   что раньше казалось этюдом, заготовкой, стало целью их живо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Сближение этюда и картины, а нередко и слияние несколь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стадий работы в один непрерывный процес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Освещение – ключевое понятие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. По возможности запечатлеваются те скоропреходящие оттенки, которые создает быстро меняющееся освещ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Работа на пленере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– открытом воздухе, а не в студ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Очень быстрая манера письма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. Такой метод изменил темпы 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работы, писать надо было быстро. Следствием этого явила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подвижная импульсивная фактура их живо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Влияние фотографии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. Взяли из фотографии — ускользающие, прежде не замечаемые жесты, новый ритм; новые точки зрения, крупный п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Влияние японского искусств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(гравюр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японская гравюра1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Техника и метод импрессиони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вет –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главный герой их живо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Принцип «писать то, что видишь среди света и воздуха» - основа пленэрной живописи импрессионис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вет стал равноправен сюжету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 Из компонента изображения он превратился в предмет изображения. Пейзаж импрессиониста всегда показывает не только данную местность, но и данную местность в данном освещ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Асимметрия композиции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Неожиданные точки зрения и сложные ракурсы. Децентрализация изображения, смещение композиционных осей, "произвольные" срезы частей композиции, предметов и фигур самой карт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Деталь может заслонять главное, отсутствие традиционного разделения на фон и основной предмет изоб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Картина как фрагмент натуры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словно увиденного в окно или, по определению Дега, "подсмотренного через замочную скважину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Техника и метод импрессиони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Нет предварительного рисунк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Контурный рисунок, как и светотень,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отсутствует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глубина не передаётся перспекти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Преимущество живым цветам солнечного спектр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Чёрные, коричневые и серые цветовые тона в общем игнорируются, не включаются в палит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Разложение сложных тонов на чистые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Чистые цвета часто кладутся на холст без предвар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мешивания на палитре и воспринимаются зрителем согла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истеме оптического смеш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Мазки разнообразной формы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Цветные прикосновения дробятся, рассыпаются на  многочисленные «запятые», нанесённые одни возле других. Жидкие, свободные, пастозные мазки придают рельефность красочного сл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2:57:21Z</dcterms:created>
  <dc:creator>Teacher</dc:creator>
  <dc:description/>
  <dc:language>en-US</dc:language>
  <cp:lastModifiedBy>Макс</cp:lastModifiedBy>
  <dcterms:modified xsi:type="dcterms:W3CDTF">2013-03-19T19:18:28Z</dcterms:modified>
  <cp:revision>4</cp:revision>
  <dc:subject/>
  <dc:title>Слайд 1</dc:title>
</cp:coreProperties>
</file>