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BF0-DE8A-4C90-8380-648808CB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701-BD6C-4456-BDE8-9BB53CCC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6D5-98A2-49BD-A7C4-FFA6FC7D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E37-8B5E-410C-B4FD-D4E92FF7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BCC9-D1BA-4235-AB72-8AE58455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276-CAA7-48D7-91D2-92090BFE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8EA5-C2AB-45CC-8901-E0CB14E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E6D-A87B-4D45-AB49-6693434C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247-34EE-4487-9CD7-EB2C0E29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1FE9-F5CD-4722-A10D-051A6AB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9369-E4D0-421F-9FE5-D29B1DC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942-8168-4BD3-B417-749F9AC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34D-C156-4869-87B4-118135D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F0A6-553F-44B1-94AD-A326EFE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469-5CA7-4378-8676-BC6C0BC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3EEC-62B7-4FE0-A535-84ED7A1C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56E-3C0E-40CA-A5BC-D91BBACA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7B9-FD07-4038-B919-F08F18D9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B33-743D-4F38-82A1-8E7395A9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E15-9C2A-420E-AB17-9F473614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825-AAE1-4F90-9264-05D47FDF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87E-3A54-4A3A-A97A-CD218D8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373-DC40-46F0-AA66-95EDB9B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158-AC85-40E1-9E9A-02E1AE26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CFD6-513E-459B-A588-80423DEF55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88A-B0DE-4611-8E11-4AAD5D4BE6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48800" y="2120400"/>
            <a:ext cx="7646400" cy="86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следовательский проек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Интересная бумага»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990720" y="3505320"/>
            <a:ext cx="742932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опыта работы воспитателя МБДОУ № 414 «Солнышко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имовой Любовь Вячеслав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643040" y="5786280"/>
            <a:ext cx="6000840" cy="857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рель 2010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285480"/>
            <a:ext cx="818172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ПОЗНАВАТЕЛЬНОЙ АКТИВНОСТИ ДЕТЕЙ ЧЕРЕЗ ОЗНАКОМЛ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 СВОЙСТВАМИ И КАЧЕСТВОМ БУМАГ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280" y="1981080"/>
            <a:ext cx="5105520" cy="13716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 интерес к истории создания бумаги, искусству ориг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55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380880" y="1523880"/>
            <a:ext cx="3857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846520" y="47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7" descr="DSCF4407"/>
          <p:cNvPicPr/>
          <p:nvPr/>
        </p:nvPicPr>
        <p:blipFill>
          <a:blip r:embed="rId2"/>
          <a:stretch/>
        </p:blipFill>
        <p:spPr>
          <a:xfrm>
            <a:off x="380880" y="3505320"/>
            <a:ext cx="4095720" cy="30859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6478560" y="42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9" descr="DSCF4374"/>
          <p:cNvPicPr/>
          <p:nvPr/>
        </p:nvPicPr>
        <p:blipFill>
          <a:blip r:embed="rId3"/>
          <a:stretch/>
        </p:blipFill>
        <p:spPr>
          <a:xfrm>
            <a:off x="5334120" y="198108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ть интерес к созданию собственных поделок из бумаги и атрибутов к игр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571680" y="1785960"/>
            <a:ext cx="38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51560" y="345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7" descr="DSCF3839"/>
          <p:cNvPicPr/>
          <p:nvPr/>
        </p:nvPicPr>
        <p:blipFill>
          <a:blip r:embed="rId2"/>
          <a:stretch/>
        </p:blipFill>
        <p:spPr>
          <a:xfrm>
            <a:off x="4495680" y="2666880"/>
            <a:ext cx="4419720" cy="333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 детей, самостоятельную исследовательскую деятельн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09480" y="1752480"/>
            <a:ext cx="3857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76116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7" descr="DSCF4373"/>
          <p:cNvPicPr/>
          <p:nvPr/>
        </p:nvPicPr>
        <p:blipFill>
          <a:blip r:embed="rId2"/>
          <a:stretch/>
        </p:blipFill>
        <p:spPr>
          <a:xfrm>
            <a:off x="5105520" y="1600200"/>
            <a:ext cx="3720960" cy="49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81840" y="452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676520" y="1752480"/>
            <a:ext cx="60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гров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20176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7" descr="DSCF3117"/>
          <p:cNvPicPr/>
          <p:nvPr/>
        </p:nvPicPr>
        <p:blipFill>
          <a:blip r:embed="rId2"/>
          <a:stretch/>
        </p:blipFill>
        <p:spPr>
          <a:xfrm>
            <a:off x="152280" y="2647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555156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9" descr="DSCF3077"/>
          <p:cNvPicPr/>
          <p:nvPr/>
        </p:nvPicPr>
        <p:blipFill>
          <a:blip r:embed="rId3"/>
          <a:stretch/>
        </p:blipFill>
        <p:spPr>
          <a:xfrm>
            <a:off x="4648320" y="26668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2"/>
          <a:stretch/>
        </p:blipFill>
        <p:spPr>
          <a:xfrm>
            <a:off x="1952640" y="1461960"/>
            <a:ext cx="5238720" cy="393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1905120" y="1752480"/>
            <a:ext cx="6324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гровая деятельность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4940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7" descr="DSCF3083"/>
          <p:cNvPicPr/>
          <p:nvPr/>
        </p:nvPicPr>
        <p:blipFill>
          <a:blip r:embed="rId3"/>
          <a:stretch/>
        </p:blipFill>
        <p:spPr>
          <a:xfrm>
            <a:off x="380880" y="274320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40480" y="345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9" descr="DSCF3086"/>
          <p:cNvPicPr/>
          <p:nvPr/>
        </p:nvPicPr>
        <p:blipFill>
          <a:blip r:embed="rId4"/>
          <a:stretch/>
        </p:blipFill>
        <p:spPr>
          <a:xfrm>
            <a:off x="4724280" y="274320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214200" y="1428840"/>
            <a:ext cx="871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ебно-познавательн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46240" y="37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7" descr="DSCF3103"/>
          <p:cNvPicPr/>
          <p:nvPr/>
        </p:nvPicPr>
        <p:blipFill>
          <a:blip r:embed="rId2"/>
          <a:stretch/>
        </p:blipFill>
        <p:spPr>
          <a:xfrm>
            <a:off x="152280" y="2666880"/>
            <a:ext cx="4343400" cy="3256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6375240" y="36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9" descr="DSCF3828"/>
          <p:cNvPicPr/>
          <p:nvPr/>
        </p:nvPicPr>
        <p:blipFill>
          <a:blip r:embed="rId3"/>
          <a:stretch/>
        </p:blipFill>
        <p:spPr>
          <a:xfrm>
            <a:off x="4648320" y="2666880"/>
            <a:ext cx="4352760" cy="326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14200" y="1676520"/>
            <a:ext cx="8715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удожественно-речевая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атральная деятельнос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24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7" descr="DSCF3834"/>
          <p:cNvPicPr/>
          <p:nvPr/>
        </p:nvPicPr>
        <p:blipFill>
          <a:blip r:embed="rId2"/>
          <a:stretch/>
        </p:blipFill>
        <p:spPr>
          <a:xfrm>
            <a:off x="152280" y="2819520"/>
            <a:ext cx="4419720" cy="3294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808600" y="42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9" descr="PB028379"/>
          <p:cNvPicPr/>
          <p:nvPr/>
        </p:nvPicPr>
        <p:blipFill>
          <a:blip r:embed="rId3"/>
          <a:stretch/>
        </p:blipFill>
        <p:spPr>
          <a:xfrm>
            <a:off x="4572000" y="2819520"/>
            <a:ext cx="4419720" cy="3327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62400" y="357840"/>
            <a:ext cx="781920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214200" y="1428840"/>
            <a:ext cx="4738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рудов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24172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7" descr="DSCF3841"/>
          <p:cNvPicPr/>
          <p:nvPr/>
        </p:nvPicPr>
        <p:blipFill>
          <a:blip r:embed="rId2"/>
          <a:stretch/>
        </p:blipFill>
        <p:spPr>
          <a:xfrm>
            <a:off x="228600" y="266688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597528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9" descr="DSCF4402"/>
          <p:cNvPicPr/>
          <p:nvPr/>
        </p:nvPicPr>
        <p:blipFill>
          <a:blip r:embed="rId3"/>
          <a:stretch/>
        </p:blipFill>
        <p:spPr>
          <a:xfrm>
            <a:off x="5029200" y="1676520"/>
            <a:ext cx="3600360" cy="480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9104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214200" y="1428840"/>
            <a:ext cx="871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заимодействие с родителя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7956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7" descr="DSCF1504"/>
          <p:cNvPicPr/>
          <p:nvPr/>
        </p:nvPicPr>
        <p:blipFill>
          <a:blip r:embed="rId2"/>
          <a:stretch/>
        </p:blipFill>
        <p:spPr>
          <a:xfrm>
            <a:off x="1143000" y="2362320"/>
            <a:ext cx="3162240" cy="4209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0"/>
          <p:cNvSpPr/>
          <p:nvPr/>
        </p:nvSpPr>
        <p:spPr>
          <a:xfrm>
            <a:off x="5448240" y="42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9" descr="DSCF1538"/>
          <p:cNvPicPr/>
          <p:nvPr/>
        </p:nvPicPr>
        <p:blipFill>
          <a:blip r:embed="rId3"/>
          <a:stretch/>
        </p:blipFill>
        <p:spPr>
          <a:xfrm>
            <a:off x="4952880" y="2362320"/>
            <a:ext cx="31258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Диагностика уровня  знаний детей старшей группы по теме « Интересная бумага»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3" name="Содержимое 7"/>
          <p:cNvGraphicFramePr/>
          <p:nvPr/>
        </p:nvGraphicFramePr>
        <p:xfrm>
          <a:off x="301680" y="2541600"/>
          <a:ext cx="4041720" cy="3676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Содержимое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541600"/>
                    <a:ext cx="4041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851360" y="2421000"/>
          <a:ext cx="3838680" cy="3825720"/>
        </p:xfrm>
        <a:graphic>
          <a:graphicData uri="http://schemas.openxmlformats.org/drawingml/2006/table">
            <a:tbl>
              <a:tblPr/>
              <a:tblGrid>
                <a:gridCol w="383868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я детей: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а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самостоятельно обследовать предме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писывать предмет на основе обследования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пределить предназначение той или иной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Исследовательский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проект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Интересная бумага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160020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5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проекта воспитатель МДОУ 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имова Любовь Вячеславо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4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ители: дети, педагоги, родители;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4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ки работы : октябрь 2009г. - апрель 2010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DSCF3826"/>
          <p:cNvPicPr/>
          <p:nvPr/>
        </p:nvPicPr>
        <p:blipFill>
          <a:blip r:embed="rId2"/>
          <a:stretch/>
        </p:blipFill>
        <p:spPr>
          <a:xfrm>
            <a:off x="1905120" y="3083040"/>
            <a:ext cx="5029200" cy="377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910440" y="376920"/>
            <a:ext cx="7780320" cy="99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752120"/>
            <a:ext cx="766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о совершенствовать и направлять деятельность ребёнка на интересное и полезное исследование мира, развивать его лучшие черты, формировать его способности, самостоятельность, любознательност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чник творческих способностей и дарований детей- на кончиках их пальцев»   В.А.Сухомлин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04960" y="3477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7720" y="990720"/>
            <a:ext cx="766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 де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ошкольном возрасте в процессе развития познавательной деятельности у ребёнка формируется стремление узнать и открыть для себя как можно больше новог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ая активность является одним из важных качеств, характеризующих психическое развитие де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ая активность – стремление к наиболее полному познанию предметов и явлений окружающего ми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ипотез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676160"/>
            <a:ext cx="76662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разнообразных эффективных методов по ознакомлению со свойствами, качеством и видами бумаги повышает интерес детей к окружающей действительности, стремление к  самостоятельному познан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ли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2365200"/>
            <a:ext cx="7666200" cy="37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ребёнку возможность реально, самостоятельно открыть для себя мир листа бумаги, постичь свойства, структуру, палитру цветовых гамм, сочетаний комбинаций различных форм, величи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720" indent="-2617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образное представление о  возможностях предметов, учиться конструировать и моделировать, находить неожиданные варианты  их исследования и использ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440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чи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040" y="1371240"/>
            <a:ext cx="76662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и  особенностями бумаги в различных издел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истории создания бумаги, искусству техники ор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лнить активный словарь детей новыми словами и словосочетаниями: техника оригами, бумажная масса, папирус, тростник , пергамент, береста, гофрировка, наждачная бумага, бумажное производст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900720" y="291240"/>
            <a:ext cx="7799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проектной деятель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428760" y="1500120"/>
            <a:ext cx="84294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готовительны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Определение целей, задач, изучение литературы, подбор оптимальных методов и приёмов, составление плана деятельности.( сентябрь- октябрь 2009 г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895480"/>
            <a:ext cx="8381880" cy="1067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сновно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- практическая деятельн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 октябрь – апрель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457200" y="5486400"/>
            <a:ext cx="8458200" cy="1071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V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тог.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Презентация проекта, выставка подел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апрель).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57200" y="4071960"/>
            <a:ext cx="8400960" cy="12621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I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анали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оотношение полученных результатов с поставленными задачами ( апрель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79080" y="220320"/>
            <a:ext cx="837900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хема реализации проекта через разные виды деятельности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Овал 3"/>
          <p:cNvSpPr/>
          <p:nvPr/>
        </p:nvSpPr>
        <p:spPr>
          <a:xfrm>
            <a:off x="3429000" y="2857680"/>
            <a:ext cx="2428920" cy="1928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d7a"/>
                </a:solidFill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Содержимое 4"/>
          <p:cNvSpPr/>
          <p:nvPr/>
        </p:nvSpPr>
        <p:spPr>
          <a:xfrm>
            <a:off x="6500880" y="2000160"/>
            <a:ext cx="2357280" cy="92880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Художественно-речевая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Содержимое 4"/>
          <p:cNvSpPr/>
          <p:nvPr/>
        </p:nvSpPr>
        <p:spPr>
          <a:xfrm>
            <a:off x="3500280" y="1571760"/>
            <a:ext cx="2786400" cy="928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Учебно-познавательн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Содержимое 4"/>
          <p:cNvSpPr/>
          <p:nvPr/>
        </p:nvSpPr>
        <p:spPr>
          <a:xfrm>
            <a:off x="6286680" y="3214800"/>
            <a:ext cx="2643120" cy="928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Ознакомление с природой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Содержимое 4"/>
          <p:cNvSpPr/>
          <p:nvPr/>
        </p:nvSpPr>
        <p:spPr>
          <a:xfrm>
            <a:off x="6429240" y="4643280"/>
            <a:ext cx="235764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Физическое развитие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Содержимое 4"/>
          <p:cNvSpPr/>
          <p:nvPr/>
        </p:nvSpPr>
        <p:spPr>
          <a:xfrm>
            <a:off x="3286080" y="5286240"/>
            <a:ext cx="307188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Музыкально-театральная деятельнос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Содержимое 4"/>
          <p:cNvSpPr/>
          <p:nvPr/>
        </p:nvSpPr>
        <p:spPr>
          <a:xfrm>
            <a:off x="571680" y="3357720"/>
            <a:ext cx="2500200" cy="100008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Взаимодействие с родителя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Содержимое 4"/>
          <p:cNvSpPr/>
          <p:nvPr/>
        </p:nvSpPr>
        <p:spPr>
          <a:xfrm>
            <a:off x="857160" y="1857240"/>
            <a:ext cx="250056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Игров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Содержимое 4"/>
          <p:cNvSpPr/>
          <p:nvPr/>
        </p:nvSpPr>
        <p:spPr>
          <a:xfrm>
            <a:off x="714240" y="4786200"/>
            <a:ext cx="2500560" cy="92880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Изо и дизайн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комление детей со свойствами и особенностями бумаги и различных изделий, изготовленных  из бума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комление с возможностями использования бума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04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71680" y="1785960"/>
            <a:ext cx="38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7" descr="DSCF3247"/>
          <p:cNvPicPr/>
          <p:nvPr/>
        </p:nvPicPr>
        <p:blipFill>
          <a:blip r:embed="rId2"/>
          <a:stretch/>
        </p:blipFill>
        <p:spPr>
          <a:xfrm>
            <a:off x="4495680" y="2362320"/>
            <a:ext cx="4419720" cy="329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</cp:lastModifiedBy>
  <dcterms:modified xsi:type="dcterms:W3CDTF">2013-03-19T15:39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