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17B-C5F9-42B6-82A2-666E4716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EB4-7298-4064-B928-AD2EFBAA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367-DA2E-42D7-9383-C72E0551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3E7-EDF0-42EE-8824-E8E4A58D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2ADE-02B6-403F-8002-A20571FD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FBFB-8747-41CB-8AA0-FB4AA92F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3DB8-EBBA-4A10-AE71-5485EAB9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9577-A1A2-48B2-BF2A-090A54CB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95E4-1EE5-4177-B1C1-8B1E3309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E37F-1744-43BF-B6B5-42E68F75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D767-A35C-4945-BB60-5AE6AD8C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530-EE8D-42B5-8DE5-6A86BC7E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F2CD-8C62-4720-8E6C-33C2FF10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1A04-B41E-488B-883B-3B318E56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63C7-4AF9-4FBE-AA38-366B94AC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243E-73BA-47C1-A726-CB6FE1D4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6F00-4B8C-4A6F-AF27-3D953C55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40B-B3A9-4F11-B15E-FB949F80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936-058B-4111-BE9C-6341465E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137-0CE7-4A56-9392-B63ECC2E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D8A-D10E-40C9-A89F-702372F7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025-EB91-4B6F-AA0B-39ECD2FA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9DA-1AFB-46B5-AAEC-31E52CB0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C45-A1D8-459B-A715-CBDBFC10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54CC-65A1-451D-B9E2-29955D09BEC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5A98-3077-43FB-BEC0-78311B475EA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748800" y="2120400"/>
            <a:ext cx="7646400" cy="86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сследовательский проект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Интересная бумага»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990720" y="3505320"/>
            <a:ext cx="7429320" cy="1285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опыта работы воспитателя МБДОУ № 414 «Солнышко»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имовой Любовь Вячеславов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643040" y="5786280"/>
            <a:ext cx="6000840" cy="8575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рель 2010 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160" y="285480"/>
            <a:ext cx="8181720" cy="12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ПОЗНАВАТЕЛЬНОЙ АКТИВНОСТИ ДЕТЕЙ ЧЕРЕЗ ОЗНАКОМЛЕНИ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 СВОЙСТВАМИ И КАЧЕСТВОМ БУМАГ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52280" y="1981080"/>
            <a:ext cx="5105520" cy="137160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ть  интерес к истории создания бумаги, искусству ориг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55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380880" y="1523880"/>
            <a:ext cx="3857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дач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846520" y="47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7" descr="DSCF4407"/>
          <p:cNvPicPr/>
          <p:nvPr/>
        </p:nvPicPr>
        <p:blipFill>
          <a:blip r:embed="rId2"/>
          <a:stretch/>
        </p:blipFill>
        <p:spPr>
          <a:xfrm>
            <a:off x="380880" y="3505320"/>
            <a:ext cx="4095720" cy="30859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0"/>
          <p:cNvSpPr/>
          <p:nvPr/>
        </p:nvSpPr>
        <p:spPr>
          <a:xfrm>
            <a:off x="6478560" y="421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9" descr="DSCF4374"/>
          <p:cNvPicPr/>
          <p:nvPr/>
        </p:nvPicPr>
        <p:blipFill>
          <a:blip r:embed="rId3"/>
          <a:stretch/>
        </p:blipFill>
        <p:spPr>
          <a:xfrm>
            <a:off x="5334120" y="1981080"/>
            <a:ext cx="3286080" cy="4381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56760" y="2357280"/>
            <a:ext cx="4041720" cy="4003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ть интерес к созданию собственных поделок из бумаги и атрибутов к игра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780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571680" y="1785960"/>
            <a:ext cx="3857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дач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451560" y="345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7" descr="DSCF3839"/>
          <p:cNvPicPr/>
          <p:nvPr/>
        </p:nvPicPr>
        <p:blipFill>
          <a:blip r:embed="rId2"/>
          <a:stretch/>
        </p:blipFill>
        <p:spPr>
          <a:xfrm>
            <a:off x="4495680" y="2666880"/>
            <a:ext cx="4419720" cy="333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56760" y="2357280"/>
            <a:ext cx="4041720" cy="4003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вать познавательную активность детей, самостоятельную исследовательскую деятельнос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5780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609480" y="1752480"/>
            <a:ext cx="3857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дач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76116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7" descr="DSCF4373"/>
          <p:cNvPicPr/>
          <p:nvPr/>
        </p:nvPicPr>
        <p:blipFill>
          <a:blip r:embed="rId2"/>
          <a:stretch/>
        </p:blipFill>
        <p:spPr>
          <a:xfrm>
            <a:off x="5105520" y="1600200"/>
            <a:ext cx="3720960" cy="4952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681840" y="452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1676520" y="1752480"/>
            <a:ext cx="601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гровая деятельност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201760" y="43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7" descr="DSCF3117"/>
          <p:cNvPicPr/>
          <p:nvPr/>
        </p:nvPicPr>
        <p:blipFill>
          <a:blip r:embed="rId2"/>
          <a:stretch/>
        </p:blipFill>
        <p:spPr>
          <a:xfrm>
            <a:off x="152280" y="26478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0"/>
          <p:cNvSpPr/>
          <p:nvPr/>
        </p:nvSpPr>
        <p:spPr>
          <a:xfrm>
            <a:off x="555156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Picture 9" descr="DSCF3077"/>
          <p:cNvPicPr/>
          <p:nvPr/>
        </p:nvPicPr>
        <p:blipFill>
          <a:blip r:embed="rId3"/>
          <a:stretch/>
        </p:blipFill>
        <p:spPr>
          <a:xfrm>
            <a:off x="4648320" y="266688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2"/>
          <a:stretch/>
        </p:blipFill>
        <p:spPr>
          <a:xfrm>
            <a:off x="1952640" y="1461960"/>
            <a:ext cx="5238720" cy="3934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83412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Прямоугольник 8"/>
          <p:cNvSpPr/>
          <p:nvPr/>
        </p:nvSpPr>
        <p:spPr>
          <a:xfrm>
            <a:off x="1905120" y="1752480"/>
            <a:ext cx="63244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гровая деятельность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49400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7" descr="DSCF3083"/>
          <p:cNvPicPr/>
          <p:nvPr/>
        </p:nvPicPr>
        <p:blipFill>
          <a:blip r:embed="rId3"/>
          <a:stretch/>
        </p:blipFill>
        <p:spPr>
          <a:xfrm>
            <a:off x="380880" y="2743200"/>
            <a:ext cx="4191120" cy="31496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5640480" y="345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9" descr="DSCF3086"/>
          <p:cNvPicPr/>
          <p:nvPr/>
        </p:nvPicPr>
        <p:blipFill>
          <a:blip r:embed="rId4"/>
          <a:stretch/>
        </p:blipFill>
        <p:spPr>
          <a:xfrm>
            <a:off x="4724280" y="2743200"/>
            <a:ext cx="4095720" cy="3076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83412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Прямоугольник 8"/>
          <p:cNvSpPr/>
          <p:nvPr/>
        </p:nvSpPr>
        <p:spPr>
          <a:xfrm>
            <a:off x="214200" y="1428840"/>
            <a:ext cx="8715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чебно-познавательная деятельност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146240" y="372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7" descr="DSCF3103"/>
          <p:cNvPicPr/>
          <p:nvPr/>
        </p:nvPicPr>
        <p:blipFill>
          <a:blip r:embed="rId2"/>
          <a:stretch/>
        </p:blipFill>
        <p:spPr>
          <a:xfrm>
            <a:off x="152280" y="2666880"/>
            <a:ext cx="4343400" cy="3256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"/>
          <p:cNvSpPr/>
          <p:nvPr/>
        </p:nvSpPr>
        <p:spPr>
          <a:xfrm>
            <a:off x="6375240" y="36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Picture 9" descr="DSCF3828"/>
          <p:cNvPicPr/>
          <p:nvPr/>
        </p:nvPicPr>
        <p:blipFill>
          <a:blip r:embed="rId3"/>
          <a:stretch/>
        </p:blipFill>
        <p:spPr>
          <a:xfrm>
            <a:off x="4648320" y="2666880"/>
            <a:ext cx="4352760" cy="326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8341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214200" y="1676520"/>
            <a:ext cx="8715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Художественно-речевая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еатральная деятельност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1249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7" descr="DSCF3834"/>
          <p:cNvPicPr/>
          <p:nvPr/>
        </p:nvPicPr>
        <p:blipFill>
          <a:blip r:embed="rId2"/>
          <a:stretch/>
        </p:blipFill>
        <p:spPr>
          <a:xfrm>
            <a:off x="152280" y="2819520"/>
            <a:ext cx="4419720" cy="3294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0"/>
          <p:cNvSpPr/>
          <p:nvPr/>
        </p:nvSpPr>
        <p:spPr>
          <a:xfrm>
            <a:off x="5808600" y="42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Picture 9" descr="PB028379"/>
          <p:cNvPicPr/>
          <p:nvPr/>
        </p:nvPicPr>
        <p:blipFill>
          <a:blip r:embed="rId3"/>
          <a:stretch/>
        </p:blipFill>
        <p:spPr>
          <a:xfrm>
            <a:off x="4572000" y="2819520"/>
            <a:ext cx="4419720" cy="3327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662400" y="357840"/>
            <a:ext cx="781920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214200" y="1428840"/>
            <a:ext cx="4738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рудовая деятельност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241720" y="383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Picture 7" descr="DSCF3841"/>
          <p:cNvPicPr/>
          <p:nvPr/>
        </p:nvPicPr>
        <p:blipFill>
          <a:blip r:embed="rId2"/>
          <a:stretch/>
        </p:blipFill>
        <p:spPr>
          <a:xfrm>
            <a:off x="228600" y="2666880"/>
            <a:ext cx="4191120" cy="31496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0"/>
          <p:cNvSpPr/>
          <p:nvPr/>
        </p:nvSpPr>
        <p:spPr>
          <a:xfrm>
            <a:off x="5975280" y="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9" descr="DSCF4402"/>
          <p:cNvPicPr/>
          <p:nvPr/>
        </p:nvPicPr>
        <p:blipFill>
          <a:blip r:embed="rId3"/>
          <a:stretch/>
        </p:blipFill>
        <p:spPr>
          <a:xfrm>
            <a:off x="5029200" y="1676520"/>
            <a:ext cx="3600360" cy="4809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910440" y="3006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Прямоугольник 8"/>
          <p:cNvSpPr/>
          <p:nvPr/>
        </p:nvSpPr>
        <p:spPr>
          <a:xfrm>
            <a:off x="214200" y="1428840"/>
            <a:ext cx="8715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заимодействие с родителям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879560" y="43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Picture 7" descr="DSCF1504"/>
          <p:cNvPicPr/>
          <p:nvPr/>
        </p:nvPicPr>
        <p:blipFill>
          <a:blip r:embed="rId2"/>
          <a:stretch/>
        </p:blipFill>
        <p:spPr>
          <a:xfrm>
            <a:off x="1143000" y="2362320"/>
            <a:ext cx="3162240" cy="42098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0"/>
          <p:cNvSpPr/>
          <p:nvPr/>
        </p:nvSpPr>
        <p:spPr>
          <a:xfrm>
            <a:off x="5448240" y="42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Picture 9" descr="DSCF1538"/>
          <p:cNvPicPr/>
          <p:nvPr/>
        </p:nvPicPr>
        <p:blipFill>
          <a:blip r:embed="rId3"/>
          <a:stretch/>
        </p:blipFill>
        <p:spPr>
          <a:xfrm>
            <a:off x="4952880" y="2362320"/>
            <a:ext cx="3125880" cy="4190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Диагностика уровня  знаний детей старшей группы по теме « Интересная бумага»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3" name="Содержимое 7"/>
          <p:cNvGraphicFramePr/>
          <p:nvPr/>
        </p:nvGraphicFramePr>
        <p:xfrm>
          <a:off x="301680" y="2541600"/>
          <a:ext cx="4041720" cy="3676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4" name="Содержимое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680" y="2541600"/>
                    <a:ext cx="404172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851360" y="2421000"/>
          <a:ext cx="3838680" cy="3825720"/>
        </p:xfrm>
        <a:graphic>
          <a:graphicData uri="http://schemas.openxmlformats.org/drawingml/2006/table">
            <a:tbl>
              <a:tblPr/>
              <a:tblGrid>
                <a:gridCol w="383868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ния детей: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бумаги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а бумаги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 бумаги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 самостоятельно обследовать предмет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описывать предмет на основе обследования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определить предназначение той или иной бумаги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757800" y="376920"/>
            <a:ext cx="7779960" cy="99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Исследовательский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проект</a:t>
            </a:r>
            <a:br>
              <a:rPr sz="3000"/>
            </a:b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«Интересная бумага»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7720" y="1600200"/>
            <a:ext cx="7666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5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259200" indent="-259200">
              <a:lnSpc>
                <a:spcPct val="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 проекта воспитатель МДОУ №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59200" indent="-259200">
              <a:lnSpc>
                <a:spcPct val="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имова Любовь Вячеславов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59200" indent="-259200">
              <a:lnSpc>
                <a:spcPct val="4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нители: дети, педагоги, родители;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59200" indent="-259200">
              <a:lnSpc>
                <a:spcPct val="4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оки работы : октябрь 2009г. - апрель 2010г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59200" indent="-259200">
              <a:lnSpc>
                <a:spcPct val="5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259200" indent="-259200">
              <a:lnSpc>
                <a:spcPct val="5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6" descr="DSCF3826"/>
          <p:cNvPicPr/>
          <p:nvPr/>
        </p:nvPicPr>
        <p:blipFill>
          <a:blip r:embed="rId2"/>
          <a:stretch/>
        </p:blipFill>
        <p:spPr>
          <a:xfrm>
            <a:off x="1905120" y="3083040"/>
            <a:ext cx="5029200" cy="3774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910440" y="376920"/>
            <a:ext cx="7780320" cy="99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37720" y="1752120"/>
            <a:ext cx="766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о совершенствовать и направлять деятельность ребёнка на интересное и полезное исследование мира, развивать его лучшие черты, формировать его способности, самостоятельность, любознательность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чник творческих способностей и дарований детей- на кончиках их пальцев»   В.А.Сухомлинск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804960" y="34776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Актуальн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7720" y="990720"/>
            <a:ext cx="7666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познавательной активности де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дошкольном возрасте в процессе развития познавательной деятельности у ребёнка формируется стремление узнать и открыть для себя как можно больше нового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вательная активность является одним из важных качеств, характеризующих психическое развитие де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вательная активность – стремление к наиболее полному познанию предметов и явлений окружающего ми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412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Гипотез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676160"/>
            <a:ext cx="76662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разнообразных эффективных методов по ознакомлению со свойствами, качеством и видами бумаги повышает интерес детей к окружающей действительности, стремление к  самостоятельному познани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9360">
            <a:solidFill>
              <a:srgbClr val="20202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ели проект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2365200"/>
            <a:ext cx="7666200" cy="37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ть ребёнку возможность реально, самостоятельно открыть для себя мир листа бумаги, постичь свойства, структуру, палитру цветовых гамм, сочетаний комбинаций различных форм, величи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61720" indent="-2617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ть образное представление о  возможностях предметов, учиться конструировать и моделировать, находить неожиданные варианты  их исследования и использов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824400" y="2912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дачи проект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040" y="1371240"/>
            <a:ext cx="76662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комить детей со свойствами и  особенностями бумаги в различных изделия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34360" indent="-234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вать интерес к истории создания бумаги, искусству техники ор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34360" indent="-234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олнить активный словарь детей новыми словами и словосочетаниями: техника оригами, бумажная масса, папирус, тростник , пергамент, береста, гофрировка, наждачная бумага, бумажное производств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"/>
          <p:cNvPicPr/>
          <p:nvPr/>
        </p:nvPicPr>
        <p:blipFill>
          <a:blip r:embed="rId1"/>
          <a:stretch/>
        </p:blipFill>
        <p:spPr>
          <a:xfrm>
            <a:off x="22860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900720" y="291240"/>
            <a:ext cx="779976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апы проектной деятельност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428760" y="1500120"/>
            <a:ext cx="8429400" cy="1285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 –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готовительный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Определение целей, задач, изучение литературы, подбор оптимальных методов и приёмов, составление плана деятельности.( сентябрь- октябрь 2009 г.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2895480"/>
            <a:ext cx="8381880" cy="1067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I –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основной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 - практическая деятельност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 октябрь – апрель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457200" y="5486400"/>
            <a:ext cx="8458200" cy="10717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V –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тог.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Презентация проекта, выставка подело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апрель).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57200" y="4071960"/>
            <a:ext cx="8400960" cy="12621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II –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анализ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Соотношение полученных результатов с поставленными задачами ( апрель.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79080" y="220320"/>
            <a:ext cx="8379000" cy="107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хема реализации проекта через разные виды деятельности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Овал 3"/>
          <p:cNvSpPr/>
          <p:nvPr/>
        </p:nvSpPr>
        <p:spPr>
          <a:xfrm>
            <a:off x="3429000" y="2857680"/>
            <a:ext cx="2428920" cy="1928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d7a"/>
                </a:solidFill>
                <a:latin typeface="Arial"/>
              </a:rPr>
              <a:t>Виды деятельно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Содержимое 4"/>
          <p:cNvSpPr/>
          <p:nvPr/>
        </p:nvSpPr>
        <p:spPr>
          <a:xfrm>
            <a:off x="6500880" y="2000160"/>
            <a:ext cx="2357280" cy="928800"/>
          </a:xfrm>
          <a:prstGeom prst="ellipse">
            <a:avLst/>
          </a:prstGeom>
          <a:solidFill>
            <a:srgbClr val="86e698"/>
          </a:solidFill>
          <a:ln w="28440">
            <a:solidFill>
              <a:srgbClr val="157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d7a"/>
                </a:solidFill>
                <a:latin typeface="Arial"/>
              </a:rPr>
              <a:t>Художественно-речевая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Содержимое 4"/>
          <p:cNvSpPr/>
          <p:nvPr/>
        </p:nvSpPr>
        <p:spPr>
          <a:xfrm>
            <a:off x="3500280" y="1571760"/>
            <a:ext cx="2786400" cy="928440"/>
          </a:xfrm>
          <a:prstGeom prst="ellipse">
            <a:avLst/>
          </a:prstGeom>
          <a:solidFill>
            <a:srgbClr val="86e698"/>
          </a:solidFill>
          <a:ln w="28440">
            <a:solidFill>
              <a:srgbClr val="157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d7a"/>
                </a:solidFill>
                <a:latin typeface="Arial"/>
              </a:rPr>
              <a:t>Учебно-познавательна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Содержимое 4"/>
          <p:cNvSpPr/>
          <p:nvPr/>
        </p:nvSpPr>
        <p:spPr>
          <a:xfrm>
            <a:off x="6286680" y="3214800"/>
            <a:ext cx="2643120" cy="928440"/>
          </a:xfrm>
          <a:prstGeom prst="ellipse">
            <a:avLst/>
          </a:prstGeom>
          <a:solidFill>
            <a:srgbClr val="86e698"/>
          </a:solidFill>
          <a:ln w="28440">
            <a:solidFill>
              <a:srgbClr val="157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d7a"/>
                </a:solidFill>
                <a:latin typeface="Arial"/>
              </a:rPr>
              <a:t>Ознакомление с природой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Содержимое 4"/>
          <p:cNvSpPr/>
          <p:nvPr/>
        </p:nvSpPr>
        <p:spPr>
          <a:xfrm>
            <a:off x="6429240" y="4643280"/>
            <a:ext cx="2357640" cy="1000440"/>
          </a:xfrm>
          <a:prstGeom prst="ellipse">
            <a:avLst/>
          </a:prstGeom>
          <a:solidFill>
            <a:srgbClr val="86e698"/>
          </a:solidFill>
          <a:ln w="28440">
            <a:solidFill>
              <a:srgbClr val="157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d7a"/>
                </a:solidFill>
                <a:latin typeface="Arial"/>
              </a:rPr>
              <a:t>Физическое развитие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Содержимое 4"/>
          <p:cNvSpPr/>
          <p:nvPr/>
        </p:nvSpPr>
        <p:spPr>
          <a:xfrm>
            <a:off x="3286080" y="5286240"/>
            <a:ext cx="3071880" cy="1000440"/>
          </a:xfrm>
          <a:prstGeom prst="ellipse">
            <a:avLst/>
          </a:prstGeom>
          <a:solidFill>
            <a:srgbClr val="86e698"/>
          </a:solidFill>
          <a:ln w="28440">
            <a:solidFill>
              <a:srgbClr val="157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d7a"/>
                </a:solidFill>
                <a:latin typeface="Arial"/>
              </a:rPr>
              <a:t>Музыкально-театральная деятельност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Содержимое 4"/>
          <p:cNvSpPr/>
          <p:nvPr/>
        </p:nvSpPr>
        <p:spPr>
          <a:xfrm>
            <a:off x="571680" y="3357720"/>
            <a:ext cx="2500200" cy="1000080"/>
          </a:xfrm>
          <a:prstGeom prst="ellipse">
            <a:avLst/>
          </a:prstGeom>
          <a:solidFill>
            <a:srgbClr val="86e698"/>
          </a:solidFill>
          <a:ln w="28440">
            <a:solidFill>
              <a:srgbClr val="157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d7a"/>
                </a:solidFill>
                <a:latin typeface="Arial"/>
              </a:rPr>
              <a:t>Взаимодействие с родителям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Содержимое 4"/>
          <p:cNvSpPr/>
          <p:nvPr/>
        </p:nvSpPr>
        <p:spPr>
          <a:xfrm>
            <a:off x="857160" y="1857240"/>
            <a:ext cx="2500560" cy="1000440"/>
          </a:xfrm>
          <a:prstGeom prst="ellipse">
            <a:avLst/>
          </a:prstGeom>
          <a:solidFill>
            <a:srgbClr val="86e698"/>
          </a:solidFill>
          <a:ln w="28440">
            <a:solidFill>
              <a:srgbClr val="157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d7a"/>
                </a:solidFill>
                <a:latin typeface="Arial"/>
              </a:rPr>
              <a:t>Игрова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Содержимое 4"/>
          <p:cNvSpPr/>
          <p:nvPr/>
        </p:nvSpPr>
        <p:spPr>
          <a:xfrm>
            <a:off x="714240" y="4786200"/>
            <a:ext cx="2500560" cy="928800"/>
          </a:xfrm>
          <a:prstGeom prst="ellipse">
            <a:avLst/>
          </a:prstGeom>
          <a:solidFill>
            <a:srgbClr val="86e698"/>
          </a:solidFill>
          <a:ln w="28440">
            <a:solidFill>
              <a:srgbClr val="157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d7a"/>
                </a:solidFill>
                <a:latin typeface="Arial"/>
              </a:rPr>
              <a:t>Изо и дизайн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56760" y="2357280"/>
            <a:ext cx="4041720" cy="4003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накомление детей со свойствами и особенностями бумаги и различных изделий, изготовленных  из бумаг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накомление с возможностями использования бумаг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10440" y="3006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ализация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571680" y="1785960"/>
            <a:ext cx="3857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дач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7" descr="DSCF3247"/>
          <p:cNvPicPr/>
          <p:nvPr/>
        </p:nvPicPr>
        <p:blipFill>
          <a:blip r:embed="rId2"/>
          <a:stretch/>
        </p:blipFill>
        <p:spPr>
          <a:xfrm>
            <a:off x="4495680" y="2362320"/>
            <a:ext cx="4419720" cy="3294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ma</cp:lastModifiedBy>
  <dcterms:modified xsi:type="dcterms:W3CDTF">2013-03-19T15:39:5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