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DEB-8D30-4DD8-ABAB-C2CB7863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936-5054-4745-84C0-031200F9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D22-8C83-41DC-A678-10FEB3FB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6AD-4DD4-49A0-A48E-CEEADAA9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C08F-30A0-4031-B4D2-76ABD768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24E0-A0E3-4B92-9D96-571FE890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A58E-2189-47C9-9233-C6FB8A4C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90DE-9ACD-4921-ABA5-B3B5261C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9C7-7C36-41B8-B859-710D4065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194E-2819-42D2-A84C-01E8D08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CA92-C64C-4BC4-B439-6CC67FCD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81F-E713-41D0-B8B6-30811972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082-C292-4E41-BA76-DE7231E3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DC5E-07F6-41C4-872B-4363419A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81BE-52E5-40F4-8EF7-AD42641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BBA8-1B2F-4EBC-AE68-F0C16901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345F-7290-4244-8EE6-4B92A0B9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3EB-EE64-4FE9-9C41-373A1CA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58C-3E60-4162-A6F2-F78B4515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E67-6F11-499B-A4E7-C4FA63FF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939-56F7-4213-8B92-BF2E5BF4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2DD-A861-4F1F-9A8C-EE51216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1E9-5B18-4B57-9A48-590B30C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8F0-AD35-4740-A4AF-3318613D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0313-4068-4C51-83F0-8FF15CD8E3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B73E-E281-4C01-9BBB-19DC79A8B46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WordArt 4" descr=""/>
          <p:cNvPicPr/>
          <p:nvPr/>
        </p:nvPicPr>
        <p:blipFill>
          <a:blip r:embed="rId1"/>
          <a:stretch/>
        </p:blipFill>
        <p:spPr>
          <a:xfrm>
            <a:off x="669960" y="603360"/>
            <a:ext cx="7523280" cy="469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Verdana"/>
              </a:rPr>
              <a:t>Блиц - 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наете ли Вы колыбельные песн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акие? (старинные, литературные, народные, собственные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асто ли Вы поете их своим детя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 какой целью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лияют ли колыбельные песни на сон ребенк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чему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лияют ли колыбельные песни на развитие ребенк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Verdana"/>
              </a:rPr>
              <a:t>Результаты опро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4" name="Object 70"/>
          <p:cNvGraphicFramePr/>
          <p:nvPr/>
        </p:nvGraphicFramePr>
        <p:xfrm>
          <a:off x="838080" y="1752480"/>
          <a:ext cx="800100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70" descr=""/>
                  <p:cNvPicPr/>
                  <p:nvPr/>
                </p:nvPicPr>
                <p:blipFill>
                  <a:blip r:embed="rId2">
                    <a:alphaModFix amt="60000"/>
                  </a:blip>
                  <a:stretch/>
                </p:blipFill>
                <p:spPr>
                  <a:xfrm>
                    <a:off x="838080" y="1752480"/>
                    <a:ext cx="800100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74"/>
          <p:cNvSpPr/>
          <p:nvPr/>
        </p:nvSpPr>
        <p:spPr>
          <a:xfrm>
            <a:off x="1295280" y="8380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Verdana"/>
              </a:rPr>
              <a:t>Какие колыбельные пес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cc"/>
                </a:solidFill>
                <a:latin typeface="Verdana"/>
              </a:rPr>
              <a:t>Вы знае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Verdana"/>
              </a:rPr>
              <a:t>Часто ли Вы поете колыбельные песни своим детям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685800" y="1530360"/>
          <a:ext cx="8001000" cy="49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30360"/>
                    <a:ext cx="800100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Verdana"/>
              </a:rPr>
              <a:t>Влияют ли колыбельные песни на сон ребенка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533520" y="1828800"/>
          <a:ext cx="822960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Verdana"/>
              </a:rPr>
              <a:t>Влияют ли колыбельные песни на развитие ребенка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914400" y="1849320"/>
          <a:ext cx="8001000" cy="43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49320"/>
                    <a:ext cx="800100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http://www.mamina-shkola.ru/wp-content/uploads/2011/09/Soroka_1.jpg"/>
          <p:cNvPicPr/>
          <p:nvPr/>
        </p:nvPicPr>
        <p:blipFill>
          <a:blip r:embed="rId1"/>
          <a:stretch/>
        </p:blipFill>
        <p:spPr>
          <a:xfrm>
            <a:off x="533520" y="685800"/>
            <a:ext cx="2276280" cy="29052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4"/>
          <p:cNvSpPr/>
          <p:nvPr/>
        </p:nvSpPr>
        <p:spPr>
          <a:xfrm flipV="1" rot="10800000">
            <a:off x="685440" y="457164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мечательный советский художник 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Юрий Алексеевич Васнецов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создал яркий, неповторимый мир сказочных образов, близкий и понятный каждому ребен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Picture 8" descr="http://www.mamina-shkola.ru/wp-content/uploads/2011/09/Loshad.jpeg"/>
          <p:cNvPicPr/>
          <p:nvPr/>
        </p:nvPicPr>
        <p:blipFill>
          <a:blip r:embed="rId2"/>
          <a:stretch/>
        </p:blipFill>
        <p:spPr>
          <a:xfrm>
            <a:off x="3352680" y="228600"/>
            <a:ext cx="4762800" cy="480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Verdana"/>
              </a:rPr>
              <a:t>Вывод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ольшинство родителей считают, что колыбельные песни влияют на сон ребенка, так как в колыбельных содержится мелодия и близкий к биению сердца ритм, плавность и размеренность которых, успокаивают его и постепенно погружают в со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Verdana"/>
              </a:rPr>
              <a:t>Литератур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ельников М.Н. Русский детский фольклор. -М.: Просвещение, 198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орозов И.А. Духовная культура Северного Белогорье.-М.: Просвещение, 199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уменко Г.М. Этнография детства. -М.: Беловодье, 199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4">
            <a:hlinkClick r:id="" action="ppaction://hlinkshowjump?jump=endshow"/>
          </p:cNvPr>
          <p:cNvSpPr/>
          <p:nvPr/>
        </p:nvSpPr>
        <p:spPr>
          <a:xfrm>
            <a:off x="8153280" y="61722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Актуальност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наше время колыбельные – это умирающий жанр народного творчест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олодые родители знают только колыбельные песни из книг. А жаль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читается, что именно с помощью этих убаюкивающих песенок маленький человек начинает познавать окружающий его ми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Вопросы, требующие ответ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чему, когда мама или бабушка поют маленькому брату колыбельную песню, он быстро засып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ему, когда девочки играют в игру «Дочки – матери», они качают кукол и напевают: «Баю, баюшки, баю…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Цель исследования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следить изменения в содержании колыбельных песен в течении поколений и их влияние на сон ребен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5" descr="1000538309"/>
          <p:cNvPicPr/>
          <p:nvPr/>
        </p:nvPicPr>
        <p:blipFill>
          <a:blip r:embed="rId1"/>
          <a:stretch/>
        </p:blipFill>
        <p:spPr>
          <a:xfrm>
            <a:off x="4937040" y="1447920"/>
            <a:ext cx="3546720" cy="4876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Задач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анализировать колыбельные песни разных поколений, изучив литературные источн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смотреть значение колыбельных песен в жизни ребе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вести и описать практическое исследован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общить полученные результат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Этапы исследования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Подготовитель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выявление проблемы о обоснование её актуаль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анализ литерату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I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Практ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эксперимен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II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Обобща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подтверждение итог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анализ всех результат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Колыбельные песн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 слова колыбать - колыхать, качать, зыби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33520" y="2666880"/>
            <a:ext cx="824364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Байк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514600" y="40384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 слова байкать - качать, усыпля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7" descr="http://koshki-mishki.ru/images/stories/kolybel23.gif"/>
          <p:cNvPicPr/>
          <p:nvPr/>
        </p:nvPicPr>
        <p:blipFill>
          <a:blip r:embed="rId1"/>
          <a:stretch/>
        </p:blipFill>
        <p:spPr>
          <a:xfrm>
            <a:off x="228600" y="2819520"/>
            <a:ext cx="2095560" cy="273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Старинные колыбельные песн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общение к родным мелодия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писание богатой счастливой жиз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гнозы на будуще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зыв небесных покровител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писание опасност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ражение чувств и пережив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Литературные колыбельные песн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знание окружающего ми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оспитательная функц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оздание атмосферы тепла и ую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Содержимое 5" descr="Изображение 001.jpg"/>
          <p:cNvPicPr/>
          <p:nvPr/>
        </p:nvPicPr>
        <p:blipFill>
          <a:blip r:embed="rId1"/>
          <a:stretch/>
        </p:blipFill>
        <p:spPr>
          <a:xfrm>
            <a:off x="4876920" y="7391520"/>
            <a:ext cx="3341520" cy="4456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http://www.mamina-shkola.ru/wp-content/uploads/2011/09/Soroka-vorona_3.jpg"/>
          <p:cNvPicPr/>
          <p:nvPr/>
        </p:nvPicPr>
        <p:blipFill>
          <a:blip r:embed="rId2"/>
          <a:stretch/>
        </p:blipFill>
        <p:spPr>
          <a:xfrm>
            <a:off x="-3809880" y="1438200"/>
            <a:ext cx="7619760" cy="5419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IRina</cp:lastModifiedBy>
  <dcterms:modified xsi:type="dcterms:W3CDTF">2012-03-12T17:02:2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