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11.jpeg" ContentType="image/jpeg"/>
  <Override PartName="/ppt/media/image8.wmf" ContentType="image/x-wmf"/>
  <Override PartName="/ppt/media/image10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E23A-E6D1-4E78-A373-597F4CF8A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1796-30D2-488D-B0E5-C9AF3855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2F14-834C-4756-8269-FF48B971A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F700-9869-4ABF-8E70-B3A348059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366C-1796-4385-BE5F-5BF72F39A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FAE5-C9B5-46D9-8D99-2569FC21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4E9C-2750-4820-B73D-01B4E335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F5FF-EA97-4C3F-AD2F-DD4E10EB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507E-4CF0-476D-AF80-3AB1E1D0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9634-1677-4605-BFB5-8E975966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E408B-A183-4498-8209-335F7BD5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8B39-63B3-4A38-8E11-0C443267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E3E5-81B3-40E5-A1F5-4B718C2B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67F2-45B7-48F7-A88D-0647A05A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105E-0845-429C-9D96-A2DD2DE3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FBEC-422D-4FC1-85C1-18591A766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028B-5A3A-4E8F-9A41-9B2043F43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20DE-939D-4548-91D5-B5EFE7B0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BB12-971D-4498-BE65-3E18DAA3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52AA-781A-4826-BF6A-71AE4B51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7896-BFEB-46AD-9D55-43304C22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3435-078C-4C0F-9DE1-140F1C2B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2EAB-7BA1-4F02-8936-A0D4093C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DEF4-0401-41A6-885A-03470CCD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480" y="4053600"/>
                <a:ext cx="1833840" cy="1665720"/>
                <a:chOff x="852480" y="4053600"/>
                <a:chExt cx="1833840" cy="16657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8280" y="3940560"/>
                  <a:ext cx="477360" cy="123120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31200"/>
                    <a:gd name="textAreaBottom" fmla="*/ 1231560 h 12312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7560" y="4979160"/>
                  <a:ext cx="110520" cy="5050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05080"/>
                    <a:gd name="textAreaBottom" fmla="*/ 505440 h 5050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200" y="5567760"/>
                  <a:ext cx="200880" cy="8532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5533-2B30-474A-8449-A11C97C739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6480" y="56520"/>
              <a:ext cx="3623760" cy="6135840"/>
              <a:chOff x="5406480" y="56520"/>
              <a:chExt cx="3623760" cy="61358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3320" y="341280"/>
                <a:ext cx="2113920" cy="2356560"/>
              </a:xfrm>
              <a:custGeom>
                <a:avLst/>
                <a:gdLst>
                  <a:gd name="textAreaLeft" fmla="*/ 0 w 2113920"/>
                  <a:gd name="textAreaRight" fmla="*/ 2114280 w 2113920"/>
                  <a:gd name="textAreaTop" fmla="*/ 360 h 2356560"/>
                  <a:gd name="textAreaBottom" fmla="*/ 2357280 h 235656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120" y="1954440"/>
                <a:ext cx="905400" cy="842040"/>
              </a:xfrm>
              <a:custGeom>
                <a:avLst/>
                <a:gdLst>
                  <a:gd name="textAreaLeft" fmla="*/ 0 w 905400"/>
                  <a:gd name="textAreaRight" fmla="*/ 905760 w 905400"/>
                  <a:gd name="textAreaTop" fmla="*/ -360 h 842040"/>
                  <a:gd name="textAreaBottom" fmla="*/ 842040 h 84204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160" y="2585160"/>
                <a:ext cx="438840" cy="394920"/>
              </a:xfrm>
              <a:custGeom>
                <a:avLst/>
                <a:gdLst>
                  <a:gd name="textAreaLeft" fmla="*/ 0 w 438840"/>
                  <a:gd name="textAreaRight" fmla="*/ 439200 w 43884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67440"/>
                <a:ext cx="388800" cy="5508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9960" y="2645280"/>
                <a:ext cx="163440" cy="3315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331560"/>
                  <a:gd name="textAreaBottom" fmla="*/ 331560 h 33156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5920" y="1240200"/>
                <a:ext cx="190080" cy="1425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6760" y="2930400"/>
                <a:ext cx="523080" cy="3267720"/>
              </a:xfrm>
              <a:custGeom>
                <a:avLst/>
                <a:gdLst>
                  <a:gd name="textAreaLeft" fmla="*/ 0 w 523080"/>
                  <a:gd name="textAreaRight" fmla="*/ 523440 w 523080"/>
                  <a:gd name="textAreaTop" fmla="*/ -360 h 3267720"/>
                  <a:gd name="textAreaBottom" fmla="*/ 3267720 h 326772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7680" y="288720"/>
              <a:ext cx="892440" cy="825840"/>
              <a:chOff x="5647680" y="288720"/>
              <a:chExt cx="89244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9280" y="78408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7800" y="46368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0320" y="38916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6720"/>
              <a:ext cx="1059120" cy="830880"/>
              <a:chOff x="968760" y="5256720"/>
              <a:chExt cx="1059120" cy="8308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168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120" y="573300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128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38480"/>
              <a:ext cx="1690200" cy="1146600"/>
              <a:chOff x="375840" y="4384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56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21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58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0440" y="3712320"/>
              <a:ext cx="1155600" cy="1607760"/>
              <a:chOff x="739044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516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588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844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712E-114D-41A5-A093-E37B9ED40D30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905120" y="4723920"/>
            <a:ext cx="7238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8" name="WordArt 4" descr=""/>
          <p:cNvPicPr/>
          <p:nvPr/>
        </p:nvPicPr>
        <p:blipFill>
          <a:blip r:embed="rId1"/>
          <a:stretch/>
        </p:blipFill>
        <p:spPr>
          <a:xfrm>
            <a:off x="669960" y="603360"/>
            <a:ext cx="7523280" cy="4694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Verdana"/>
              </a:rPr>
              <a:t>Блиц - опрос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Знаете ли Вы колыбельные песни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Какие? (старинные, литературные, народные, собственные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Часто ли Вы поете их своим детям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С какой целью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Влияют ли колыбельные песни на сон ребенка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Почему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Влияют ли колыбельные песни на развитие ребенка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4400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Verdana"/>
              </a:rPr>
              <a:t>Результаты опрос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94" name="Object 70"/>
          <p:cNvGraphicFramePr/>
          <p:nvPr/>
        </p:nvGraphicFramePr>
        <p:xfrm>
          <a:off x="838080" y="1752480"/>
          <a:ext cx="8001000" cy="48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Object 70" descr=""/>
                  <p:cNvPicPr/>
                  <p:nvPr/>
                </p:nvPicPr>
                <p:blipFill>
                  <a:blip r:embed="rId2">
                    <a:alphaModFix amt="60000"/>
                  </a:blip>
                  <a:stretch/>
                </p:blipFill>
                <p:spPr>
                  <a:xfrm>
                    <a:off x="838080" y="1752480"/>
                    <a:ext cx="8001000" cy="48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Text Box 74"/>
          <p:cNvSpPr/>
          <p:nvPr/>
        </p:nvSpPr>
        <p:spPr>
          <a:xfrm>
            <a:off x="1295280" y="8380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Verdana"/>
              </a:rPr>
              <a:t>Какие колыбельные песн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66cc"/>
                </a:solidFill>
                <a:latin typeface="Verdana"/>
              </a:rPr>
              <a:t>Вы знаете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cc"/>
                </a:solidFill>
                <a:latin typeface="Verdana"/>
              </a:rPr>
              <a:t>Часто ли Вы поете колыбельные песни своим детям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98" name="Object 3"/>
          <p:cNvGraphicFramePr/>
          <p:nvPr/>
        </p:nvGraphicFramePr>
        <p:xfrm>
          <a:off x="685800" y="1530360"/>
          <a:ext cx="8001000" cy="491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30360"/>
                    <a:ext cx="8001000" cy="49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cc"/>
                </a:solidFill>
                <a:latin typeface="Verdana"/>
              </a:rPr>
              <a:t>Влияют ли колыбельные песни на сон ребенка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1" name="Object 3"/>
          <p:cNvGraphicFramePr/>
          <p:nvPr/>
        </p:nvGraphicFramePr>
        <p:xfrm>
          <a:off x="533520" y="1828800"/>
          <a:ext cx="8229600" cy="445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28800"/>
                    <a:ext cx="8229600" cy="44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cc"/>
                </a:solidFill>
                <a:latin typeface="Verdana"/>
              </a:rPr>
              <a:t>Влияют ли колыбельные песни на развитие ребенка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4" name="Object 3"/>
          <p:cNvGraphicFramePr/>
          <p:nvPr/>
        </p:nvGraphicFramePr>
        <p:xfrm>
          <a:off x="914400" y="1849320"/>
          <a:ext cx="8001000" cy="432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49320"/>
                    <a:ext cx="8001000" cy="43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http://www.mamina-shkola.ru/wp-content/uploads/2011/09/Soroka_1.jpg"/>
          <p:cNvPicPr/>
          <p:nvPr/>
        </p:nvPicPr>
        <p:blipFill>
          <a:blip r:embed="rId1"/>
          <a:stretch/>
        </p:blipFill>
        <p:spPr>
          <a:xfrm>
            <a:off x="533520" y="685800"/>
            <a:ext cx="2276280" cy="290520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4"/>
          <p:cNvSpPr/>
          <p:nvPr/>
        </p:nvSpPr>
        <p:spPr>
          <a:xfrm flipV="1" rot="10800000">
            <a:off x="685440" y="4571640"/>
            <a:ext cx="662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Замечательный советский художник </a:t>
            </a: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Юрий Алексеевич Васнецов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 создал яркий, неповторимый мир сказочных образов, близкий и понятный каждому ребенку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8" name="Picture 8" descr="http://www.mamina-shkola.ru/wp-content/uploads/2011/09/Loshad.jpeg"/>
          <p:cNvPicPr/>
          <p:nvPr/>
        </p:nvPicPr>
        <p:blipFill>
          <a:blip r:embed="rId2"/>
          <a:stretch/>
        </p:blipFill>
        <p:spPr>
          <a:xfrm>
            <a:off x="3352680" y="228600"/>
            <a:ext cx="4762800" cy="4800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cc"/>
                </a:solidFill>
                <a:latin typeface="Verdana"/>
              </a:rPr>
              <a:t>Выводы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Большинство родителей считают, что колыбельные песни влияют на сон ребенка, так как в колыбельных содержится мелодия и близкий к биению сердца ритм, плавность и размеренность которых, успокаивают его и постепенно погружают в сон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cc"/>
                </a:solidFill>
                <a:latin typeface="Verdana"/>
              </a:rPr>
              <a:t>Литература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ельников М.Н. Русский детский фольклор. -М.: Просвещение, 1987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орозов И.А. Духовная культура Северного Белогорье.-М.: Просвещение, 1997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ауменко Г.М. Этнография детства. -М.: Беловодье, 1998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AutoShape 4">
            <a:hlinkClick r:id="" action="ppaction://hlinkshowjump?jump=endshow"/>
          </p:cNvPr>
          <p:cNvSpPr/>
          <p:nvPr/>
        </p:nvSpPr>
        <p:spPr>
          <a:xfrm>
            <a:off x="8153280" y="617220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Verdana"/>
              </a:rPr>
              <a:t>Актуальность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 наше время колыбельные – это умирающий жанр народного творчеств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олодые родители знают только колыбельные песни из книг. А жаль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читается, что именно с помощью этих убаюкивающих песенок маленький человек начинает познавать окружающий его мир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Verdana"/>
              </a:rPr>
              <a:t>Вопросы, требующие ответа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чему, когда мама или бабушка поют маленькому брату колыбельную песню, он быстро засыпает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сему, когда девочки играют в игру «Дочки – матери», они качают кукол и напевают: «Баю, баюшки, баю…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Verdana"/>
              </a:rPr>
              <a:t>Цель исследования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оследить изменения в содержании колыбельных песен в течении поколений и их влияние на сон ребенк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5" name="Picture 5" descr="1000538309"/>
          <p:cNvPicPr/>
          <p:nvPr/>
        </p:nvPicPr>
        <p:blipFill>
          <a:blip r:embed="rId1"/>
          <a:stretch/>
        </p:blipFill>
        <p:spPr>
          <a:xfrm>
            <a:off x="4937040" y="1447920"/>
            <a:ext cx="3546720" cy="4876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Verdana"/>
              </a:rPr>
              <a:t>Задачи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оанализировать колыбельные песни разных поколений, изучив литературные источник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ассмотреть значение колыбельных песен в жизни ребен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овести и описать практическое исследование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бобщить полученные результат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Verdana"/>
              </a:rPr>
              <a:t>Этапы исследования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I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Подготовитель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-выявление проблемы о обоснование её актуальности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-анализ литератур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II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Практическ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-эксперимен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III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Обобщающ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-подтверждение итогов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-анализ всех результатов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Verdana"/>
              </a:rPr>
              <a:t>Колыбельные песни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т слова колыбать - колыхать, качать, зыби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533520" y="2666880"/>
            <a:ext cx="8243640" cy="13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Verdana"/>
              </a:rPr>
              <a:t>Байка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2514600" y="40384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т слова байкать - качать, усыпля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Picture 7" descr="http://koshki-mishki.ru/images/stories/kolybel23.gif"/>
          <p:cNvPicPr/>
          <p:nvPr/>
        </p:nvPicPr>
        <p:blipFill>
          <a:blip r:embed="rId1"/>
          <a:stretch/>
        </p:blipFill>
        <p:spPr>
          <a:xfrm>
            <a:off x="228600" y="2819520"/>
            <a:ext cx="2095560" cy="2733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Verdana"/>
              </a:rPr>
              <a:t>Старинные колыбельные песни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иобщение к родным мелодия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писание богатой счастливой жизн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огнозы на будуще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изыв небесных покровителе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писание опасносте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ыражение чувств и переживан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Verdana"/>
              </a:rPr>
              <a:t>Литературные колыбельные песни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Познание окружающего мир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Воспитательная функц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Создание атмосферы тепла и уют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9" name="Содержимое 5" descr="Изображение 001.jpg"/>
          <p:cNvPicPr/>
          <p:nvPr/>
        </p:nvPicPr>
        <p:blipFill>
          <a:blip r:embed="rId1"/>
          <a:stretch/>
        </p:blipFill>
        <p:spPr>
          <a:xfrm>
            <a:off x="4876920" y="7391520"/>
            <a:ext cx="3341520" cy="4456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http://www.mamina-shkola.ru/wp-content/uploads/2011/09/Soroka-vorona_3.jpg"/>
          <p:cNvPicPr/>
          <p:nvPr/>
        </p:nvPicPr>
        <p:blipFill>
          <a:blip r:embed="rId2"/>
          <a:stretch/>
        </p:blipFill>
        <p:spPr>
          <a:xfrm>
            <a:off x="-3809880" y="1438200"/>
            <a:ext cx="7619760" cy="5419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Rina</dc:creator>
  <dc:description/>
  <dc:language>en-US</dc:language>
  <cp:lastModifiedBy>IRina</cp:lastModifiedBy>
  <dcterms:modified xsi:type="dcterms:W3CDTF">2012-03-12T17:02:26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