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F4A-D393-4CA7-B9AA-8D293B89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34B-7CA9-41B4-BC91-099581E0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AEB-14D2-4ADE-9A69-2C6D46C3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0B0-BFFC-4216-A3C1-83B5A9F0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4FE-B739-4EE5-AE22-D2977969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AE9-D467-4974-A2C0-D9F5BB26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574-2688-4BD5-8F7F-8DA48DBF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248-D1AA-4C87-8887-C52CB3FE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DE0-EA34-4195-A2AD-249ED478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3E5-7E0B-41B8-B010-A04398B8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2B6-A41B-458D-ADAD-C2C729FB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8BF-2172-460C-92A7-E228F54D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29BA7-7E47-4DBB-A15B-89A64F0AD4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ae00"/>
                </a:solidFill>
                <a:latin typeface="Arial"/>
              </a:rPr>
              <a:t>КРАСОТА ЦВЕ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ae00"/>
                </a:solidFill>
                <a:latin typeface="Arial"/>
              </a:rPr>
              <a:t>Растения — дивный наряд Земли. Прекрасны деревья. Прекрасны цветы. В них — трепет жизни, раскрывающийся в неисчислимом сочетании оттен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Изумительны орхидеи и другие цветы дальних стр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8920" y="14396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8999640" cy="5219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В работе над презентацией принимали участ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М. В Кабен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Настя Ко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Галя Евглевская</a:t>
            </a:r>
            <a:br>
              <a:rPr sz="4400"/>
            </a:b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Даша Абросим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Алена Козыр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Настя Солома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Величавы в своей красоте лилии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4880" y="1768320"/>
            <a:ext cx="4024440" cy="4989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770440" y="1768320"/>
            <a:ext cx="3187800" cy="237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72240" y="4375080"/>
            <a:ext cx="3186000" cy="2379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… </a:t>
            </a: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и розы, цветущие в наших сад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19280" y="1768320"/>
            <a:ext cx="2058840" cy="2372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00800" y="1768320"/>
            <a:ext cx="1930320" cy="237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26360" y="4375080"/>
            <a:ext cx="1876320" cy="237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131840" y="4375080"/>
            <a:ext cx="3171960" cy="2379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Удивительно хороши и наши луговые, лесные, придорожные цветы: колокольчи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60360" y="1979640"/>
            <a:ext cx="7740720" cy="5040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… </a:t>
            </a: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ландыши, фиалки. В их скромной красоте таится бесконечное очар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3280" y="2597040"/>
            <a:ext cx="4408560" cy="3108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32520" y="2362320"/>
            <a:ext cx="4408200" cy="3578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13:59Z</dcterms:created>
  <dc:creator/>
  <dc:description/>
  <dc:language>en-US</dc:language>
  <cp:lastModifiedBy/>
  <dcterms:modified xsi:type="dcterms:W3CDTF">2012-11-19T06:15:18Z</dcterms:modified>
  <cp:revision>8</cp:revision>
  <dc:subject/>
  <dc:title/>
</cp:coreProperties>
</file>