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EB4-EFEF-4EDF-9278-EC2959B8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86E-AB40-4631-8360-3616B949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8FE-7D96-4E72-848A-B96C6889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213-34DE-47E3-B5F0-D07D9AE6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DEA-363C-4DF6-AEA0-3130E35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2A6-7D4D-4923-A22D-446561D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73B-EC60-4608-B4A3-9E1690F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21B-E3E1-4B3D-B63F-344E82A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DB4-7F61-48B9-A62B-09D8D85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76E-21F6-4405-980B-D798CD1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B28-8E40-4F3E-842D-A2AF9A7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8E2-DAC7-4FE5-B1AD-7A47C773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EBA58-19E3-43D8-AAFA-B056729AD8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ae00"/>
                </a:solidFill>
                <a:latin typeface="Arial"/>
              </a:rPr>
              <a:t>КРАСОТА ЦВ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ae00"/>
                </a:solidFill>
                <a:latin typeface="Arial"/>
              </a:rPr>
              <a:t>Растения — дивный наряд Земли. Прекрасны деревья. Прекрасны цветы. В них — трепет жизни, раскрывающийся в неисчислимом сочетании оттен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Изумительны орхидеи и другие цветы дальних стр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1439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8999640" cy="5219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В работе над презентацией принимали участ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М. В Кабен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Настя Ко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Галя Евглевская</a:t>
            </a:r>
            <a:br>
              <a:rPr sz="4400"/>
            </a:b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Даша Абросим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Алена Козы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Настя Солома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Величавы в своей красоте лилии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1768320"/>
            <a:ext cx="4024440" cy="498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70440" y="1768320"/>
            <a:ext cx="3187800" cy="237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72240" y="4375080"/>
            <a:ext cx="3186000" cy="2379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… </a:t>
            </a: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и розы, цветущие в наших сад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19280" y="1768320"/>
            <a:ext cx="2058840" cy="237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00800" y="1768320"/>
            <a:ext cx="1930320" cy="237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26360" y="4375080"/>
            <a:ext cx="1876320" cy="237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131840" y="4375080"/>
            <a:ext cx="3171960" cy="2379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Удивительно хороши и наши луговые, лесные, придорожные цветы: колокольчи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60360" y="1979640"/>
            <a:ext cx="77407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… </a:t>
            </a:r>
            <a:r>
              <a:rPr b="1" i="1" lang="ru-RU" sz="4400" spc="-1" strike="noStrike">
                <a:solidFill>
                  <a:srgbClr val="00ae00"/>
                </a:solidFill>
                <a:latin typeface="Arial"/>
              </a:rPr>
              <a:t>ландыши, фиалки. В их скромной красоте таится бесконечное очар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3280" y="2597040"/>
            <a:ext cx="4408560" cy="310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32520" y="2362320"/>
            <a:ext cx="4408200" cy="3578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13:59Z</dcterms:created>
  <dc:creator/>
  <dc:description/>
  <dc:language>en-US</dc:language>
  <cp:lastModifiedBy/>
  <dcterms:modified xsi:type="dcterms:W3CDTF">2012-11-19T06:15:18Z</dcterms:modified>
  <cp:revision>8</cp:revision>
  <dc:subject/>
  <dc:title/>
</cp:coreProperties>
</file>