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64D-059F-462E-9A0A-D4B16DE1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81E-5DE2-4EDF-8FC5-D4E229AC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6D9-4F1E-4995-89EA-6F64A125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E62-74D8-4CFF-AC25-69745B3F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E53-8BCE-4D4C-A904-F57D2C66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37F-B2D8-4D4D-A7F8-B2B10AB3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564-270C-4091-8F69-570E55ED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FDB-2D1F-4410-B44F-9BA442B5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562-98F7-4CA7-AD85-1097BE8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CBD-B840-4417-8277-D49FBDA7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591-E18B-498C-8FF2-9BD5CEDC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C0B-3CEB-479C-A02C-6083836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35A4-9CB6-4764-A136-6C0A26CAD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МЕРЧАНДАЙЗИН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ЦЕЛЬ ХОРОШЕГО МЕРЧАНДАЙЗИНГ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– действовать как указатель, направляющий клиента к желаемой ц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нцип максимального соответствия сезо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зделия, максимально соответствующие сезону, размещаются в наиболее приоритетных местах торгового зала с точки зрения максимального удобства для покупателя при осмотре, ощупывании и выборе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кламно-информационная поддержка внутри магаз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нцип специального пред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езонная распрод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пециальное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екламно-информационная поддержка и размещение товара в период прод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итр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6:48:43Z</dcterms:created>
  <dc:creator>Марина</dc:creator>
  <dc:description/>
  <dc:language>en-US</dc:language>
  <cp:lastModifiedBy>user</cp:lastModifiedBy>
  <dcterms:modified xsi:type="dcterms:W3CDTF">2013-03-19T11:58:30Z</dcterms:modified>
  <cp:revision>9</cp:revision>
  <dc:subject/>
  <dc:title>МЕРЧАНДАЙЗИНГ</dc:title>
</cp:coreProperties>
</file>