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DF2-FB83-4F7B-AA30-A273F33D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DAC-48E4-469F-BE3D-649C85ED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8A7-8A0B-4695-BBE3-7A73F109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738-21A4-4636-96BF-0C96E583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126-99B6-4C5F-8932-34638CB2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B6F-8579-4E1E-95A5-3EA78B37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EE9-4578-442C-BE97-C5B71D08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A1C-1CA6-4630-8212-FA022261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24F-E7FF-45C6-AA43-2F8C518E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B12-D7EE-4ED7-B16A-6B47CFE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981-AFF2-46F6-8CFB-4BC9849B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E55-A92B-4D31-ACC0-0AC103E7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0BF8-5171-4D2D-AE9C-00D0D854C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МЕРЧАНДАЙЗИН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ЦЕЛЬ ХОРОШЕГО МЕРЧАНДАЙЗИНГ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– действовать как указатель, направляющий клиента к желаемой ц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нцип максимального соответствия сезо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зделия, максимально соответствующие сезону, размещаются в наиболее приоритетных местах торгового зала с точки зрения максимального удобства для покупателя при осмотре, ощупывании и выборе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екламно-информационная поддержка внутри магаз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нцип специального предло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езонная распрод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пециальное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Рекламно-информационная поддержка и размещение товара в период прод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итр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6:48:43Z</dcterms:created>
  <dc:creator>Марина</dc:creator>
  <dc:description/>
  <dc:language>en-US</dc:language>
  <cp:lastModifiedBy>user</cp:lastModifiedBy>
  <dcterms:modified xsi:type="dcterms:W3CDTF">2013-03-19T11:58:30Z</dcterms:modified>
  <cp:revision>9</cp:revision>
  <dc:subject/>
  <dc:title>МЕРЧАНДАЙЗИНГ</dc:title>
</cp:coreProperties>
</file>