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F64162-8A3C-4417-A00D-E8D17249F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15C815-84D1-436D-BFAC-AEB3DD3B51F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C65D02-EF17-40B2-A938-81DDB79FE53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645508-0590-4BB2-9619-64D49EEEF48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907A06-95E8-4878-8AB1-84FEC2C408A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915-1661-48C2-8F85-94F97C34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FED-90AB-4D60-B2F0-972C4EC7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76E-0AC6-4B3F-9AEE-F24E94A8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972-869A-49FF-9875-6966A3AD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02BB-4579-4181-986A-353BA84E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2355-7CAF-4BBA-B9D4-7D1DDE95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163A-9238-4E48-AD37-BDD0EA3D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BE56-0C4A-4E28-8996-85EED355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6DFF-1369-4FFD-A287-5F6DC2EC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558D-03F3-45C9-97ED-2E2DA652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0C5B-8DED-41B2-BF76-03B3816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573-9EA7-4F4E-82A9-2FD6D43E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681E-3A1E-476B-A8CD-5DD55FC8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0B61-DDB3-4F39-A7F1-F755490E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DFC2-77D0-46A8-8560-1FDE365F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6080-B698-4BA1-A7FC-CA55A3F0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6EB4-1CA6-47BC-A191-E352BE5A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D1E-FD38-4877-961C-5C79D9EE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823-77E2-4304-BAF0-9B90283D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203-EC05-4B8F-812B-5145C233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345-5A9F-4766-8753-D11253C9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3BA-538D-4618-A149-12D5DA4E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53C-7441-43EA-A7DF-E147415A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AE5-1797-45FA-8726-D11B4A6A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1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80808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9D442E-39A3-494E-A8AB-86CE202EA319}" type="slidenum">
              <a:rPr b="1" lang="en-US" sz="12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Book Antiqua"/>
              </a:rPr>
              <a:t>Образец заголовка</a:t>
            </a:r>
            <a:endParaRPr b="0" lang="en-US" sz="4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1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80808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868777-E78A-477B-A827-708D6D5FABF2}" type="slidenum">
              <a:rPr b="1" lang="en-US" sz="12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752480"/>
            <a:ext cx="8686440" cy="18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600" spc="-1" strike="noStrike">
                <a:solidFill>
                  <a:srgbClr val="000000"/>
                </a:solidFill>
                <a:latin typeface="Book Antiqua"/>
              </a:rPr>
              <a:t>День</a:t>
            </a:r>
            <a:r>
              <a:rPr b="0" i="1" lang="ru-RU" sz="4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4600" spc="-1" strike="noStrike">
                <a:solidFill>
                  <a:srgbClr val="000000"/>
                </a:solidFill>
                <a:latin typeface="Book Antiqua"/>
              </a:rPr>
              <a:t>Святого Валентина- день всех влюблённых</a:t>
            </a:r>
            <a:endParaRPr b="0" lang="en-US" sz="4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en-US" sz="4600" spc="-1" strike="noStrike">
              <a:solidFill>
                <a:srgbClr val="40404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39116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04800" indent="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Century Gothic"/>
              </a:rPr>
              <a:t>Придёт и к вам любовь…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0800000">
            <a:off x="1793160" y="4038480"/>
            <a:ext cx="6512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en-US" sz="4600" spc="-1" strike="noStrike">
              <a:solidFill>
                <a:srgbClr val="40404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64004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Презентацию приготовила учитель музыки МБОУ СОШ № 50  г. Краснодар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76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вджян Марина Владимировн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-152280" y="2096280"/>
            <a:ext cx="9905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8800" spc="-1" strike="noStrike">
                <a:solidFill>
                  <a:srgbClr val="000000"/>
                </a:solidFill>
                <a:latin typeface="Century Gothic"/>
              </a:rPr>
              <a:t>Истории любви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57200" y="5916600"/>
            <a:ext cx="7391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icture 2"/>
          <p:cNvSpPr/>
          <p:nvPr/>
        </p:nvSpPr>
        <p:spPr>
          <a:xfrm>
            <a:off x="152280" y="57960"/>
            <a:ext cx="3123720" cy="35805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icture 3"/>
          <p:cNvSpPr/>
          <p:nvPr/>
        </p:nvSpPr>
        <p:spPr>
          <a:xfrm>
            <a:off x="6172200" y="2438280"/>
            <a:ext cx="2895120" cy="338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762120" y="3647520"/>
            <a:ext cx="434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. С. 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7521120" y="6095880"/>
            <a:ext cx="152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. П. Кер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419720" y="762120"/>
            <a:ext cx="3504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Я помню чудное мгновен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Передо мной явилась т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icture 2"/>
          <p:cNvSpPr/>
          <p:nvPr/>
        </p:nvSpPr>
        <p:spPr>
          <a:xfrm>
            <a:off x="45000" y="76320"/>
            <a:ext cx="2895120" cy="33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icture 3"/>
          <p:cNvSpPr/>
          <p:nvPr/>
        </p:nvSpPr>
        <p:spPr>
          <a:xfrm>
            <a:off x="6248520" y="3072600"/>
            <a:ext cx="2804400" cy="344700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838080" y="3962520"/>
            <a:ext cx="581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.И. Гл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394960" y="6379920"/>
            <a:ext cx="2524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Е. Е. . Ке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191120" y="990720"/>
            <a:ext cx="3352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вучал мне долго голос не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 снились милые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5616720"/>
            <a:ext cx="65120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Е. С. Бородин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icture 2"/>
          <p:cNvSpPr/>
          <p:nvPr/>
        </p:nvSpPr>
        <p:spPr>
          <a:xfrm>
            <a:off x="28800" y="0"/>
            <a:ext cx="2714040" cy="33523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04920" y="3722040"/>
            <a:ext cx="368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. П. Боро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6019920" y="2286000"/>
            <a:ext cx="3047760" cy="45716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17" name="TextBox 5"/>
          <p:cNvSpPr/>
          <p:nvPr/>
        </p:nvSpPr>
        <p:spPr>
          <a:xfrm>
            <a:off x="3327840" y="6465240"/>
            <a:ext cx="368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Е. С. Бор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324480"/>
            <a:ext cx="480024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Консепсьон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2" descr="E:\бетховен1\bugerman.jpg"/>
          <p:cNvPicPr/>
          <p:nvPr/>
        </p:nvPicPr>
        <p:blipFill>
          <a:blip r:embed="rId1"/>
          <a:stretch/>
        </p:blipFill>
        <p:spPr>
          <a:xfrm>
            <a:off x="228600" y="228600"/>
            <a:ext cx="3352320" cy="472392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20" name="Picture 3" descr="E:\бетховен1\ConchitaA.jpg"/>
          <p:cNvPicPr/>
          <p:nvPr/>
        </p:nvPicPr>
        <p:blipFill>
          <a:blip r:embed="rId2"/>
          <a:stretch/>
        </p:blipFill>
        <p:spPr>
          <a:xfrm>
            <a:off x="5867280" y="2748600"/>
            <a:ext cx="2971440" cy="395640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121" name="Заголовок 1"/>
          <p:cNvSpPr/>
          <p:nvPr/>
        </p:nvSpPr>
        <p:spPr>
          <a:xfrm>
            <a:off x="-1523880" y="4727160"/>
            <a:ext cx="44193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>
              <a:solidFill>
                <a:srgbClr val="404040"/>
              </a:solidFill>
              <a:latin typeface="Book Antiqua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152280" y="5184360"/>
            <a:ext cx="389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Н. Рез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2228760" y="3886200"/>
            <a:ext cx="4457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В. Высоцк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E:\бетховен1\artist_2170.jpg"/>
          <p:cNvPicPr/>
          <p:nvPr/>
        </p:nvPicPr>
        <p:blipFill>
          <a:blip r:embed="rId1"/>
          <a:stretch/>
        </p:blipFill>
        <p:spPr>
          <a:xfrm>
            <a:off x="0" y="0"/>
            <a:ext cx="3554640" cy="394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E:\бетховен1\medium_bd229e47492aca19fc7b04256ece429a.jpeg"/>
          <p:cNvPicPr/>
          <p:nvPr/>
        </p:nvPicPr>
        <p:blipFill>
          <a:blip r:embed="rId2"/>
          <a:stretch/>
        </p:blipFill>
        <p:spPr>
          <a:xfrm>
            <a:off x="5715000" y="1896120"/>
            <a:ext cx="3428640" cy="49615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3124080" y="6345360"/>
            <a:ext cx="378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М. Вл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-990720" y="4724280"/>
            <a:ext cx="651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Book Antiqua"/>
              </a:rPr>
              <a:t>Люблю тебя сейчас не тайн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404040"/>
                </a:solidFill>
                <a:latin typeface="Book Antiqua"/>
              </a:rPr>
              <a:t>напо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6172200" y="3429000"/>
            <a:ext cx="3123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. Высоцкий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2" descr="E:\бетховен1\1768822-c17c6662bc5ca2a0.jpg"/>
          <p:cNvPicPr/>
          <p:nvPr/>
        </p:nvPicPr>
        <p:blipFill>
          <a:blip r:embed="rId1"/>
          <a:stretch/>
        </p:blipFill>
        <p:spPr>
          <a:xfrm>
            <a:off x="4868640" y="3202200"/>
            <a:ext cx="4435920" cy="3655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E:\бетховен1\kinopojA.jpg"/>
          <p:cNvPicPr/>
          <p:nvPr/>
        </p:nvPicPr>
        <p:blipFill>
          <a:blip r:embed="rId2"/>
          <a:stretch/>
        </p:blipFill>
        <p:spPr>
          <a:xfrm>
            <a:off x="76320" y="0"/>
            <a:ext cx="3200040" cy="48002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1828800" y="835200"/>
            <a:ext cx="109569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Была ещё одна в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 ней заб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380880" y="5026680"/>
            <a:ext cx="39621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. Высоцкий.  Марина Вл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2214000" y="6095880"/>
            <a:ext cx="3962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Л. Абрам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1600200" y="5334120"/>
            <a:ext cx="990360" cy="24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en-US" sz="4600" spc="-1" strike="noStrike">
              <a:solidFill>
                <a:srgbClr val="40404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6480" y="4906440"/>
            <a:ext cx="6552720" cy="20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" indent="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Л. Бетхове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Рисунок 8"/>
          <p:cNvSpPr/>
          <p:nvPr/>
        </p:nvSpPr>
        <p:spPr>
          <a:xfrm>
            <a:off x="8640" y="29160"/>
            <a:ext cx="3344040" cy="45536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"/>
          <p:cNvPicPr/>
          <p:nvPr/>
        </p:nvPicPr>
        <p:blipFill>
          <a:blip r:embed="rId2"/>
          <a:stretch/>
        </p:blipFill>
        <p:spPr>
          <a:xfrm>
            <a:off x="5711760" y="1722600"/>
            <a:ext cx="3428640" cy="5135040"/>
          </a:xfrm>
          <a:prstGeom prst="rect">
            <a:avLst/>
          </a:prstGeom>
          <a:ln w="0">
            <a:noFill/>
          </a:ln>
        </p:spPr>
      </p:pic>
      <p:sp>
        <p:nvSpPr>
          <p:cNvPr id="138" name="Объект 2"/>
          <p:cNvSpPr/>
          <p:nvPr/>
        </p:nvSpPr>
        <p:spPr>
          <a:xfrm>
            <a:off x="-4016160" y="6360840"/>
            <a:ext cx="9677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404800" algn="r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tabLst>
                <a:tab algn="l" pos="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Джульетта Гвиччар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бъект 2"/>
          <p:cNvSpPr/>
          <p:nvPr/>
        </p:nvSpPr>
        <p:spPr>
          <a:xfrm>
            <a:off x="3352680" y="457200"/>
            <a:ext cx="624816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572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tabLst>
                <a:tab algn="l" pos="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Мой ангел, моя жизнь, моё 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658</TotalTime>
  <Application>LibreOffice/7.4.7.2$Linux_X86_64 LibreOffice_project/40$Build-2</Application>
  <AppVersion>15.0000</AppVersion>
  <Words>141</Words>
  <Paragraphs>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Кириллик</dc:creator>
  <dc:description/>
  <dc:language>en-US</dc:language>
  <cp:lastModifiedBy>Кириллик</cp:lastModifiedBy>
  <dcterms:modified xsi:type="dcterms:W3CDTF">2013-03-15T18:43:16Z</dcterms:modified>
  <cp:revision>6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11</vt:r8>
  </property>
</Properties>
</file>