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A8B247-71CB-47F1-B1F9-79386E60A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23B68E-8018-4B80-964F-51C4B8ABE41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9BBD87-5141-42EA-924C-0AF1228980B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D3014F-3071-4573-B9C5-FC8218BEE3A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EE0C83-D6DF-4C33-A026-00984522823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8BC-202A-4EEF-9168-053CB277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3F7-3697-4002-BFFE-910007D0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85C-4FD6-4C4D-B975-1C7E6811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7CB-C020-432C-9764-BA1BBCE0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5DE-5340-4FE1-804B-710C3F6E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910B-54F7-431B-9C23-949AA794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3F0-3CA1-437A-B395-F94EC6F3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C60C-F369-4E6D-A019-D4937B8D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DF51-07C8-4D90-BC11-8EB5C172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9A14-2B52-414A-9932-D5DF4C4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2CA9-0806-490E-B8D8-7E5DA60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448-C4FA-4559-AE19-9E31F2AE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6A63-0BC7-4C43-A963-8DA99867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782-CBB7-40F8-8082-8744A363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D895-58AE-46E8-927D-11FB03F3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ACB8-9BF1-467E-A194-30394CC9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D77D-5EBF-4DB6-8C0D-C49864E8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1E7-D741-46FE-93D7-85E2294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EED-DE0E-42EE-B8FC-B366AA9C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442-5387-4CA5-8945-E282B7F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5B4-BC7F-4567-AF17-D8FEB3C3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73A-0E70-490F-82CA-673FBF4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66F-8659-486F-A99A-E70598F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183-604C-45B3-A891-0B7C1562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1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68CF5F-3902-4A26-90ED-E45B9DCF4584}" type="slidenum">
              <a:rPr b="1" lang="en-US" sz="12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Book Antiqua"/>
              </a:rPr>
              <a:t>Образец заголовка</a:t>
            </a:r>
            <a:endParaRPr b="0" lang="en-US" sz="4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1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2BE168-1149-4414-9C7C-5321C2D71E33}" type="slidenum">
              <a:rPr b="1" lang="en-US" sz="12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752480"/>
            <a:ext cx="868644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Book Antiqua"/>
              </a:rPr>
              <a:t>День</a:t>
            </a:r>
            <a:r>
              <a:rPr b="0" i="1" lang="ru-RU" sz="4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4600" spc="-1" strike="noStrike">
                <a:solidFill>
                  <a:srgbClr val="000000"/>
                </a:solidFill>
                <a:latin typeface="Book Antiqua"/>
              </a:rPr>
              <a:t>Святого Валентина- день всех влюблённых</a:t>
            </a:r>
            <a:endParaRPr b="0" lang="en-US" sz="4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en-US" sz="46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39116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04800" indent="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Century Gothic"/>
              </a:rPr>
              <a:t>Придёт и к вам любовь…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0800000">
            <a:off x="1793160" y="4038480"/>
            <a:ext cx="6512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en-US" sz="46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6400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Презентацию приготовила учитель музыки МБОУ СОШ № 50  г. Краснодар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76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вджян Марина Владимиров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-152280" y="2096280"/>
            <a:ext cx="9905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8800" spc="-1" strike="noStrike">
                <a:solidFill>
                  <a:srgbClr val="000000"/>
                </a:solidFill>
                <a:latin typeface="Century Gothic"/>
              </a:rPr>
              <a:t>Истории любви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57200" y="5916600"/>
            <a:ext cx="7391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icture 2"/>
          <p:cNvSpPr/>
          <p:nvPr/>
        </p:nvSpPr>
        <p:spPr>
          <a:xfrm>
            <a:off x="152280" y="57960"/>
            <a:ext cx="3123720" cy="358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3"/>
          <p:cNvSpPr/>
          <p:nvPr/>
        </p:nvSpPr>
        <p:spPr>
          <a:xfrm>
            <a:off x="6172200" y="2438280"/>
            <a:ext cx="2895120" cy="338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762120" y="3647520"/>
            <a:ext cx="434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521120" y="6095880"/>
            <a:ext cx="152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П. Кер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19720" y="762120"/>
            <a:ext cx="3504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Я помню чудное мгнов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Передо мной явилась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45000" y="76320"/>
            <a:ext cx="2895120" cy="33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icture 3"/>
          <p:cNvSpPr/>
          <p:nvPr/>
        </p:nvSpPr>
        <p:spPr>
          <a:xfrm>
            <a:off x="6248520" y="3072600"/>
            <a:ext cx="2804400" cy="344700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838080" y="3962520"/>
            <a:ext cx="581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.И. Гл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94960" y="6379920"/>
            <a:ext cx="252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Е. Е. . К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191120" y="990720"/>
            <a:ext cx="3352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вучал мне долго голос н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снились мил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5616720"/>
            <a:ext cx="65120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Е. С. Бородин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icture 2"/>
          <p:cNvSpPr/>
          <p:nvPr/>
        </p:nvSpPr>
        <p:spPr>
          <a:xfrm>
            <a:off x="28800" y="0"/>
            <a:ext cx="2714040" cy="33523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04920" y="3722040"/>
            <a:ext cx="368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П. Боро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3047760" cy="45716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17" name="TextBox 5"/>
          <p:cNvSpPr/>
          <p:nvPr/>
        </p:nvSpPr>
        <p:spPr>
          <a:xfrm>
            <a:off x="3327840" y="6465240"/>
            <a:ext cx="368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Е. С. Бор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324480"/>
            <a:ext cx="480024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Консепсьон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2" descr="E:\бетховен1\bugerman.jpg"/>
          <p:cNvPicPr/>
          <p:nvPr/>
        </p:nvPicPr>
        <p:blipFill>
          <a:blip r:embed="rId1"/>
          <a:stretch/>
        </p:blipFill>
        <p:spPr>
          <a:xfrm>
            <a:off x="228600" y="228600"/>
            <a:ext cx="3352320" cy="472392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20" name="Picture 3" descr="E:\бетховен1\ConchitaA.jpg"/>
          <p:cNvPicPr/>
          <p:nvPr/>
        </p:nvPicPr>
        <p:blipFill>
          <a:blip r:embed="rId2"/>
          <a:stretch/>
        </p:blipFill>
        <p:spPr>
          <a:xfrm>
            <a:off x="5867280" y="2748600"/>
            <a:ext cx="2971440" cy="395640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21" name="Заголовок 1"/>
          <p:cNvSpPr/>
          <p:nvPr/>
        </p:nvSpPr>
        <p:spPr>
          <a:xfrm>
            <a:off x="-1523880" y="4727160"/>
            <a:ext cx="44193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152280" y="5184360"/>
            <a:ext cx="389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. Рез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228760" y="3886200"/>
            <a:ext cx="4457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В. Высоц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E:\бетховен1\artist_2170.jpg"/>
          <p:cNvPicPr/>
          <p:nvPr/>
        </p:nvPicPr>
        <p:blipFill>
          <a:blip r:embed="rId1"/>
          <a:stretch/>
        </p:blipFill>
        <p:spPr>
          <a:xfrm>
            <a:off x="0" y="0"/>
            <a:ext cx="3554640" cy="394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:\бетховен1\medium_bd229e47492aca19fc7b04256ece429a.jpeg"/>
          <p:cNvPicPr/>
          <p:nvPr/>
        </p:nvPicPr>
        <p:blipFill>
          <a:blip r:embed="rId2"/>
          <a:stretch/>
        </p:blipFill>
        <p:spPr>
          <a:xfrm>
            <a:off x="5715000" y="1896120"/>
            <a:ext cx="3428640" cy="49615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3124080" y="6345360"/>
            <a:ext cx="378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М. В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-990720" y="4724280"/>
            <a:ext cx="651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Book Antiqua"/>
              </a:rPr>
              <a:t>Люблю тебя сейчас не тайн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Book Antiqua"/>
              </a:rPr>
              <a:t>напо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6172200" y="3429000"/>
            <a:ext cx="3123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. Высоцкий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2" descr="E:\бетховен1\1768822-c17c6662bc5ca2a0.jpg"/>
          <p:cNvPicPr/>
          <p:nvPr/>
        </p:nvPicPr>
        <p:blipFill>
          <a:blip r:embed="rId1"/>
          <a:stretch/>
        </p:blipFill>
        <p:spPr>
          <a:xfrm>
            <a:off x="4868640" y="3202200"/>
            <a:ext cx="4435920" cy="3655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E:\бетховен1\kinopojA.jpg"/>
          <p:cNvPicPr/>
          <p:nvPr/>
        </p:nvPicPr>
        <p:blipFill>
          <a:blip r:embed="rId2"/>
          <a:stretch/>
        </p:blipFill>
        <p:spPr>
          <a:xfrm>
            <a:off x="76320" y="0"/>
            <a:ext cx="3200040" cy="4800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1828800" y="835200"/>
            <a:ext cx="109569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Была ещё одна в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 ней за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380880" y="5026680"/>
            <a:ext cx="3962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. Высоцкий.  Марина В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214000" y="6095880"/>
            <a:ext cx="3962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Л. Абрам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1600200" y="5334120"/>
            <a:ext cx="990360" cy="24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en-US" sz="4600" spc="-1" strike="noStrike">
              <a:solidFill>
                <a:srgbClr val="40404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6480" y="4906440"/>
            <a:ext cx="655272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" indent="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Л. Бетхове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Рисунок 8"/>
          <p:cNvSpPr/>
          <p:nvPr/>
        </p:nvSpPr>
        <p:spPr>
          <a:xfrm>
            <a:off x="8640" y="29160"/>
            <a:ext cx="3344040" cy="455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"/>
          <p:cNvPicPr/>
          <p:nvPr/>
        </p:nvPicPr>
        <p:blipFill>
          <a:blip r:embed="rId2"/>
          <a:stretch/>
        </p:blipFill>
        <p:spPr>
          <a:xfrm>
            <a:off x="5711760" y="1722600"/>
            <a:ext cx="3428640" cy="5135040"/>
          </a:xfrm>
          <a:prstGeom prst="rect">
            <a:avLst/>
          </a:prstGeom>
          <a:ln w="0">
            <a:noFill/>
          </a:ln>
        </p:spPr>
      </p:pic>
      <p:sp>
        <p:nvSpPr>
          <p:cNvPr id="138" name="Объект 2"/>
          <p:cNvSpPr/>
          <p:nvPr/>
        </p:nvSpPr>
        <p:spPr>
          <a:xfrm>
            <a:off x="-4016160" y="6360840"/>
            <a:ext cx="9677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404800" algn="r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Джульетта Гвиччар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ъект 2"/>
          <p:cNvSpPr/>
          <p:nvPr/>
        </p:nvSpPr>
        <p:spPr>
          <a:xfrm>
            <a:off x="3352680" y="457200"/>
            <a:ext cx="62481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572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Мой ангел, моя жизнь, моё 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658</TotalTime>
  <Application>LibreOffice/7.4.7.2$Linux_X86_64 LibreOffice_project/40$Build-2</Application>
  <AppVersion>15.0000</AppVersion>
  <Words>141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Кириллик</dc:creator>
  <dc:description/>
  <dc:language>en-US</dc:language>
  <cp:lastModifiedBy>Кириллик</cp:lastModifiedBy>
  <dcterms:modified xsi:type="dcterms:W3CDTF">2013-03-15T18:43:16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