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15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4.gif" ContentType="image/gif"/>
  <Override PartName="/ppt/media/image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2FD-8FCA-4C8B-9C2B-8870E365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CE1-DCEB-4FE4-8127-60FBBC10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D35-D149-4CB4-9AFE-A0607360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388-466E-4F4F-A1B9-52747E22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27EF-4682-41C0-AFB3-BC92E83A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3901-A536-416F-8D0A-A067476D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5646-8079-4DF6-AF02-204E4803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0682-4669-4727-BA65-C658002D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A470-4CCD-49AA-A227-49B047DF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9021-E7B8-4D2B-96DE-B8C84F02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8AD3-9749-4662-8363-47EF59F2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5EA-194B-4FD4-A0C3-71A7B950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418A-3930-41EE-9D92-63E65B4B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93AE-F304-4A38-8EC5-6365E4C5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DCC4-254B-4275-A311-B0740ECB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AD94-7AF2-4F2B-A3D5-9B8ADD26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9208-126C-4310-AE02-8F62623E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CA8-0EF7-45F5-A597-3D3B6C62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E08-5F00-4F40-A985-D8C909A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F92-E7B1-483D-B3E5-53CC2C3F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EDF-4DF5-4936-9F62-CF666F2F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377-2F58-4AA1-A12E-8784E08B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8C7-999A-46CB-AEB6-0B96892C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7FE-6EBD-4676-ADAD-83793408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3CEE-992D-4D4B-9ADC-568C82EAB0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0037-843B-4F89-B415-7ECEC15574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Unicode MS"/>
              </a:rPr>
              <a:t>Зажигаем витаминно, чисто, ярко и спортив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8"/>
          <p:cNvSpPr txBox="1"/>
          <p:nvPr/>
        </p:nvSpPr>
        <p:spPr>
          <a:xfrm>
            <a:off x="-900000" y="33336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ассный час о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ом образе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и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истота- залог здоровья.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4" descr="Надо, надо умываться По утрам и вечерам,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53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Users\user\Documents\здоровье\x_18179df1.jpg"/>
          <p:cNvPicPr/>
          <p:nvPr/>
        </p:nvPicPr>
        <p:blipFill>
          <a:blip r:embed="rId1"/>
          <a:stretch/>
        </p:blipFill>
        <p:spPr>
          <a:xfrm>
            <a:off x="250920" y="1268280"/>
            <a:ext cx="741672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0" y="28584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еловек рождается на свет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тоб творить, дерзать – и не иначе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тоб оставить в жизни добрый след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 решить все трудные задачи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еловек рождается на свет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ля чего? Ищите свой отв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:\Е.В.Роговец\Документы\школа\анимация\Дети, школа\f270704a64d27d4c6b654f58f188359a.gif"/>
          <p:cNvPicPr/>
          <p:nvPr/>
        </p:nvPicPr>
        <p:blipFill>
          <a:blip r:embed="rId1"/>
          <a:stretch/>
        </p:blipFill>
        <p:spPr>
          <a:xfrm>
            <a:off x="3214800" y="3500280"/>
            <a:ext cx="350820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ff6699"/>
                </a:solidFill>
                <a:latin typeface="Arial"/>
              </a:rPr>
              <a:t>ЖЕЛАЮ ЗДОРОВЬЯ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Picture 6" descr="014"/>
          <p:cNvPicPr/>
          <p:nvPr/>
        </p:nvPicPr>
        <p:blipFill>
          <a:blip r:embed="rId1"/>
          <a:stretch/>
        </p:blipFill>
        <p:spPr>
          <a:xfrm>
            <a:off x="2666880" y="1917720"/>
            <a:ext cx="3810240" cy="383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2f08"/>
                </a:solidFill>
                <a:latin typeface="Arial"/>
              </a:rPr>
              <a:t>Цель: </a:t>
            </a:r>
            <a:r>
              <a:rPr b="1" lang="ru-RU" sz="2500" spc="-1" strike="noStrike">
                <a:solidFill>
                  <a:srgbClr val="5e2f08"/>
                </a:solidFill>
                <a:latin typeface="Arial"/>
              </a:rPr>
              <a:t>развитие у детей чувства личной ответственности за своё здоровье; формирование культуры здорового образа жизни; воспитание негативного отношения к вредным привычкам</a:t>
            </a:r>
            <a:endParaRPr b="1" lang="en-US" sz="2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684684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и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8000"/>
                </a:solidFill>
                <a:latin typeface="Arial"/>
              </a:rPr>
              <a:t>Формировать сознание того, что здоровье зависит от них самих, чтобы его сберечь, надо правильно питаться, заниматься физкультурой, спортом, закаливанием своего организма; расширить знания детей о правилах гигиен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Содержимое 3" descr="zog.jpg"/>
          <p:cNvPicPr/>
          <p:nvPr/>
        </p:nvPicPr>
        <p:blipFill>
          <a:blip r:embed="rId1"/>
          <a:stretch/>
        </p:blipFill>
        <p:spPr>
          <a:xfrm>
            <a:off x="0" y="214200"/>
            <a:ext cx="913284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1d0561"/>
                </a:solidFill>
                <a:latin typeface="Georgia"/>
              </a:rPr>
              <a:t>   </a:t>
            </a:r>
            <a:r>
              <a:rPr b="1" lang="ru-RU" sz="3900" spc="-1" strike="noStrike">
                <a:solidFill>
                  <a:srgbClr val="1d0561"/>
                </a:solidFill>
                <a:latin typeface="Georgia"/>
              </a:rPr>
              <a:t>В здоровом теле –                здоровый дух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DSC03257"/>
          <p:cNvPicPr/>
          <p:nvPr/>
        </p:nvPicPr>
        <p:blipFill>
          <a:blip r:embed="rId1"/>
          <a:stretch/>
        </p:blipFill>
        <p:spPr>
          <a:xfrm>
            <a:off x="539640" y="1700280"/>
            <a:ext cx="74170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ы любишь прыгать, бегать,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Играть с тугим мячом.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ы вырастешь здоровым, 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ы будешь силачом 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Users\user\Documents\здоровье\kross.jpg"/>
          <p:cNvPicPr/>
          <p:nvPr/>
        </p:nvPicPr>
        <p:blipFill>
          <a:blip r:embed="rId1"/>
          <a:stretch/>
        </p:blipFill>
        <p:spPr>
          <a:xfrm>
            <a:off x="826920" y="2924280"/>
            <a:ext cx="62661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285840" y="642960"/>
            <a:ext cx="421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С гимнастикой друж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Всегда веселым буд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И проживешь 100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А , может быть,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Микстуры, порошки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К здоровью ложный п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Природою лечис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В саду и чистом п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D:\Е.В.Роговец\Документы\школа\анимация\Дети, школа\20.gif"/>
          <p:cNvPicPr/>
          <p:nvPr/>
        </p:nvPicPr>
        <p:blipFill>
          <a:blip r:embed="rId1"/>
          <a:stretch/>
        </p:blipFill>
        <p:spPr>
          <a:xfrm>
            <a:off x="1285920" y="4352760"/>
            <a:ext cx="2000160" cy="2046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D:\Е.В.Роговец\Документы\школа\Площ.фото\фото\DSC07565.JPG"/>
          <p:cNvPicPr/>
          <p:nvPr/>
        </p:nvPicPr>
        <p:blipFill>
          <a:blip r:embed="rId2"/>
          <a:stretch/>
        </p:blipFill>
        <p:spPr>
          <a:xfrm>
            <a:off x="4429080" y="500040"/>
            <a:ext cx="4429080" cy="324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D:\Е.В.Роговец\Документы\школа\Площ.фото\фото\DSC07562.JPG"/>
          <p:cNvPicPr/>
          <p:nvPr/>
        </p:nvPicPr>
        <p:blipFill>
          <a:blip r:embed="rId3"/>
          <a:stretch/>
        </p:blipFill>
        <p:spPr>
          <a:xfrm>
            <a:off x="3929040" y="3929040"/>
            <a:ext cx="396864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591156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Человеку нужно есть,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Чтобы встать и чтобы сесть,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Чтобы прыгать, кувыркаться,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есни петь, дружить, смеяться,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Чтоб расти и развиваться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и при этом не болеть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DSC03269"/>
          <p:cNvPicPr/>
          <p:nvPr/>
        </p:nvPicPr>
        <p:blipFill>
          <a:blip r:embed="rId1"/>
          <a:stretch/>
        </p:blipFill>
        <p:spPr>
          <a:xfrm>
            <a:off x="684360" y="2781360"/>
            <a:ext cx="62658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от поэтому всегда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Для нашего здоровья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олноценная еда-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ажнейшее условие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Содержимое 3" descr="gn3KWhtF.png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561"/>
                </a:solidFill>
                <a:latin typeface="Arial"/>
              </a:rPr>
              <a:t>Правильное</a:t>
            </a:r>
            <a:br>
              <a:rPr sz="3200"/>
            </a:b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d0561"/>
                </a:solidFill>
                <a:latin typeface="Arial"/>
              </a:rPr>
              <a:t>и рациональное пита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6" descr="здоровые продукты"/>
          <p:cNvPicPr/>
          <p:nvPr/>
        </p:nvPicPr>
        <p:blipFill>
          <a:blip r:embed="rId1"/>
          <a:stretch/>
        </p:blipFill>
        <p:spPr>
          <a:xfrm>
            <a:off x="5348160" y="1843200"/>
            <a:ext cx="3795840" cy="2382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2290_lb_2"/>
          <p:cNvPicPr/>
          <p:nvPr/>
        </p:nvPicPr>
        <p:blipFill>
          <a:blip r:embed="rId2"/>
          <a:stretch/>
        </p:blipFill>
        <p:spPr>
          <a:xfrm>
            <a:off x="6781680" y="4495680"/>
            <a:ext cx="1854360" cy="220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ag009"/>
          <p:cNvPicPr/>
          <p:nvPr/>
        </p:nvPicPr>
        <p:blipFill>
          <a:blip r:embed="rId3"/>
          <a:stretch/>
        </p:blipFill>
        <p:spPr>
          <a:xfrm>
            <a:off x="457200" y="3048120"/>
            <a:ext cx="419112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9:37:17Z</dcterms:created>
  <dc:creator>Admin</dc:creator>
  <dc:description/>
  <dc:language>en-US</dc:language>
  <cp:lastModifiedBy>Айнагуль</cp:lastModifiedBy>
  <dcterms:modified xsi:type="dcterms:W3CDTF">2013-03-03T06:53:50Z</dcterms:modified>
  <cp:revision>5</cp:revision>
  <dc:subject/>
  <dc:title>Слайд 1</dc:title>
</cp:coreProperties>
</file>