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15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4.gif" ContentType="image/gif"/>
  <Override PartName="/ppt/media/image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428-6A97-45D8-8578-61FD6DC2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D94-1055-44C4-9CFB-6113B2E1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8EF-72A1-4052-9110-DE995459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A1A-6C3D-4C60-B93C-49686742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BF0E-8159-4D8A-A1DB-51CF93BE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7DC7-1386-4EF7-9A7D-D752EB93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0F43-3020-4692-84EB-D74FEB7B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C50A-2FA2-4B17-BA62-D2E3F8D5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C21D-AC60-4750-8EC0-347B0F05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87FC-2927-4E9A-B201-3D94FFBA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A1EF-4745-4FDE-82C8-A683735C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A1B-794A-4487-AF7A-6EA8FEF8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3711-92AE-4A22-BD2C-05DB4EE8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BBE0-6453-4E57-AFEB-85F6A735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FB3F-49B4-4833-BB3E-81DFF917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EE70-2531-4649-BF9E-308DB404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123A-C820-497C-9367-2468BE3F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48A6-A6E8-4C4D-B0C3-8C67B92C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C8B-3E1E-4955-AAEE-DAC50060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FB3-4FE3-4843-9809-08BEED39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990-7C27-4F80-AC6D-3A252ECD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ADE-85FA-48A4-A430-BFB38D27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1A1-A27F-4991-B166-664A3CC4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624A-2489-47FE-B604-F885E757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E816-20AE-45E9-B208-9F0BD5628C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5D2F-BD25-4EAE-97C0-73E702C85F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 Unicode MS"/>
              </a:rPr>
              <a:t>Зажигаем витаминно, чисто, ярко и спортив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8"/>
          <p:cNvSpPr txBox="1"/>
          <p:nvPr/>
        </p:nvSpPr>
        <p:spPr>
          <a:xfrm>
            <a:off x="-900000" y="33336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ассный час о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ом образе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и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истота- залог здоровья.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4" descr="Надо, надо умываться По утрам и вечерам,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53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C:\Users\user\Documents\здоровье\x_18179df1.jpg"/>
          <p:cNvPicPr/>
          <p:nvPr/>
        </p:nvPicPr>
        <p:blipFill>
          <a:blip r:embed="rId1"/>
          <a:stretch/>
        </p:blipFill>
        <p:spPr>
          <a:xfrm>
            <a:off x="250920" y="1268280"/>
            <a:ext cx="741672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0" y="28584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еловек рождается на свет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тоб творить, дерзать – и не иначе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тоб оставить в жизни добрый след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 решить все трудные задачи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еловек рождается на свет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ля чего? Ищите свой отв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:\Е.В.Роговец\Документы\школа\анимация\Дети, школа\f270704a64d27d4c6b654f58f188359a.gif"/>
          <p:cNvPicPr/>
          <p:nvPr/>
        </p:nvPicPr>
        <p:blipFill>
          <a:blip r:embed="rId1"/>
          <a:stretch/>
        </p:blipFill>
        <p:spPr>
          <a:xfrm>
            <a:off x="3214800" y="3500280"/>
            <a:ext cx="350820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ff6699"/>
                </a:solidFill>
                <a:latin typeface="Arial"/>
              </a:rPr>
              <a:t>ЖЕЛАЮ ЗДОРОВЬЯ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Picture 6" descr="014"/>
          <p:cNvPicPr/>
          <p:nvPr/>
        </p:nvPicPr>
        <p:blipFill>
          <a:blip r:embed="rId1"/>
          <a:stretch/>
        </p:blipFill>
        <p:spPr>
          <a:xfrm>
            <a:off x="2666880" y="1917720"/>
            <a:ext cx="3810240" cy="383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2f08"/>
                </a:solidFill>
                <a:latin typeface="Arial"/>
              </a:rPr>
              <a:t>Цель: </a:t>
            </a:r>
            <a:r>
              <a:rPr b="1" lang="ru-RU" sz="2500" spc="-1" strike="noStrike">
                <a:solidFill>
                  <a:srgbClr val="5e2f08"/>
                </a:solidFill>
                <a:latin typeface="Arial"/>
              </a:rPr>
              <a:t>развитие у детей чувства личной ответственности за своё здоровье; формирование культуры здорового образа жизни; воспитание негативного отношения к вредным привычкам</a:t>
            </a:r>
            <a:endParaRPr b="1" lang="en-US" sz="2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684684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и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8000"/>
                </a:solidFill>
                <a:latin typeface="Arial"/>
              </a:rPr>
              <a:t>Формировать сознание того, что здоровье зависит от них самих, чтобы его сберечь, надо правильно питаться, заниматься физкультурой, спортом, закаливанием своего организма; расширить знания детей о правилах гигиен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Содержимое 3" descr="zog.jpg"/>
          <p:cNvPicPr/>
          <p:nvPr/>
        </p:nvPicPr>
        <p:blipFill>
          <a:blip r:embed="rId1"/>
          <a:stretch/>
        </p:blipFill>
        <p:spPr>
          <a:xfrm>
            <a:off x="0" y="214200"/>
            <a:ext cx="9132840" cy="64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1d0561"/>
                </a:solidFill>
                <a:latin typeface="Georgia"/>
              </a:rPr>
              <a:t>   </a:t>
            </a:r>
            <a:r>
              <a:rPr b="1" lang="ru-RU" sz="3900" spc="-1" strike="noStrike">
                <a:solidFill>
                  <a:srgbClr val="1d0561"/>
                </a:solidFill>
                <a:latin typeface="Georgia"/>
              </a:rPr>
              <a:t>В здоровом теле –                здоровый дух 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DSC03257"/>
          <p:cNvPicPr/>
          <p:nvPr/>
        </p:nvPicPr>
        <p:blipFill>
          <a:blip r:embed="rId1"/>
          <a:stretch/>
        </p:blipFill>
        <p:spPr>
          <a:xfrm>
            <a:off x="539640" y="1700280"/>
            <a:ext cx="74170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ы любишь прыгать, бегать,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Играть с тугим мячом.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ы вырастешь здоровым, 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ы будешь силачом !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:\Users\user\Documents\здоровье\kross.jpg"/>
          <p:cNvPicPr/>
          <p:nvPr/>
        </p:nvPicPr>
        <p:blipFill>
          <a:blip r:embed="rId1"/>
          <a:stretch/>
        </p:blipFill>
        <p:spPr>
          <a:xfrm>
            <a:off x="826920" y="2924280"/>
            <a:ext cx="62661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285840" y="642960"/>
            <a:ext cx="421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С гимнастикой друж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Всегда веселым буд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И проживешь 100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А , может быть,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Микстуры, порошки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К здоровью ложный п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Природою лечис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В саду и чистом п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D:\Е.В.Роговец\Документы\школа\анимация\Дети, школа\20.gif"/>
          <p:cNvPicPr/>
          <p:nvPr/>
        </p:nvPicPr>
        <p:blipFill>
          <a:blip r:embed="rId1"/>
          <a:stretch/>
        </p:blipFill>
        <p:spPr>
          <a:xfrm>
            <a:off x="1285920" y="4352760"/>
            <a:ext cx="2000160" cy="2046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D:\Е.В.Роговец\Документы\школа\Площ.фото\фото\DSC07565.JPG"/>
          <p:cNvPicPr/>
          <p:nvPr/>
        </p:nvPicPr>
        <p:blipFill>
          <a:blip r:embed="rId2"/>
          <a:stretch/>
        </p:blipFill>
        <p:spPr>
          <a:xfrm>
            <a:off x="4429080" y="500040"/>
            <a:ext cx="4429080" cy="3241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D:\Е.В.Роговец\Документы\школа\Площ.фото\фото\DSC07562.JPG"/>
          <p:cNvPicPr/>
          <p:nvPr/>
        </p:nvPicPr>
        <p:blipFill>
          <a:blip r:embed="rId3"/>
          <a:stretch/>
        </p:blipFill>
        <p:spPr>
          <a:xfrm>
            <a:off x="3929040" y="3929040"/>
            <a:ext cx="396864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591156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Человеку нужно есть,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Чтобы встать и чтобы сесть,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Чтобы прыгать, кувыркаться,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есни петь, дружить, смеяться,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Чтоб расти и развиваться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и при этом не болеть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9" descr="DSC03269"/>
          <p:cNvPicPr/>
          <p:nvPr/>
        </p:nvPicPr>
        <p:blipFill>
          <a:blip r:embed="rId1"/>
          <a:stretch/>
        </p:blipFill>
        <p:spPr>
          <a:xfrm>
            <a:off x="684360" y="2781360"/>
            <a:ext cx="62658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8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от поэтому всегда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Для нашего здоровья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олноценная еда-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ажнейшее условие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Содержимое 3" descr="gn3KWhtF.png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561"/>
                </a:solidFill>
                <a:latin typeface="Arial"/>
              </a:rPr>
              <a:t>Правильное</a:t>
            </a:r>
            <a:br>
              <a:rPr sz="3200"/>
            </a:b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d0561"/>
                </a:solidFill>
                <a:latin typeface="Arial"/>
              </a:rPr>
              <a:t>и рациональное питани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Picture 6" descr="здоровые продукты"/>
          <p:cNvPicPr/>
          <p:nvPr/>
        </p:nvPicPr>
        <p:blipFill>
          <a:blip r:embed="rId1"/>
          <a:stretch/>
        </p:blipFill>
        <p:spPr>
          <a:xfrm>
            <a:off x="5348160" y="1843200"/>
            <a:ext cx="3795840" cy="2382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2290_lb_2"/>
          <p:cNvPicPr/>
          <p:nvPr/>
        </p:nvPicPr>
        <p:blipFill>
          <a:blip r:embed="rId2"/>
          <a:stretch/>
        </p:blipFill>
        <p:spPr>
          <a:xfrm>
            <a:off x="6781680" y="4495680"/>
            <a:ext cx="1854360" cy="220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ag009"/>
          <p:cNvPicPr/>
          <p:nvPr/>
        </p:nvPicPr>
        <p:blipFill>
          <a:blip r:embed="rId3"/>
          <a:stretch/>
        </p:blipFill>
        <p:spPr>
          <a:xfrm>
            <a:off x="457200" y="3048120"/>
            <a:ext cx="419112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9:37:17Z</dcterms:created>
  <dc:creator>Admin</dc:creator>
  <dc:description/>
  <dc:language>en-US</dc:language>
  <cp:lastModifiedBy>Айнагуль</cp:lastModifiedBy>
  <dcterms:modified xsi:type="dcterms:W3CDTF">2013-03-03T06:53:50Z</dcterms:modified>
  <cp:revision>5</cp:revision>
  <dc:subject/>
  <dc:title>Слайд 1</dc:title>
</cp:coreProperties>
</file>