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44E-A7A0-4258-87B6-97CC1260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2CF-4F0B-4DBC-BED9-B1465FE5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7E1-99A0-401E-B2EA-4EB0DD0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B7F-2B35-4649-9455-C3D2A72D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8D6-3E28-4676-9DBA-D66731D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F59-BFA2-411D-BC52-30294A3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623-39EE-41FB-B6E7-3C5BA4D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ADF-EAD4-4AFE-86C4-BEA6428F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606-3E9B-4139-8273-6E9BC1C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AA4-76D8-49BD-B399-56AF301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280-3108-4491-8765-E75145A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5C3-F4C2-4DB8-A735-BFA6A8F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4e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A86-F85C-4A8C-8726-5A1ED8B838C6}" type="slidenum">
              <a:rPr b="0" lang="ru-RU" sz="1400" spc="-1" strike="noStrike">
                <a:solidFill>
                  <a:srgbClr val="004e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61240" cy="22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Tahoma"/>
              </a:rPr>
              <a:t>«В грозную пору 1812 года» </a:t>
            </a:r>
            <a:endParaRPr b="0" lang="en-US" sz="4800" spc="-1" strike="noStrike">
              <a:solidFill>
                <a:srgbClr val="996633"/>
              </a:solidFill>
              <a:latin typeface="Tahoma"/>
            </a:endParaRPr>
          </a:p>
        </p:txBody>
      </p:sp>
      <p:pic>
        <p:nvPicPr>
          <p:cNvPr id="42" name="Picture 7" descr="tit1"/>
          <p:cNvPicPr/>
          <p:nvPr/>
        </p:nvPicPr>
        <p:blipFill>
          <a:blip r:embed="rId1"/>
          <a:stretch/>
        </p:blipFill>
        <p:spPr>
          <a:xfrm>
            <a:off x="2405160" y="1981080"/>
            <a:ext cx="433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Д.В.Давыд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А.Н.Сеслави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.И.Кутузов                                          В.Кожина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А.С.Фигнер                    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Уланы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Гусары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Казаки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ехотинцы                                                     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Даву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Ней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Мюрат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.И.Багратио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Наполео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осква                                                  Смоленск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алоярославец                                     Витебск                 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Тарутинский маневр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Лейпцигское сражение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ожар Москвы                                                  Бородино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Сражение у Смоленска                                            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Д.В.Давыд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Ф.П.Увар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А.А.Александр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.И.Багратио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Н.А.Тучк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V. Литературный конкурс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. … которого Россия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 свои годины роковыя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Радушно видит на коне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 кровавом зареве пожаров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 дыму и прахе боевом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Отваге, пламенных гусар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Живым примером и вождем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Хвала тебе, наш бодрый вождь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Герой под сединами!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Как юный ратник, вихрь, и дождь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И труд он делит с нами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О, сколь с израненным челом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ред строем он прекрасен!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И сколь он хладен пред врагом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И сколь врагу ужасен!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3. О вождь несчастливый!.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Суров был жребий твой: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Всё в жертву ты принес земле тебе чужой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Непроницаемый для взгляда черни дикой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В молчанье шел один ты с мыслию великой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И, в имени твоем звук чуждый невзлюбя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Своими криками преследуя тебя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Народ, таинственно спасаемый тобою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Ругался над твоей священной сединою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Основные этапы: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6407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Разминка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Работа над ошибками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Выберите лишнее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Литературный конкурс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История в датах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Назовите события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Соотнесите между собой события и дат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. Завершение работы Венского конгресса   А 4-6 августа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2. Бородинское сражение                                Б 2 сентябр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3. Военный совет в Филях                               В июнь 1815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4. Пожар Москвы                                             Г 26 августа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5. Вторжение Наполеона в Россию                Д 12 июн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6.Переправа через Березину                            Е 14-16 ноябр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7. Смоленское сражение                                  Ж 1 сентябр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-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2-г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3-ж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4-б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5-д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6-е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7-а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VII. Назовите события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. «Чья эта победа? На мой взгляд, ничья. Ни Наполеон, ни Кутузов не добились главных целей» - Б.С.Абалихин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Бородинское сражение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2. «Дома, хотя большею частью деревянные, поражают своей величиной и необычайной пышностью. Но все двери и окна закрыты, улицы пусты, везде молчание!» - Ц.Ложье.   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Оставление Москвы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3. «Неприятель ступил шаг на наш берег Немана, и единственным к соединению войск наших средством было отступление» - А.Н.Ермолов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Начало войны, вторжение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4. «Русские гибли, но не сдавались; на пространстве 1 м</a:t>
            </a:r>
            <a:r>
              <a:rPr b="0" lang="ru-RU" sz="3200" spc="-1" strike="noStrike" baseline="30000">
                <a:solidFill>
                  <a:srgbClr val="004e4c"/>
                </a:solidFill>
                <a:latin typeface="Tahoma"/>
              </a:rPr>
              <a:t>2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сё было бы покрыто мертвыми или ранеными» - Е.Лабом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Бородино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5. «Сражение это открыло нам две истины, обе очень печальные: первая – что силы русских не только не были истощены, но, напротив, они сражались с ожесточением. Вторая истина была та, что мы должны были отказаться на Калугу и Тулу, и этим мы теряли надежду на более спокойное отступление» - Лабом.</a:t>
            </a:r>
            <a:endParaRPr b="0" lang="en-US" sz="3000" spc="-1" strike="noStrike">
              <a:solidFill>
                <a:srgbClr val="004e4c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000" spc="-1" strike="noStrike">
                <a:solidFill>
                  <a:srgbClr val="004e4c"/>
                </a:solidFill>
                <a:latin typeface="Tahoma"/>
              </a:rPr>
              <a:t>Сражение под Малоярославцем</a:t>
            </a: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4e4c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6. «Дышать этим раскаленным воздухом было почти невозможно. Наши руки были опалены, потому что приходилось то защищать лицо от огня, то отбрасывать горящие головешки, ежеминутно падавшие на наши одежды» - Сегюр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Пожар Москвы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7. «Солдат роптал на беспрерывное отступление…; главнокомандующим был недоволен и в главную вину ставил ему, что он был не русский» - А.Ермолов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Отступление вначале вторжения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8. «В Москве радость по случаю его назначения доходила до опьянения: посреди улиц бросались друг другу в объятия, считая себя спасенными» - Сегюр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Назначение М.И.Кутузова главнокомандующим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. Самый быстрый род войск XVIII-XIX в.в., действовавший на конях, в основном холодным оружием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2. Род войск, основным вооружением которых являются орудия – пушка, гаубица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3. Армии крупных европейских государств в н. XIX в. были устроены примерно одинаково и состояли из трех родов войск: кавалерия, артиллерия. А как назывался третий род войск?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4. Лучшие воинские части из пехоты, артиллерии, кавалерии и т.д., состоявшие в основном из лучших солдат, богатых и знатных офицеров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5. Известный поэт-партизан н. XIX в., один из друзей А.С.Пушкина, впоследствии генерал – лейтенант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4c"/>
                </a:solidFill>
                <a:latin typeface="Tahoma"/>
              </a:rPr>
              <a:t>«Закончи фразу»: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Сегодняшний урок позволил мне….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 На уроке я работал ….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С урока я ухожу с ………..настроением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Начало войн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2 июня 1812 года – вторжение армии Наполеона в Россию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03" name="Picture 6" descr="v9_17"/>
          <p:cNvPicPr/>
          <p:nvPr/>
        </p:nvPicPr>
        <p:blipFill>
          <a:blip r:embed="rId1"/>
          <a:stretch/>
        </p:blipFill>
        <p:spPr>
          <a:xfrm>
            <a:off x="0" y="1700280"/>
            <a:ext cx="572436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Кутузов Михаил Илларионович</a:t>
            </a:r>
            <a:br>
              <a:rPr sz="3600"/>
            </a:b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(1745 – 1813)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Русский полководец и дипломат, генерал-фельдмаршал, светлейший князь Смоленский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8 августа 1812 года назначен главнокомандующим русской армией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06" name="Picture 7" descr="75521915"/>
          <p:cNvPicPr/>
          <p:nvPr/>
        </p:nvPicPr>
        <p:blipFill>
          <a:blip r:embed="rId1"/>
          <a:stretch/>
        </p:blipFill>
        <p:spPr>
          <a:xfrm>
            <a:off x="83520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Бородинское сражение </a:t>
            </a:r>
            <a:br>
              <a:rPr sz="4400"/>
            </a:br>
            <a:r>
              <a:rPr b="0" lang="ru-RU" sz="4000" spc="-1" strike="noStrike">
                <a:solidFill>
                  <a:srgbClr val="996633"/>
                </a:solidFill>
                <a:latin typeface="Tahoma"/>
              </a:rPr>
              <a:t>26 августа 1812 года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«Вам не видать таких сражений</a:t>
            </a:r>
            <a:r>
              <a:rPr b="0" lang="en-US" sz="2000" spc="-1" strike="noStrike">
                <a:solidFill>
                  <a:srgbClr val="004e4c"/>
                </a:solidFill>
                <a:latin typeface="Tahoma"/>
              </a:rPr>
              <a:t>!</a:t>
            </a: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Носились знамена как тени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В дыму огонь блестел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Звучал булат, картечь визжала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Рука бойцов колоть устала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И ядрам пролетать мешала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Гора кровавых тел…»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(М.Ю. Лермонтов)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«Самое страшное сражение я дал под Москвой…»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(Наполеон Бонапарт)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09" name="Picture 6" descr="ea3b8c655344"/>
          <p:cNvPicPr/>
          <p:nvPr/>
        </p:nvPicPr>
        <p:blipFill>
          <a:blip r:embed="rId1"/>
          <a:stretch/>
        </p:blipFill>
        <p:spPr>
          <a:xfrm>
            <a:off x="250920" y="1916280"/>
            <a:ext cx="42447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Совет в Филях</a:t>
            </a:r>
            <a:br>
              <a:rPr sz="4400"/>
            </a:br>
            <a:r>
              <a:rPr b="0" lang="ru-RU" sz="4000" spc="-1" strike="noStrike">
                <a:solidFill>
                  <a:srgbClr val="996633"/>
                </a:solidFill>
                <a:latin typeface="Tahoma"/>
              </a:rPr>
              <a:t>1 сентября 1812 года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«С потерей Москвы не потеряна ещё Россия…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…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Приказываю отступать</a:t>
            </a:r>
            <a:r>
              <a:rPr b="0" lang="en-US" sz="2800" spc="-1" strike="noStrike">
                <a:solidFill>
                  <a:srgbClr val="004e4c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(М.И. Кутузов)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12" name="Picture 6" descr="0KIVSHEnko_SovetVFilyah"/>
          <p:cNvPicPr/>
          <p:nvPr/>
        </p:nvPicPr>
        <p:blipFill>
          <a:blip r:embed="rId1"/>
          <a:stretch/>
        </p:blipFill>
        <p:spPr>
          <a:xfrm>
            <a:off x="179280" y="2205000"/>
            <a:ext cx="48974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Пожар Москв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8000" y="2205000"/>
            <a:ext cx="35384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ет, не пошла Москва моя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К нему с повинной головою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е праздник, не приемный дар,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Она готовила пожар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етерпеливому герою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(А.С. Пушкин)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15" name="Picture 6" descr="Fire_of_Moscow_1812"/>
          <p:cNvPicPr/>
          <p:nvPr/>
        </p:nvPicPr>
        <p:blipFill>
          <a:blip r:embed="rId1"/>
          <a:stretch/>
        </p:blipFill>
        <p:spPr>
          <a:xfrm>
            <a:off x="250920" y="2286000"/>
            <a:ext cx="48258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ahoma"/>
              </a:rPr>
              <a:t>Отступление и гибель армии Наполеона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11 октября 1812 года французы оставили Москву и начали отступать по смоленской дороге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979640" y="342900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Окончание войн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16 ноября остатки «Великой армии» переправились через р. Березина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аполеон бросил их и отправился в Париж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6 января 1813 г. – манифест Александра </a:t>
            </a:r>
            <a:r>
              <a:rPr b="0" lang="en-US" sz="2400" spc="-1" strike="noStrike">
                <a:solidFill>
                  <a:srgbClr val="004e4c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об окончании войны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21" name="Picture 7" descr="f49d808f72b9"/>
          <p:cNvPicPr/>
          <p:nvPr/>
        </p:nvPicPr>
        <p:blipFill>
          <a:blip r:embed="rId1"/>
          <a:stretch/>
        </p:blipFill>
        <p:spPr>
          <a:xfrm>
            <a:off x="1979640" y="3573360"/>
            <a:ext cx="53290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6. При переправе через эту реку французская армия была окончательно разбита русской армией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7. Русский генерал, водивший своих сыновей, одному из которых было 11 лет, в атаку против французов, чтобы поднять боевой дух своих солдат. 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8. Как известно, на первом этапе войны русская армия отступала и  должна была соединить свои разрозненные части именно в этом городе. 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9. Кому принадлежат эти слова: «С потерей Москвы не потеряна еще Россия, но когда уничтожена армия, погибнут Москва и Россия»?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0. Кто сказал следующие слова: «Я не начну войну, но не положу оружия, пока хоть один неприятельский солдат будет оставаться в России»?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1. Он принадлежал древнейшему грузинскому роду. Его прадедом был грузинский царь Вахтанг VI. Свою первую награду он получил в войне с Турцией при штурме Очакова. Сподвижник, любимец и лучший ученик А.В.Суворова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2. Перед смертью она завещала при отпевании называть себя Александром Андреевичем Александровым. Священник не решился нарушить церковных правил и во время панихиды именовал ее «рабой Божией Надеждой.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3. Штабс-капитан артиллерии, благодаря необычной смелости и знанию иностранных языков он, переодеваясь во французскую форму, неоднократно проникал в неприятельский лагерь, собирая важные для русских сведения. 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4. На штурм этого города Наполеон бросил корпуса генералов Нея, Даву и Мюрата. 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5. Земляное укрепление, похожее на маленькую крепость, со всех сторон окруженное валом.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. Работа над ошибками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e4c"/>
                </a:solidFill>
                <a:latin typeface="Tahoma"/>
              </a:rPr>
              <a:t>12 июня 1812г. «Великая армия» Наполеона (640 тысяч человек), переправившись через Днепр, вторглась в пределы России. Русская армия насчитывала 590 тысяч человек, но выставить оказалось возможным только немногим более 200 тысяч. Русские войска были разделены на три отдельные армии: одна под командованием М.Б. Барклая-де-Толли, другая – П.И.Багратиона, третья – М.И.Кутузова. французская армия продвигалась очень быстро, а российская армия вынуждена была отступать для  того, чтобы соединить разрозненные силы. Численное превосходство противника ставило вопрос о срочном пополнении войск. Однако принцип рекрутской комплектации армии давал медленные результаты. И Александр I решился на необычный шаг. 6 июля он издал манифест о введении в стране всеобщей воинской обязанности. Русские армии смогли соединиться только под Калугой в конце июля. Общее руководство взял на себя Барклай-де-Толли, занимавший в то время пост военного министра. Хороший стратег и мужественный воин, он был молчалив, замкнут. В армии его не любили. Начались его разногласия с генералами, прежде всего с Багратионом. Эти споры считают главной причиной того, что Калугу не сумели удержать. В этой ситуации Александр I решил назначить главнокомандующего М.И.Кутузова, который прибыл в ставку армии, расположенную в Цареве Займище, 17 сентября. И сразу же началась подготовка к генеральному сражению.</a:t>
            </a:r>
            <a:endParaRPr b="0" lang="en-US" sz="1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Ошибки: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1. р. Днепр - р. Неман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2. М.И.Кутузов – А.П.Тормасов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3. О введении всеобщей воинской обязанности - с призывом собирать народное ополчение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4. Соединиться под Калугой – под Смоленском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5. М.И.Кутузов прибыл в ставку 17 сентября – 17 августа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.Б.Барклай -де-Толли        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  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.И.Багратион                                      М.И.Кутузов                                         А.П.Тормасов                                        Н.Н.Раевский                                                               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                                          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                   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16:12Z</dcterms:created>
  <dc:creator>Admin</dc:creator>
  <dc:description/>
  <dc:language>en-US</dc:language>
  <cp:lastModifiedBy>Шишковская ИН</cp:lastModifiedBy>
  <dcterms:modified xsi:type="dcterms:W3CDTF">2012-10-29T13:53:55Z</dcterms:modified>
  <cp:revision>64</cp:revision>
  <dc:subject/>
  <dc:title>Отечественная война 1812 года</dc:title>
</cp:coreProperties>
</file>