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7011-8A32-48DC-9B56-2BBC5727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317E-3681-4BF7-8C3A-23A1238A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A2CF-23F0-485A-A3A8-AC678D2B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307-B53B-4D91-91E9-D6AD7E7B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2543-619A-4103-BAFE-5A31697E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6CB2-CA2A-44CB-A5DE-480F1759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266A-6660-449A-9C67-027C47F9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160C-E627-4D48-97B0-69A3EAB1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32C0-E47B-43B2-832F-265B0A86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8788-A4C2-4167-8EB2-91C53EFF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68A6-861C-4985-9B6D-5603C42E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54BF-FD20-40F7-97CE-056CA9AF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4e4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4e4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4e4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6704-2535-4399-8B37-38F9381ED3CD}" type="slidenum">
              <a:rPr b="0" lang="ru-RU" sz="1400" spc="-1" strike="noStrike">
                <a:solidFill>
                  <a:srgbClr val="004e4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661240" cy="22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6633"/>
                </a:solidFill>
                <a:latin typeface="Tahoma"/>
              </a:rPr>
              <a:t>«В грозную пору 1812 года» </a:t>
            </a:r>
            <a:endParaRPr b="0" lang="en-US" sz="4800" spc="-1" strike="noStrike">
              <a:solidFill>
                <a:srgbClr val="996633"/>
              </a:solidFill>
              <a:latin typeface="Tahoma"/>
            </a:endParaRPr>
          </a:p>
        </p:txBody>
      </p:sp>
      <p:pic>
        <p:nvPicPr>
          <p:cNvPr id="42" name="Picture 7" descr="tit1"/>
          <p:cNvPicPr/>
          <p:nvPr/>
        </p:nvPicPr>
        <p:blipFill>
          <a:blip r:embed="rId1"/>
          <a:stretch/>
        </p:blipFill>
        <p:spPr>
          <a:xfrm>
            <a:off x="2405160" y="1981080"/>
            <a:ext cx="433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ahoma"/>
              </a:rPr>
              <a:t>III. Выберите лишнее: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Д.В.Давыдов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А.Н.Сеславин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М.И.Кутузов                                          В.Кожина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А.С.Фигнер                                       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ahoma"/>
              </a:rPr>
              <a:t>III. Выберите лишнее: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Уланы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Гусары  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Казаки   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Пехотинцы                                                               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ahoma"/>
              </a:rPr>
              <a:t>III. Выберите лишнее: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- Даву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- Ней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- Мюрат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П.И.Багратион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Наполеон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ahoma"/>
              </a:rPr>
              <a:t>III. Выберите лишнее: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Москва                                                  Смоленск   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Малоярославец                                     Витебск                  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ahoma"/>
              </a:rPr>
              <a:t>III. Выберите лишнее: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Тарутинский маневр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Лейпцигское сражение   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Пожар Москвы                                                  Бородино   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  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Сражение у Смоленска                                                       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ahoma"/>
              </a:rPr>
              <a:t>III. Выберите лишнее: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Д.В.Давыдов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Ф.П.Уваров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А.А.Александров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П.И.Багратион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Н.А.Тучков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76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ahoma"/>
              </a:rPr>
              <a:t>IV. Литературный конкурс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785880"/>
            <a:ext cx="82296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1. … которого Россия,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В свои годины роковыя,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Радушно видит на коне,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В кровавом зареве пожаров,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В дыму и прахе боевом,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Отваге, пламенных гусаров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Живым примером и вождем.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Хвала тебе, наш бодрый вождь,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Герой под сединами!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Как юный ратник, вихрь, и дождь,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И труд он делит с нами.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О, сколь с израненным челом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Пред строем он прекрасен!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И сколь он хладен пред врагом,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И сколь врагу ужасен!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85716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3. О вождь несчастливый!..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Суров был жребий твой: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Всё в жертву ты принес земле тебе чужой,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Непроницаемый для взгляда черни дикой,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В молчанье шел один ты с мыслию великой,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И, в имени твоем звук чуждый невзлюбя,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Своими криками преследуя тебя,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Народ, таинственно спасаемый тобою,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Ругался над твоей священной сединою.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ahoma"/>
              </a:rPr>
              <a:t>Основные этапы: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428840"/>
            <a:ext cx="86407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4e4c"/>
                </a:solidFill>
                <a:latin typeface="Tahoma"/>
              </a:rPr>
              <a:t>«Разминка»</a:t>
            </a:r>
            <a:endParaRPr b="0" lang="en-US" sz="36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4e4c"/>
                </a:solidFill>
                <a:latin typeface="Tahoma"/>
              </a:rPr>
              <a:t>«Работа над ошибками»</a:t>
            </a:r>
            <a:endParaRPr b="0" lang="en-US" sz="36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4e4c"/>
                </a:solidFill>
                <a:latin typeface="Tahoma"/>
              </a:rPr>
              <a:t>«Выберите лишнее»</a:t>
            </a:r>
            <a:endParaRPr b="0" lang="en-US" sz="36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4e4c"/>
                </a:solidFill>
                <a:latin typeface="Tahoma"/>
              </a:rPr>
              <a:t>«Литературный конкурс»</a:t>
            </a:r>
            <a:endParaRPr b="0" lang="en-US" sz="36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4e4c"/>
                </a:solidFill>
                <a:latin typeface="Tahoma"/>
              </a:rPr>
              <a:t>«История в датах»</a:t>
            </a:r>
            <a:endParaRPr b="0" lang="en-US" sz="36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4e4c"/>
                </a:solidFill>
                <a:latin typeface="Tahoma"/>
              </a:rPr>
              <a:t>«Назовите события»</a:t>
            </a:r>
            <a:endParaRPr b="0" lang="en-US" sz="3600" spc="-1" strike="noStrike">
              <a:solidFill>
                <a:srgbClr val="004e4c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4e4c"/>
                </a:solidFill>
                <a:latin typeface="Tahoma"/>
              </a:rPr>
              <a:t> </a:t>
            </a:r>
            <a:endParaRPr b="0" lang="en-US" sz="3600" spc="-1" strike="noStrike">
              <a:solidFill>
                <a:srgbClr val="004e4c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ahoma"/>
              </a:rPr>
              <a:t>Соотнесите между собой события и даты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1. Завершение работы Венского конгресса   А 4-6 августа 1812г.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2. Бородинское сражение                                Б 2 сентября 1812г.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3. Военный совет в Филях                               В июнь 1815г.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4. Пожар Москвы                                             Г 26 августа 1812г.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5. Вторжение Наполеона в Россию                Д 12 июня 1812г.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6.Переправа через Березину                            Е 14-16 ноября 1812г.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7. Смоленское сражение                                  Ж 1 сентября 1812г.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1-в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2-г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3-ж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4-б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5-д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6-е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7-а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ahoma"/>
              </a:rPr>
              <a:t>VII. Назовите события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1. «Чья эта победа? На мой взгляд, ничья. Ни Наполеон, ни Кутузов не добились главных целей» - Б.С.Абалихин. 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(</a:t>
            </a:r>
            <a:r>
              <a:rPr b="0" i="1" lang="ru-RU" sz="3200" spc="-1" strike="noStrike">
                <a:solidFill>
                  <a:srgbClr val="004e4c"/>
                </a:solidFill>
                <a:latin typeface="Tahoma"/>
              </a:rPr>
              <a:t>Бородинское сражение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2. «Дома, хотя большею частью деревянные, поражают своей величиной и необычайной пышностью. Но все двери и окна закрыты, улицы пусты, везде молчание!» - Ц.Ложье.    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(</a:t>
            </a:r>
            <a:r>
              <a:rPr b="0" i="1" lang="ru-RU" sz="3200" spc="-1" strike="noStrike">
                <a:solidFill>
                  <a:srgbClr val="004e4c"/>
                </a:solidFill>
                <a:latin typeface="Tahoma"/>
              </a:rPr>
              <a:t>Оставление Москвы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3. «Неприятель ступил шаг на наш берег Немана, и единственным к соединению войск наших средством было отступление» - А.Н.Ермолов.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(</a:t>
            </a:r>
            <a:r>
              <a:rPr b="0" i="1" lang="ru-RU" sz="3200" spc="-1" strike="noStrike">
                <a:solidFill>
                  <a:srgbClr val="004e4c"/>
                </a:solidFill>
                <a:latin typeface="Tahoma"/>
              </a:rPr>
              <a:t>Начало войны, вторжение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4. «Русские гибли, но не сдавались; на пространстве 1 м</a:t>
            </a:r>
            <a:r>
              <a:rPr b="0" lang="ru-RU" sz="3200" spc="-1" strike="noStrike" baseline="30000">
                <a:solidFill>
                  <a:srgbClr val="004e4c"/>
                </a:solidFill>
                <a:latin typeface="Tahoma"/>
              </a:rPr>
              <a:t>2 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всё было бы покрыто мертвыми или ранеными» - Е.Лабом. 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(</a:t>
            </a:r>
            <a:r>
              <a:rPr b="0" i="1" lang="ru-RU" sz="3200" spc="-1" strike="noStrike">
                <a:solidFill>
                  <a:srgbClr val="004e4c"/>
                </a:solidFill>
                <a:latin typeface="Tahoma"/>
              </a:rPr>
              <a:t>Бородино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4e4c"/>
                </a:solidFill>
                <a:latin typeface="Tahoma"/>
              </a:rPr>
              <a:t>5. «Сражение это открыло нам две истины, обе очень печальные: первая – что силы русских не только не были истощены, но, напротив, они сражались с ожесточением. Вторая истина была та, что мы должны были отказаться на Калугу и Тулу, и этим мы теряли надежду на более спокойное отступление» - Лабом.</a:t>
            </a:r>
            <a:endParaRPr b="0" lang="en-US" sz="3000" spc="-1" strike="noStrike">
              <a:solidFill>
                <a:srgbClr val="004e4c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4e4c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4e4c"/>
                </a:solidFill>
                <a:latin typeface="Tahoma"/>
              </a:rPr>
              <a:t>(</a:t>
            </a:r>
            <a:r>
              <a:rPr b="0" i="1" lang="ru-RU" sz="3000" spc="-1" strike="noStrike">
                <a:solidFill>
                  <a:srgbClr val="004e4c"/>
                </a:solidFill>
                <a:latin typeface="Tahoma"/>
              </a:rPr>
              <a:t>Сражение под Малоярославцем</a:t>
            </a:r>
            <a:r>
              <a:rPr b="0" lang="ru-RU" sz="3000" spc="-1" strike="noStrike">
                <a:solidFill>
                  <a:srgbClr val="004e4c"/>
                </a:solidFill>
                <a:latin typeface="Tahoma"/>
              </a:rPr>
              <a:t>)</a:t>
            </a:r>
            <a:endParaRPr b="0" lang="en-US" sz="3000" spc="-1" strike="noStrike">
              <a:solidFill>
                <a:srgbClr val="004e4c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6. «Дышать этим раскаленным воздухом было почти невозможно. Наши руки были опалены, потому что приходилось то защищать лицо от огня, то отбрасывать горящие головешки, ежеминутно падавшие на наши одежды» - Сегюр. 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(</a:t>
            </a:r>
            <a:r>
              <a:rPr b="0" i="1" lang="ru-RU" sz="3200" spc="-1" strike="noStrike">
                <a:solidFill>
                  <a:srgbClr val="004e4c"/>
                </a:solidFill>
                <a:latin typeface="Tahoma"/>
              </a:rPr>
              <a:t>Пожар Москвы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7. «Солдат роптал на беспрерывное отступление…; главнокомандующим был недоволен и в главную вину ставил ему, что он был не русский» - А.Ермолов. 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(</a:t>
            </a:r>
            <a:r>
              <a:rPr b="0" i="1" lang="ru-RU" sz="3200" spc="-1" strike="noStrike">
                <a:solidFill>
                  <a:srgbClr val="004e4c"/>
                </a:solidFill>
                <a:latin typeface="Tahoma"/>
              </a:rPr>
              <a:t>Отступление вначале вторжения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8. «В Москве радость по случаю его назначения доходила до опьянения: посреди улиц бросались друг другу в объятия, считая себя спасенными» - Сегюр. 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(</a:t>
            </a:r>
            <a:r>
              <a:rPr b="0" i="1" lang="ru-RU" sz="3200" spc="-1" strike="noStrike">
                <a:solidFill>
                  <a:srgbClr val="004e4c"/>
                </a:solidFill>
                <a:latin typeface="Tahoma"/>
              </a:rPr>
              <a:t>Назначение М.И.Кутузова главнокомандующим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ahoma"/>
              </a:rPr>
              <a:t>I. Разминка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1. Самый быстрый род войск XVIII-XIX в.в., действовавший на конях, в основном холодным оружием.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2. Род войск, основным вооружением которых являются орудия – пушка, гаубица. 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3. Армии крупных европейских государств в н. XIX в. были устроены примерно одинаково и состояли из трех родов войск: кавалерия, артиллерия. А как назывался третий род войск? 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4. Лучшие воинские части из пехоты, артиллерии, кавалерии и т.д., состоявшие в основном из лучших солдат, богатых и знатных офицеров. 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5. Известный поэт-партизан н. XIX в., один из друзей А.С.Пушкина, впоследствии генерал – лейтенант. 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4e4c"/>
                </a:solidFill>
                <a:latin typeface="Tahoma"/>
              </a:rPr>
              <a:t>«Закончи фразу»: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- Сегодняшний урок позволил мне…..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-  На уроке я работал …..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- С урока я ухожу с ………..настроением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ahoma"/>
              </a:rPr>
              <a:t>Начало войны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24000" y="1981080"/>
            <a:ext cx="296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12 июня 1812 года – вторжение армии Наполеона в Россию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pic>
        <p:nvPicPr>
          <p:cNvPr id="103" name="Picture 6" descr="v9_17"/>
          <p:cNvPicPr/>
          <p:nvPr/>
        </p:nvPicPr>
        <p:blipFill>
          <a:blip r:embed="rId1"/>
          <a:stretch/>
        </p:blipFill>
        <p:spPr>
          <a:xfrm>
            <a:off x="0" y="1700280"/>
            <a:ext cx="5724360" cy="50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Tahoma"/>
              </a:rPr>
              <a:t>Кутузов Михаил Илларионович</a:t>
            </a:r>
            <a:br>
              <a:rPr sz="3600"/>
            </a:br>
            <a:r>
              <a:rPr b="0" lang="ru-RU" sz="3600" spc="-1" strike="noStrike">
                <a:solidFill>
                  <a:srgbClr val="996633"/>
                </a:solidFill>
                <a:latin typeface="Tahoma"/>
              </a:rPr>
              <a:t>(1745 – 1813)</a:t>
            </a: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Русский полководец и дипломат, генерал-фельдмаршал, светлейший князь Смоленский.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8 августа 1812 года назначен главнокомандующим русской армией.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</p:txBody>
      </p:sp>
      <p:pic>
        <p:nvPicPr>
          <p:cNvPr id="106" name="Picture 7" descr="75521915"/>
          <p:cNvPicPr/>
          <p:nvPr/>
        </p:nvPicPr>
        <p:blipFill>
          <a:blip r:embed="rId1"/>
          <a:stretch/>
        </p:blipFill>
        <p:spPr>
          <a:xfrm>
            <a:off x="835200" y="1981080"/>
            <a:ext cx="32828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ahoma"/>
              </a:rPr>
              <a:t>Бородинское сражение </a:t>
            </a:r>
            <a:br>
              <a:rPr sz="4400"/>
            </a:br>
            <a:r>
              <a:rPr b="0" lang="ru-RU" sz="4000" spc="-1" strike="noStrike">
                <a:solidFill>
                  <a:srgbClr val="996633"/>
                </a:solidFill>
                <a:latin typeface="Tahoma"/>
              </a:rPr>
              <a:t>26 августа 1812 года</a:t>
            </a: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«Вам не видать таких сражений</a:t>
            </a:r>
            <a:r>
              <a:rPr b="0" lang="en-US" sz="2000" spc="-1" strike="noStrike">
                <a:solidFill>
                  <a:srgbClr val="004e4c"/>
                </a:solidFill>
                <a:latin typeface="Tahoma"/>
              </a:rPr>
              <a:t>!</a:t>
            </a: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Носились знамена как тени,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В дыму огонь блестел,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Звучал булат, картечь визжала,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Рука бойцов колоть устала,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И ядрам пролетать мешала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Гора кровавых тел…»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               </a:t>
            </a: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(М.Ю. Лермонтов)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«Самое страшное сражение я дал под Москвой…»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             </a:t>
            </a: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(Наполеон Бонапарт)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</p:txBody>
      </p:sp>
      <p:pic>
        <p:nvPicPr>
          <p:cNvPr id="109" name="Picture 6" descr="ea3b8c655344"/>
          <p:cNvPicPr/>
          <p:nvPr/>
        </p:nvPicPr>
        <p:blipFill>
          <a:blip r:embed="rId1"/>
          <a:stretch/>
        </p:blipFill>
        <p:spPr>
          <a:xfrm>
            <a:off x="250920" y="1916280"/>
            <a:ext cx="424476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ahoma"/>
              </a:rPr>
              <a:t>Совет в Филях</a:t>
            </a:r>
            <a:br>
              <a:rPr sz="4400"/>
            </a:br>
            <a:r>
              <a:rPr b="0" lang="ru-RU" sz="4000" spc="-1" strike="noStrike">
                <a:solidFill>
                  <a:srgbClr val="996633"/>
                </a:solidFill>
                <a:latin typeface="Tahoma"/>
              </a:rPr>
              <a:t>1 сентября 1812 года</a:t>
            </a: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48000" y="1981080"/>
            <a:ext cx="353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«С потерей Москвы не потеряна ещё Россия…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…</a:t>
            </a: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Приказываю отступать</a:t>
            </a:r>
            <a:r>
              <a:rPr b="0" lang="en-US" sz="2800" spc="-1" strike="noStrike">
                <a:solidFill>
                  <a:srgbClr val="004e4c"/>
                </a:solidFill>
                <a:latin typeface="Tahoma"/>
              </a:rPr>
              <a:t>!</a:t>
            </a: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»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(М.И. Кутузов)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</p:txBody>
      </p:sp>
      <p:pic>
        <p:nvPicPr>
          <p:cNvPr id="112" name="Picture 6" descr="0KIVSHEnko_SovetVFilyah"/>
          <p:cNvPicPr/>
          <p:nvPr/>
        </p:nvPicPr>
        <p:blipFill>
          <a:blip r:embed="rId1"/>
          <a:stretch/>
        </p:blipFill>
        <p:spPr>
          <a:xfrm>
            <a:off x="179280" y="2205000"/>
            <a:ext cx="489744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ahoma"/>
              </a:rPr>
              <a:t>Пожар Москвы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8000" y="2205000"/>
            <a:ext cx="353844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4c"/>
                </a:solidFill>
                <a:latin typeface="Tahoma"/>
              </a:rPr>
              <a:t>Нет, не пошла Москва моя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4c"/>
                </a:solidFill>
                <a:latin typeface="Tahoma"/>
              </a:rPr>
              <a:t>К нему с повинной головою.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4c"/>
                </a:solidFill>
                <a:latin typeface="Tahoma"/>
              </a:rPr>
              <a:t>Не праздник, не приемный дар,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4c"/>
                </a:solidFill>
                <a:latin typeface="Tahoma"/>
              </a:rPr>
              <a:t>Она готовила пожар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4c"/>
                </a:solidFill>
                <a:latin typeface="Tahoma"/>
              </a:rPr>
              <a:t>Нетерпеливому герою.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4c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004e4c"/>
                </a:solidFill>
                <a:latin typeface="Tahoma"/>
              </a:rPr>
              <a:t>(А.С. Пушкин)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</p:txBody>
      </p:sp>
      <p:pic>
        <p:nvPicPr>
          <p:cNvPr id="115" name="Picture 6" descr="Fire_of_Moscow_1812"/>
          <p:cNvPicPr/>
          <p:nvPr/>
        </p:nvPicPr>
        <p:blipFill>
          <a:blip r:embed="rId1"/>
          <a:stretch/>
        </p:blipFill>
        <p:spPr>
          <a:xfrm>
            <a:off x="250920" y="2286000"/>
            <a:ext cx="4825800" cy="34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33"/>
                </a:solidFill>
                <a:latin typeface="Tahoma"/>
              </a:rPr>
              <a:t>Отступление и гибель армии Наполеона</a:t>
            </a: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3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11 октября 1812 года французы оставили Москву и начали отступать по смоленской дороге.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</p:txBody>
      </p:sp>
      <p:pic>
        <p:nvPicPr>
          <p:cNvPr id="118" name="Picture 6" descr="1"/>
          <p:cNvPicPr/>
          <p:nvPr/>
        </p:nvPicPr>
        <p:blipFill>
          <a:blip r:embed="rId1"/>
          <a:stretch/>
        </p:blipFill>
        <p:spPr>
          <a:xfrm>
            <a:off x="1979640" y="3429000"/>
            <a:ext cx="51134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ahoma"/>
              </a:rPr>
              <a:t>Окончание войны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4c"/>
                </a:solidFill>
                <a:latin typeface="Tahoma"/>
              </a:rPr>
              <a:t>16 ноября остатки «Великой армии» переправились через р. Березина.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4c"/>
                </a:solidFill>
                <a:latin typeface="Tahoma"/>
              </a:rPr>
              <a:t>Наполеон бросил их и отправился в Париж.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4c"/>
                </a:solidFill>
                <a:latin typeface="Tahoma"/>
              </a:rPr>
              <a:t>6 января 1813 г. – манифест Александра </a:t>
            </a:r>
            <a:r>
              <a:rPr b="0" lang="en-US" sz="2400" spc="-1" strike="noStrike">
                <a:solidFill>
                  <a:srgbClr val="004e4c"/>
                </a:solidFill>
                <a:latin typeface="Tahoma"/>
              </a:rPr>
              <a:t>I </a:t>
            </a:r>
            <a:r>
              <a:rPr b="0" lang="ru-RU" sz="2400" spc="-1" strike="noStrike">
                <a:solidFill>
                  <a:srgbClr val="004e4c"/>
                </a:solidFill>
                <a:latin typeface="Tahoma"/>
              </a:rPr>
              <a:t>об окончании войны.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</p:txBody>
      </p:sp>
      <p:pic>
        <p:nvPicPr>
          <p:cNvPr id="121" name="Picture 7" descr="f49d808f72b9"/>
          <p:cNvPicPr/>
          <p:nvPr/>
        </p:nvPicPr>
        <p:blipFill>
          <a:blip r:embed="rId1"/>
          <a:stretch/>
        </p:blipFill>
        <p:spPr>
          <a:xfrm>
            <a:off x="1979640" y="3573360"/>
            <a:ext cx="532908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ahoma"/>
              </a:rPr>
              <a:t>I. Разминка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42680"/>
            <a:ext cx="82296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4e4c"/>
                </a:solidFill>
                <a:latin typeface="Tahoma"/>
              </a:rPr>
              <a:t>6. При переправе через эту реку французская армия была окончательно разбита русской армией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4c"/>
                </a:solidFill>
                <a:latin typeface="Tahoma"/>
              </a:rPr>
              <a:t>7. Русский генерал, водивший своих сыновей, одному из которых было 11 лет, в атаку против французов, чтобы поднять боевой дух своих солдат. 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4c"/>
                </a:solidFill>
                <a:latin typeface="Tahoma"/>
              </a:rPr>
              <a:t>8. Как известно, на первом этапе войны русская армия отступала и  должна была соединить свои разрозненные части именно в этом городе. 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ahoma"/>
              </a:rPr>
              <a:t>I. Разминка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9. Кому принадлежат эти слова: «С потерей Москвы не потеряна еще Россия, но когда уничтожена армия, погибнут Москва и Россия»? 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10. Кто сказал следующие слова: «Я не начну войну, но не положу оружия, пока хоть один неприятельский солдат будет оставаться в России»? 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4c"/>
                </a:solidFill>
                <a:latin typeface="Tahoma"/>
              </a:rPr>
              <a:t>11. Он принадлежал древнейшему грузинскому роду. Его прадедом был грузинский царь Вахтанг VI. Свою первую награду он получил в войне с Турцией при штурме Очакова. Сподвижник, любимец и лучший ученик А.В.Суворова. </a:t>
            </a:r>
            <a:endParaRPr b="0" lang="en-US" sz="20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ahoma"/>
              </a:rPr>
              <a:t>I. Разминка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12. Перед смертью она завещала при отпевании называть себя Александром Андреевичем Александровым. Священник не решился нарушить церковных правил и во время панихиды именовал ее «рабой Божией Надеждой.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13. Штабс-капитан артиллерии, благодаря необычной смелости и знанию иностранных языков он, переодеваясь во французскую форму, неоднократно проникал в неприятельский лагерь, собирая важные для русских сведения. 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14. На штурм этого города Наполеон бросил корпуса генералов Нея, Даву и Мюрата. 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15. Земляное укрепление, похожее на маленькую крепость, со всех сторон окруженное валом.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ahoma"/>
              </a:rPr>
              <a:t>II. Работа над ошибками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4e4c"/>
                </a:solidFill>
                <a:latin typeface="Tahoma"/>
              </a:rPr>
              <a:t>12 июня 1812г. «Великая армия» Наполеона (640 тысяч человек), переправившись через Днепр, вторглась в пределы России. Русская армия насчитывала 590 тысяч человек, но выставить оказалось возможным только немногим более 200 тысяч. Русские войска были разделены на три отдельные армии: одна под командованием М.Б. Барклая-де-Толли, другая – П.И.Багратиона, третья – М.И.Кутузова. французская армия продвигалась очень быстро, а российская армия вынуждена была отступать для  того, чтобы соединить разрозненные силы. Численное превосходство противника ставило вопрос о срочном пополнении войск. Однако принцип рекрутской комплектации армии давал медленные результаты. И Александр I решился на необычный шаг. 6 июля он издал манифест о введении в стране всеобщей воинской обязанности. Русские армии смогли соединиться только под Калугой в конце июля. Общее руководство взял на себя Барклай-де-Толли, занимавший в то время пост военного министра. Хороший стратег и мужественный воин, он был молчалив, замкнут. В армии его не любили. Начались его разногласия с генералами, прежде всего с Багратионом. Эти споры считают главной причиной того, что Калугу не сумели удержать. В этой ситуации Александр I решил назначить главнокомандующего М.И.Кутузова, который прибыл в ставку армии, расположенную в Цареве Займище, 17 сентября. И сразу же началась подготовка к генеральному сражению.</a:t>
            </a:r>
            <a:endParaRPr b="0" lang="en-US" sz="14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ahoma"/>
              </a:rPr>
              <a:t>Ошибки: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1. р. Днепр - р. Неман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2. М.И.Кутузов – А.П.Тормасов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3. О введении всеобщей воинской обязанности - с призывом собирать народное ополчение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4. Соединиться под Калугой – под Смоленском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ahoma"/>
              </a:rPr>
              <a:t>5. М.И.Кутузов прибыл в ставку 17 сентября – 17 августа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ahoma"/>
              </a:rPr>
              <a:t>III. Выберите лишнее: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М.Б.Барклай -де-Толли                           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    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П.И.Багратион                                      М.И.Кутузов                                         А.П.Тормасов                                        Н.Н.Раевский                                                                                  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                                            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-                                       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16:12Z</dcterms:created>
  <dc:creator>Admin</dc:creator>
  <dc:description/>
  <dc:language>en-US</dc:language>
  <cp:lastModifiedBy>Шишковская ИН</cp:lastModifiedBy>
  <dcterms:modified xsi:type="dcterms:W3CDTF">2012-10-29T13:53:55Z</dcterms:modified>
  <cp:revision>64</cp:revision>
  <dc:subject/>
  <dc:title>Отечественная война 1812 года</dc:title>
</cp:coreProperties>
</file>