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D86-4221-4731-8B72-A68AA011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637-51DB-4FD5-A3FC-F6842DF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26E-0F83-4AF6-B8A6-96A82949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A73-8398-4ED3-B93F-B6360D59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541B-53F8-488C-9586-04B09C2D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E58-07EA-42A5-B387-44E3044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991-44CA-4B21-B163-3C583347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BA14-3019-4441-AFDF-582CE68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0B31-E590-4263-8D1C-E7798C0E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D1EE-8024-46F4-9BB9-EA965290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A16-2A4B-4FE4-B5AF-96C3FB6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5D4-4DF3-4965-85FF-35B13B0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05B-7DE3-436F-9CCD-6085307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F27-BD62-49F7-93D2-CF82B98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258A-1342-4AC7-8707-1133F3FC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AAF-8599-4B99-BB28-1EEAA4EB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E98-56BD-4310-BEB7-13EF751E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78F-AF06-4785-A1A0-9B7DBEB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DFF-0A55-451A-B77E-15A72D9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515-AA19-454C-B1D0-2E605B2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580-5F59-4903-B090-75AABFE1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55B-166C-4911-A477-E969A861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D0F-A307-44E9-9B79-A08C5F6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D71-D272-4AAE-9AD4-07C1B5E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3C9-F5E2-41F5-8D9A-1B57DD3A4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76C-7625-4286-A173-8A3C893C6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6876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по теме «Умножение  дроб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920880" y="1633680"/>
            <a:ext cx="7253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36360" y="-176040"/>
            <a:ext cx="9339120" cy="179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16000" y="1768320"/>
            <a:ext cx="3048120" cy="24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4164120" y="2997360"/>
            <a:ext cx="42973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11280" y="831600"/>
            <a:ext cx="8353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1.  Очень плохая оценка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2.  Сколько козлят было у многодетной коз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3.  Наименьшее составное чис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4.  Знак для записи чис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5.  Сотая часть чис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6.  Геометрическая фигура в любовных дел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7.  Объем килограмма 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8.  Количество музыкантов в кварт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987480" y="-208080"/>
            <a:ext cx="7145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51280" y="831600"/>
            <a:ext cx="4578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Желаю вам цвести, расти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Копить, крепить здоровь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Оно для дальнего пути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Главнейшее услов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Пусть каждый день и каждый ча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Вам новое добуд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Пусть острым будет ум у вас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А сердце добрым буд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Вам от души желаю я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Друзья, всего хороше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А все хорошее, друзья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66"/>
                </a:solidFill>
                <a:latin typeface="Calibri"/>
              </a:rPr>
              <a:t>Дается нам недеше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Прямоугольник 3" descr=""/>
          <p:cNvPicPr/>
          <p:nvPr/>
        </p:nvPicPr>
        <p:blipFill>
          <a:blip r:embed="rId1"/>
          <a:stretch/>
        </p:blipFill>
        <p:spPr>
          <a:xfrm>
            <a:off x="1944720" y="-304920"/>
            <a:ext cx="4475160" cy="11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070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000" y="1341360"/>
            <a:ext cx="77454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Подобрать и оформить занимательные задач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по тем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Calibri"/>
              </a:rPr>
              <a:t>«Умножение дробе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3" descr=""/>
          <p:cNvPicPr/>
          <p:nvPr/>
        </p:nvPicPr>
        <p:blipFill>
          <a:blip r:embed="rId1"/>
          <a:stretch/>
        </p:blipFill>
        <p:spPr>
          <a:xfrm>
            <a:off x="1017720" y="-85680"/>
            <a:ext cx="6962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000" y="831960"/>
            <a:ext cx="8135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2236680" y="-291960"/>
            <a:ext cx="4243320" cy="11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233960" y="1268280"/>
            <a:ext cx="37321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пособствовать выявлению знаний и умений у обучающихся в нестандартных ситуациях и поддержанию атмосферы соревн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формировать познавательный интерес к предмету математике к здоровому образу жизни через игровую форм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спитывать умение управлять своим поведением, подчиняться требованиям коллекти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2955960" y="-208080"/>
            <a:ext cx="28782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6" descr=""/>
          <p:cNvPicPr/>
          <p:nvPr/>
        </p:nvPicPr>
        <p:blipFill>
          <a:blip r:embed="rId1"/>
          <a:stretch/>
        </p:blipFill>
        <p:spPr>
          <a:xfrm>
            <a:off x="225360" y="639720"/>
            <a:ext cx="8632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Высший балл в школах Росс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Это доступный и эффективный способ снять умственное и физическое напряжение.  Надежно устраняет утомление, повышает защитные силы организм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Назовите пословицы или поговорки про со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он дарит силы и бодрость. Должны соблюдаться условия для здорового сна:  удобная подушка, чистое и проветренное помещение, температура воздуха около 200 С. Спать нужно не меньше 10 час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Сколько лет спал Илья Муромец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Наименьшее четное число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. Прямоугольник, у которого все стороны равны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7. Треугольный платок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2273400" y="-304920"/>
            <a:ext cx="4097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. Область медицины, изучающая влияние на здоровье человека всего, что его окруж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9. В честь какой древнегреческой богини названа эта область медицин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0. Масса кубического метра вод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1. Геометрическая фигура, состоящая из точки и двух лучей, выходящая из одной точк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2. какую геометрическую фигуру обозначают малыми латинскими буквам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3. Соперник нолик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4. Если съесть одну сливу, то что останетс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1-й гейм  « Дальше… дальше… дальше…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2960" y="692280"/>
            <a:ext cx="40003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1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Что тяжелее 1 кг ваты или 1 кг желез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Чему равно 3 в третьей степен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Чему равен периметр квадра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Как называется результат слож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колько секунд в одном час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На что похожа половина ябло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Чему равна площадь прямоугольни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Как из двух спичек получить 10 не ломая их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Как называется дробь, у которой числитель равен знаменателю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0. Сформируйте признак делимости на 9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1. Чему равен объем прямоугольного параллелепипед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2. 49- составное число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3. Как называется прибор для измерения углов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692280"/>
            <a:ext cx="40273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2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Что длиннее : 1 км шоссе или 1000 м тропинк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Чему равно 2 в четвертой степен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Чему равен периметр прямоугольник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Как называется результат вычит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колько миллиметров в одном метр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Чему равна половина тор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Чему равна площадь квадрат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Как из трех спичек получить 4 не ломая их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Как называется дробь у которой числитель больше знаменателя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0. Сформулировать признак делимости на 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1. Чему равен объем куб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2. 41- простое числ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3. Как называется прибор для измерения отрезков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64920" y="764640"/>
            <a:ext cx="77151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ля разминки из-за па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однимаемся. На стар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Бег на месте. Вес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И быстрей, быстрей, быстре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елаем вперёд наклоны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Мельницу руками крут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Чтобы плечики разм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Начинаем приседать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А потом прыжки на мес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Выше прыгаем все вме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уки к солнышку потя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Руки в стороны растя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А теперь пора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Да прилежно, не лен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268280" y="-208080"/>
            <a:ext cx="6491520" cy="119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2998800" cy="364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6346800" y="3716280"/>
            <a:ext cx="1957320" cy="2376720"/>
          </a:xfrm>
          <a:prstGeom prst="rect">
            <a:avLst/>
          </a:prstGeom>
          <a:ln w="0">
            <a:noFill/>
          </a:ln>
        </p:spPr>
      </p:pic>
      <p:pic>
        <p:nvPicPr>
          <p:cNvPr id="102" name="ФОН 2 - копия.mp3" descr=""/>
          <p:cNvPicPr/>
          <p:nvPr/>
        </p:nvPicPr>
        <p:blipFill>
          <a:blip r:embed="rId4"/>
          <a:stretch/>
        </p:blipFill>
        <p:spPr>
          <a:xfrm>
            <a:off x="8172360" y="5788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1915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1.  Натуральное число, которое имеет только 2 делителя: единицу и само это число, называе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2.  Если 2 натуральных числа имеют наибольший общий делитель, равный 1, то они называю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3.  Если числитель и знаменатель дроби взаимно простые числа, то такую дробь называют …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4.  Число, на которое надо умножить знаменатель дроби, чтобы получить новый знаменатель, называется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5.  Наибольшее натуральное число, на которое делятся без остатка числа a и b, называется … этих чисел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6.  Можно ли нуль разделить на натуральное число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7.  Если запись натурального числа оканчивается четной цифрой, то число делится …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8.  Какое четное  число не является составным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-208080"/>
            <a:ext cx="98805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831960"/>
            <a:ext cx="803448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Натуральное число, которое имеют более двух делителей, называется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Как называются 2 числа, у которых наибольший общий делитель равен 1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 Деление числителя и знаменателя на их общий делитель, отличный от 1, называетс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 Если числитель и знаменатель дроби умножить или разделить на одно и то же натуральное число, то получится … . Как называется это свойство дроб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 Наименьшее натуральное число, которое кратно числам а и b, называется…. этих чис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Можно ли натуральное число разделить на 0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 Если запись натурального числа оканчивается на 0, то число делится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 Среди простых чисел есть два числа, разность которых 1. Что это за чис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6:37:52Z</dcterms:created>
  <dc:creator>Admin</dc:creator>
  <dc:description>Шаблон оформления
Корпорация Майкрософт</dc:description>
  <cp:keywords/>
  <dc:language>en-US</dc:language>
  <cp:lastModifiedBy>учитель</cp:lastModifiedBy>
  <dcterms:modified xsi:type="dcterms:W3CDTF">2013-03-19T08:52:17Z</dcterms:modified>
  <cp:revision>19</cp:revision>
  <dc:subject>Шаблон оформления</dc:subject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39991</vt:lpwstr>
  </property>
</Properties>
</file>