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EAA-3D71-4FD3-B761-3626B5FA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022-1FA8-418D-9630-36D1DCFA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EAA-D223-44A6-8A7F-1757A546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216-BAFB-444F-8A03-C2DDE1A3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4431-99DB-4643-91DA-34FDE8AB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E959-027D-4720-ABAC-28878C8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C6E-C601-48E8-8E36-4DF26334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BCA9-3D25-4007-A443-F88CB9D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CD41-EB0B-47DE-9A45-2362BCD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8A3-4A61-4B61-BE0D-5975A6E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DDE8-9348-4DE7-BC28-0A17C75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B7F-D0F4-4CB9-AF7F-C5762D95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4660-92D7-44E1-97E2-B95FB17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1CF-FF94-494A-A8E6-BE94598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B528-E0C5-4E59-B692-F3DC5F9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B5C-3E87-4A58-892B-FFCC6D40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D05-B7DB-4271-93A0-0F548862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DBD-8484-4179-B280-98BA2BC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060-D30B-413D-8958-1165E3A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291-443F-46B7-979C-C005E23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8A0-B8AC-478D-B5FD-030F484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645-5E72-4420-B932-B27F869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D26-5C89-4D7C-97C6-A71AC9B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FD8-52E2-4C5B-80B7-1D76474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E8E-69E5-4808-845E-1E3F537AC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6B14-78F0-42F6-9B28-C5404C523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6876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по теме «Умножение  дроб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920880" y="1633680"/>
            <a:ext cx="7253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36360" y="-176040"/>
            <a:ext cx="9339120" cy="179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16000" y="1768320"/>
            <a:ext cx="3048120" cy="24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4164120" y="2997360"/>
            <a:ext cx="42973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11280" y="831600"/>
            <a:ext cx="8353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1.  Очень плохая оценка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2.  Сколько козлят было у многодетной коз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3.  Наименьшее составное чис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4.  Знак для записи чис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5.  Сотая часть чис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6.  Геометрическая фигура в любовных дел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7.  Объем килограмма 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8.  Количество музыкантов в кварт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987480" y="-208080"/>
            <a:ext cx="7145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51280" y="831600"/>
            <a:ext cx="4578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Желаю вам цвести, расти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Копить, крепить здоровь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Оно для дальнего пути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Главнейшее услов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Пусть каждый день и каждый ча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Вам новое добуд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Пусть острым будет ум у вас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А сердце добрым буд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Вам от души желаю я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Друзья, всего хороше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А все хорошее, друзья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Дается нам недеше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Прямоугольник 3" descr=""/>
          <p:cNvPicPr/>
          <p:nvPr/>
        </p:nvPicPr>
        <p:blipFill>
          <a:blip r:embed="rId1"/>
          <a:stretch/>
        </p:blipFill>
        <p:spPr>
          <a:xfrm>
            <a:off x="1944720" y="-304920"/>
            <a:ext cx="4475160" cy="11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070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000" y="1341360"/>
            <a:ext cx="77454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Подобрать и оформить занимательные задач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по тем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«Умножение дробе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3" descr=""/>
          <p:cNvPicPr/>
          <p:nvPr/>
        </p:nvPicPr>
        <p:blipFill>
          <a:blip r:embed="rId1"/>
          <a:stretch/>
        </p:blipFill>
        <p:spPr>
          <a:xfrm>
            <a:off x="1017720" y="-85680"/>
            <a:ext cx="6962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000" y="831960"/>
            <a:ext cx="8135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2236680" y="-291960"/>
            <a:ext cx="4243320" cy="11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233960" y="1268280"/>
            <a:ext cx="37321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пособствовать выявлению знаний и умений у обучающихся в нестандартных ситуациях и поддержанию атмосферы соревн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формировать познавательный интерес к предмету математике к здоровому образу жизни через игровую форм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спитывать умение управлять своим поведением, подчиняться требованиям коллекти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2955960" y="-208080"/>
            <a:ext cx="28782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6" descr=""/>
          <p:cNvPicPr/>
          <p:nvPr/>
        </p:nvPicPr>
        <p:blipFill>
          <a:blip r:embed="rId1"/>
          <a:stretch/>
        </p:blipFill>
        <p:spPr>
          <a:xfrm>
            <a:off x="225360" y="639720"/>
            <a:ext cx="8632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Высший балл в школах Росс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Это доступный и эффективный способ снять умственное и физическое напряжение.  Надежно устраняет утомление, повышает защитные силы организм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Назовите пословицы или поговорки про со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он дарит силы и бодрость. Должны соблюдаться условия для здорового сна:  удобная подушка, чистое и проветренное помещение, температура воздуха около 200 С. Спать нужно не меньше 10 час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Сколько лет спал Илья Муромец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Наименьшее четное число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. Прямоугольник, у которого все стороны равны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7. Треугольный платок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2273400" y="-304920"/>
            <a:ext cx="4097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. Область медицины, изучающая влияние на здоровье человека всего, что его окруж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9. В честь какой древнегреческой богини названа эта область медицин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0. Масса кубического метра вод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1. Геометрическая фигура, состоящая из точки и двух лучей, выходящая из одной точк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2. какую геометрическую фигуру обозначают малыми латинскими буквам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3. Соперник нолик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4. Если съесть одну сливу, то что останетс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1-й гейм  « Дальше… дальше… дальше…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2960" y="692280"/>
            <a:ext cx="40003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1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Что тяжелее 1 кг ваты или 1 кг желез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Чему равно 3 в третьей степен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Чему равен периметр квадра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Как называется результат слож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колько секунд в одном час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На что похожа половина ябло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Чему равна площадь прямоугольни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Как из двух спичек получить 10 не ломая их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Как называется дробь, у которой числитель равен знаменателю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0. Сформируйте признак делимости на 9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1. Чему равен объем прямоугольного параллелепипед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2. 49- составное число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3. Как называется прибор для измерения углов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692280"/>
            <a:ext cx="40273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2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Что длиннее : 1 км шоссе или 1000 м тропинк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Чему равно 2 в четвертой степен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Чему равен периметр прямоугольни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Как называется результат вычит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колько миллиметров в одном метр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Чему равна половина тор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Чему равна площадь квадра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Как из трех спичек получить 4 не ломая их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Как называется дробь у которой числитель больше знаменателя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0. Сформулировать признак делимости на 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1. Чему равен объем куб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2. 41- простое числ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3. Как называется прибор для измерения отрезков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64920" y="764640"/>
            <a:ext cx="77151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ля разминки из-за па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однимаемся. На стар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Бег на месте. Вес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И быстрей, быстрей, быстре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елаем вперёд наклоны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Мельницу руками крут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Чтобы плечики разм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Начинаем приседать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А потом прыжки на мес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Выше прыгаем все вме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уки к солнышку потя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уки в стороны растя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А теперь пора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а прилежно, не лен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268280" y="-208080"/>
            <a:ext cx="6491520" cy="119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2998800" cy="364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6346800" y="3716280"/>
            <a:ext cx="1957320" cy="2376720"/>
          </a:xfrm>
          <a:prstGeom prst="rect">
            <a:avLst/>
          </a:prstGeom>
          <a:ln w="0">
            <a:noFill/>
          </a:ln>
        </p:spPr>
      </p:pic>
      <p:pic>
        <p:nvPicPr>
          <p:cNvPr id="102" name="ФОН 2 - копия.mp3" descr=""/>
          <p:cNvPicPr/>
          <p:nvPr/>
        </p:nvPicPr>
        <p:blipFill>
          <a:blip r:embed="rId4"/>
          <a:stretch/>
        </p:blipFill>
        <p:spPr>
          <a:xfrm>
            <a:off x="8172360" y="5788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1915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1.  Натуральное число, которое имеет только 2 делителя: единицу и само это число, называе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2.  Если 2 натуральных числа имеют наибольший общий делитель, равный 1, то они называю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3.  Если числитель и знаменатель дроби взаимно простые числа, то такую дробь называют …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4.  Число, на которое надо умножить знаменатель дроби, чтобы получить новый знаменатель, называе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5.  Наибольшее натуральное число, на которое делятся без остатка числа a и b, называется … этих чисел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6.  Можно ли нуль разделить на натуральное число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7.  Если запись натурального числа оканчивается четной цифрой, то число делится …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8.  Какое четное  число не является составным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-208080"/>
            <a:ext cx="98805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831960"/>
            <a:ext cx="803448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Натуральное число, которое имеют более двух делителей, называется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Как называются 2 числа, у которых наибольший общий делитель равен 1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 Деление числителя и знаменателя на их общий делитель, отличный от 1, называетс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 Если числитель и знаменатель дроби умножить или разделить на одно и то же натуральное число, то получится … . Как называется это свойство дроб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 Наименьшее натуральное число, которое кратно числам а и b, называется…. этих чис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Можно ли натуральное число разделить на 0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 Если запись натурального числа оканчивается на 0, то число делится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 Среди простых чисел есть два числа, разность которых 1. Что это за чис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6:37:52Z</dcterms:created>
  <dc:creator>Admin</dc:creator>
  <dc:description>Шаблон оформления
Корпорация Майкрософт</dc:description>
  <cp:keywords/>
  <dc:language>en-US</dc:language>
  <cp:lastModifiedBy>учитель</cp:lastModifiedBy>
  <dcterms:modified xsi:type="dcterms:W3CDTF">2013-03-19T08:52:17Z</dcterms:modified>
  <cp:revision>19</cp:revision>
  <dc:subject>Шаблон оформления</dc:subject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39991</vt:lpwstr>
  </property>
</Properties>
</file>