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02A-1D2B-457E-9413-F99FAD56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3CD-BC99-4740-AB13-794B32FD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B7E-4B50-448E-BE5A-692023C5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12F-E0B5-4993-B705-82D7766A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8A0-94BE-4E89-9B11-6F3AD3DF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B75-2178-41D4-8BB9-670F8B8C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C74-4ABE-4D37-9E8F-64F1BB0C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CC2-77B0-4C37-B271-54516BA2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BDC-D79C-4CF3-B26B-4FBD7C81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295-8A35-48AA-A2AF-2E7C47F1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A64-1422-489B-84D4-5129E99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710-4919-4C62-A279-C251812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5B26-6E5A-4EB7-9A70-4DAE2F781A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7280" y="1268280"/>
            <a:ext cx="71298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66"/>
                </a:solidFill>
                <a:latin typeface="Tahoma"/>
              </a:rPr>
              <a:t>Особенности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66"/>
                </a:solidFill>
                <a:latin typeface="Tahoma"/>
              </a:rPr>
              <a:t>устной речи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CF15102010_00000"/>
          <p:cNvPicPr/>
          <p:nvPr/>
        </p:nvPicPr>
        <p:blipFill>
          <a:blip r:embed="rId1"/>
          <a:stretch/>
        </p:blipFill>
        <p:spPr>
          <a:xfrm>
            <a:off x="-2305080" y="-892080"/>
            <a:ext cx="1144908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2997360"/>
            <a:ext cx="3888000" cy="122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076720" y="3068640"/>
            <a:ext cx="3672000" cy="1295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987640" y="5157720"/>
            <a:ext cx="3527640" cy="1295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8"/>
          <p:cNvSpPr/>
          <p:nvPr/>
        </p:nvSpPr>
        <p:spPr>
          <a:xfrm>
            <a:off x="611280" y="260280"/>
            <a:ext cx="8281800" cy="1728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2050920" y="2133720"/>
            <a:ext cx="266544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4788000" y="2133720"/>
            <a:ext cx="252072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4788000" y="220500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492360" y="5229360"/>
            <a:ext cx="23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547640" y="692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Tahoma"/>
              </a:rPr>
              <a:t>Особенности устной ре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755640" y="3213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Tahoma"/>
              </a:rPr>
              <a:t>громк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5435640" y="3284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Tahoma"/>
              </a:rPr>
              <a:t>тем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/>
          <p:cNvSpPr/>
          <p:nvPr/>
        </p:nvSpPr>
        <p:spPr>
          <a:xfrm>
            <a:off x="2843280" y="260280"/>
            <a:ext cx="3960720" cy="18734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темб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572000" y="2349360"/>
            <a:ext cx="287280" cy="1584360"/>
          </a:xfrm>
          <a:prstGeom prst="downArrow">
            <a:avLst>
              <a:gd name="adj1" fmla="val 50000"/>
              <a:gd name="adj2" fmla="val 137876"/>
            </a:avLst>
          </a:prstGeom>
          <a:solidFill>
            <a:srgbClr val="0099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8"/>
          <p:cNvSpPr/>
          <p:nvPr/>
        </p:nvSpPr>
        <p:spPr>
          <a:xfrm>
            <a:off x="900000" y="4149720"/>
            <a:ext cx="7920000" cy="230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403280" y="429264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99"/>
                </a:solidFill>
                <a:latin typeface="Tahoma"/>
              </a:rPr>
              <a:t>особая окраска голос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826920" y="765000"/>
            <a:ext cx="7561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И в море не купаются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И нет у них щетинки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А все же называютс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Они - морск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796000" y="4508640"/>
            <a:ext cx="2879640" cy="865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свинк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395280" y="836640"/>
            <a:ext cx="792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Лесники ее котя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Взять домой не захотя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Ей не скажешь:     «Кошка, брысь!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Потому, что это -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6516720" y="4221000"/>
            <a:ext cx="2448000" cy="719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948360" y="4221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99"/>
                </a:solidFill>
                <a:latin typeface="Tahoma"/>
              </a:rPr>
              <a:t>рыс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971640" y="981000"/>
            <a:ext cx="77770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c00"/>
                </a:solidFill>
                <a:latin typeface="Tahoma"/>
              </a:rPr>
              <a:t>На шесте – дворец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c00"/>
                </a:solidFill>
                <a:latin typeface="Tahoma"/>
              </a:rPr>
              <a:t>Во дворе – певец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c00"/>
                </a:solidFill>
                <a:latin typeface="Tahoma"/>
              </a:rPr>
              <a:t>А зовут его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5651640" y="3933720"/>
            <a:ext cx="295272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156360" y="429264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651640" y="378936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99"/>
                </a:solidFill>
                <a:latin typeface="Tahoma"/>
              </a:rPr>
              <a:t>скворе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2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971640" y="184464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В реке большая драка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Поссорились дв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732720" y="3357720"/>
            <a:ext cx="2232000" cy="647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Tahoma"/>
              </a:rPr>
              <a:t>ра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468360" y="620640"/>
            <a:ext cx="820728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Жил – был маленький щенок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Он подрос, однако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И теперь он не щенок –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Взросла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708360" y="5157720"/>
            <a:ext cx="3095640" cy="1008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995640" y="508464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99"/>
                </a:solidFill>
                <a:latin typeface="Tahoma"/>
              </a:rPr>
              <a:t>собак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>
            <a:off x="4932360" y="549360"/>
            <a:ext cx="3960720" cy="1295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932360" y="2708280"/>
            <a:ext cx="3960720" cy="1368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4932360" y="4941720"/>
            <a:ext cx="4032360" cy="13669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Oval 8"/>
          <p:cNvSpPr/>
          <p:nvPr/>
        </p:nvSpPr>
        <p:spPr>
          <a:xfrm>
            <a:off x="250920" y="620640"/>
            <a:ext cx="3240000" cy="1368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179280" y="2708280"/>
            <a:ext cx="3240360" cy="1368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79280" y="4869000"/>
            <a:ext cx="3240360" cy="1296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492360" y="1341360"/>
            <a:ext cx="1295640" cy="201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3492360" y="3429000"/>
            <a:ext cx="1366920" cy="216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3564000" y="1125000"/>
            <a:ext cx="1224000" cy="446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755640" y="98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темп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826920" y="3068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темб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95280" y="515772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громк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292720" y="98100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сила гол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48360" y="2852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скорость произнесения ре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5148360" y="515772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особая окраска гол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6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9" nodeType="afterEffect" fill="hold" presetClass="entr" presetID="6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4"/>
          <p:cNvSpPr/>
          <p:nvPr/>
        </p:nvSpPr>
        <p:spPr>
          <a:xfrm>
            <a:off x="611280" y="765000"/>
            <a:ext cx="8137440" cy="331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835280" y="1052640"/>
            <a:ext cx="6049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оформить творческую работу по теме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«Тембр голос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-108000" y="4784760"/>
            <a:ext cx="101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66"/>
                </a:solidFill>
                <a:latin typeface="Tahoma"/>
              </a:rPr>
              <a:t>ВСЕ МОЛОДЦЫ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3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324000" y="1341360"/>
            <a:ext cx="8820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Хобот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Солныш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Дровос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уши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Кос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ульверизат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Ро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755640" y="26028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Tahoma"/>
              </a:rPr>
              <a:t>Дыхательная гимнаст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3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66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89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3213000"/>
            <a:ext cx="15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ЗА</a:t>
            </a:r>
            <a:r>
              <a:rPr b="0" i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619280" y="1916280"/>
            <a:ext cx="64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-</a:t>
            </a:r>
            <a:r>
              <a:rPr b="0" i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340000" y="32130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ЗО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924360" y="19162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-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716360" y="3284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З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227640" y="198900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-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7020000" y="32130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ЗЫ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55640" y="83664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Tahoma"/>
              </a:rPr>
              <a:t>РЕЧЕВАЯ РАЗМИН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mph" presetID="23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4" nodeType="afterEffect" fill="hold" presetClass="emph" presetID="23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2" nodeType="after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3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0" nodeType="after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3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йкиного зайку </a:t>
            </a:r>
            <a:br>
              <a:rPr sz="8000"/>
            </a:b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вут Зазнайкой.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7200" y="2349360"/>
            <a:ext cx="8229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айку </a:t>
            </a:r>
            <a:br>
              <a:rPr sz="8000"/>
            </a:b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вут Зазнайкой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1125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ff33"/>
                </a:solidFill>
                <a:latin typeface="Tahoma"/>
              </a:rPr>
              <a:t>Зойкиного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050920" y="836640"/>
            <a:ext cx="54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йкиного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43280" y="22766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ff33"/>
                </a:solidFill>
                <a:latin typeface="Tahoma"/>
              </a:rPr>
              <a:t>зайк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вут Зазнайка.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126828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c00"/>
                </a:solidFill>
                <a:latin typeface="Tahoma"/>
              </a:rPr>
              <a:t>Зойкиного зайку </a:t>
            </a: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ffcc00"/>
                </a:solidFill>
                <a:latin typeface="Tahoma"/>
              </a:rPr>
              <a:t>Зазнайкой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484360" y="285264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ff33"/>
                </a:solidFill>
                <a:latin typeface="Tahoma"/>
              </a:rPr>
              <a:t>зовут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2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57200" y="126828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йкиного зайку </a:t>
            </a:r>
            <a:br>
              <a:rPr sz="8000"/>
            </a:b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вут</a:t>
            </a:r>
            <a:br>
              <a:rPr sz="8000"/>
            </a:br>
            <a:r>
              <a:rPr b="0" lang="ru-RU" sz="8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187280" y="429264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ff33"/>
                </a:solidFill>
                <a:latin typeface="Tahoma"/>
              </a:rPr>
              <a:t>Зазнайкой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2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cc00"/>
                </a:solidFill>
                <a:latin typeface="Tahoma"/>
              </a:rPr>
              <a:t>РЕЧЬ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Tahoma"/>
              </a:rPr>
              <a:t>устная            письменна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6"/>
          <p:cNvSpPr/>
          <p:nvPr/>
        </p:nvSpPr>
        <p:spPr>
          <a:xfrm flipH="1">
            <a:off x="1979280" y="2421000"/>
            <a:ext cx="252108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500720" y="2421000"/>
            <a:ext cx="223200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6:08:53Z</dcterms:created>
  <dc:creator>Corey</dc:creator>
  <dc:description/>
  <dc:language>en-US</dc:language>
  <cp:lastModifiedBy>Психологи</cp:lastModifiedBy>
  <dcterms:modified xsi:type="dcterms:W3CDTF">2013-03-19T06:28:40Z</dcterms:modified>
  <cp:revision>12</cp:revision>
  <dc:subject/>
  <dc:title>Слайд 1</dc:title>
</cp:coreProperties>
</file>