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4078-382E-40B1-B86A-9393D9E4AA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A9F-E8E8-439A-BB08-435C233A4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CC6-15F6-4354-8836-51DD43ED9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0AB-03C4-46C2-A596-B43500F792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3BD-72FE-4FDC-9EF6-4ED2A2EB5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5BC-839D-48C6-AF7A-6A10143D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A29-3A83-4184-B999-2478560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DCD-4EF5-4BA1-94DC-BA083962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F89-B0C6-403F-AB83-F9B71915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433-C901-488C-9A35-D5E27555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147-318C-4B5F-A781-5DA7388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CE2-CEE2-42B2-8143-8210EC2C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911-2B66-40DA-BCCC-81002D6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22EC-2307-4D27-BC89-67A3A41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EC7-0366-4BE4-BB09-8E980F3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C1B-4CAB-49F3-9550-D8D822AB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36E-E267-467B-A4F4-6298B085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D08-1C1E-4272-908A-E67065D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5873-7984-437A-8B29-FD567A2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E470-F1F7-467F-A522-967E3853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A40F-E41C-4CED-A4F0-534710D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0BD9-E8CA-4CF7-A94B-C77BF423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2D40-7DD0-4F07-9659-E7ED77A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72F2-C331-4361-90F6-63AEA62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50D5-9A81-47E5-AF1D-00777794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4443-779D-4F71-8426-2B32F8E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32F9-9940-402C-AAB8-B7F48350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8F6-D548-4FCC-856A-0764202D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4252-7131-4A78-9A48-D55B95D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B432-1F48-4E1D-A9C5-2DD7730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6CBB-3994-40FE-8B93-A9FAE97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B302-0019-4AF3-B92E-F3B8308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141B-AD78-474C-8937-515BA41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2CBB-5614-4992-8C95-701F58C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5B29-FC02-42A6-99B8-C5601945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558-74F3-4C39-B63A-7A98637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EEE-B703-4DFC-86B2-AC828E40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99A-3DEB-4090-8760-30AA596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FA0-85D7-4B9B-881F-AA4DB9F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A81-5CDF-4B58-845B-5B7CE35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98C-8A69-48FD-BC4C-EBF2188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99E-DB64-4001-A37F-15C04FD675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085E-2725-493F-B22D-15D36D1C96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808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CBB-8C23-47F0-987F-F105B1E5D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0" y="1268280"/>
            <a:ext cx="6119640" cy="338472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 Black"/>
              </a:rPr>
              <a:t>«</a:t>
            </a: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Предельные одноосновные карбоновые кислоты</a:t>
            </a:r>
            <a:r>
              <a:rPr b="1" lang="ru-RU" sz="4800" spc="-1" strike="noStrike">
                <a:solidFill>
                  <a:srgbClr val="c0504d"/>
                </a:solidFill>
                <a:latin typeface="Arial Black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im3-tub-ru.yandex.net/i?id=425043804-01-72&amp;n=17"/>
          <p:cNvPicPr/>
          <p:nvPr/>
        </p:nvPicPr>
        <p:blipFill>
          <a:blip r:embed="rId1"/>
          <a:stretch/>
        </p:blipFill>
        <p:spPr>
          <a:xfrm>
            <a:off x="5796000" y="2781360"/>
            <a:ext cx="3203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She3256i"/>
          <p:cNvPicPr/>
          <p:nvPr/>
        </p:nvPicPr>
        <p:blipFill>
          <a:blip r:embed="rId1"/>
          <a:stretch/>
        </p:blipFill>
        <p:spPr>
          <a:xfrm rot="21324000">
            <a:off x="303120" y="1377720"/>
            <a:ext cx="2630520" cy="23349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2"/>
          <p:cNvSpPr/>
          <p:nvPr/>
        </p:nvSpPr>
        <p:spPr>
          <a:xfrm>
            <a:off x="2928960" y="1143000"/>
            <a:ext cx="621504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Garamond"/>
              </a:rPr>
              <a:t>Щавелевая кислота</a:t>
            </a:r>
            <a:r>
              <a:rPr b="1" lang="ru-RU" sz="3200" spc="-1" strike="noStrike">
                <a:solidFill>
                  <a:srgbClr val="006600"/>
                </a:solidFill>
                <a:latin typeface="Garamond"/>
              </a:rPr>
              <a:t> –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НООССООН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. Бесцветное вещество в виде кристаллов. Содержится в щавеле, ревене, шпинате, клевере и помидорах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рименяется в текстильной промышленности, органическом синтезе, для отчистки металловот ржавчины и накип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57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 rot="384000">
            <a:off x="5897160" y="4011480"/>
            <a:ext cx="2867040" cy="21592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428760" y="4000680"/>
            <a:ext cx="521496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Garamond"/>
              </a:rPr>
              <a:t>Лимонная кисло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та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 –   С(ОН)СООН. Лимонная  кислота содержится не только в лимонах, но и в землянике, смородине, ананасах  и других фруктах. Чаще всего ее используют как вкусовое вещество в кондитерских изделиях и напитках. Для выведения пятен от чернил и ржавчины на белье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имические свойства неорганических кисл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9680" y="999720"/>
            <a:ext cx="82868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Диссоциация: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= H      + 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металл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+ Mg = MgCl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оксид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HCl + CaO = CaCl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основаниями- 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йтрализации: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+ NaOH = NaCl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сол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 HCl + Na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= 2 NaCl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 + CO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Химические свойства карбонов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11426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ие свойства карбоновых кислот аналогичны соответствующим свойствам неорганических кисло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1.Диссоциация в водных растворах (среда кислая, индикаторы меняют окраск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8" descr="все нужное по кислотам (13)"/>
          <p:cNvPicPr/>
          <p:nvPr/>
        </p:nvPicPr>
        <p:blipFill>
          <a:blip r:embed="rId1"/>
          <a:stretch/>
        </p:blipFill>
        <p:spPr>
          <a:xfrm>
            <a:off x="1071720" y="2643120"/>
            <a:ext cx="578628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0" y="3357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Карбоновые кислоты вступают в реакцию замещения с металлами, стоящими в ряду напряжений до водорода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10" descr="все нужное по кислотам (1)"/>
          <p:cNvPicPr/>
          <p:nvPr/>
        </p:nvPicPr>
        <p:blipFill>
          <a:blip r:embed="rId2"/>
          <a:stretch/>
        </p:blipFill>
        <p:spPr>
          <a:xfrm>
            <a:off x="1071720" y="4286160"/>
            <a:ext cx="7057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aramond"/>
              </a:rPr>
              <a:t>3. Карбоновые кислоты реагируют с основными оксидами с образованием соли и воды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Picture 3" descr="все нужное по кислотам (2)"/>
          <p:cNvPicPr/>
          <p:nvPr/>
        </p:nvPicPr>
        <p:blipFill>
          <a:blip r:embed="rId1"/>
          <a:stretch/>
        </p:blipFill>
        <p:spPr>
          <a:xfrm>
            <a:off x="1116000" y="907920"/>
            <a:ext cx="6408720" cy="1440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4. Вступают в реакцию нейтрализации с основаниям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0" name="Picture 5" descr="все нужное по кислотам (3)"/>
          <p:cNvPicPr/>
          <p:nvPr/>
        </p:nvPicPr>
        <p:blipFill>
          <a:blip r:embed="rId2"/>
          <a:stretch/>
        </p:blipFill>
        <p:spPr>
          <a:xfrm>
            <a:off x="971640" y="2924280"/>
            <a:ext cx="655308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39640" y="42210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5. Взаимодействуют с солями более слабых и летучих кислот, вытесняя их из солей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8" descr="все нужное по кислотам (4)"/>
          <p:cNvPicPr/>
          <p:nvPr/>
        </p:nvPicPr>
        <p:blipFill>
          <a:blip r:embed="rId3"/>
          <a:stretch/>
        </p:blipFill>
        <p:spPr>
          <a:xfrm>
            <a:off x="755640" y="5300640"/>
            <a:ext cx="69134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ДАЧА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Одноосновная карбоновая кислота имеет следующий состав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 углерод-40%,водород-6,67%,кислород-53,33%.Плотность паров этой кислоты по аргону -1,5.Исходя из этих данных найдите молекулярную формулу этой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Задание на самоподготов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341360"/>
            <a:ext cx="424800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okChampa"/>
              </a:rPr>
              <a:t>§ 20 упражнение 3-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C:\Users\Компьютер\Desktop\yandsearch.jpg"/>
          <p:cNvPicPr/>
          <p:nvPr/>
        </p:nvPicPr>
        <p:blipFill>
          <a:blip r:embed="rId1"/>
          <a:stretch/>
        </p:blipFill>
        <p:spPr>
          <a:xfrm>
            <a:off x="3995640" y="2708280"/>
            <a:ext cx="5200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466236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5" descr="07.JPG"/>
          <p:cNvPicPr/>
          <p:nvPr/>
        </p:nvPicPr>
        <p:blipFill>
          <a:blip r:embed="rId2"/>
          <a:stretch/>
        </p:blipFill>
        <p:spPr>
          <a:xfrm>
            <a:off x="4141800" y="2708280"/>
            <a:ext cx="5002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0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acc6"/>
                </a:solidFill>
                <a:latin typeface="Georgia"/>
              </a:rPr>
              <a:t>Определение карбоновых кисло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412640"/>
            <a:ext cx="84247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рганические  вещества,  в которых  функциональная группа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–СООН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вязана  с углеводородным  радикалом называются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арбоновыми кисло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Простейшими представ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являются предельные од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основные карбоновые кисл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Какая  функциональная группа 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называется карбоксильной?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39840" y="18572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Garamond"/>
              </a:rPr>
              <a:t>1)  - ОН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Group 31"/>
          <p:cNvGrpSpPr/>
          <p:nvPr/>
        </p:nvGrpSpPr>
        <p:grpSpPr>
          <a:xfrm>
            <a:off x="1466280" y="3500280"/>
            <a:ext cx="2034000" cy="1702800"/>
            <a:chOff x="1466280" y="3500280"/>
            <a:chExt cx="2034000" cy="1702800"/>
          </a:xfrm>
        </p:grpSpPr>
        <p:sp>
          <p:nvSpPr>
            <p:cNvPr id="138" name="Text Box 24"/>
            <p:cNvSpPr/>
            <p:nvPr/>
          </p:nvSpPr>
          <p:spPr>
            <a:xfrm>
              <a:off x="1466280" y="3500280"/>
              <a:ext cx="717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00"/>
                  </a:solidFill>
                  <a:latin typeface="Garamond"/>
                </a:rPr>
                <a:t>3)</a:t>
              </a:r>
              <a:endParaRPr b="1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2671560" y="3894840"/>
              <a:ext cx="2178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2286000" y="3605400"/>
              <a:ext cx="121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- С -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2857320" y="42152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2643120" y="4499640"/>
              <a:ext cx="6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О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5983560" y="1285920"/>
            <a:ext cx="2073600" cy="1897920"/>
            <a:chOff x="5983560" y="1285920"/>
            <a:chExt cx="2073600" cy="1897920"/>
          </a:xfrm>
        </p:grpSpPr>
        <p:sp>
          <p:nvSpPr>
            <p:cNvPr id="144" name="Text Box 10"/>
            <p:cNvSpPr/>
            <p:nvPr/>
          </p:nvSpPr>
          <p:spPr>
            <a:xfrm>
              <a:off x="5983560" y="1658160"/>
              <a:ext cx="25992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5" name="Group 20"/>
            <p:cNvGrpSpPr/>
            <p:nvPr/>
          </p:nvGrpSpPr>
          <p:grpSpPr>
            <a:xfrm>
              <a:off x="6032880" y="1285920"/>
              <a:ext cx="2024280" cy="1897920"/>
              <a:chOff x="6032880" y="1285920"/>
              <a:chExt cx="2024280" cy="1897920"/>
            </a:xfrm>
          </p:grpSpPr>
          <p:sp>
            <p:nvSpPr>
              <p:cNvPr id="146" name="Text Box 13"/>
              <p:cNvSpPr/>
              <p:nvPr/>
            </p:nvSpPr>
            <p:spPr>
              <a:xfrm>
                <a:off x="6032880" y="1819440"/>
                <a:ext cx="7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006600"/>
                    </a:solidFill>
                    <a:latin typeface="Garamond"/>
                  </a:rPr>
                  <a:t>-</a:t>
                </a: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C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 flipV="1">
                <a:off x="6716160" y="1786680"/>
                <a:ext cx="23652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6897960" y="1285920"/>
                <a:ext cx="66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Text Box 18"/>
              <p:cNvSpPr/>
              <p:nvPr/>
            </p:nvSpPr>
            <p:spPr>
              <a:xfrm>
                <a:off x="6696720" y="2358720"/>
                <a:ext cx="937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7376400" y="2358720"/>
                <a:ext cx="680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H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51" name="Line 15"/>
          <p:cNvSpPr/>
          <p:nvPr/>
        </p:nvSpPr>
        <p:spPr>
          <a:xfrm flipV="1">
            <a:off x="6786720" y="192852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786720" y="2500200"/>
            <a:ext cx="1425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4898880" y="3643200"/>
            <a:ext cx="2459160" cy="1574640"/>
            <a:chOff x="4898880" y="3643200"/>
            <a:chExt cx="2459160" cy="1574640"/>
          </a:xfrm>
        </p:grpSpPr>
        <p:sp>
          <p:nvSpPr>
            <p:cNvPr id="154" name="Text Box 8"/>
            <p:cNvSpPr/>
            <p:nvPr/>
          </p:nvSpPr>
          <p:spPr>
            <a:xfrm>
              <a:off x="4898880" y="4015440"/>
              <a:ext cx="6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4)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6039360" y="4015440"/>
              <a:ext cx="327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56" name="Group 20"/>
            <p:cNvGrpSpPr/>
            <p:nvPr/>
          </p:nvGrpSpPr>
          <p:grpSpPr>
            <a:xfrm>
              <a:off x="5856480" y="3643200"/>
              <a:ext cx="1501560" cy="1574640"/>
              <a:chOff x="5856480" y="3643200"/>
              <a:chExt cx="1501560" cy="1574640"/>
            </a:xfrm>
          </p:grpSpPr>
          <p:sp>
            <p:nvSpPr>
              <p:cNvPr id="157" name="Text Box 13"/>
              <p:cNvSpPr/>
              <p:nvPr/>
            </p:nvSpPr>
            <p:spPr>
              <a:xfrm>
                <a:off x="5856480" y="4176720"/>
                <a:ext cx="78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6600"/>
                    </a:solidFill>
                    <a:latin typeface="Garamond"/>
                  </a:rPr>
                  <a:t>-</a:t>
                </a:r>
                <a:r>
                  <a:rPr b="1" lang="ru-RU" sz="3200" spc="-1" strike="noStrike">
                    <a:solidFill>
                      <a:srgbClr val="ffffff"/>
                    </a:solidFill>
                    <a:latin typeface="Garamond"/>
                  </a:rPr>
                  <a:t> </a:t>
                </a: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C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8" name="Line 15"/>
              <p:cNvSpPr/>
              <p:nvPr/>
            </p:nvSpPr>
            <p:spPr>
              <a:xfrm flipV="1">
                <a:off x="6499080" y="4072680"/>
                <a:ext cx="168480" cy="15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9" name="Text Box 16"/>
              <p:cNvSpPr/>
              <p:nvPr/>
            </p:nvSpPr>
            <p:spPr>
              <a:xfrm>
                <a:off x="6599160" y="3643200"/>
                <a:ext cx="50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Text Box 18"/>
              <p:cNvSpPr/>
              <p:nvPr/>
            </p:nvSpPr>
            <p:spPr>
              <a:xfrm>
                <a:off x="6549480" y="4614480"/>
                <a:ext cx="18576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1" name="Text Box 19"/>
              <p:cNvSpPr/>
              <p:nvPr/>
            </p:nvSpPr>
            <p:spPr>
              <a:xfrm>
                <a:off x="6712920" y="4636440"/>
                <a:ext cx="64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H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62" name="Line 15"/>
          <p:cNvSpPr/>
          <p:nvPr/>
        </p:nvSpPr>
        <p:spPr>
          <a:xfrm flipV="1">
            <a:off x="6572160" y="4142880"/>
            <a:ext cx="1699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6500880" y="4643280"/>
            <a:ext cx="214200" cy="2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3000240" y="421488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Скругленный прямоугольник 40"/>
          <p:cNvSpPr/>
          <p:nvPr/>
        </p:nvSpPr>
        <p:spPr>
          <a:xfrm>
            <a:off x="357120" y="5786280"/>
            <a:ext cx="428616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авильный ответ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52360" y="1857240"/>
            <a:ext cx="71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aramond"/>
              </a:rPr>
              <a:t>2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878600" y="4589640"/>
            <a:ext cx="12654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161E-006 L -0.11493 0.57506 E">
                                      <p:cBhvr>
                                        <p:cTn id="2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Укажите в списке формулы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карбоновых кислот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285840" y="1643040"/>
            <a:ext cx="27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214200" y="421488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4)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4214880" y="1643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HCOO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80160" y="2500200"/>
            <a:ext cx="335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 – CH = CH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4143240" y="250020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7)  С Н</a:t>
            </a:r>
            <a:r>
              <a:rPr b="1" lang="ru-RU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СОН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3326040"/>
            <a:ext cx="4214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285840" y="514368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(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14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857760" y="4010760"/>
            <a:ext cx="307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9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 -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</a:t>
            </a:r>
            <a:r>
              <a:rPr b="1" lang="he-IL" sz="2400" spc="-1" strike="noStrike">
                <a:solidFill>
                  <a:srgbClr val="006600"/>
                </a:solidFill>
                <a:latin typeface="Calibri"/>
                <a:cs typeface="Times New Roman"/>
              </a:rPr>
              <a:t>׀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4071960" y="3357720"/>
            <a:ext cx="300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8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6572160" y="16113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10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7071840" y="2500200"/>
            <a:ext cx="714600" cy="928800"/>
            <a:chOff x="7071840" y="2500200"/>
            <a:chExt cx="714600" cy="928800"/>
          </a:xfrm>
        </p:grpSpPr>
        <p:sp>
          <p:nvSpPr>
            <p:cNvPr id="180" name="AutoShape 17"/>
            <p:cNvSpPr/>
            <p:nvPr/>
          </p:nvSpPr>
          <p:spPr>
            <a:xfrm rot="5400000">
              <a:off x="6964560" y="2607120"/>
              <a:ext cx="928800" cy="714600"/>
            </a:xfrm>
            <a:prstGeom prst="hexagon">
              <a:avLst>
                <a:gd name="adj" fmla="val 324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7250760" y="2756160"/>
              <a:ext cx="35748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2" name="Скругленный прямоугольник 17"/>
          <p:cNvSpPr/>
          <p:nvPr/>
        </p:nvSpPr>
        <p:spPr>
          <a:xfrm>
            <a:off x="1071720" y="5786280"/>
            <a:ext cx="535752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авильные ответы:   2, 3, 5, 8, 9, 10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858080" y="5143680"/>
            <a:ext cx="95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-239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Название карбоновых кислот                                               по международной номенклатуре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4643280" y="4214880"/>
            <a:ext cx="421488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Garamond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– CH – CH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       </a:t>
            </a:r>
            <a:r>
              <a:rPr b="1" lang="he-IL" sz="2400" spc="-1" strike="noStrike">
                <a:solidFill>
                  <a:srgbClr val="006600"/>
                </a:solidFill>
                <a:latin typeface="Garamond"/>
                <a:cs typeface="Times New Roman"/>
              </a:rPr>
              <a:t>׀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</a:t>
            </a:r>
            <a:r>
              <a:rPr b="1" lang="he-IL" sz="2400" spc="-1" strike="noStrike">
                <a:solidFill>
                  <a:srgbClr val="006600"/>
                </a:solidFill>
                <a:latin typeface="Garamond"/>
                <a:cs typeface="Times New Roman"/>
              </a:rPr>
              <a:t>׀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Garamond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Garamond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928800" y="13572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H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5072040" y="13572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4)  С Н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– СООН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42920" y="2892240"/>
            <a:ext cx="45003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2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00040" y="4224960"/>
            <a:ext cx="3714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6600"/>
                </a:solidFill>
                <a:latin typeface="Calibri"/>
                <a:cs typeface="Times New Roman"/>
              </a:rPr>
              <a:t>׀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572000" y="2928960"/>
            <a:ext cx="4572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Скругленный прямоугольник 8"/>
          <p:cNvSpPr/>
          <p:nvPr/>
        </p:nvSpPr>
        <p:spPr>
          <a:xfrm>
            <a:off x="57168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е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Скругленный прямоугольник 14"/>
          <p:cNvSpPr/>
          <p:nvPr/>
        </p:nvSpPr>
        <p:spPr>
          <a:xfrm>
            <a:off x="5072040" y="3571920"/>
            <a:ext cx="378612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Пен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Скругленный прямоугольник 16"/>
          <p:cNvSpPr/>
          <p:nvPr/>
        </p:nvSpPr>
        <p:spPr>
          <a:xfrm>
            <a:off x="507204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Э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Скругленный прямоугольник 17"/>
          <p:cNvSpPr/>
          <p:nvPr/>
        </p:nvSpPr>
        <p:spPr>
          <a:xfrm>
            <a:off x="5143680" y="5500800"/>
            <a:ext cx="352872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2,3-диметилбу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Скругленный прямоугольник 18"/>
          <p:cNvSpPr/>
          <p:nvPr/>
        </p:nvSpPr>
        <p:spPr>
          <a:xfrm>
            <a:off x="428760" y="5500800"/>
            <a:ext cx="35002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2-метилпроп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Скругленный прямоугольник 19"/>
          <p:cNvSpPr/>
          <p:nvPr/>
        </p:nvSpPr>
        <p:spPr>
          <a:xfrm>
            <a:off x="571680" y="3643200"/>
            <a:ext cx="358596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Бу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4000680" y="5778360"/>
            <a:ext cx="1106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Дайте тривиальные название                                 карбоновых кислот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4714920" y="4357800"/>
            <a:ext cx="41432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Прямоугольник 11"/>
          <p:cNvSpPr/>
          <p:nvPr/>
        </p:nvSpPr>
        <p:spPr>
          <a:xfrm>
            <a:off x="928800" y="12859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 HCOOH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Прямоугольник 13"/>
          <p:cNvSpPr/>
          <p:nvPr/>
        </p:nvSpPr>
        <p:spPr>
          <a:xfrm>
            <a:off x="5072040" y="1357200"/>
            <a:ext cx="350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)  С Н</a:t>
            </a:r>
            <a:r>
              <a:rPr b="1" lang="ru-RU" sz="32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– СООН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00040" y="2749320"/>
            <a:ext cx="37148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2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500040" y="4393440"/>
            <a:ext cx="3714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17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Прямоугольник 22"/>
          <p:cNvSpPr/>
          <p:nvPr/>
        </p:nvSpPr>
        <p:spPr>
          <a:xfrm>
            <a:off x="4500720" y="2857680"/>
            <a:ext cx="4643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Скругленный прямоугольник 8"/>
          <p:cNvSpPr/>
          <p:nvPr/>
        </p:nvSpPr>
        <p:spPr>
          <a:xfrm>
            <a:off x="57168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62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уравьи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Скругленный прямоугольник 14"/>
          <p:cNvSpPr/>
          <p:nvPr/>
        </p:nvSpPr>
        <p:spPr>
          <a:xfrm>
            <a:off x="5072040" y="357192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Валери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Скругленный прямоугольник 16"/>
          <p:cNvSpPr/>
          <p:nvPr/>
        </p:nvSpPr>
        <p:spPr>
          <a:xfrm>
            <a:off x="507204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Уксус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Скругленный прямоугольник 17"/>
          <p:cNvSpPr/>
          <p:nvPr/>
        </p:nvSpPr>
        <p:spPr>
          <a:xfrm>
            <a:off x="5072040" y="5143680"/>
            <a:ext cx="35290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асля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Скругленный прямоугольник 18"/>
          <p:cNvSpPr/>
          <p:nvPr/>
        </p:nvSpPr>
        <p:spPr>
          <a:xfrm>
            <a:off x="642960" y="5143680"/>
            <a:ext cx="35002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Стеари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Скругленный прямоугольник 19"/>
          <p:cNvSpPr/>
          <p:nvPr/>
        </p:nvSpPr>
        <p:spPr>
          <a:xfrm>
            <a:off x="571680" y="3500280"/>
            <a:ext cx="358596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35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Пропио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4214880" y="5505480"/>
            <a:ext cx="7524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42920" y="2858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Строение карбоксильной группы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9" descr="все нужное по кислотам (11)"/>
          <p:cNvPicPr/>
          <p:nvPr/>
        </p:nvPicPr>
        <p:blipFill>
          <a:blip r:embed="rId1"/>
          <a:stretch/>
        </p:blipFill>
        <p:spPr>
          <a:xfrm>
            <a:off x="2340000" y="2997360"/>
            <a:ext cx="4668840" cy="35748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285840" y="135720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Как происходит перераспределение электронной плотности в карбоксильной группе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7763040" y="5429160"/>
            <a:ext cx="1380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057320" cy="1295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3357720" y="5000760"/>
            <a:ext cx="971280" cy="1361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1500120" y="114300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1785960" y="37861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5"/>
          <a:stretch/>
        </p:blipFill>
        <p:spPr>
          <a:xfrm>
            <a:off x="214200" y="5286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6"/>
          <a:stretch/>
        </p:blipFill>
        <p:spPr>
          <a:xfrm>
            <a:off x="2928960" y="1214280"/>
            <a:ext cx="1390680" cy="933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7"/>
          <a:stretch/>
        </p:blipFill>
        <p:spPr>
          <a:xfrm>
            <a:off x="214200" y="2286000"/>
            <a:ext cx="1428840" cy="138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143160" y="3786120"/>
            <a:ext cx="1228680" cy="101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9"/>
          <a:stretch/>
        </p:blipFill>
        <p:spPr>
          <a:xfrm>
            <a:off x="0" y="1214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10"/>
          <a:stretch/>
        </p:blipFill>
        <p:spPr>
          <a:xfrm>
            <a:off x="1785960" y="5286240"/>
            <a:ext cx="1285920" cy="981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11"/>
          <a:stretch/>
        </p:blipFill>
        <p:spPr>
          <a:xfrm>
            <a:off x="3000240" y="250020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12"/>
          <a:stretch/>
        </p:blipFill>
        <p:spPr>
          <a:xfrm>
            <a:off x="214200" y="37861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8580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МУРАВЬИНАЯ КИСЛ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19"/>
          <p:cNvSpPr/>
          <p:nvPr/>
        </p:nvSpPr>
        <p:spPr>
          <a:xfrm>
            <a:off x="4429080" y="1714680"/>
            <a:ext cx="471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Муравьиная кислота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НСООН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Жидкость с резким  запахом. Содержится в хвое, крапиве, едких выделениях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муравьев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и пчел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Применяется для получения лекарственных средств, пестицидов и растворителей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phar104934"/>
          <p:cNvPicPr/>
          <p:nvPr/>
        </p:nvPicPr>
        <p:blipFill>
          <a:blip r:embed="rId1"/>
          <a:stretch/>
        </p:blipFill>
        <p:spPr>
          <a:xfrm rot="21144000">
            <a:off x="5580000" y="1465200"/>
            <a:ext cx="2881440" cy="24843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214200" y="1428840"/>
            <a:ext cx="55008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Black"/>
              </a:rPr>
              <a:t>Салициловая кислота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Garamond"/>
              </a:rPr>
              <a:t>Получают из коры ивового дерева. На ее основе готовят многие лекарства: например аспирин. Аспирин обладает противовоспа-лительным, жаропонижающим и болеуто-ляющим действием. Аспирин подавляет болевую чувствительность и помогает от головной бол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 rot="21217800">
            <a:off x="1142640" y="4142880"/>
            <a:ext cx="2374920" cy="2376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7"/>
          <p:cNvSpPr/>
          <p:nvPr/>
        </p:nvSpPr>
        <p:spPr>
          <a:xfrm>
            <a:off x="3857760" y="4214880"/>
            <a:ext cx="5000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 Black"/>
              </a:rPr>
              <a:t>Вин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Garamond"/>
              </a:rPr>
              <a:t>Называется так потому, что был выделена из так называемого винного камня. Помимо винограда виннокаменная кислота содержится во многих фруктах. Также используется при изготовлении лимонадов, печенья, и при окрашивании тканей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8096400" y="0"/>
            <a:ext cx="1047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21:07Z</dcterms:created>
  <dc:creator>1</dc:creator>
  <dc:description/>
  <dc:language>en-US</dc:language>
  <cp:lastModifiedBy>Компьютер</cp:lastModifiedBy>
  <dcterms:modified xsi:type="dcterms:W3CDTF">2013-03-06T21:21:36Z</dcterms:modified>
  <cp:revision>75</cp:revision>
  <dc:subject/>
  <dc:title>Продажа продукта или услу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49</vt:lpwstr>
  </property>
</Properties>
</file>