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005-CD8D-4C13-B7F6-B4820D9E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F7D-7DFC-4186-A72F-B2D1F83F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B93-BC31-4DD5-B50C-A1E57522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626-B92C-41CE-9DF5-D3029B23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823-776D-405C-97E4-929A2BD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225-D5F0-4CA0-8BB8-F8AB081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53C-2AB9-486A-B6DA-0D1C8265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2DC-7AB3-4F71-9B44-7EE0FC73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045-958D-49A7-83A0-81F7487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3B4-B91A-4261-AA2C-A974728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574-14A1-4D9C-9372-A5A50DA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B9A-BC8C-4860-85A1-F709409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AEC7-A8AF-492C-8857-AD8E3AC7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476280"/>
            <a:ext cx="67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ИЕМЫ ОРГАНИЗАЦИИ СИТУАЦИИ УСПЕХА, ИСПОЛЬЗУЕМЫЕ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260520" cy="4273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932360" y="486900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Из опыта работы учителя русского языка и литературы Неясовой Л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50920" y="0"/>
          <a:ext cx="8496000" cy="569124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Скрытое инструктирование ребенка в способах и формах совершения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ребенку избежать поражения. Достигается путем намека, пожел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Возможно, лучше всего начать с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Выполняя работу, не забудьте о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.Внесение мо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казывает ребенку ради чего, ради кого совершается эта деятельность, кому будет хорошо после выпол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Без твоей помощи твоим товарищам не справиться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.Персональная исключ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означает важность усилий ребенка в предстоящей или совершаем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олько тебе я и могу доверит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Ни к кому, кроме тебя, я не могу обратиться с этой просьбой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олько ты и мог бы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68360" y="333360"/>
          <a:ext cx="8424720" cy="441468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.Мобилизация активности или педагогическое внуш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буждает к выполнению конкретных действ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Нам уже не терпится начать работу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ак хочется поскорее увидет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Высокая оценка дет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эмоционально пережить успех не результата в целом, а какой-то отдельной его дет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Тебе особенно удалось то объясне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Больше всего мне в твоей работе понравилось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ивысшей похвалы заслуживает эта часть твоей рабо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360" y="4869000"/>
            <a:ext cx="2121120" cy="18190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0360" y="4869000"/>
            <a:ext cx="2303640" cy="1800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2624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Для организации ситуации успеха ориентируюсь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формы взаимодействия с учащимися и учащихся друг с друг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создание условий, облегчающих  процесс обучения, атмосферы жи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общения, положительного эмоционально-психологического кли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Для этого необход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уважительное отношение учителя к личности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ткрытое общение, тепло и дружелюбие в отношениях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оиск активных и разнообразных методов работы учащихс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Чтобы создать ситуацию успеха на любом этапе урока , стремлю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роектировать индивидуальный подход на уроке к учащим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включать в учебный материал занимательные факты с расчето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любознательность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подбирать систему самостоятель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включать учеников в познавательную работу на всех этапах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рганизовывать совместное обсуждение вопросов с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оказывать своевременную помощь слабоуспевающим учащим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использовать разнообразные формы поощр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формировать у них веру в свои возм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создавать эмоционально-положительное отношение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разнообразить формы домашних зада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6840"/>
            <a:ext cx="6264360" cy="4700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971640" y="4797360"/>
            <a:ext cx="756288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УСПЕХОВ ВАМ И ВАШИМ ДЕТЯ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УВАЖАЕМЫЕ КОЛЛЕГ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684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С психологической точки зрения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успех–  это переживание состояния  радости,  удовлетворение  от того,  что  результат,  к которому стремилась  личность  в  своей  деятельности,  либо  совпал  с  ее ожиданиями, надеждами, либо превзошел 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На   базе   этого   состояния формируются новые, более сильные мотивы деятельности,  меняются  уровни самооценки, самоув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В том случае, когда успех  делается  устойчивым, постоянным, может начаться своего рода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реакция, высвобождающая  огромные, скрытые до поры возможност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1080" y="3501000"/>
            <a:ext cx="8274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С педагогической точки зрени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ситуация успех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это такое целенаправленное, организ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четание условий, пр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здается возможность дости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значительных результатов 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ак отдельно взятой личности, так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оллекти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45080" cy="2495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240000" cy="2423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400" y="3787920"/>
            <a:ext cx="869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Радость успеха младшего школьника отличается от радости  подрос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Младший школьни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не  столько  осознает  успех,  сколько  пережи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одросто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и осознает, и переживает, но не всегда мо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докопаться до его источников,  не всегда адекватно оценивает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Старший школьник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как взрослый,  подходит  к своему  успе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или  неудаче   аналитически,   ищет   их   корни,   пыт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рогнозировать сво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43080"/>
            <a:ext cx="3961080" cy="2428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92720" y="355680"/>
            <a:ext cx="3527280" cy="2396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84600" y="3787920"/>
            <a:ext cx="9257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лавный смысл деятельности учителя состоит в том, чтобы создать каж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спитаннику ситуацию успеха. Здесь важно разделить понятия «успех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«ситуация успеха». Ситуация – это сочетание условий, которые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спех, а сам успех – результат подобной ситуации. Ситуация - это т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пособен организовать учитель; переживание же радости, успеха - нечто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убъективное, скрытое в значительной мере взгляду со стороны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чителя в том и состоит, чтобы дать каждому из своих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зможность пережить радость достижения, осознать свои возмож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ерить в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681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384720" cy="2689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200" y="478440"/>
            <a:ext cx="8542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ля  создания ситуации успеха каждый учитель должен уметь формировать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учащихся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оложительную "Я-концепцию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". Что же представляет собой 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нцепция? "Я-концепция"-это система осознанных и неосозн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едставлений личности о самой себе, на основе которых она строит с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 школьные годы "Я-концепция" - основа внутреннего стимулиру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еханизма личности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оложительная мажорная "Я-концепция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" (я нравлюсь,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пособен, я значу) способствует успеху, эффектив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ложительным проявлениям  личности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Отрицательная "Я-концепция"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(я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равлюсь, не способен) мешает успеху, ухудшает результаты, способ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зменению личности в отрицательн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Для того, чтобы сформировать положительную "Я-концепцию"  необходимо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идеть в каждом ученике уникальную личность, уважать ее, пони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инимать, верить в нее ("Все дети талантливы" – вот убеждение учите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здавать личности ситуации успеха, одобрения, поддерж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оброжелательности, чтобы школьная жизнедеятельность, учеба принос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бенку радость: "Учиться победно!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сключить прямое принуждение, а также акценты на отставание 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достатки ребенка; понимать причины детского незнания и не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ведения, устранять их, не нанося ущерба достоинству, "Я-концепц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бенка ("Ребенок хорош, плох его поступок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627480"/>
            <a:ext cx="777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ажнейшую роль в организации ситуации успеха на уроке играют следующие педагогические компетентности (способности) самого уч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ладение информацией о запросах ученика и его продвижении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емонстрация  приемлемого объяснения учебного материала и зн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ганизация  времени урока, пространства класса, учебных пособий, аудио, видео и компьютерной техники в целях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щение, взаимодействие  с ученикам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менение соответствующих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держание на уроке позитивной, креативной атм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держание  на уроке приемлемого поведен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31248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ТЕХНОЛОГИЧЕСКИЕ ОП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З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ИТУАЦИЙ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781360"/>
          <a:ext cx="8353440" cy="371124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Снятие стр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преодолеть неуверенность в собственных силах, робость, боязнь самого дела и оценки окружающ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Мы все пробуем и ищем, только так что-то может получить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Люди учатся на своих ошибках и находят другие способы реш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онтрольная довольно легкая, этот материал мы с вами изуча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51640" y="12682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549360"/>
          <a:ext cx="8496000" cy="370980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П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ЧЕВАЯ ПАРАД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Авансирование успешн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могает учителю выразить свою твердую убежденность в том, что его ученик обязательно справится с поставленной задачей. Это, в свою очередь, внушает ребенку уверенность в свои силы и возм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У вас обязательно получится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Я даже не сомневаюсь в успешном результат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946600" cy="2210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7:15:13Z</dcterms:created>
  <dc:creator>Customer</dc:creator>
  <dc:description/>
  <dc:language>en-US</dc:language>
  <cp:lastModifiedBy>Customer</cp:lastModifiedBy>
  <dcterms:modified xsi:type="dcterms:W3CDTF">2013-03-19T18:04:54Z</dcterms:modified>
  <cp:revision>3</cp:revision>
  <dc:subject/>
  <dc:title>Слайд 1</dc:title>
</cp:coreProperties>
</file>